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C03-D675-4CE0-AA7D-C8298C9D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F06-B71E-4080-BAAD-B9496456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999D-C4E9-4351-82C3-8C98A71E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0B8-7056-4CA8-8F6E-79021946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F4DB-584D-4BB5-8B90-8957F29C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90F4-5799-41E1-98A0-A2F91776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77EF-1360-4373-8F29-19A0EA44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A1E0-1D33-431E-9BFE-78653CC2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4778-C0DB-45D4-8DB6-438E3098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E3CF-B21A-4A16-B437-8FCDC5B1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D1F1-2079-4952-81B5-AF65DDAE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2572-0B52-43B7-B17B-B0E2AAB8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5FB7-26C4-42F1-AC87-14FFCDDB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EA5C-793D-400B-84AE-13D824A4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6A34-4EA7-4F29-894E-37B53D1B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00B5-496F-4A5F-BEE0-80E3A412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E148-F58F-430C-85BD-CA464FEA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596-E836-42B1-B83B-EB39F329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EEB-8FB8-419F-A81B-3A989B6F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889A-2DD8-42AB-8E70-C6CA71F6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1AF-1C26-4E82-A03C-081F22C7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3B4-4D0F-4CA3-953A-6C1F119E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A3E6-7B86-43ED-B64F-C60C38BF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5D91-265E-4D1E-A523-DCEEB10C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6957-CA1E-4880-8C7B-07E77BFC0D4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HRE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EF8A-5D02-486E-82F5-5463980B618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Exercises </a:t>
            </a:r>
            <a:fld id="{36AAD33F-6AF3-4F67-AA1D-B8AFE1ED036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928800" y="2224080"/>
            <a:ext cx="735804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 ἀδελφη λεγει τῳ Ἰησου∙ Κυριε, πιστευω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ω τα ἐργα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θεος φιλει τον υἱον και λαλει αὐτ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αμβανομεν και τηρουμ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α βιβλια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ὀχλος λεγει τῳ Ἰησου∙ Δαιμονιον ἐχ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τρε, διδασκεις την βασιλειαν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Exercises </a:t>
            </a:r>
            <a:fld id="{11906C98-9319-43D7-8BEE-48FA163C81E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000080" y="1625760"/>
            <a:ext cx="7358040" cy="46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ἱ ἀδελφαι και οἱ ἀδελφοι τηρουσι τους νομους και το σαββα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 σαββατον τηρει ὁ υἱος του ἀνθρωπ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ir church is seeking the glory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ul teaches the household of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others and sisters, you (pl.) are receiving the love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hildren are throwing s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928800" y="2224080"/>
            <a:ext cx="75009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γει αὐτοις τον λογον ὁ Ἰησ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α τεκνα λυει το πλο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 Μαρια ἀκουει την φωνην της θαλασσ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ομεν τα σημεια του εὐαγγελιου του κυρι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ὐτων ἐστι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 βασιλεια των οὐραν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 ἀγαπη του θεου καλει τας ψυχας αὐ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Exercises 3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000080" y="1625760"/>
            <a:ext cx="735804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θεος ποιει τας ἡμερας και τας ὡρας της ζω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ητειτε την δοξαν του προσωπου του θε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sus receives the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ul, do you believe the angel of the Lo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making the bread of the te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you see the sins of the he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Exercises 4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642960" y="2500200"/>
            <a:ext cx="8143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ὴ τοῦ εὐαγγελί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ησοῦ Χριστοῦ υἱοῦ θεο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12:13:19Z</dcterms:created>
  <dc:creator>Sarah</dc:creator>
  <dc:description/>
  <dc:language>en-US</dc:language>
  <cp:lastModifiedBy>Sarah</cp:lastModifiedBy>
  <dcterms:modified xsi:type="dcterms:W3CDTF">2009-07-09T17:31:25Z</dcterms:modified>
  <cp:revision>17</cp:revision>
  <dc:subject/>
  <dc:title>Slide 1</dc:title>
</cp:coreProperties>
</file>