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BC66-1F6F-4D7A-8AEA-6F01B37CB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633E-1483-4DF2-9B1A-F8DE6DFD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944F-AC96-40B1-9DDE-38E7F0232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A990-8731-468D-9001-C737F2A6D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87AF-2EA9-4D52-8E5C-88585154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F3D6-DADF-4980-A574-1E02A057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7EC2-6283-41D6-8AF8-7A30567D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A7E6-6B8B-479E-924B-702A43E0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0237-5E05-4E7B-AFE5-95505BE1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5596-702A-47DC-8931-CB509405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8000-CC70-4412-A19C-A0433509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3153-405A-41BA-A545-3E409271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394B-95A0-4384-AFED-19CD9CAA21F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NINE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Exercises 1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9081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142920" y="1785960"/>
            <a:ext cx="8715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ἀφεντες τον πατερα αὐτων Ζεβεδαιον ἐν τῳ πλοιῳ μετα των ἀλλων ἀπηλθον ὀπισω αὐτ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δε ἀποκριθεις εἰπεν αὐτοις∙ Δοτε αὐτοις ὑμεις φαγε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μακαριοι οἱ πεινωντες και διψωντες την δικαιοσυνη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δε ποιων την ἀληθειαν ἐρχεται προς το φως, ἱνα φανερωθῃ αὐτου τα ἐργ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... ἱνα παντες τιμωσι τον υἱον καθως τιμωσι τον πατερα, ὁ μη τιμων τον υἱον οὐ τιμᾳ τον πατερα τον πεμψαντα αὐτ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πεν αὐτοις ὁ Ἰησους∙ Ἐγω εἰμι ὁ ἀρτος της ζωης∙ ὁ ἐρχομενος προς ἐμε οὐ μη πεινασῃ, και ὁ πιστευων εἰς ἐμε οὐ μη διψησ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908520" y="1243080"/>
            <a:ext cx="183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142920" y="1571760"/>
            <a:ext cx="871524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υτο δε ἐστιν το θελημα του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εμψαντος με, ἱνα παν ὃ δεδωκεν μοι μη ἀπολεσω ἐξ αὐτου, ἀλλα ἀναστησω αὐτο ἐν τῃ ἐσχατῃ ἡμερ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ὑτος ἀκουσας ὁτι Ἰησους ἡκει ἐκ της Ἰουδαιας εἰς την Γαλιλαιαν ἀπηλθεν προς αὐτον και ἠρωτα ἱνα καταβῃ και ἰασηται αὐτου τον υἱον, ἠμελλεν γαρ ἀποθνῃσκε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he perished, he rose ag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trong man will win – he labours and lives to win (for ‘win’ use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νικαω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asked where she was bo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have led them astray from the path; who can justify 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Exercises 3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39153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142920" y="1785960"/>
            <a:ext cx="885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γαπητοι, ἀγαπωμεν ἀλληλους, ὁτι ἡ ἀγαπη ἐκ του θεου ἐστιν, και πας ὁ ἀγαπων ἐκ του θεου γεγεννηται και γινωσκει τον θε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μετα τουτο εἰδως ὁ Ἰησους ὁτι ἠδη παντα τετελεσται, ἱνα πληρωθῃ ἡ γραφη, λεγει∙ Διψ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ἐνεδυσαν αὐτον τα ἱματια αὐτου και ἀπηγαγον [= ἀπ-ἀγω] αὐτον εἰς το σταυρωσαι αὐτ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ἱ δε εἰπαν αὐτῳ∙ Δος ἡμιν ἱνα εἱς σου ἐκ δεξιων και εἱς ἐξ ἀριστερω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eft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θισωμεν ἐν τῃ δοξῃ σ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ί οὐν ποιησει ὁ κυριος του ἀμπελωνο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ἐλευσεται και ἀπολεσει τους διακονους και δωσει τον ἀμπελωνα ἀλλοι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δε Ἰησους προσεκαλεσατο αὐτους λεγων∙ Ἀφετε τα παιδια ἐρχεσθαι προς με∙ των γαρ τοιουτων ἐστιν ἡ βασιλεια του 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3908520" y="1243080"/>
            <a:ext cx="183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142920" y="1571760"/>
            <a:ext cx="8715240" cy="34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ντολην καινην διδωμι ὑμιν, ἱνα ἀγαπατε ἀλληλους∙ καθως ἠγαπησα ὑμας ἱνα και ὑμεις ἀγαπατε ἀλληλου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ν τῳ λαλειν τους μαθητας αὐτος ὁ Ἰησους ἐστη ἐν μεσῳ αὐτων και λεγει αὐτοις∙ Εἰρηνη ὑμ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knows to give good things in order to honour his fri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hild, filled with wisdom, said [use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φημι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]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‘I am standing where you left me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promise was fulfilled and he appeared standing before 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placed his hands on the sick child with the result that the child was hea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Exercises 5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214200" y="1219320"/>
            <a:ext cx="871560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 3.24-30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ὶ ἐὰν βασιλεία ἐφ’ ἑαυτὴν μερισθῇ [μεριζω =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ivide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, οὐ δύναται σταθῆναι ἡ βασιλεία ἐκείνη∙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25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καὶ ἐὰν οἰκία ἐφ’ ἑαυτὴν μερισθῇ, οὐ δυνήσεται ἡ οἰκία ἐκείνη σταθῆναι.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26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καὶ εἰ ὁ Σατανᾶς ἀνέστη ἐφ’ ἑαυτὸν καὶ ἐμερίσθη, οὐ δύναται στῆναι ἀλλὰ τέλος ἔχει.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27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ἀλλ’ οὐ δύναται οὐδεὶς εἰς τὴν οἰκίαν τοῦ ἰσχυροῦ εἰσελθὼν τὰ σκεύη αὐτοῦ διαρπάσαι [διαρπαζω =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lunder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, ἐὰν μὴ πρῶτον τὸν ἰσχυρὸν δήσῃ, καὶ τότε τὴν οἰκίαν αὐτοῦ διαρπάσει.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28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Ἀμὴν λέγω ὑμῖν ὅτι πάντα ἀφεθήσεται τοῖς υἱοῖς τῶν ἀνθρώπων τὰ ἁμαρτήματα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ins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ὶ αἱ βλασφημίαι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lasphemies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ὅσα ἐὰν βλασφημήσωσιν∙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29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ὃς δ’ ἂν βλασφημήσῃ εἰς τὸ πνεῦμα τὸ ἅγιον, οὐκ ἔχει ἄφεσι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orgiveness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ς τὸν αἰῶνα, ἀλλὰ ἔνοχό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uilty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στιν αἰωνίου ἁμαρτήματος.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30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ὅτι ἔλεγον, Πνεῦμα ἀκάθαρτον ἔχει.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11:43:15Z</dcterms:created>
  <dc:creator>Sarah</dc:creator>
  <dc:description/>
  <dc:language>en-US</dc:language>
  <cp:lastModifiedBy>Sarah</cp:lastModifiedBy>
  <dcterms:modified xsi:type="dcterms:W3CDTF">2009-07-09T19:15:22Z</dcterms:modified>
  <cp:revision>19</cp:revision>
  <dc:subject/>
  <dc:title>Slide 1</dc:title>
</cp:coreProperties>
</file>