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2CFB-72C2-4C36-A519-C0DFE4766F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FB9E-02E6-420B-8589-22A875322A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DE07-23FE-4E7B-AF51-816C19F7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1A55-259D-4AB0-8301-CFB52CF9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0BFA-998C-4824-B37A-F6C17CB1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E8D-5CA9-4B3E-95D9-6B1CB520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8E2F-793C-4811-A30E-C422F728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4B80-E632-4112-AA99-31A02FDE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A029-3EBB-4C6E-B230-8AE26B4C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FAF3-FCD1-4C10-B28C-DA897F88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DF9C-D998-4038-82FB-2F9D043F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91E8-C08F-40E7-B76B-03B56EFF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8A23-85C6-49E3-8651-4F4A3E41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F398-F190-443C-A30E-2209E503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77C1-C667-4F62-BE7A-7A48118C8E3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EL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214200" y="1349280"/>
            <a:ext cx="864396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ατερ, δοξασον σου το ὀνομ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γω ἐβαπτισα ὑμας ὑδατι, αὐτος δε βαπτισει ὑμας ἐν πνευματι   ἁγι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δε εἰπεν αὐτῃ∙ Θυγατηρ, ἡ πιστις σου ἐσωσε σε∙ ὑπαγε εἰς    εἰρην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ν αὐτῳ ζωη ἠν, και ἡ ζωη ἠν υο φως των ἀνθρωπ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ὁ λογος σαρξ ἐγενετ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ἡ γυνη εἰπεν αὐτῳ∙ Οὐκ ἐχω ἀνδρα. λεγει αὐτῃ ὁ Ἰησους, Καλως εἰπας ὁτι Ἀνδρα οὐκ ἐχ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214200" y="1349280"/>
            <a:ext cx="8643960" cy="47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πεν αὐτοις ὁ Ἰησους∙ Εἰπον ὑμιν και οὐ πιστευετε∙ τα ἐργα ἁ ἐγω ποιω ἐν τῳ ὀνοματι του πατρος μου ταυτα μαρτυρει περι ἐμ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πεν αὐτῳ Σιμων Πετρος∙ Κυριε, τίνι ἀκολουθησομε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ῥηματα ζωης αἰωνιου ἐχε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harisees said to him, ‘Why do your disciples not eat appropriately with their hands?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in the Lord neither is a wife separate from a husband nor a husband separate from a w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ce to you (pl.) and peace from God our father and the Lord Jesus Christ our savi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ust as he spoke through the mouth of his holy prophets, he will do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2"/>
          <p:cNvSpPr/>
          <p:nvPr/>
        </p:nvSpPr>
        <p:spPr>
          <a:xfrm>
            <a:off x="98280" y="1157400"/>
            <a:ext cx="907272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Σιμων εἰπεν∙ Κυριε, δι’ ὁλης νυκτος ἠργαζομεθα και οὐκ ἐλαβομεν∙ ἐπι δε τῳ ῥηματι σου ἐργασομεθα παλ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ἰδου ἠλθεν ἀνηρ ᾡ ὀνομα Ἰαιρος και οὑτος ἀρχων της συναγωγης ὑπηρχεν, και πεσων παρα τους ποδας Ἰησου παρεκαλει αὐτον εἰσελθειν εἰς τον οἰκον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τι ἀνηρ ἐστιν κεφαλη της γυναικος ὡς και ὁ Χριστος κεφαλη της ἐκκλησιας, αὐτος σωτηρ του σωματ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αυλος ἀποστολος Χριστου Ἰησου κατ’ ἐξουσιαν θεου σωτηρος ἡμων και Χριστου Ἰησου της ἐλπιδος ἡμ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α τεκνα του θεου εἰσιν οὑτοι οἳ οὐκ ἐξ αἱματων οὐδε ἐκ θεληματος σαρκος οὐδ’ ἐκ θεληματος ἀνδρος ἀλλ’ ἐκ θεου γιν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 δαιμονιον αὐτον ἐβαλλεν εἰς πυρ και εἰς ὑδατ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142920" y="1000080"/>
            <a:ext cx="86439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ἀρχοντες εἰσηλθον λεγοντες∙ Που ἐστιν ὁ ἀρχων των Ἰουδαιω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δομεν γαρ αὐτου τον ἀστερα και ἠλθομεν προσκυνησαι αὐ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γνω ὁ Ἰησους ὁτι ἠκουσαν οἱ Φαρισαιοι ὁτι Ἰησους πλειονας μαθητας ποιει και βαπτιζει ἠ Ἰωανν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in love we will receive 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εχομα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 the hope of righteousness by the Spir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 hope and love remain, and we wish to have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ife does not have authority over 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 her own body, but likewise the husband also does not have authority over his own body but the wife 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at hour the disciples came to Jesus, saying, ‘Who therefore is greater in the kingdom of heaven?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714240" y="1643040"/>
            <a:ext cx="77155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rk 3.32-35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ὶ ἐκάθητο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as sitting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ρὶ αὐτὸν ὄχλος, καὶ λέγουσιν αὐτῷ, Ἰδοὺ ἡ μήτηρ σου καὶ οἱ ἀδελφοί σου καὶ αἱ ἀδελφαί σου ἔξω ζητοῦσίν σε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33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αὶ ἀποκριθεὶ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nswering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οῖς λέγει, Τίς ἐστιν ἡ μήτηρ μου καὶ οἱ ἀδελφοί μου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34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αὶ περιβλεψάμενο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=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ρι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+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λεπω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ὺς περὶ αὐτὸν κύκλῳ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 a circle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θημένου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people sitting (acc.)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έγει, Ἴδε ἡ μήτηρ μου καὶ οἱ ἀδελφοί μου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35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ὃς ἃ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hoever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οιήσῃ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ranslate as i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οιει] τὸ θέλημα τοῦ θεοῦ, οὗτος ἀδελφός μου καὶ ἀδελφὴ καὶ μήτηρ ἐστ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46:34Z</dcterms:created>
  <dc:creator>Sarah</dc:creator>
  <dc:description/>
  <dc:language>en-US</dc:language>
  <cp:lastModifiedBy>Sarah</cp:lastModifiedBy>
  <dcterms:modified xsi:type="dcterms:W3CDTF">2009-07-09T18:40:53Z</dcterms:modified>
  <cp:revision>21</cp:revision>
  <dc:subject/>
  <dc:title>Slide 1</dc:title>
</cp:coreProperties>
</file>