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B70-A6A8-4867-841B-65F2E2D7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992-9169-40F1-9C3F-981B8505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235-7F50-4DC3-9F63-72AE7916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D31-1D24-4FE9-AFD3-D4D71211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0A1B-2F04-454C-86A6-816A52B9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71D9-EB85-4D87-BFA5-4ECA8299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19B0-121E-4855-A0F3-B9B0FA60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E073-0C81-4F53-BCBA-7629601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33D7-DFF8-4682-B2CA-3237FE8F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EBBC-1F6B-4F65-84AF-DF481FC3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900B-E476-41FA-A56D-48349B69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40D-3650-438E-8F5C-19090A70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4C73-3C7D-4451-8327-0CAB0AE4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A5FE-82B8-4654-ACB4-8082A040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2F31-A3B3-49B1-AA68-A68015D1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CA9B-089F-4B55-9DE3-71F8BBB2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EC6E-2EE1-4FC4-B898-A318105C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B2A-23D8-4244-B214-C5D3399C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0D3-981B-4D37-9ED1-5D61CC8B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314-7BEC-4647-AF77-90311FCE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02C-0998-46F7-BA57-13F10C53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34F-4FB3-4276-8DD0-E18A7EA8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CB5-0CE2-41CD-98AC-7B64EB8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D2B-80D2-4A9A-9F40-DB62EA08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B0F2-902C-4EB3-9143-5A9A57F37D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479-BB27-4E29-A5AC-9B08B7EC79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1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14680"/>
            <a:ext cx="864396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οξαν παρα ἀνθρωπων οὐ λαμβαν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ιστευεις εἰς τον υἱον του ἀνθρωπ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κυριος λεγει αὐτοις∙ Που αὐτους ἀγετε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Πετρος διδασκει αὐτους περι της βασιλειας παρα τοις πλοιο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ναβλεπομεν εἰς τον οὐρανον ἐνωπιον του ἱερ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Ἰησους ἐκβαλλει τα δαιμονια ἐκ του ἀνθρωπου λογ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εριπατω ὑπο ἁμαρτιαν και κατα του νομου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Πετρος συναγει την ἐκκλησιαν εἰς τον οἰκον της ἀδελφης του Ἰακωβ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re departing towards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(pl.) are exhorting the brothers in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 you (s.) keep the Sabbath because of the law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eople in the boat are worshipping the Lord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2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60280" y="1785960"/>
            <a:ext cx="888372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ν τῃ ἡμερᾳ του κυριου βλεπομεν τον θεον προσωπον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ρος προσωπ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υριε, οὐ πιστευω εἰς αὐ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ροσκυνουμεν τῳ θεῳ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ια την ὡραν ὁ κυριος ἀπολυει τον ὀχ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εριπατειτε ἐν τῃ ἀγαπῃ του θεου κατα τον λογον αὐτ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αγγελος λυει τον Πετρον και παραλαμβανει αὐτον προς τους ἀδελφ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000240" y="13572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1071720"/>
            <a:ext cx="9001080" cy="55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ετα την ἀρχην του σαββατου ὁ ῥαββι και οἱ υἱοι αὐτου οὐ ποιουσιν ἐρ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ου ὁ κυριος διδασκει περι του εὐαγγελιου της βασιλειας του θε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y gathers the sisters and they seek the Lord with the br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hild dwells in the house of the Lord, and does not depart from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voice of God is [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στιν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ve the heavens and in their he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eople do works on behalf of the children because of the love of Chr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2436840"/>
            <a:ext cx="8143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.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 ἀρχῇ ἦ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ὁ λόγος, καὶ ὁ λόγος ἦν πρὸς τὸν θεόν, και θεὸς ἦν ὁ λόγος. οὗτος 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is on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ἦν ἐν ἀρχῇ πρὸς τὸν θεόν....ἐν αὐτῷ ζωὴ ἦν, καὶ ἡ ζωὴ ἦν τὸ φῶ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ῶν ἀνθρώπ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5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2:46:41Z</dcterms:created>
  <dc:creator>Sarah</dc:creator>
  <dc:description/>
  <dc:language>en-US</dc:language>
  <cp:lastModifiedBy>Sarah</cp:lastModifiedBy>
  <dcterms:modified xsi:type="dcterms:W3CDTF">2009-07-09T17:45:25Z</dcterms:modified>
  <cp:revision>23</cp:revision>
  <dc:subject/>
  <dc:title>Slide 1</dc:title>
</cp:coreProperties>
</file>