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D79-0077-4334-A64E-DCE62C2C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730-9763-48A8-86CD-8216066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AAC-C6FD-4F50-9BE2-88A763E7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2A6-A3A4-4756-89D4-3F64A17D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DC6-6037-4067-A808-E6E90B79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E69-E08E-42A4-9491-D825446B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CB5-641E-4DA3-989B-0578297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3FE-F311-48D8-8C6F-546D6CB6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D0C-6FDD-418F-9924-D803FBDB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21C-99D6-43AD-B4BC-D42DBD5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585-840E-4D9E-8BFB-CECF2BC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862-4CAD-4B0A-9974-031F725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2BC-6456-429D-A72C-68C7D39A5C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Χριστος ὁ βασιλευς Ἰσραηλ καταβατω νυν ἀπο του σταυρου, ἱνα ἰδωμεν και πιστευσω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λεγον∙ Οὐχ οὑτος ἐστιν Ἰησους ὁ υἱος Ἰωσηφ, οὑ ἡμεις οἰδαμεν τον πατερα και την μητε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ως νυν λεγει ὁτι Ἐκ του οὐρανου καταβεβη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ε Ἰησους εἰπεν αὐτοις∙ Οὐκ οἰδατε τί αἰτεισθε. δυνασθε πιειν το ποτηριον ὃ ἐγω πινω ἠ το βαπτισμα ὃ ἐγω βαπτιζομαι βαπτισθην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357120" y="1714680"/>
            <a:ext cx="77151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φ’ ἑαυτου λαλων ζητει την δοξαν την ἰδιαν∙ ὁ δε ζητων την δοξαν του πεμψαντος αὐτον οὑτος ἀληθης ἐστιν και ἀδικια ἐν αὐτῳ οὐκ ἐστ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τε ὁ Ἰησους εἰπεν τοις μαθηταις αὐτου∙ Εἰ τις θελει ὀπισω μου ἐλθειν, ἀρνησασθω ἑαυτον και ἀρατω τον σταυρον αὐτου και ἀπολουθειτω μ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Μαρια θεωρει δυο ἀγγελους ἐν λευκοις καθιζομενους, ἑνα προς τῃ κεφαλῃ και ἑνα προς τοις ποσιν, ὁπου ἐκειτο το σωμα του Ἰησο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85840" y="1500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οντες δε φωνῃ μεγαλῃ εἰπαν∙ Ἀξιον ἐστιν το ἀρνιον καθημενον ἐπι τῳ θρονῳ ἐν δεξιᾳ του θεου λαβειν την δυναμιν και σοφιαν και τιμην και δοξ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μεν οὐν κυριος Ἰησους μετα το λαλησαι αὐτοις ἀνεβη εἰς τον οὐρανον και ἐκαθητο ἐκ δεξιω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 are the pure in heart, because they will se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wer of God was there with a view to healing the sick and cleansing those with unclean spir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working now in order to read the New Test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knowledge is growing with the result that we are able to learn from the writings: first, the gospel according to Mark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ρευθεντες δε μαθετε τί ἐστιν∙ Δει τον υἱον του ἀνθρωπου πολλα παθ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παλιν ἠρξατο διδασκειν παρα την θαλασσαν∙ και συναγεται προς αὐτον ὀχλος πολυς, ὡστε αὐτον εἰς πλοιον ἐμβαντα καθησθαι ἐν τῃ θαλασσῃ, και πας ὁ ὀχλος προς την θαλασσαν ἐπι της γης ἠ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ναμεις και σημεια ἐποιησεν δι’ αὐτου ὁ θεος ἐν μεσῳ ὑμων καθως αὐτοι οἰδα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14200" y="1434960"/>
            <a:ext cx="8929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ριζω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rvester/reape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σθον λαμβανει και συναγει καρπον εἰς ζωην αἰωνιον, ἱνα ὁ σπειρων ὁμου χαιρῃ και ὁ θεριζ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σασθε το ἱματιον το καθαρον προς το δυνασθαι εἰναι μετα του βασιλεως και των φιλω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δε ἀρχιερεις και παντες οἱ λοιποι ἐζητουν κατα του Ἰησου μαρτυριαν εἰς το ἀποκτεινειν αὐτον, και οὐχ ηὑρισ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ν τῳ κατηγορεισθαι αὐτον ὑπο των ἀρχιερεων και πρεσβυτερων οὐδεν ἀπεκρινα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42920" y="638280"/>
            <a:ext cx="8858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ε Ἡρῳδης ἰδων τον Ἰησουν ἐχαρη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rreg. Aorist 3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sing. of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ιρω], ἠν γαρ ἐξ ἱκανων χρονων θελων ἰδειν αὐτον δια το ἀκουειν περι αὐτου και ἠλπιζεν τι σημειον ἰδειν ὑπ’ αὐτου γινομε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t is necessary that servants of God be spiritual, worthy, and capable, free from impure desire, not new in the faith, and not unfaithfu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 is treating you unjustly with the result that you are not able to receive your wa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or do you rich not have homes for the purpose of eating and drinking i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strong, because they are free, are able to sit and eat with the unclean n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7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9920" y="1176480"/>
            <a:ext cx="87868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hew 6.9-13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ὕτως οὖν προσεύχεσθε ὑμεῖς∙ Πάτερ ἡμῶν ὁ ἐν τοῖς οὐρανοῖς, ἁγιασθήτω τὸ ὄνομά σου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λθέτω ἡ βασιλεία σου∙ γενηθήτω τὸ θέλημά σου, ὡς ἐν οὐρανᾠ καὶ ἐπὶ γῆς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1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ὸν ἄρτον ἡμῶν τὸν ἐπιούσιον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today, for the coming da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ὸ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ive!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ῖν σήμερον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ὶ ἄφε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giv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φιημι] ἡμῖν τὰ ὀφειλήματ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bts, from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φειλω] ἡμῶν, ὡς καὶ ἡμεῖς ἀφήκαμεν [ἀφιημι] τοῖς ὀφειλέται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btor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ῶν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ὶ μὴ εἰσενέγκῃς [εἰσφερω = εἰς + φερω] ἡμᾶς εἰς πειρασμό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ime of testing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λὰ ῥῦσαι ἡμᾶς ἀπὸ τοῦ πονηρ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18:09Z</dcterms:created>
  <dc:creator>Sarah</dc:creator>
  <dc:description/>
  <dc:language>en-US</dc:language>
  <cp:lastModifiedBy>Sarah</cp:lastModifiedBy>
  <dcterms:modified xsi:type="dcterms:W3CDTF">2009-07-09T19:11:16Z</dcterms:modified>
  <cp:revision>22</cp:revision>
  <dc:subject/>
  <dc:title>Slide 1</dc:title>
</cp:coreProperties>
</file>