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999-B844-4A43-B9F8-460B00CC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A5B-BE21-49EC-B1D6-91792914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EDB-CC3A-421A-952A-AA95E4BB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DB8-49BD-402B-9D1E-022B8402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F5EC-44BC-46B1-BEF1-F04D71CF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7DD-0E5F-40EB-A4CB-44A770E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D94-A09E-46D8-8853-AD612C4A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2CD-C709-4E32-AF1B-19C3A3DB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DCE-DB89-48F4-9DEB-1CBCDE8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678-4704-49B1-88E4-1B69768E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F46-E47A-453E-8EDE-5691C35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ADD-8E1D-4EFC-A212-A391E6D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4E82-ED5B-4B68-954A-D769E2B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39A4-0F0B-4C93-997F-E7FF854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257-2231-4659-AA98-B934BA2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9CDD-45AB-45BD-8CC0-0F30ABA3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7DC-A684-460B-89BE-CA6BAE24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687-6B87-4E37-9BD7-CE1C389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46A-9C90-4619-B699-B433E03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CAF-996F-4B6A-8F36-C3E58B34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9D5-9AC6-4475-8FDF-F2D22A67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9B6-D7CD-4556-9BAE-A4D1221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DD6-8B8D-4725-9EB0-BC5CFD5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093-76B9-4A58-A089-4A30413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DFFB-2C72-450A-88EC-3B965BEE33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E1D-8385-485E-870E-6291AE9DEE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παραλαμβανεν τα τεκνα και τ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ωξεν τον λαον αὐτου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preaching the good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Ἄγουσιν α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000000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000000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ἄνθρωπος ἁμαρτωλὸ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000000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ροφήτη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στίν. 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Οὐκ ἐπίστευσαν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 αὐτοῦ τοῦς ὀφθαλμοὺς ἡμεῖς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9-07-09T18:11:37Z</dcterms:modified>
  <cp:revision>46</cp:revision>
  <dc:subject/>
  <dc:title>Slide 1</dc:title>
</cp:coreProperties>
</file>