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59E-D169-4386-924E-F6EBBAE4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867-8784-40C6-A627-1F0F59DC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98A-FEE9-4F54-8F9D-28F650A1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B02-08BB-4666-9450-29267602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9CD-FFEC-413B-A603-08260B7A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734-0BDA-49B6-9B39-E2B50182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007-C268-4C2E-B589-B68A026D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674-8CCD-428C-A6D2-1F169132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CD7-0F66-48E6-BB78-C33079D5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2D2-1863-410F-8750-9CA818A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93E-C519-4740-BEE4-EFBF665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371-F350-4552-B411-9C9C0FD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375-0BCF-45B3-B52D-87F139E192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214200" y="166680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φιλων την ψυχην αὐτου οὐ σωσει αὐτην, και ὁ μισων την ψυχην αὐτου ἐν τῳ κοσμῳ τουτῳ εἰς ζωην αἰωνιον φυλαξει αὐτ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ξελθων εἰδεν πολυν ὀχλον και ἠλεησεν ἐπ’ αὐτους, ὁτι ἠσαν ὡς προβατα μη ἐχοντα ποιμεν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hepher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και ἠρξατο διδασκειν αὐτους πολλ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μην ἀμην λεγω ὑμιν ὁτι ὁ τον λογον μου ἀκουων και πιστευων τῳ πεμψαντι με ἐχει ζωην αἰωνιον και εἰς κρισιν οὐκ ἐρχ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ς ὁ θεωρων τον υἱον και πιστευων εἰς αὐτον ἐχει ζωην αἰων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οὐν Ἰουδαιοι περι αὐτου ἐλαλουν μετ’ ἀλληλων ὁτι εἰπεν∙ Ἐγω εἰμι ὁ ἀρτος ὁ καταβας ἐκ του οὐ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 γαρ ἐστιν ὁ λογος δια Ἠσαϊου του προφητου λεγοντος∙ Φωνη κραζοντος ἐν τῃ ἐρημῳ∙ Ἑτοιμασατε την ὁδον κυρι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42920" y="1357200"/>
            <a:ext cx="8929800" cy="43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τε προς αὐτους∙ Ἀνδρες Ἰσραηλ, προσεχετε ἑαυτοις ἐπι τοις ἀνθρωποις τουτοις τί μελλετε πρασσ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Σατανας ἠν ἐν τῃ ἐρημῳ πολλας ἡμερας πειραζων αὐτον, και ὁ Ἰησους ἠν μετα των θηριων, και οἱ ἀγγελοι διηκονου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For the father has subjected all things under the feet of the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Beloved children, guard yourselves against 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FangSong"/>
              </a:rPr>
              <a:t>ἀπ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] those who hate your so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at stone has the image of Caesar, not of some 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What therefore will the lord of the vineyard do?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FangSo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666800"/>
            <a:ext cx="89298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λλα ἐχω ὑμιν γραφειν ἀλλα ἐλπιζω γενεσθαι προς ὑμας και στομα προς στομα λαλησ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εἰπεν ὁ Ἰησους∙ Εἰς κριμα ἐγω εἰς τον κοσμον τουτον ἠ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ις του διδασκαλου ἐμισει τα βιβλια του πατρο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προσελθων ἠγειρεν αὐτην κρατησας της χειρ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ρχονται εἰς Ἱεροσολυμα∙ και εἰσελθων εἰς το ἱερον ἠρξατο ἐκβαλλειν τους ἀγοραζοντας ἐν τῳ ἱερ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Φαρισαιος προς ἑαυτον ταυτα προσηυχετο∙ Ὁ θεος, εὐχαριστω σοι ὁτι οὐκ εἰμι ὡσπερ οἱ ἀλλοι ἀνθρωποι, ἠ και ὡς οὑτος ὁ ἁμαρτωλος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14200" y="1214280"/>
            <a:ext cx="89298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πρεσβυτεροι και οἱ διδασκαλοι ὀφειλουσιν διακονειν τοις προβατοις και προφητευειν τοις ἁμαρτωλοις και θεραπευειν τους ἀσθενεις και μητε βλασφημειν τον θεον ἡμων μητε σκανδαλιζειν τα παιδια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λεγετε ἐν ἑαυτοις∙ Πατερα ἐχομεν τον Ἀβρααμ. λεγω γαρ ὑμιν ὁτι δυναται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 ab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ἐκ των λιθων τουτων ἐγειραι τεκνα τῳ Ἀβραα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ars of the sinners do not hear the seed which the sewing one s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dgement begins with the household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lder prayed for James, and the lord, having heard, had mer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ching the sinner, the one serving the Father in heaven healed her ears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1285920"/>
            <a:ext cx="8715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1.7-10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ἐκήρυσσεν λέγων, Ἔρχεται ὁ ἰσχυρότερ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ore powerful tha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ου ὀπίσω μου,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o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ὗ οὐκ εἰμὶ ἱκανὸ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orth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ύψ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υπτ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nd dow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ῦσαι τὸν ἱμάντ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ap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ῶν ὑποδημάτω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ndal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8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γὼ ἐβάπτισα ὑμᾶς ὕδατι, αὐτὸς δὲ βαπτίσει ὑμᾶς ἐν πνεύματι ἁγίῳ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γένετο ἐν ἐκείναις ταῖς ἡμέραις ἦλθεν Ἰησοῦς ἀπὸ Ναζαρὲτ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azareth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ῆς Γαλιλαίας καὶ ἐβαπτίσθη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was baptiz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ὸν Ἰορδάνη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orda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ὸ Ἰωάννου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εὐθὺς ἀναβαίνων ἐκ τοῦ ὕδατος εἶδεν σχιζομένου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ng spli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ὺς οὐρανοὺς καὶ τὸ πνεῦμα ὡς περιστερὰ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v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ταβαῖνον εἰς αὐτόν.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3:09:36Z</dcterms:created>
  <dc:creator>Sarah</dc:creator>
  <dc:description/>
  <dc:language>en-US</dc:language>
  <cp:lastModifiedBy>Sarah</cp:lastModifiedBy>
  <dcterms:modified xsi:type="dcterms:W3CDTF">2009-07-09T18:49:15Z</dcterms:modified>
  <cp:revision>28</cp:revision>
  <dc:subject/>
  <dc:title>Slide 1</dc:title>
</cp:coreProperties>
</file>