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ADC-1AA5-4E2D-AC27-79922C53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F93-78B8-4C4C-873E-FA71813B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CA2-8B2C-4668-94BD-2A651269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24A-4019-4265-8340-FCDC3442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C14-C430-4C8A-9730-AAB424A4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E51-5EFF-4BC1-8FEA-D221E9C4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446-F363-472A-8C94-BB8D8698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74C-8BDA-471B-9B90-55C008D2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CE0-D092-4D25-952F-E5C623A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847-7620-4857-9C2A-0670F999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184-17FC-4898-A4B5-E0C9CAE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572-F98E-4605-8D01-B5B0C96E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C2C8-A70A-43BE-9AFF-6F4467930B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715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ρχεται ὁ Ἰησους και λαμβανει τον ἀρ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ὁ ὀχλος ἠρχετο παλιν παρα την θαλασσαν προς αὐτον, και ἐδιδασκεν αὐτου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πο τοτε ἠρξατο ὁ Ἰησους κηρυσσειν και λεγειν∙ Μετανοειτε∙ προσερχεται ἡ βασιλεια των οὐραν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εγεν ἐν παραβολῃ αὐτοις∙ Δει παντοτε προσευχεσθ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ὁ ὀχλος ἐζητουν ἁπτεσθαι αὐτου∙ σημεια ἐξουσιας παρ’ αὐτου ἐξηρχετ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Ἰωαννης ἐσται μεγας ἐνωπιον του κυριου ὡς ὁ Ἠλιας∙ ἀλλ’ ὁ Ἡρῳδης πονηρ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71524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ελλει ὁ υἱος του ἀνθρωπου ἐρχεσθαι ἐν τῃ δοξῃ του θεου μετα των ἀγγελων αὐτου, και τοτε δεξεται ἑκαστος κατα την ζωην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εγεν προς τους μαθητας∙ Εἰ θελετε ὀπισω του υἱου του ἀνθρωπου ἐρχεσθαι, ἀρνησασθε τον Σαταναν και ἀκολουθειτε τῳ κυριῳ καθ’ ἡμερα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house of Judah prayed, ‘Lord, rescue Israel from Egypt!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ijah was a great proph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were going away from the synagogue when we were going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rnabas and Paul were proclaiming the good news on the road from Jerusalem with the faithful dis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ἱ προφηται ἐκηρυξαν∙ Ἐκ της καρδιας ἐξερχεται πονηρα και ἀγαθ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ει διερχεσθαι δια της ἐρημου συν τοις στρατιωτα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ἡ ἀγαπη κακον οὐκ ἐργαζεται∙ ἡ μεγαλη ἐντολη ἐστιν ἀγαπ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σπαζονται ἐν κυριῳ Βαρναβας και Ἰουδας οἱ μαθηται τας ἐκκλησιας της Ἰερουσαλη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λεγει προς τον ἀγγελον∙ Πως ἐσται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τε ἠμην τεκνον, ἐλαλουν ὡς τεκνον, ἐλογιζομην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1714680"/>
            <a:ext cx="871560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λλα ἐρχεται ὡρα και νυν ἐστιν, ὁτε οἱ μαθηται χαρᾳ προσκυνησουσιν τῳ κυριῳ, ὡς αὐτους ζητει και προσκαλειται ὁ θε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ῥυσῃ ἀνθρωπον ἁμαρτιας ἐκ του θανατου του αἰωνιου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was a brother and a disci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oldiers of Herod are passing on the r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 you (pl.) wish to go into church or to be al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of Herod, Joseph and Mary were going along the sea on the road to Egypt with the child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42960" y="1571760"/>
            <a:ext cx="79297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 4.1-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ὶ πάλιν ἤρξατο διδάσκειν παρὰ τὴν θάλασσαν∙ καὶ συνάγετα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t was gathered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ρὸς αὐτὸν ὄχλος πλεῖστος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very large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, ὥστε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with the result that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αὐτὸν εἰς πλοῖον ἐμβάντ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etting in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καθῆσθα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ν τῇ θαλάσσῃ, καὶ πᾶς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ὄχλος πρὸς τὴν θάλασσαν ἐπὶ τῆς γῆς ἦσαν. 2 καὶ ἐδίδασκεν αὐτοὺς ἐν παραβολαῖς πολλὰ καὶ ἔλεγεν αὐτοῖς ἐν τῇ διδαχῇ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eaching, instruction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αὐτοῦ, ...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9-07-09T18:17:40Z</dcterms:modified>
  <cp:revision>21</cp:revision>
  <dc:subject/>
  <dc:title>Slide 1</dc:title>
</cp:coreProperties>
</file>