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ACC-EBA0-4A14-9B47-224C9F28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0E9-F240-4372-9B16-8F0E4481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146-07BA-45D7-8467-9C423426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0144-8C1D-4411-A0C1-F634F376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B07E-C61A-4FB1-8240-533C3BFE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544-94DE-40F2-8584-10F04502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0E5-0F1A-423A-A61D-19053655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5F40-4E34-499A-8BF6-07641252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04E-5318-4AD1-98B0-492C28C3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F63B-6A66-4638-A3FE-1B654507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C00F-499D-4E5E-A4A5-124D0134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CBAD-12A2-419A-8771-B149E9AF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F23E-D556-46DB-BD35-93040AE68B3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SIX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Exercises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1280" y="16668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λεγει αὐτοις∙ Γεγραπται, Ὁ οἰκος μου οἰκος προσευχης κληθησε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ἀγω ἑωρακα, και μεμαρτυρηκα ὁτι οὑτος ἐστιν ὁ υἱος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πιστευων εἰς αὐτον οὐ κρινεται∙ ὁ δε μη πιστευων ἠδη κεκριται, ὁτι οὐ πεπιστευκεν εἰς το ὀνομα του μονογενους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υἱου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Ἰωαννης μεματυρηκεν τῃ ἀληθειᾳ∙ ταυτα λελαληκεν ὑμ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ἡμεις πεπιστευκαμεν και ἐγνωκαμεν ὁτι συ εἶ ὁ ἁγιος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γει αὐτῳ∙ Ναι, κυριε, ἐγω πεπιστευκα ὁτι συ εἶ ὁ χριστος ὁ υἱος του θεου ὁ εἰς τον κοσμον ἐρχομεν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71280" y="1666800"/>
            <a:ext cx="91440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δεις τον πατερα ἑωρακεν εἰ μη ὁ ὠν παρα του θεου, οὑτος ἑωρακεν τον πατερ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τοτε φανησεται το σημειον του υἱου του ἀνθρωπου ἐν οὐρανῳ, και ὀψοντ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rregular Future of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ρα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ν υἱον του ἀνθρωπου ἐρχομενον ἐπι των νεφελων του οὐρανου μετα δυναμεως και δοξης πολλης∙ οὑτως ἐσται ἡ παρουσια του υἱου του ἀνθρωπ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aid, ‘Lord, look, here are two swords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once his fame went out to the whole region of Galil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welve have heard his teaching and have seen his sacrif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isciple has loved the holy ones in the seven chur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Exercises 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1280" y="16668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 ἐργον μου τετελεκα, την πιστιν τετηρηκ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ο εἰσερχομενος εἰς τον κοσμον λεγει∙ Ἐλεος θελω και οὐ θυσ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κουσας δε ὁ Ἰησους εἰπεν∙ Αὑτη ἡ ἀσθενεια οὐκ ἐστιν προς θανατον ἀλλ’ ὑπερ της δοξης του θεου, και δοξασθησεται ὁ υἱος του θεου δι’ αὐτ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νυν δε οὐπω βλεπομεν αὐτῳ τα παντα ὑποτεταγμεν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ἑπτα ἀδελφοι ἠσαν∙ και ὁ πρωτος ἐλαβεν γυναικα και ἀπεθαν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ε λεγει αὐτοις∙ Ποσους ἀρτους ἐχετ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αγετε ἰδετε. και γνοντες λεγουσιν, Πεν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71280" y="1666800"/>
            <a:ext cx="91440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Ὃ ἠν ἀπ’ ἀρχης, ὃ ἀκηκοαμεν, ὃ πεπιστευκαμεν περι του λογου της ζωης, λελαληται ὑμιν ὑπο ἡμ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ε Ἰησους εἰπεν αὐτοις, Ἀμην λεγω ὑμιν ὁτι ὑμεις οἱ ἀκολουθησαντες μοι, ὁτε ὁ υἱος του ἀνθρωπου ἐστιν ἐπι θρονου δοξης αὐτου, και ὑμεις ἐσεσθε ἐπι δωδεκα θρονους κρινοντες τας δωδεκα φυλας του Ἰσραη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four days and four nights he prayed in the desert and saw a thousand angels in the clou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idow’s son was healed/saved immediately by her fai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n Greeks have believed the report about his co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second letter has been written teaching about patience, prayer, circumcision, immorality, and the feasts of the L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Exercises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571680" y="1285920"/>
            <a:ext cx="79293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5.25-34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γυνὴ οὖσα ἐν ῥύσε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ἵματος δώδεκα ἔτη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26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πολλὰ παθοῦσ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aor. act. part. f. s.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ασχω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uffer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ὑπὸ πολλῶν ἰατρῶ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hysicians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δαπανήσασ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απαναω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pen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ὰ παρ’ αὐτῆς πάντα καὶ μηδὲν ὠφεληθείσ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ὠφελεω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ain, benefit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λλὰ μᾶλλο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ther, instea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ς τὸ χεῖρο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ors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θοῦσα,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27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ἀκούσασα περὶ τοῦ Ἰησοῦ, ἐλθοῦσα ἐν τῷ ὄχλῳ ὄπισθε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rom behin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ἥψατο τοῦ ἱματίου αὐτοῦ∙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28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ἔλεγεν γὰρ ὅτι Ἐὰ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ἅψωμαι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might touch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ἂ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ven just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ῶν ἱματίων αὐτοῦ σωθήσομαι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29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εὐθὺς ἐξηράνθη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ξηραινω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y up, ceas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ἡ πηγὴ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pring, flow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ῦ αἵματος αὐτῆς καὶ ἔγνω τῷ σώματι ὅτι ἴατα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perf. pass.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ἰαομα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heal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ὸ τῆς μάστιγο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iseas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Exercises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00040" y="1571760"/>
            <a:ext cx="7929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Gentium"/>
              </a:rPr>
              <a:t>30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εὐθὺς ὁ Ἰησοῦς ἐπιγνοὺς ἐν ἑαυτῷ τὴν ἐξ αὐτοῦ δύναμιν ἐξελθοῦσαν ἐπιστραφεὶς ἐν τῷ ὄχλῳ ἔλεγεν, Τίς μου ἥψατο τῶν ἱματίω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ntium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ἔλεγον αὐτῷ οἱ μαθηταὶ αὐτοῦ, Βλέπεις τὸν ὄχλον συνθλίβοντ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ess upo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ε καὶ λέγεις, Τίς μου ἥψατο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32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περιεβλέπετο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ρ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+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π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ἰδεῖν τὴν τοῦτο ποιήσασαν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33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ἡ δὲ γυνὴ φοβηθεῖσα καὶ τρέμουσ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ρεμω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rembl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, εἰδυῖ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nowing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ὃ γέγονεν αὐτῇ, ἦλθεν καὶ προσέπεσε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σ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+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πιπτω] αὐτῷ καὶ εἶπεν αὐτῷ πᾶσαν τὴν ἀλήθειαν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34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ὁ δὲ εἶπεν αὐτῇ, Θυγάτηρ, ἡ πίστις σου σέσωκέν σε∙ ὕπαγε εἰς εἰρήνην καὶ ἴσθ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pres. imperativ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ntium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sing.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μ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γιὴ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althy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ὸ τῆς μάστιγός 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3:32:13Z</dcterms:created>
  <dc:creator>Sarah</dc:creator>
  <dc:description/>
  <dc:language>en-US</dc:language>
  <cp:lastModifiedBy>Sarah</cp:lastModifiedBy>
  <dcterms:modified xsi:type="dcterms:W3CDTF">2009-07-09T19:02:25Z</dcterms:modified>
  <cp:revision>27</cp:revision>
  <dc:subject/>
  <dc:title>Slide 1</dc:title>
</cp:coreProperties>
</file>