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B10-B022-4E9E-8AC7-170D4783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754-E1A4-4698-9BEF-A41E8DC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4A9-AFEF-41E0-8494-F343BA15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E2A-E40E-40CA-9691-BB1F060A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C77-4FA3-4C84-BB21-4556CF99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252-62A8-4DB2-AACF-FF7B74B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02E-192D-4AC6-A44E-3259882B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8DC-EF08-4123-88AA-D8E08164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DB0-E21B-4CE3-9AAE-87C2B1FB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92B-7954-4E8C-BB5C-6F3C0B3D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707-13D9-4F25-A60C-17C29900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ED0-F3C0-4016-A489-3CC6DD9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DFBA-070C-40B8-8413-1F3ACF27E6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ος δε Ἰησους οὐκ ἐπιστευεν ἑαυτον αὐτ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εγεν αὐτοις∙ ‘Υμεις ἐκ τουτου του κοσμου ἐστε, ἐγω οὐκ εἰμι ἐκ του κοσμου τουτ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τοιαυταις παραβολαις πολλαις ἐλαλει αὐτοις τον λο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ρχονται παλιν εἰς Ἱεροσολυμα. και ἐν τῳ ἱερῳ περιπατει ὁ Ἰησους και ἐρχονται προς αὐτον οἱ Ἰουδαιο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ον οὐν οἱ Ἰουδαιοι προς ἑαυτους∙ Που οὑτος μελλει ἐρχεσθ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κ του θεου ἐσμεν και ὁ κοσμος ὁλος ἐν τῳ πονηρῳ ἐστι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εγεν αὐτοις∙ Ὑμιν το μυστηριον διδασκω της βασιλειας του θεου∙ ἐκεινοις δε τοις ἐξω ἐν παραβολαις ταυτα λεγ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εν γαρ ὁ Ἰωαννης τῳ Ἡρῳδῃ∙ Οὐκ ἐξεστιν σοι ἐχειν την γυναικ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600" spc="-1" strike="noStrike">
                <a:solidFill>
                  <a:srgbClr val="000000"/>
                </a:solidFill>
                <a:latin typeface="Gentium"/>
              </a:rPr>
              <a:t>wif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υ ἀδελφου σ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my commandment: Have love for one another, because you are my disciple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am the bread of life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esus says to them, ‘I do not tell you (pl.) by (use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authority I am doing these things.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ing received his sight, he was saying, ‘I see people, but they are walking about like tree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ζητουν οὐν τον Ἰησουν και ἐλεγον μετ’ ἀλληλων ἐν τῳ ἱερῳ∙ Πως ποιει ταυτα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στιν χαρα ἐν ὑμιν δια την ἀγαπην ὑμων τε και ἐμ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αδδουκαιο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dducee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ν γαρ λεγουσιν μη εἰναι ζωην μετα θανατον μητε ἀλλελον, Φαρισαιοι δε διδασκουσιν ταυ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γω δε σοι λεγω ὁτ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υ εἶ Πετρος, και ἐπι ταυτῃ τῃ πετρᾳ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ἰκοδομησω μου την ἐκκλησια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κραζον φωνῃ μεγαλῃ λεγοντες∙ Ἁγιον ἐστιν το ἀρνι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εγεν∙ Οὐ θελω το ποτηριον τουτο∙ ἀλλα τουτο θελεις, διο ἐγω δεξομαι αὐ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εἰ γαρ εἰσιν ἀλλοι θεοι εἰτε ἐν οὐρανῳ εἰτε ἐπι γης, ἡμιν ἐστιν εἰ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θεος∙ και γε οὑτος ἐστιν ὁ κυριος του οὐρανου και της γης∙ αὐτῳ ἀπα προσκυνησομε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τε προσκαλεσαμενος αὐτον ὁ κυριος αὐτου λεγει αὐτῳ, Δουλε πονηρε, ποιησω ἐκεινο σοι ἐπει παρεκαλεσας μ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harisees therefore were saying to him, ‘You are bearing witness about yourself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hole earth exists for his glory, so we bless him and give thank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 cast out demons by the authority of God, the reign of God is upon you (pl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the one hand, you come together with one another, on the other hand, you persecute one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1414440"/>
            <a:ext cx="8572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thew 16.13-18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θὼ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orist participle of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χομ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ὲ ὁ Ἰησοῦς εἰς τὰ μέρη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 region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σαρείας τῆς Φιλίππου ἠρώτ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he began to ask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ὺς μαθητὰς αὐτοῦ λέγω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, Τίν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whom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έγουσιν οἱ ἄνθρωποι εἶναι τὸν υἱὸν τοῦ ἀνθρώπ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Gentium"/>
              </a:rPr>
              <a:t>14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ἱ δὲ εἶπα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y sai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ἱ μὲν Ἰωάννην τὸν βαπτιστήν, ἄλλοι δὲ Ἠλίαν, ἕτερο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ὲ Ἰερεμίαν ἢ ἕν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ῶν προφητῶν. </a:t>
            </a:r>
            <a:r>
              <a:rPr b="0" lang="el-GR" sz="2600" spc="-1" strike="noStrike" baseline="30000">
                <a:solidFill>
                  <a:srgbClr val="000000"/>
                </a:solidFill>
                <a:latin typeface="Gentium"/>
              </a:rPr>
              <a:t>15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λέγει αὐτοῖς, Ὑμεῖς δὲ τίνα με λέγετε εἶν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Gentium"/>
              </a:rPr>
              <a:t>16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ποκριθεὶ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 reply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ὲ Σίμων Πέτρος εἶπε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i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ὺ εἶ ὁ Χριστὸς ὁ υἱὸς τοῦ θεοῦ τοῦ ζῶντο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living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00808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baseline="30000">
                <a:solidFill>
                  <a:srgbClr val="000000"/>
                </a:solidFill>
                <a:latin typeface="Gentium"/>
              </a:rPr>
              <a:t>17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ἀποκριθεὶς δὲ ὁ Ἰησοῦς εἶπεν αὐτῷ, Μακάριος εἶ, Σίμων Βαριωνᾶ, ὅτι σὰρξ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lesh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ὶ αἷμ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ὐκ ἀπεκάλυψέν σοι ἀλλ’ ὁ πατήρ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ου ὁ ἐν τοῖς οὐρανοῖς. </a:t>
            </a:r>
            <a:r>
              <a:rPr b="0" lang="el-GR" sz="2600" spc="-1" strike="noStrike" baseline="30000">
                <a:solidFill>
                  <a:srgbClr val="000000"/>
                </a:solidFill>
                <a:latin typeface="Gentium"/>
              </a:rPr>
              <a:t>18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καγὼ δέ σοι λέγω ὅτι σὺ εἶ Πέτρος, καὶ ἐπὶ ταύτῃ τῇ πέτρᾳ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ἰκοδομήσω μου τὴν ἐκκλησίαν καὶ πύλα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ᾅδου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f Hade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ὐ κατισχύσουσι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y will overcome + gen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ῆς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12:41Z</dcterms:created>
  <dc:creator>Sarah</dc:creator>
  <dc:description/>
  <dc:language>en-US</dc:language>
  <cp:lastModifiedBy>Sarah</cp:lastModifiedBy>
  <dcterms:modified xsi:type="dcterms:W3CDTF">2009-07-09T18:27:25Z</dcterms:modified>
  <cp:revision>28</cp:revision>
  <dc:subject/>
  <dc:title>Slide 1</dc:title>
</cp:coreProperties>
</file>