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651-7C53-48C5-B8AD-D7E438B3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E92-E839-4F98-849C-C89F92FA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D6F-403A-43B9-B103-26B14F01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0425-73FC-43E7-A0EC-E4965603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6A3-5D3B-40AF-B891-1F25064A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53E-7723-4934-A8C1-44AA57BD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BD1-E6A8-42E0-B5AE-DB77E8FD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941-2F1A-479A-9E2B-6C25E7C1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200-6988-44C3-9BA2-FA040A57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548-1976-4ED5-AFFC-38B81943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ACE-30FE-4963-B9E1-1FA6DF2E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AD9-F986-4C2A-AE4F-6EA5DF9E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639B-3D36-4775-B5ED-71B6108AB99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1424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EVEN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42920" y="1666800"/>
            <a:ext cx="89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 γαρ ἀπεστειλεν ὁ θεος τον υἱον εἰς τον κοσμον ἱνα κρινῃ τον κοσμον, ἀλλ’ ἱνα σωθῃ ὁ κοσμος δι’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ἀποκριθεις αὐτῳ ὁ Ἰησους εἰπεν∙ Τί σοι θελεις ποιησ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ὁ δε τυφλος εἰπεν αὐτῳ, Ῥαββι, ἱνα ἀναβλεψ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λεγει αὐτοις ἐν ἐκεινῃ τῃ ἡμερᾳ∙ Διελθωμεν εἰς το περ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στρατιωτης ἰδων ἀνεῳγμεν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fect Passive Participle from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νοιγω) τας θυρας της φυλακης, ἠμελλεν ἑαυτον ἀναιρειν μαχαιρᾳ δοκων ὁτι πεφευγασιν οἱ μαθη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ς γαρ ἀν ποιησῃ το θελημα του θεου, οὑτος ἀδελφος μου και ἀδελφη και μητηρ ἐστι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ξελθουσα εἰπεν τῃ μητρι αὐτης∙ Τί αἰτησω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ἡ δε εἰπεν∙ Την κεφαλην Ἰωαννου του βαπτιζον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Exercises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214200" y="1071720"/>
            <a:ext cx="89298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ὑτος ἠλθεν εἰς μαρτυριαν, ἱνα μαρτυρησῃ περι του φωτος, ἱνα παντες πιστευσωσιν δι’ αὐτου. οὐκ ἠν ἐκεινος το φως, ἀλλ’ ἱνα μαρτυρησῃ περι του φω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ὑτοι δ’ εἰσιν οἱ παρα την ὁδον∙ ὁπου σπειρεται ὁ λογος, και ὁταν ἀκουσωσιν, εὐθυς ἐρχεται ὁ Σατανας και αἰρει τον λογον τον ἐσπαρμενο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(Perfect Passive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πειρω) εἰς αὐ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And having gone out into the fields they preached so that the people would rep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His mercy is for (us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FangSong"/>
              </a:rPr>
              <a:t>εἰ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FangSong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 generations and generations to those who fear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According to the writings, there will be signs in the sun and stars, and on the earth suffering and need of the 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And they were bringing children to him so that he might touch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142920" y="166680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ς ἀν ἑν των τοιουτων παιδιων δεξηται ἐπι τῳ ὀνοματι μου, ἐμε δεχεται∙ και ὁς ἀν ἐμε δεχηται, οὐκ ἐμε δεχεται ἀλλα τον ἀποστειλαντα μ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ει ἡ μητηρ αὐτου τοις διακονοις∙ Ὅ τι ἀν λεγῃ ὑμιν ποιησα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δε εἰπαν∙ Τί ἐτι ἐχομεν μαρτυριας χρεια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ι γαρ ἠκουσαμεν ἀπο του στοματο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ἀπεστειλεν αὐτον εἰς οἰκον αὐτου λεγων∙ Μη εἰς την κωμην εἰσελθῃ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λεγει αὐτοις∙ Ἀγωμεν εἰς τας ἀλλας πολεις και κωμας, ἱνα και ἐκει κηρηξω∙ εἰς τουτο γαρ ἐξηλθ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ιστευων εἰς τον υἱον ἐχει ζωην αἰωνιον∙ ὁ δε ἀρνουμενος τον υἱον οὐκ ὀψετα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(irregular Futur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ραω) ζωην, ἀλλ’ ἡ ὀργη του θεου μενει ἐπ’ αὐτῳ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14200" y="1071720"/>
            <a:ext cx="89298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μεν υἱος του ἀνθρωπου ὑπαγει καθως γεγραπται περι αὐτου, οὐαι δε τῳ ἀνθρωπῳ ἐκεινῳ ὁς ἀν ᾐ ὁ ἐχθρος τῳ υἱῳ του ἀνθρωπ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γω δε οὐ παρα ἀνθρωπου την μαρτυριαν λαμβανω, ἀλλα ταυτα λεγω ἱνα ὑμεις σωθη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The servants of God say ‘Wisdom and honour and power and glory be (omit the verb to be) to the lamb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The promises of God and the covenant are salvation for this 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The leaders of Judea listened to his testimony until the end in order that they might accuse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The servant asked his masters, ‘What do you wish that I might do for you (pl.)?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14360" y="1550880"/>
            <a:ext cx="82868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hn 6.28-30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ἶπον οὖν πρὸς αὐτόν, Τί ποιῶμεν ἵνα ἐργαζώμεθα τὰ ἔργα τοῦ θεοῦ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tium"/>
              </a:rPr>
              <a:t>29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εκρίθη ὁ Ἰησοῦς καὶ εἶπεν αὐτοῖς, Τοῦτό ἐστιν τὸ ἔργον τοῦ θεοῦ, ἵνα πιστεύητε εἰς ὃν ἀπέστειλεν ἐκεῖνος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0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εἶπον οὖν αὐτῷ, Τί οὖν ποιεῖς σὺ σημεῖον, ἵνα ἴδωμεν καὶ πιστεύσωμέν σο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 ἐργάζῃ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0:21:55Z</dcterms:created>
  <dc:creator>Sarah</dc:creator>
  <dc:description/>
  <dc:language>en-US</dc:language>
  <cp:lastModifiedBy>Sarah</cp:lastModifiedBy>
  <dcterms:modified xsi:type="dcterms:W3CDTF">2009-07-09T19:05:36Z</dcterms:modified>
  <cp:revision>14</cp:revision>
  <dc:subject/>
  <dc:title>Slide 1</dc:title>
</cp:coreProperties>
</file>