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17A4-36E7-4C72-BF04-3F0A7FD48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8D32-343D-4327-AB32-9A6DE6A0A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E761-46CF-4D8C-81FD-CD8D93068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CA10-86FC-4E64-9446-7375B783B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8FE1-2B9D-41F6-8C78-34F612312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A1F9-C86C-40F4-991D-450987E6B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0A16-6010-400F-BBC2-8484E0DF5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B53D-9A3B-4ACA-90F1-72066476E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84D0-EC5C-4A18-B979-A06528771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F8F9-7639-4A5E-A7E6-57E27799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BC6B-835F-4B8E-892E-1A4039C5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88E3-32CA-40AB-9BAE-C0D93EDE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3B8DD-A593-4D94-9B73-220E81DEC66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857160" y="272880"/>
            <a:ext cx="7429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TWENT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:Exercises 1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3909240" y="128592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tion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200160" y="2000160"/>
            <a:ext cx="8800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ι τοτε ἐαν τις ὑμιν εἰπῃ∙ Ἰδε ὡδε ὁ Χριστος, Ἰδε ἐκει, μη πιστευετε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ι προελθων μικρον ἐπιπτεν ἐπι της γης και προσηυχετο ἱνα εἰ δυνατον ἐστιν παρελθῃ ἀπ’ αὐτου ἡ ὡρα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πεκριθη Ἰησους∙ Ἀμην ἀμην λεγω σοι, ἐαν μη τις γεννηθῃ ἐξ ὑδατος και πνευματος, οὐ δυναται εἰσελθειν εἰς την βασιλειαν του θεου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ετα ταυτα εὑρισκει αὐτον ὁ Ἰησους ἐν τῳ ἱερῳ και εἰπεν αὐτῳ∙ Ἰδε ὑγιης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well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γεγονας. μηκετι ἁμαρτανε, ἱνα μη χειρον σοι τι γενητα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42840" y="1185840"/>
            <a:ext cx="93013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γαρ πατηρ φιλει τον υἱον και παντα δεικνυσιν αὐτῳ ἃ αὐτος ποιει, και μειζονα τουτων δειξει αὐτῳ ἐργα, ἱνα ὑμεις θαυμαζητε.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γω δε ἐχω την μαρτυριαν μειζονα του Ἰωαννου∙ τα γαρ ἐργα ἃ δεδωκεν μοι ὁ πατηρ ἱνα τελειωσω αὐτα, αὐτα τα ἐργα ἃ ποιω μαρτυρει περι ἐμου ὁτι ὁ πατηρ με ἀπεσταλκε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ι ἐθαυμαζον ἐπι τῃ διδαχῃ αὐτου ἐτι μαλλον∙ ἠν γαρ διδασκων αὐτους ὡς ἐξουσιαν ἐχων και οὐχ ὡς οἱ γραμματει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ι γενομενου σαββατου ἠρξατο διδασκειν ἐν τῃ συναγωγῃ, και πολλοι ἀκουοντες ἐθαυμασαν λεγοντες∙ Ποθεν τουτῳ ταυτα, και τίς ἡ σοφια, και αἱ δυναμεις τοιαυται δια των χειρων αὐτου γινομεναι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:Exercises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:Exercises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142920" y="1542960"/>
            <a:ext cx="8929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200000"/>
              </a:lnSpc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t us remember the shepherd of our sou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200000"/>
              </a:lnSpc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the son makes you free, you will be truly [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reall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] f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200000"/>
              </a:lnSpc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was teaching [use periphrastic] them about love for the least of the brothers and for all living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200000"/>
              </a:lnSpc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ll I crucify again the one who washed me from sin? May it never be!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:Exercises 4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3917160" y="128592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tio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200160" y="2000160"/>
            <a:ext cx="880092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ἠσαν δε τινες των γραμματεων ἐκει καθημενοι και λογιζομενοι ἐν ταις καρδιαις αὐτω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αν ἐγω μαρτυρω περι ἐμαυτου, ἡ μαρτυρια μου οὐκ ἐστιν ἀληθη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γω εἰμι ὁ ποιμην ὁ καλος και εὐ γινωσκω τα ἐμα και γινωσκει με τα ἐμα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ι ἐθεασαμεθα την δοξαν αὐτου και μιμνῃσκομεθα μαλιστα του κυριου της δοξης νιπτοντος τους ποδας ἡμω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42840" y="1185840"/>
            <a:ext cx="9101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αὐτη ἐγερθησεται ἐν τῃ κρισει μετα των ἀνδρων της γενεας ταυτης και κατακρινεῖ [κατα + κρινω =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I condemn]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αὐτους, ὁτι ἠλθεν ἀκουσαι την σοφιαν του βασιλεως, και ἰδου πλειον του βασιλεως ὡδε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γενετο δε ἐν τῳ βαπτισθηναι ἁπαντα τον λαον και Ἰησου βαπτισθεντος και προσευχομενου ἀνεῳχθηναι τον οὐραν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ι ἐρχεται το τριτον και λεγει αὐτοις∙ Καθευδετε το λοιπο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;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ἠλθεν ἡ ὡρα, ἰδου παραδιδοται ὁ υἱος του ἀνθρωπου εἰς τας χειρας των ἁμαρτωλω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αν οὐν προσφερῃς τι ἐπι το θυσιαστηριον και μνησθῃς ἐκει ὁτι ὁ ἀδελφος σου ἐχει τι κατα σου, ὑμοστρεφε εὐθυς προς αὐτον και ἐρωτα εἰρηνη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:Exercises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:Exercises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142920" y="1542960"/>
            <a:ext cx="8929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200000"/>
              </a:lnSpc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we live, it is better to live well and to love one an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200000"/>
              </a:lnSpc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the shepherds had arrived, they saw the sleeping chi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200000"/>
              </a:lnSpc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who has given you all things in Christ, will he not also give you his lo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200000"/>
              </a:lnSpc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have a beautiful and very wise wi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:Exercises 7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285840" y="1397160"/>
            <a:ext cx="857232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 Corinthians 13.1-3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ὰν ταῖς γλώσσαις τῶν ἀνθρώπων λαλῶ καὶ τῶν ἀγγέλων, ἀγάπην δὲ μὴ ἔχω, γέγονα χαλκὸς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rass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ἠχῶν [ἠχεω =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e noisy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ἢ κύμβαλον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ymbal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λαλάζον [ἀλαλαζω =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lang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.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Gentium"/>
              </a:rPr>
              <a:t>2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καὶ ἐὰν ἔχω προφητείαν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prophecy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ὶ εἰδῶ τὰ μυστήρια πάντα καὶ πᾶσαν τὴν γνῶσιν καὶ ἐὰν ἔχω πᾶσαν τὴν πίστιν ὥστε ὄρη μεθιστάναι [μεθιστημι =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emove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], ἀγάπην δὲ μὴ ἔχω, οὐθέν [= οὐδεν] εἰμι. </a:t>
            </a:r>
            <a:r>
              <a:rPr b="0" lang="el-GR" sz="2400" spc="-1" strike="noStrike" baseline="30000">
                <a:solidFill>
                  <a:srgbClr val="000000"/>
                </a:solidFill>
                <a:latin typeface="Gentium"/>
              </a:rPr>
              <a:t>3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κἂν ψωμίσω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feed, give away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άντα τὰ ὑπάρχοντά μου καὶ ἐὰν παραδῶ τὸ σῶμά μου ἵνα καυχήσωμαι, ἀγάπην δὲ μὴ ἔχω, οὐδὲν ὠφελοῦμαι [ὠφελεω =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gain, profit, benefit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9:05:18Z</dcterms:created>
  <dc:creator>Sarah</dc:creator>
  <dc:description/>
  <dc:language>en-US</dc:language>
  <cp:lastModifiedBy>Sarah</cp:lastModifiedBy>
  <dcterms:modified xsi:type="dcterms:W3CDTF">2009-07-09T19:19:02Z</dcterms:modified>
  <cp:revision>14</cp:revision>
  <dc:subject/>
  <dc:title>Slide 1</dc:title>
</cp:coreProperties>
</file>