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604-8420-4BC7-B4B2-CF96429E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6DA-93CA-4699-8C2E-C86AA5A8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023-41A6-4AA6-AF0C-438681C9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E04-68BA-45E9-9405-0ABF5733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6B85-4E4E-4419-AB19-F0C78417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337A-56FE-462D-9133-7359D015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C1CA-4E7A-4BD0-A55C-9118F6B8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E7C8-D5C9-4F72-8F6B-EC73A95F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580A-0D97-487F-9020-8EDCFABA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004F-1B17-48EE-912D-4B000584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E798-2549-4533-99AE-09B4342D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7B2-6A9B-413E-B9FF-417F3E3C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7354-258C-442A-B1A6-461CB109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62C9-B52A-441A-962B-992E5A44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E6D4-5E13-4FDD-BC68-4CB0F5D9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AD1D-7185-489F-8BC7-5AA2DDA9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F3C5-C799-4EAB-A1C3-BFD95328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0CD-DBC4-4507-B41F-78BE4DAA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AB95-9420-4F7B-8BB2-0E403A79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417-7064-4D84-B14C-F163AD6D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CA5-7AEC-4620-BBB9-7A89BC34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BB8-7D77-42C8-8B39-C5276952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C01-0870-49B0-94D5-5E2179AE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188-AAEE-48D3-90FE-81A2B747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A01D-287D-4657-B63F-2E609C12EF0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758E-2BDF-41C7-AA79-BBC5D245F2A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57320" y="1214280"/>
            <a:ext cx="87724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λεγει τοις Φαρισαιοις∙ Ἐξεστιν ἐν τοις σαββασιν ἀγαθον ποιησαι ἠ κακοποιησα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o evil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ψυχην σωσαι ἠ μη σωσ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μην ἀμην λεγω, ὁ πιστευων ἐχει ζωην αἰων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ἐντολη αὐτου ἐστιν ζωη αἰωνιο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τα προβατα την φωνην αὐτου ἀκουει και τα ἰδια προβατα ἀκολουθει ὀπισω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ἀδελφη ἡ πιστη ἐκραζεν τῳ Ἰησου∙ Ἐλεησον, κυριε υἱε Δαυιδ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ἐκηρυξεν ὁ Ἰησους λεγων∙ Μετανοειτε και πιστευετε ἐν τῳ εὐαγγελιῳ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14200" y="1711440"/>
            <a:ext cx="8001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ει τῳ ὀχλῳ συν τοις ἀποστολοις αὐτου∙ Εἰ θελεις ὀπισω του κυριου ἀκολουθειν, δει παρρησιαν ἐχ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θρωπος εἰμι ὑπο ἐξουσιαν, και λεγω δουλῳ∙ Ποιησον αὐτο, και ποι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s telling a parable concerning j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lead blind animals up into the te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you (pl.) looking at the tom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 was speaking in parables but with 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α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] auth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57320" y="1357200"/>
            <a:ext cx="877248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 δοκειτε λεγειν∙ Ἐσμεν υἱοι του Ἀβραα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Φαρισαιοι καταργουσιν την ἐντολην της ἀγαπ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οι συνηγον θεωρειν το μνημε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ει αὐτῳ∙ Ἀκολουθει τῳ Ἰησου και μαρτυρ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 προσκυνειν τῳ θεῳ δια την δοξαν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εγεν ὁ ἀγγελος αὐτοις∙ Ἀκολουθειτε ὀπισω της φωνης αὐτου και μαρτυρειτε παρρησιᾳ και χαρᾳ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1711440"/>
            <a:ext cx="800100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ἀποστολοι ἐκηρυσσον το εὐαγγελιον λεγοντες∙ Μετανοιετ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 δαιμονιον ἐδησεν αὐτην ἀλλ’ οἱ Φαρισσαιοι λεγουσιν∙ Οὐ δει και οὐκ ἐξεστιν λυσαι αὐτην ἀπο του πονηρου ἐν τῳ σαββα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do not seek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n bound Paul, but an angel released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rd, open the eyes of th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about to bear witness concerning the righteousness of Chr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3809880" y="12142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69000" y="16430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John 3.4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00040" y="2286000"/>
            <a:ext cx="8286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ᾶ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veryone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ποιῶν τὴν ἁματίαν καὶ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ὴν ἀνομία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μία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awlessness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εῖ, καὶ ἡ ἁμαρτία ἐστὶν ἡ ἀνομία.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5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Καὶ οἴδατε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ou know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ὅτ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εῖνο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at one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φανερώθη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as revealed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, ἵνα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 th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ὰς ἁμαρτίας ἄρῃ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 might take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, καὶ ἁμαρτία ἐν αὐτῷ οὐκ ἔστιν.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6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πᾶς ὁ ἐν αὐτῷ μένω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ένω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 remain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χ ἁμαρτάνε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ανω –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 πᾶς ὁ ἁμαρτάνων οὐχ ἑώρακε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 has seen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τὸν οὐδὲ ἔγνωκε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 has known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τόν.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7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εκνία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κν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δεὶ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body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ανάτω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t him deceive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ὑμᾶ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14200" y="1351080"/>
            <a:ext cx="892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ποιῶν τὴν δικαιοσύνην δίκαιός ἐστιν, καθὼ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just as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κεῖνος δίκαιός ἐστιν∙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8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ὁ ποιῶν τὴν ἁμαρτιαν ἐκ τοῦ  διαβόλου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άβολος -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vil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στιν, ὅτι ἀπ’ ἀρχῆς ὁ διάβολος ἁμαρτάνει. εἰς τοῦτο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or this reason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φανερώθη ὁ υἱὸς τοῦ θεοῦ, ἵνα λύσῃ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 that he might release/destroy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α ἔργα τοῦ διαβόλου.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9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Πᾶς ὁ γεγεννημένο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ving been born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 τοῦ θεοῦ ἁμαρτίαν οὐ ποιεῖ, ὅτι σπέρμα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d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τοῦ ἐν αὐτῷ μένει, και οὐ δύνατα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 is able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άνειν, ὅτι ἐκ τοῦ θεοῦ γεγέννητα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 has been born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10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ν τούτῳ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 this way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ανερά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vealed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στιν τὰ τέκνα τοῦ θεοῦ καὶ τὰ τέκνα τοῦ διαβόλου∙ πᾶς ὁ μὴ ποιῶν δικαιοσύνην οὐκ ἔστιν ἐκ τοῦ θεοῦ, καὶ ὁ μὴ ἀγαπῶ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oving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ὸν ἀδελφὸν αὐτοῦ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31:09Z</dcterms:created>
  <dc:creator>Sarah</dc:creator>
  <dc:description/>
  <dc:language>en-US</dc:language>
  <cp:lastModifiedBy>Sarah</cp:lastModifiedBy>
  <dcterms:modified xsi:type="dcterms:W3CDTF">2009-07-09T18:15:21Z</dcterms:modified>
  <cp:revision>32</cp:revision>
  <dc:subject/>
  <dc:title>Slide 1</dc:title>
</cp:coreProperties>
</file>