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CF6-D7BA-405E-8776-61E0FCA30C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230E-E22C-4E5E-B6A7-CF499484B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7C7-8A21-41FE-853D-67C6D5B1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D71-7C1B-4B11-8FA9-E5BFB02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D98-3E63-4111-9A12-05011AD0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D20-9329-4780-9950-F3B0D2D6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0F7D-CB94-4F5F-A61D-1890B464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8862-6A59-46AC-AA67-64851839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242A-6A9E-47DD-830D-2560CB75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753D-E4F1-408D-896A-441EACD1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341B-866A-47F3-B3DF-A80666F1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5395-FDAD-4DFA-BADC-F1EB092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37F9-0DEC-433A-B785-23B204F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509-515E-4238-AF40-06356AF8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CD65-E1F5-4055-80A1-ECD44A0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D838-ECDD-4079-BBFB-F9C12C2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A2E1-9265-4048-8D8F-2345695F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FCB5-D4D9-45DF-8BF7-A5D99023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F122-8999-4655-ABF7-AFA9A48B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30F-3C0A-422A-86B2-101A8E1C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8F9-EB3E-47E5-AA47-0478FB95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11E-BA2A-4FFA-BCAA-B74D58DC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D66-AB8D-4F56-B251-2D952A33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324-6E46-4C53-AC76-4C5324A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046-D3C1-44BB-A5F8-C16C344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E7C-6C8B-4C68-ACC7-D697005C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5F53-0A59-45C1-BC71-BFD53C925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EEAA-1233-4511-95A6-985851B855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0F86-904B-4949-B6B1-4F78CF5D3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0F9B-1EC6-4570-8358-18BB12FA9D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TextBox 6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ω 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νθρωπος καλει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νομον φι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ἀμην λεγ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ασκει ὁ Χριστος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ποιει τον κοσμον κ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4048D6BC-1153-4934-BD6B-B67ABC50A7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Box 5"/>
          <p:cNvSpPr/>
          <p:nvPr/>
        </p:nvSpPr>
        <p:spPr>
          <a:xfrm>
            <a:off x="1000080" y="1928880"/>
            <a:ext cx="78580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ωσηφ λαμβανει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μεν και φιλουμεν τον λογ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 says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rowd listens to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are setting free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ome) People are ma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F15FAA20-6DA3-43AA-9F5F-53085A9A3C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υἱοι λα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ἀγγελοι βλεπουσ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ὀχλος τον θεον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ετε τον ἀρτ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ακωβ ἀγει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νομον τηρει ὁ λαος Ἰσραη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2D599DB3-8F79-4368-BEF9-2B19B9FD78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TextBox 4"/>
          <p:cNvSpPr/>
          <p:nvPr/>
        </p:nvSpPr>
        <p:spPr>
          <a:xfrm>
            <a:off x="1000080" y="1928880"/>
            <a:ext cx="74296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Δαυιδ ὁ κυριος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κυριος Χριστος τους ἀνθρωπους λ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has me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ach the 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seeking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 calling the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A156E1F1-004E-479D-A72D-42040DCB7A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38:08Z</dcterms:created>
  <dc:creator>Sarah</dc:creator>
  <dc:description/>
  <dc:language>en-US</dc:language>
  <cp:lastModifiedBy>Sarah</cp:lastModifiedBy>
  <dcterms:modified xsi:type="dcterms:W3CDTF">2009-07-09T17:28:30Z</dcterms:modified>
  <cp:revision>17</cp:revision>
  <dc:subject/>
  <dc:title>Slide 1</dc:title>
</cp:coreProperties>
</file>