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B824-1900-49E2-B5F8-AABB0509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FBB7-4FC4-44E5-AD38-B449B809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9646-54F2-4C26-BA06-CBCCF22C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41D-99B8-4DDB-9DC1-7D545FC8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20D6-991F-42FC-8CDA-65D38864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9C31-F99C-4C50-BC67-2C88B8CD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B2DF-4F54-4A1B-AAA8-C4D7A484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A187-9103-449C-9216-19BA9FB9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DA2F-B4F8-467B-A091-BB3D516F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8161-BEE0-41F9-9743-D4319B27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EFCA-2F4C-4E58-89C7-97522460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0E2E-FBBA-41E8-8A0F-E5805703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E608-215C-4D91-A37F-31F648B4A1B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ELEV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Exercises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00160" y="1300320"/>
            <a:ext cx="894384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σηλθον αὐτῳ οἱ μαθηται λεγοντες∙ Ἐρημος ἐστιν ὁ τοπος και ἡ ὡρα ἠδη παρηλθεν∙ ἀπολυσον τους ὀχλ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φωνη ἐγενετο ἐκ των οὐρανων∙ Συ εἶ ὁ υἱος μου ὁ ἀγαπητ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ὁτε εἰσηλθεν εἰς οἰκον ἀπο του ὀχλου, εὑρον αὐτον οἱ μαθηται αὐτου και εἰπον αὐτῳ περι της παραβολ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ηρυξα γαρ ὑμιν ὃ και παρελαβον, ὁτι Χριστος ἀπεθανεν ὑπερ των ἁμαρτιων ἡμων κατα το εὐαγγελ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γω γαρ δια νομου ἀπεθανον νομῳ.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γει οὐν τῳ ἀποστολῳ∙ Μη γινου παντοτε τυφλος ἐν τῃ καρδιᾳ σου ἀλλα πιστ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0160" y="1300320"/>
            <a:ext cx="894384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 τῳ κοσμῳ ἠν, κσι ὁ κοσμος δι’ αὐτου ἐγενετο, και ὁ κοσμος αὐτον οὐκ ἐγν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υριε δικαιε, και ὁ κοσμος σε οὐκ ἐγνω, ἐγω δε σε ἐγνων, και οὑτοι ἐγνωσαν ὁτι συ με ἀπεστειλ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he went up into the boat with them and they fled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this he went down to Galilee, and Mary and his brothers and his disciples, and they remained there for not many days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hold, the son of man will send his angels.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word which I spoke will judge him on the day of the Lord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200160" y="1216080"/>
            <a:ext cx="894384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ὑτη δε ἐστιν ἡ αἰωνιος ζωη, γινωσκειν σε τον μονον ἀληθινον θεον και ὁν ἀπεστειλας Ἰησουν Χρισ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ἀλλον ἀπεστειλεν∙ κἀκεινον ἀπεκτειναν, και πολλους ἀλλους, οὑς μεν διωκοντες, οὑς δε ἀποκτεινοντ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λεγει αὐτοις∙ Οὐκ γινωσκετε την παραβολην ταυτην, και πως ἀλλας τας παραβολας γωνσεσθε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παλιν ἠνεγκαν το τεκνον μετα του δαιμονιου προς αὐτον. και εὐθυς πεσων ἐπι της γης ἐκραζ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ἰδου ὁ σπειρων σπειρει ἐπι την γην∙ και ἐγενετο ὃ μεν ἐπεσεν παρα την ὁδον, και ἀλλο ἐπεσεν εἰς την γην την καλην, και εὐθυς ἀνεβη καλως.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υτο οὐν το βιβλιον πολλοι ἀνεγνωσαν ὁτι ἐπεγνωσαν την ἀληθει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Exercises 3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00160" y="1300320"/>
            <a:ext cx="894384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ε Ἰησους εἰπεν αὐτῳ ὁτι Σοι λεγω, ἐγειρε ἀρον αὐτο και ὑπαγε εἰς τον οἰκον 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οἱ ὑπηπεται καταλιποντες τα προβατα ἐφυγον ἀπαγγελλοντες ἁ εἰδον και ἀλλοι ἀνεβησαν ἰδ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 disciples of John came and took away the dead man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ing received (him) they killed him and cast him outside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coming into the house, he said, ‘Rejoice! We will eat with one another now’.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appened that a sheep fled. Therefore the son left the others and found it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Exercises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428760" y="1428840"/>
            <a:ext cx="84294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elation 1.1-19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οκάλυψι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velatio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Ἰησοῦ Χριστοῦ ἣν ἔδωκε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 gav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ῷ ὁ θεὸς δεῖξα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o show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ῖς δούλοις αὐτοῦ ἃ δεῖ γενέσθαι ἐν τάχε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, καὶ ἐσήμανε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 showe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οστείλας διὰ τοῦ ἀγγέλου αὐτοῦ τῷ δούλῳ αὐτοῦ Ἰωνάννῃ,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ὃς ἐμαρτύρησεν τὸν λόγον τοῦ θεοῦ καὶ τὴν μαρτρίαν Ἰησοῦ Χριστοῦ ὅσα εἶδεν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3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μακάριος ὁ ἀναγινώσκων καὶ οἱ ἀκούοντες τοὺς λόγους τῆς προφτεία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rophecy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τηροῦντες τὰ ἐν αὐτῇ γεγραμμένα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aving been writte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, ὁ γὰρ καιρὸς ἐγγύς. ..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9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Ἐγὼ Ἰωάννης, ὁ ἀδελφὸς ὑμῶν ..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10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ἐγενόμην ἐν πνεύματ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pirit in the dat. sing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 τῇ κυριακῇ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ord’s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ἡμέρᾳ καὶ ἤκουσα ὀπίσω μου φωνὴν μεγάλην ὡς σάλιπιγγο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rumpet in the gen. sing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Exercises 6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642960" y="157176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Gentium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γούση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aying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, Ὃ βλέπεις γράψον εἰς βιβλίον καὶ πέμψον ταῖς ἑπτὰ ἐκκλησίας, ..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12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ἐπέστρεψα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πιστρεφω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 tur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λέπειν τὴν φωνὴν ἥτι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=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ἥ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λάλει μετ’ ἐμοῦ, καὶ ἐπιστρέψας εἶδον ἑπτὰ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seven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υχνία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ampstan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χρυσᾶ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ol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..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17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ὅτε εἶδον αὐτόν, ἔπεσα πρὸς τοὺς πόδα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οῦ ὡς νεκρός, καὶ ἔθηκε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 place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ὴν δεξιὰ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οῦ ἐπ’ ἐμὲ λέγων, ..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19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γράψον οὖν ἃ εἶδες καὶ ἃ εἰσὶν καὶ ἃ μέλλει γενέσθαι μετὰ ταῦτ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09:03:54Z</dcterms:created>
  <dc:creator>Sarah</dc:creator>
  <dc:description/>
  <dc:language>en-US</dc:language>
  <cp:lastModifiedBy>Sarah</cp:lastModifiedBy>
  <dcterms:modified xsi:type="dcterms:W3CDTF">2009-07-09T18:36:10Z</dcterms:modified>
  <cp:revision>57</cp:revision>
  <dc:subject/>
  <dc:title>Slide 1</dc:title>
</cp:coreProperties>
</file>