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A6-E763-4AA7-9215-6E64C1FD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868-02F0-43E4-8A63-A0DBF6EC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5C3-B943-4E7E-BCF7-F6C1DB4A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FA7-9A70-479A-95BA-EDAD3043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5E5-EFDD-405B-B775-728975DE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B9B-0B72-4AA0-9BA1-B384589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B46-0912-4EAF-9EF5-FF75B8FD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05B-5C80-4E96-ABCA-78BC8119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4ED-FC57-41EE-90FD-77C5D64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87F-B7BD-428A-AE6F-26A6717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37E-7220-4AFD-9311-62086EA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373-7DD9-4B8B-A6EF-56385F2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76E-22F9-4ACF-9851-91562F7566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4200" y="145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γον οὐν τῳ Πιλατῳ οἱ ἀρχιερεις των Ἰουδαιων∙ Μη γραφε∙ Ὁ βασιλευς των Ἰουδαιων, ἀλλ’ ὁτι ἐκεινος εἰπεν, Βασιλευς εἰμι των Ἰουδαι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ῳ∙ Τί με λεγεις ἀγαθ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ἀγαθος εἰ μη εἱς ὁ θε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χαρις του κυριου Ἰησου Χριστου και ἡ ἀγαπη του θεου και ἡ κοινωνι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llowship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ἁγιου πνευματος μετα παντων ὑ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καλειτε τινα Ῥαββι∙ εἱς γαρ ἐστιν ὑμων ὁ διδασκαλ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παντες δε ὑμεις ἀδελφοι ἐσ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Πετρος λεγει τῳ Ἰησου∙ Ῥαββι, καλον ἐστιν ἡμας ὡδε εἰναι, και οἰδοκομησομεν τρεις σκην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ree tent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μιν, σοι μιαν και Μωϋσει μιαν και Ἠλιᾳ μ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σονται οἱ δυο εἰς σαρκα μιαν∙ οὑτως οὐκετι εἰσιν δυο ἀλλα μια σαρ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112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14200" y="1357200"/>
            <a:ext cx="8643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πας ὁ ὀχλος ἐζητουν ἁπτεσθαι αὐτου, ὁτι δυναμις παρ’ αὐτου ἐξηρχετο και ἐθεραπευεν παντ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ξηλθον οἱ μαθηται και ἠλθον εἰς την πολιν και εὑρον καθως εἰπεν αὐτ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one of the scribes, having approached, said to him, ‘Rabbi, I will follow you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e will be king over the house of Jacob forever, and of his kingdom there will not be a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orld you have suffering, but you have peace in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go out into resurrection of life, but others to a resurrection of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84644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ρχεται εἱς των ἀρχισυναγωνων, ὀνοματι Ἰαϊρος, και ἰδων αὐτον πιπτει προς τους ποδα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νους ἐν τῳ σκοτει ἐργαζεται πονηρα τῃ συνειδησει τῃ κακ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δε πληθος ἐπι τῳ ὀρει αἰτησει την παρακλησιν ἀπο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ν ἐτος  ὁ ἀρχιερευς ἠν ἀσθε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ς δεξεται το ἐλεος του βασιλεω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ἠ πα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πασιν μεν ἡ γνωσις της ἀναστασεως, πολλων δε ὁ νους ἐν σκοτε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14200" y="13572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νομος του Μωϋσεως λεγει περι του ἐλεους του ἀληθους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εστειλεν αὐτους κηρυσσειν την βασιλειαν του θεου και θεραπευειν παντας τους ἀσθεν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nation has knowledge about the blind and the w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eived from his father his part of their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all members of the body of Ch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ill be suffering for everybody, good and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500120"/>
            <a:ext cx="77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hew 28.18-20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προσελθὼν ὁ Ἰησοῦς ἐλάλησεν αὐτοῖς λέγων, Ἐδόθη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s been give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ι πᾶσα ἐξουσία ἐν οὐρανῷ καὶ ἐπὶ τῆς γῆς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πορευθέντε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ὖν μαθητεύσατε [μαθητευω = μαθητης ποιω] πάντα τὰ ἔθνη, βαπτίζοντες αὐτοὺς εἰς τὸ ὄνομα τοῦ πατρὸς καὶ τοῦ υἱοῦ καὶ τοῦ ἁγίου πνεύματος,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διδάσκοντες αὐτοὺς τηρεῖν πάντα ὅσα ἐνετειλάμην [ἐντελλομαι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comma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μῖν∙ καὶ ἰδοὺ ἐγὼ μεθ’ ὑμῶν εἰμι πάσας τὰς ἡμέρας ἕως τῆς συντελεί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mpleti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ῦ αἰῶ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6:56Z</dcterms:created>
  <dc:creator>Sarah</dc:creator>
  <dc:description/>
  <dc:language>en-US</dc:language>
  <cp:lastModifiedBy>Sarah</cp:lastModifiedBy>
  <dcterms:modified xsi:type="dcterms:W3CDTF">2009-07-09T18:44:14Z</dcterms:modified>
  <cp:revision>19</cp:revision>
  <dc:subject/>
  <dc:title>Slide 1</dc:title>
</cp:coreProperties>
</file>