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7E8-982B-4B67-9100-9081609B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A39-1724-4850-AB2A-32BE568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AF7-8A70-41F1-8167-47D10909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056-DA50-4AF7-9D83-00E810A2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4AF-CDEC-4EF6-9B56-A2D3C6B5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4E0-6614-4748-9B04-53BDEB6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97B-54B9-47CE-A5AB-6351E888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AB4-EFD5-4C5B-8B0B-F29DF44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27D-F73C-4EA9-9B03-5F96088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1A7-4D0E-45EB-9662-B5AE517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292-6DC9-49F9-AA74-F871DCC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69A-097F-46E1-9C98-F5639AC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0533-B99B-423E-AE93-3A24D1FC68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00160" y="130032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εἰμι ἀποστολ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χι Ἰησουν τον κυριον ἡμων ἐβλεψ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τε ἁ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’ ἐκ των Φαρισαιων ἠκουσαν ταυτα και ἐθαυμαζον λεγοντες αὐτῳ∙ Μη και ἡμεις τυφλοι ἐσ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μονον δε, ἀλλ’ ἐγγιζομεν τῳ θεῳ δια του κυριου ἡμων Ἰησου Χριστου δι’ οὑ νυν την εἰρηνην μετα του θεου λαμβαν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οι ἐλεγον∙ Οὑτος ἐστιν ὁ Χριστος, οἱ δε  ἐλεγον∙ Μη ἐκ της Γαλιλαιας ὁ Χριστος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Δαυιδ λεγει ὁτι Μακαριος ἐστιν ὁ ἀνθρωπος ᾡ ὁ θεος λογιζεται δικαιοσυνην χωρις ἐργων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ς ἡμερας ὁ λαος ἠν ἐν Αἰγυπτῳ καθως ἐλαλησεν ὁ θεος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νησατο ὁ στρατιωτης λεγων∙ Μητι ἐγω Ἰουδαιος 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σμεν ἐν τῳ ἀληθινῳ, ἐν τῳ υἱῳ αὐτου Ἰησου Χριστῳ. οὑτος ἐστιν ὁ ἀληλθινος θεος και ζωη αἰων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says to him, ‘I am the way, the truth and the life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late was sleeping on the other side of the sea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at I wrote to you, I bear witness in the presenc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be amazed because of this, because an hour is coming in which the dead will hear his v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2920" y="114300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γεν δε ὁ Ἰησους∙ Ἀμην λεγω ὑμιν, πολλοι οὐκετι ἐχουσιν οἰκιαν ἠ ἀδελφους ἠ ἀδελφας ἠ τεκνα ἑνεκα ἐμου και ἑνεκα του εὐαγγελ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λην οὐτ’ ἀδελφη χωρις ἀδελφου οὐτ’ ἀδελφος χωρις ἀδελφης ἐν κυρι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ιδασκεν αὐτους λεγων ὁτι Αὐτος Δαυιδ λεγει αὐτον κυριον, και ποθεν αὐτου ἐστιν υἱ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πολυς ὀχλος ἠκουε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Ἰησους ἐλεγεν αὐτῳ∙ Ὑπαγε. Και εὐθυς ἀνεβλεψεν και ἠκλουθει αὐτῳ ἐν τῃ ὁδ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ομενοι δε κηρυσσετε λεγοντες ὁτι Ἐγγιζει ἡ βασιλεια των οὐρανων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ως θελετε λαμβανειν ἀπο των ἀνθρωπων, ποιειτε αὐτοις ὁμοι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βλεπετε ταυτα, θαυμαζετε∙ ἐγγυς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οι ἐλεγον ὁτι Οὑτος ἐστιν, ἀλλοι ἐλεγον, Οὐχι, ἀλλα ὁμοιος αὐτῳ ἐστιν. ἐκεινος ἐλεγεν ὁτι Ἐγω εἰμ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e Sabbath the brothers were sleeping but the sisters were  giving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 neither life nor death is outside of (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ωρ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’s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done these things well; go in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late was amazed because that man did nothing evil but healed 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840" y="1085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6.3-6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χ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ὗτός ἐστιν ὁ τέκτ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ilder, carpenter, stonemas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υἱὸς τῆς Μαρίας καὶ ἀδελφὸς Ἰακώβου καὶ Ἰωσῆτ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ses (gen.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Ἰούδα καὶ Σίμων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mon (gen.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οὐκ εἰσὶν αἱ ἀδελφαὶ αὐτοῦ ὧδε πρὸς ἡμᾶ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σκανδαλίζον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y were scandaliz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αὐτῷ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ἔλεγεν αὐτοῖς ὁ Ἰησοῦς ὅτι Οὐκ ἔστιν προφήτης ἄτιμ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honour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μὴ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cep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ῇ πατρίδ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mela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καὶ ἐν τοῖς συγγενεῦσι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insme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καὶ ἐν τῇ οἰκίᾳ αὐτοῦ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οὐκ ἐδύνα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was ab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ῖ ποιῆσαι οὐδεμία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none, no on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ύναμι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t of power, mirac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εἰ μὴ ὀλίγο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ρώστο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ck, il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πιθεὶ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ying 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ς χεῖρ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nd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θεράπευσε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6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θαύμαζεν διὰ τὴν ἀπιστία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belie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ῶν. Καὶ περιῆγ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 abou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ς κώμ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llage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ύκλ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a circle, round abou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άσ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41:51Z</dcterms:created>
  <dc:creator>Sarah</dc:creator>
  <dc:description/>
  <dc:language>en-US</dc:language>
  <cp:lastModifiedBy>Sarah</cp:lastModifiedBy>
  <dcterms:modified xsi:type="dcterms:W3CDTF">2009-07-09T18:31:32Z</dcterms:modified>
  <cp:revision>24</cp:revision>
  <dc:subject/>
  <dc:title>Slide 1</dc:title>
</cp:coreProperties>
</file>