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368-F25F-49FA-9EBE-7B0B41C2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A55-52DF-4974-906E-2DF39FE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F43-77CF-4930-9793-436B084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4C4-7610-4E93-8F80-1507FB79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575-F65B-4506-9CBA-C1112EC0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42D-BCEA-48EA-8C01-FF50C47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A25A-4AAD-4825-98DD-C22A5147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B9B3-1A0A-4ED2-937B-9A9EE83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D8E-28A7-4444-9A9E-78E7042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6CC2-0D45-44CB-A52C-8C3C234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0578-8B68-46C0-BE94-CA9B773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D9E-0203-4BBA-8750-F1ADC9F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B930-2A3F-46ED-B983-014FA5A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3039-1994-4D44-A721-C0C15BF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F879-D827-4DF7-B578-668C251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8F9-B3D7-45D0-9DA0-C32D0E15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FA5C-BA06-46C0-8005-C8495DC3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447-8566-4F17-B985-066D3536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7F0-2394-4E7F-9D56-4F233ECB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9CC-9A51-4FDC-B334-394EFDD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C22-F45C-40F3-A967-1A5B562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DBA-0EE0-4F5B-AC5B-462B6FA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972-624F-41B4-AEEC-86A36B4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B76-49B5-43D7-8B8C-00AADDC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F9AA-02FA-4DA5-A242-8B44B5E4FF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0B52-EDCC-4C88-944D-3080A00846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αμβανω την του θεου βασιλεια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 δαιμονιον λεγει∙ Ἰησου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γαπητοι, νομον ἑτερον οὐ διδασκω ἀλλα τον ἀπ’ ἀρχη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γουσιν τον τυφλον προς τους Ἰουδαιους ἐν τῳ ἱερῳ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easure box/storeroom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άλλει ἀγαθά, καὶ ὁ πονηρὸς ἄνθρωπος ἐκ τοῦ πονηροῦ θησαυροῦ ἐκβ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ellowship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piri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 (pl.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9-07-09T18:06:47Z</dcterms:modified>
  <cp:revision>24</cp:revision>
  <dc:subject/>
  <dc:title>Slide 1</dc:title>
</cp:coreProperties>
</file>