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432-1A32-433A-B651-54059B46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B8D-B7E8-4F4B-B829-567A815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AFF-7B2A-4DF6-9D29-0C350DD0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275-B92D-4419-8BFF-361CABA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F76-3AA5-4864-9104-CF3C9F8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358-B839-476A-934A-E58B3469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6D5-D804-4E41-860D-9C77530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B67-4095-4BAA-BEA2-331C320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461-895E-49A5-9503-9CCE86A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283-2864-42B5-9DDF-AA8AE6C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F06-0E84-4127-920E-CB115FA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08C-1F66-47FA-BB8F-14ACE7E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325C-E374-488C-992C-1006B133F2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ανη ἀνηρ τις ἐκ της πολεως ἐχων δαιμονια και πολυν χρονον  οὐκ ἐνεδυσατ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 ἔργα τοῦ Χριστοῦ πέμψας διὰ τῶν μαθητῶν αὐτοῦ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;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ἀποκριθεὶς ὁ Ἰησοῦς εἶπεν αὐτοῖς∙ Πορευθέντες ἀπαγγείλατε Ἰωάννῃ ἃ ἀκούετε καὶ βλέπετε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υφλοὶ ἀναβλέπουσιν καὶ χωροὶ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αρι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ean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9-07-09T18:55:50Z</dcterms:modified>
  <cp:revision>24</cp:revision>
  <dc:subject/>
  <dc:title>Slide 1</dc:title>
</cp:coreProperties>
</file>