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241-9CE5-47E8-B512-4D2B1BE9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A93-8423-4E36-81CA-A468174A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DFE-E830-4F5B-A132-13A193F8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325-88E8-4679-9EB7-FD5B2A42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920-C235-4F0F-A109-B4F1365E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ABA-7872-46D6-B616-DC1D306F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0E3-F678-4D24-AC62-7DD85F11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F83-E4D7-4115-B4C2-4B090E1E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100-B6A3-4638-BEF0-2828D519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50D-8D1F-4211-9208-D3DA0F02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94B-9EA2-47AA-9CB5-1EE51112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9DF-EC7B-46FF-A903-FC721BB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8206-08AA-4785-A8A1-E31128493C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00160" y="130032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εἰμι ἀποστολ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χι Ἰησουν τον κυριον ἡμων ἐβλεψ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τε ἁ λεγω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’ ἐκ των Φαρισαιων ἠκουσαν ταυτα και ἐθαυμαζον λεγοντες αὐτῳ∙ Μη και ἡμεις τυφλοι ἐσ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μονον δε, ἀλλ’ ἐγγιζομεν τῳ θεῳ δια του κυριου ἡμων Ἰησου Χριστου δι’ οὑ νυν την εἰρηνην μετα του θεου λαμβαν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οι ἐλεγον∙ Οὑτος ἐστιν ὁ Χριστος, οἱ δε  ἐλεγον∙ Μη ἐκ της Γαλιλαιας ὁ Χριστο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Δαυιδ λεγει ὁτι Μακαριος ἐστιν ὁ ἀνθρωπος ᾡ ὁ θεος λογιζεται δικαιοσυνην χωρις ἐργων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ς ἡμερας ὁ λαος ἠν ἐν Αἰγυπτῳ καθως ἐλαλησεν ὁ θεος τῳ Ἀβραα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νησατο ὁ στρατιωτης λεγων∙ Μητι ἐγω Ἰουδαιος 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σμεν ἐν τῳ ἀληθινῳ, ἐν τῳ υἱῳ αὐτου Ἰησου Χριστῳ. οὑτος ἐστιν ὁ ἀληλθινος θεος και ζωη αἰων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says to him, ‘I am the way, the truth and the life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late was sleeping on the other side of the sea of 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what I wrote to you, I bear witness in the presence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not be amazed because of this, because an hour is coming in which the dead will hear his v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2920" y="114300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εγεν δε ὁ Ἰησους∙ Ἀμην λεγω ὑμιν, πολλοι οὐκετι ἐχουσιν οἰκιαν ἠ ἀδελφους ἠ ἀδελφας ἠ τεκνα ἑνεκα ἐμου και ἑνεκα του εὐαγγελ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λην οὐτ’ ἀδελφη χωρις ἀδελφου οὐτ’ ἀδελφος χωρις ἀδελφης ἐν κυρι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ιδασκεν αὐτους λεγων ὁτι Αὐτος Δαυιδ λεγει αὐτον κυριον, και ποθεν αὐτου ἐστιν υἱ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πολυς ὀχλος ἠκουε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ὁ Ἰησους ἐλεγεν αὐτῳ∙ Ὑπαγε. Και εὐθυς ἀνεβλεψεν και ἠκλουθει αὐτῳ ἐν τῃ ὁδ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μενοι δε κηρυσσετε λεγοντες ὁτι Ἐγγιζει ἡ βασιλεια των οὐρανων.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θως θελετε λαμβανειν ἀπο των ἀνθρωπων, ποιειτε αὐτοις ὁμοι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βλεπετε ταυτα, θαυμαζετε∙ ἐγγυς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οι ἐλεγον ὁτι Οὑτος ἐστιν, ἀλλοι ἐλεγον, Οὐχι, ἀλλα ὁμοιος αὐτῳ ἐστιν. ἐκεινος ἐλεγεν ὁτι Ἐγω εἰμ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uring the Sabbath the brothers were sleeping but the sisters were  giving thanks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wise neither life nor death is outside of (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ωρι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’s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have done these things well; go in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late was amazed because that man did nothing evil but healed m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840" y="10857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6.3-6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χ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ὗτός ἐστιν ὁ τέκ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builder, carpenter, stonemas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υἱὸς τῆς Μαρίας καὶ ἀδελφὸς Ἰακώβου καὶ Ἰωσῆτ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Joses (gen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Ἰούδα καὶ Σίμων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mon (gen.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ὶ οὐκ εἰσὶν αἱ ἀδελφαὶ αὐτοῦ ὧδε πρὸς ἡμᾶ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σκανδαλίζον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y were scandaliz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αὐτῷ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ἔλεγεν αὐτοῖς ὁ Ἰησοῦς ὅτι Οὐκ ἔστιν προφήτης ἄτιμο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ishonoure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μὴ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ῇ πατρίδ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omelan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καὶ ἐν τοῖς συγγενεῦσι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kinsme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ῦ καὶ ἐν τῇ οἰκίᾳ αὐτοῦ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5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οὐκ ἐδύνα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e was ab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ῖ ποιῆσαι οὐδεμ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, none, no on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ύναμι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ct of power, miracle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, εἰ μὴ ὀλίγ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 few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ρώστ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ick, il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θεὶ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laying o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ς χεῖρ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and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θεράπευσεν.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Gentium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καὶ ἐθαύμαζεν διὰ τὴν ἀπιστία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unbelie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ῶν. Καὶ περιῆγ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o abou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ὰς κώμ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villages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ύκλ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in a circle, round abou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άσ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5:41:51Z</dcterms:created>
  <dc:creator>Sarah</dc:creator>
  <dc:description/>
  <dc:language>en-US</dc:language>
  <cp:lastModifiedBy>Sarah</cp:lastModifiedBy>
  <dcterms:modified xsi:type="dcterms:W3CDTF">2009-02-25T23:36:28Z</dcterms:modified>
  <cp:revision>23</cp:revision>
  <dc:subject/>
  <dc:title>Slide 1</dc:title>
</cp:coreProperties>
</file>