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759-A87A-4D54-BCC6-C5BCD2D0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346-7165-48D6-921E-C95C16F1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C88-7F0D-4111-B793-D095C9A2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7CA-99F0-4B91-B3ED-C2AC1D92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2A3C-0062-4DFD-83B0-83A0785A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2B9-0A73-42AE-9AFB-1B401376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15E3-8BD4-4686-9870-9C1C8446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1865-D227-493F-8411-DC63A90D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E987-FEAF-4934-92A4-A4F16792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6BBD-D1C9-4CCC-AE86-502C5E00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7F9F-94B9-4028-9158-C792619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230-2517-4A2C-8F1C-A0493FC9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3FAB-79B6-44CA-B07A-7ABA0EA3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6561-11A4-426D-9D6A-9E850429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DD67-80B9-480E-8AA4-A46B1D83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3286-3101-4368-AC2E-48CD691E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31C0-B628-4169-934F-6635B3ED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E44-8EDB-449E-8C2A-4CB64BC6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C82-7C4E-499D-86DA-58E41D9C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F9D-4E55-4A89-A2CC-EE53D97A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E99-82C5-4EDE-BE4E-EBDC11F6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634-05AA-4B22-A6E0-6BC8014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132-E2FA-429E-9D13-C16E050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BF3-7A37-435A-9598-272871C9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91E3-D28C-4A7A-8EFF-A0E59D2692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F9F8-0FDD-412A-B61E-3FA86C479D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57320" y="1214280"/>
            <a:ext cx="8772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λεγει τοις Φαρισαιοις∙ Ἐξεστιν ἐν τοις σαββασιν ἀγαθον ποιησαι ἠ κακοποιησ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o evi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ψυχην σωσαι ἠ μη σω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ἀμην λεγω, ὁ πιστευων ἐχει ζωην αἰων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ἐντολη αὐτου ἐστιν ζωη αἰωνι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τα προβατα την φωνην αὐτου ἀκουει και τα ἰδια προβατα ἀκολουθει ὀπισω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δελφη ἡ πιστη ἐκραζεν τῳ Ἰησου∙ Ἐλεησον, κυριε υἱε Δαυι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κηρυξεν ὁ Ἰησους λεγων∙ Μετανοειτε και πιστευετε ἐν τῳ εὐαγγελι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14200" y="1711440"/>
            <a:ext cx="8001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τῳ ὀχλῳ συν τοις ἀποστολοις αὐτου∙ Εἰ θελεις ὀπισω του κυριου ἀκολουθειν, δει παρρησιαν ἐχ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ς εἰμι ὑπο ἐξουσιαν, και λεγω δουλῳ∙ Ποιησον αὐτο, και 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telling a parable concerning j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 lead blind animals up into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you (pl.) looking at the tom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was speaking in parables but with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τα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] auth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57320" y="1357200"/>
            <a:ext cx="877248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 δοκειτε λεγειν∙ Ἐσμεν υἱοι του Ἀβραα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Φαρισαιοι καταργουσιν την ἐντολην της ἀγαπ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συνηγον θεωρειν το μνημε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αὐτῳ∙ Ἀκολουθει τῳ Ἰησου και μαρτυρ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προσκυνειν τῳ θεῳ δια την δοξα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εν ὁ ἀγγελος αὐτοις∙ Ἀκολουθειτε ὀπισω της φωνης αὐτου και μαρτυρειτε παρρησιᾳ και χαρ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1711440"/>
            <a:ext cx="80010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ποστολοι ἐκηρυσσον το εὐαγγελιον λεγοντες∙ Μετανοι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δαιμονιον ἐδησεν αὐτην ἀλλ’ οἱ Φαρισσαιοι λεγουσιν∙ Οὐ δει και οὐκ ἐξεστιν λυσαι αὐτην ἀπο του πονηρου ἐν τῳ σαββα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do not seek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man bound Paul, but an angel released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, open the eyes of th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about to bear witness concerning the righteousness of Chr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809880" y="1214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69000" y="1643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3.4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0040" y="228600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very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οιῶν τὴν ἁματίαν καὶ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ὴν ἀνομία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μία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awlessnes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ῖ, καὶ ἡ ἁμαρτία ἐστὶν ἡ ἀνομία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5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ὶ οἴδατ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 know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ὅτ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εῖν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at 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νερώθη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as reveal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ἵν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o tha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ὰς ἁμαρτίας ἄρῃ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might tak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καὶ ἁμαρτία ἐν αὐτῷ οὐκ ἔστι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6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πᾶς ὁ ἐν αὐτῷ μέν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ένω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 remai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χ ἁμαρτάνε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ανω –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Ι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 πᾶς ὁ ἁμαρτάνων οὐχ ἑώρακε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see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ὸν οὐδὲ ἔγνωκε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know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ό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7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εκνί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δε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bod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ανάτω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et him deceiv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ὑμ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14200" y="135108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οιῶν τὴν δικαιοσύνην δίκαιός ἐστιν, καθὼ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just a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κεῖνος δίκαιός ἐστιν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8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ποιῶν τὴν ἁμαρτιαν ἐκ τοῦ  διαβόλου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άβολος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evi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στιν, ὅτι ἀπ’ ἀρχῆς ὁ διάβολος ἁμαρτάνει. εἰς τοῦτο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 this reaso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νερώθη ὁ υἱὸς τοῦ θεοῦ, ἵνα λύσῃ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o that he might release/destro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ἔργα τοῦ διαβόλου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Πᾶς ὁ γεγεννημέν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aving been bor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 τοῦ θεοῦ ἁμαρτίαν οὐ ποιεῖ, ὅτι σπέρμ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e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οῦ ἐν αὐτῷ μένει, και οὐ δύνατ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is abl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άνειν, ὅτι ἐκ τοῦ θεοῦ γεγέννητα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e has been born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ν τούτ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 this wa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ανερ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revealed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 τὰ τέκνα τοῦ θεοῦ καὶ τὰ τέκνα τοῦ διαβόλου∙ πᾶς ὁ μὴ ποιῶν δικαιοσύνην οὐκ ἔστιν ἐκ τοῦ θεοῦ, καὶ ὁ μὴ ἀγαπῶ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oving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ὸν ἀδελφὸν αὐτοῦ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31:09Z</dcterms:created>
  <dc:creator>Sarah</dc:creator>
  <dc:description/>
  <dc:language>en-US</dc:language>
  <cp:lastModifiedBy>Sarah</cp:lastModifiedBy>
  <dcterms:modified xsi:type="dcterms:W3CDTF">2009-02-25T20:47:59Z</dcterms:modified>
  <cp:revision>31</cp:revision>
  <dc:subject/>
  <dc:title>Slide 1</dc:title>
</cp:coreProperties>
</file>