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6B0-78CC-40E1-AA8C-52321CAF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61B-DE42-48B3-B6A4-66404935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35E-F8DF-4EB4-BC42-DE42A149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DE6-B0B1-4B75-844A-B0A97814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9ADB-C790-41EB-8A56-FF697ACC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8033-B1CF-4C44-8FB9-F4A7CFA6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073E-5B31-4B47-8767-19DBD4E9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2222-4429-46CE-8E8A-D42235CE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2B8C-C9DF-4995-81F4-2AF6856D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E564-196A-4E8B-B775-4275F0C9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3F03-75FF-49DD-863F-230B7352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9E5-389E-408B-B1D4-E63B746E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3A7E-0572-40F6-B240-5A8B93FE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1953-9963-4575-8C1F-D97E09B4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9C14-D63E-40F8-973C-79E273F3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EF37-C6A9-4EBE-B653-AC2099E3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7732-E4D4-48E4-AA98-55600259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BDE-F32C-4570-A583-51FCB2F6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C11-2318-4905-9037-F334178B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BEA-E4EB-4A74-ACB4-48D5B353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050-5411-4340-8EA3-25AD62BC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930-B8B5-48BD-9448-005EE612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E49-96DA-4889-A3B7-4F580DA6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74D-0ABE-457D-9DBC-613B746E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9772-ECA0-4ECB-90E4-C7104013A8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1D79-5D1F-4DA1-8E6D-DC01DFC2C9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142920" y="1527120"/>
            <a:ext cx="86439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βαπτισα ποτε, ἀλλα νυν αὐτος βαπτισε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φωνη ἐκ του οὐρανου ἐκηρυξεν∙ Και ἐδοξασα αὐτο και παλιν δοξασ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δαιμονια πολλα ἐξεβαλλεν ἐν ἑκαστῳ τοπ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καλεσεν και ἐσωσεν αὐτους∙ τοτε προσεκυνησαν αὐτ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ησους παραλαμβανεν τα τεκνα και τα τεκνα ἠκουσεν του Ἰησ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ὁγιος ἀγγελος ἠνοιγεν τους οὐρανου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190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14200" y="1343160"/>
            <a:ext cx="835848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καλεσεις το τεκνον Ἰησουν∙ σωσει τον λαον αὐτου ἀπο των ἁμαρτιων αὐτ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λαλησαν τον λογον του κυριου τοις πιστοις ἀδελφοις ἐν τῃ οἰκιᾳ αὐτ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w we will bless the L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 have already written (= I already wrote) to them, but now I will write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e revealed his love when he wrote to 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y asked for signs and cried out with a loud voice to Jes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28520" y="1374840"/>
            <a:ext cx="900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υλος και ὁ Πετρος ἐγραψαν περι των ἐργων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ἐδιδωξαν τους ἀδελφους ἐν τῃ συναγωγῃ ἐν τῳ σαββα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υφλοι ἀναβλεψαν, χωλοι 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m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επατησαν και κωφοι 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af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) ἠκο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υλος ποτε ἐδιωκεν την ἐκκλησιαν ἀλλα οὐκετι∙ ὁ θεος ἐσωσεν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σωξεν τον λαον αὐτου ἀπο του πονη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επατησατε ποτε κατα τον κοσμον και τον πονηρον, ἀλλα νυν προσεχετε τῳ κυριῳ της δοξης και οἰκοδομησετε τους ἀδελφ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857680" y="10954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14200" y="1343160"/>
            <a:ext cx="807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μψομεν ἀγγελους ἀρτι προς αὐτους, ἀλλ’ οὐκετι πεισουσιν αὐ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Τιμοθεος ἐκηρυξεν παντοτε το εὐαγγελιον ἀλλ’οὐτω ἐπιστευετε τοις λογοι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built a house beside the 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aithful ones worshipped Christ, and the evil ones were persecut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ll the great temple exist ag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was preaching the good news and was baptizing the saints (holy o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Exercises 5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071880" y="1109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14200" y="1525680"/>
            <a:ext cx="8358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9.13-21 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Ἄγουσιν αὐτὸν πρὸς τοὺς Φαρισαίους τόν ποτε τυφλόν. </a:t>
            </a:r>
            <a:r>
              <a:rPr b="0" lang="el-GR" sz="2200" spc="-1" strike="noStrike" baseline="30000">
                <a:solidFill>
                  <a:srgbClr val="ffffff"/>
                </a:solidFill>
                <a:latin typeface="Gentium"/>
              </a:rPr>
              <a:t>14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ἦν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t was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δ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nd/bu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άββατον ἐν </a:t>
            </a:r>
            <a:r>
              <a:rPr b="0" lang="en-US" sz="2200" spc="-1" strike="noStrike">
                <a:solidFill>
                  <a:srgbClr val="ffffff"/>
                </a:solidFill>
                <a:latin typeface="Gentium"/>
              </a:rPr>
              <a:t>ᾗ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i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ἡμέρᾳ τὸν πηλὸ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ud/cl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ποίησεν ὁ Ἰησοῦς καὶ ἀνέῳξεν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ἤνοιξεν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αὐτοῦ τοὺς ὀφαλμού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y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...</a:t>
            </a:r>
            <a:r>
              <a:rPr b="0" lang="en-GB" sz="2200" spc="-1" strike="noStrike" baseline="30000">
                <a:solidFill>
                  <a:srgbClr val="ffffff"/>
                </a:solidFill>
                <a:latin typeface="Gentium"/>
              </a:rPr>
              <a:t>16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ἔλεγον οὖ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refo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κ τῶν Φαρισαίων τινέ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ome 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m.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Οὐκ ἔστιν οὗτο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is o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αρὰ θεοῦ ὁ ἄνθρωπος,  ὅτι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ὸ σάββατον  οὐ τηρεῖ. ἄλλοι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δὲ ἔλεγον, Πῶς δύναται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is able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ἄνθρωπος ἁμαρτωλὸς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inful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ιαῦτα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uch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ημεῖα ποιεῖν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o do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;...</a:t>
            </a:r>
            <a:r>
              <a:rPr b="0" lang="en-GB" sz="2200" spc="-1" strike="noStrike" baseline="30000">
                <a:solidFill>
                  <a:srgbClr val="ffffff"/>
                </a:solidFill>
                <a:latin typeface="Gentium"/>
              </a:rPr>
              <a:t>17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έγουσιν οὖν τῷ τυφλῷ πάλιν, Τί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at?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ὺ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you – nom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έγεις περὶ αὐτοῦ, ὅτι ἠνέῳξέν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ἤνοιξεν] σου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you – g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ὺς ὀφθαλμούς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ὁ δὲ εἶπεν ὅτι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ut he sai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ροφήτη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ophe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στίν. </a:t>
            </a:r>
            <a:r>
              <a:rPr b="0" lang="el-GR" sz="2200" spc="-1" strike="noStrike" baseline="30000">
                <a:solidFill>
                  <a:srgbClr val="ffffff"/>
                </a:solidFill>
                <a:latin typeface="Gentium"/>
              </a:rPr>
              <a:t>18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Οὐκ ἐπίστευσαν οὖν οἱ Ἰουδαῖοι περὶ αὐτοῦ ὅτι ἦν τυφλὸς καὶ ἀνέβλεψεν ἕως ὅτου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unti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φώνησαν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φωνεω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call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ὺς γονεῖς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arents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αὐτοῦ...</a:t>
            </a:r>
            <a:r>
              <a:rPr b="0" lang="el-GR" sz="2200" spc="-1" strike="noStrike" baseline="30000">
                <a:solidFill>
                  <a:srgbClr val="ffffff"/>
                </a:solidFill>
                <a:latin typeface="Gentium"/>
              </a:rPr>
              <a:t>21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πῶς δὲ νῦν βλέπει οὐκ οἴδαμεν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e know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,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ἢ τίς 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o?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i="1" lang="en-GB" sz="20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ἤνοιξεν αὐτοῦ τοῦς ὀφθαλμοὺς ἡμεῖς 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οὐκ οἴδαμε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3:57:30Z</dcterms:created>
  <dc:creator>Sarah</dc:creator>
  <dc:description/>
  <dc:language>en-US</dc:language>
  <cp:lastModifiedBy>Sarah</cp:lastModifiedBy>
  <dcterms:modified xsi:type="dcterms:W3CDTF">2009-02-25T20:24:59Z</dcterms:modified>
  <cp:revision>45</cp:revision>
  <dc:subject/>
  <dc:title>Slide 1</dc:title>
</cp:coreProperties>
</file>