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15E-B550-4F0E-A6E9-52CD6E89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F29-E50D-4D14-AF88-E41BF7C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DA5-0889-4F93-A4FC-67585604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79D-C055-40EE-BC73-B2F66E99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58A-1A01-4447-B236-A370828A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A50E-6FB1-42B8-A1E0-A9EE3FAA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071A-D482-4F43-A137-E3C10A6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519D-CC7E-48BF-8CEC-7052D4F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F0BF-6F6A-43C2-841E-5AB80571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944-1AD7-41E3-931A-04B47A27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433D-2150-43C1-B054-26072F4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E21-CD40-4010-9BEE-24643F99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EB16-297E-4586-AEE3-7C79718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AF75-691F-4668-AD99-303387D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BC55-0C8D-4656-863C-F6D694F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1044-FC8E-4CB7-952F-6527973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753-3654-4268-8C21-17FEEB65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1B9-D4D9-4E03-BD75-0E0D5F4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F44-38DA-46E7-B46F-306E817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DC1-C7E9-4A86-B00F-EB8C2D7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722-818F-40E5-8C2C-52B04E9C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624-F528-4FA6-A81B-83FD320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386-7DA1-4601-A9C1-63CF678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033-EE5D-4083-A0F3-1B773A1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C22-4D70-403C-BD57-4E29B1D6E9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53E7-7C0D-4C25-8585-03A6D1AB2B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αμβανω την του θεου βασιλεια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 δαιμονιον λεγει∙ Ἰησου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απητοι, νομον ἑτερον οὐ διδασκω ἀλλα τον ἀπ’ ἀρχη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3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γουσιν τον τυφλον προς τους Ἰουδαιους ἐν τῳ ἱερῳ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reasure box/storeroo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άλλει ἀγαθά, καὶ ὁ πονηρὸς ἄνθρωπος ἐκ τοῦ πονηροῦ θησαυροῦ ἐκβ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rac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ou (pl.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9-02-25T20:11:06Z</dcterms:modified>
  <cp:revision>23</cp:revision>
  <dc:subject/>
  <dc:title>Slide 1</dc:title>
</cp:coreProperties>
</file>