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0F95-7A03-4DB2-9600-C18F3D31CC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ACB6-00B2-4F99-9E4D-0D7F7301CF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8EF-CA27-4E4A-9A7D-04A3C7D4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D16-2B43-4696-A9BD-620AE8E3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347-2F06-48D1-A2AB-01155E01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72C-1116-44F8-8770-0D09723E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F06-C3E0-4620-B17E-36036DC2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4B9-0AE2-4AA5-B17E-A6742F04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F49-E424-45BA-92D7-0537B6BE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8DA-25D4-4DF1-A266-46BE2B53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9B7-95DE-438C-A1DE-54E8A925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45F-0319-4766-8CB3-0F21F8D4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482-B864-4D56-8A18-83624AF6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828-714C-453E-B428-A1B5B7B5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98FF-596E-433D-9035-7DB7EB7A52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2ED1-831C-4A29-A21A-84BD57423AC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51" name="TextBox 6"/>
          <p:cNvSpPr/>
          <p:nvPr/>
        </p:nvSpPr>
        <p:spPr>
          <a:xfrm>
            <a:off x="2428920" y="1428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928800" y="2071800"/>
            <a:ext cx="73580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 υἱ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νθρωπος καλει δου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νομον φιλ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μην ἀμην λεγω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ει ὁ Χριστος τοω ὀχ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ποιει τον κοσμον και τον οὐρ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7D5A44D5-9480-44B9-9B26-6DFB2AB2E5E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57" name="TextBox 5"/>
          <p:cNvSpPr/>
          <p:nvPr/>
        </p:nvSpPr>
        <p:spPr>
          <a:xfrm>
            <a:off x="1000080" y="1928880"/>
            <a:ext cx="78580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ωσηφ λαμβανει τους ἀδελφ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μεν και φιλουμεν τον λογ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rist says th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rowd listens to th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are setting free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υω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Some) People are making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4AED4F27-81F8-4438-93A4-CB30BC33646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61" name="TextBox 3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428920" y="1428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928800" y="2071800"/>
            <a:ext cx="73580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υἱοι λαλ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γγελοι βλεπουσι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ὀχλος τον θεον ζητ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ετε τον ἀρτο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ακωβ ἀγει τον ἀδελφ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νομον τηρει ὁ λαος Ἰσραη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9BBDC472-7143-4C39-B4BE-151FB65A7BC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68" name="TextBox 4"/>
          <p:cNvSpPr/>
          <p:nvPr/>
        </p:nvSpPr>
        <p:spPr>
          <a:xfrm>
            <a:off x="1000080" y="1928880"/>
            <a:ext cx="74296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Δαυιδ ὁ κυριος ζητει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Χριστος τους ἀνθρωπους λ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has messe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teach the 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seeking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 calling the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8B51741C-B0EF-4437-A268-71E4847A79E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0:38:08Z</dcterms:created>
  <dc:creator>Sarah</dc:creator>
  <dc:description/>
  <dc:language>en-US</dc:language>
  <cp:lastModifiedBy>Sarah</cp:lastModifiedBy>
  <dcterms:modified xsi:type="dcterms:W3CDTF">2008-08-24T12:34:34Z</dcterms:modified>
  <cp:revision>13</cp:revision>
  <dc:subject/>
  <dc:title>Slide 1</dc:title>
</cp:coreProperties>
</file>