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F99-679D-4EDB-B3D6-620BA83F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C8B-020A-4719-8F43-6C7200A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28D-B456-4515-9BBE-C7402C73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8D0-FD4A-41F0-9FBF-4DC5F9A3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14DC-B0D3-4FF4-82A1-18130A0A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378F-8AD0-45C1-A79D-4EA59A46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968E-827D-47AE-B718-F69D81BA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45DA-3D7F-4D07-8F46-E857DD2C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FDD1-C6EB-4858-904C-6E2D6EAE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7504-54BA-4271-ACE6-AAA5F0BB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C8CE-DF86-4974-A5F2-3B6AD747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7D2-5E33-432C-BB23-3B75B8F1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5C7A-D7BF-4991-BE54-D58A1A25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2418-8B1A-48C7-B1FC-B2F8205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9C61-9216-4C2B-BD9E-D812CFB4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C140-1D6C-4960-ADBC-874A8581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5A6B-521B-40FE-A216-4C4743FC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598-FD3C-4C38-86A4-EEFE216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C18-5C2D-4EB8-A4EC-C2E37FF9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79D-6424-46CD-8781-9CB795C1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AE3-662F-437A-9191-3648CF64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98D-7003-4CCF-B749-699FEB16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A76-A9F4-49F9-BE84-27ADE4D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358-7E4D-433C-9D72-712BFF69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6023-02E3-40B1-AE7D-631CA9CAAD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4A42-B150-4C53-A892-79C8AC5BF59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88F43E1F-D2FC-4F02-8931-108A4E44ECB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928800" y="2224080"/>
            <a:ext cx="73580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δελφη λεγει τῳ Ἰησου∙ Κυριε, πιστευ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ω τα ἐργα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φιλει τον υἱον και λαλει αὐ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ομεν και τηρουμεντα βιβλια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ὀχλος λεγει τῳ Ἰησου∙ Δαιμονιον ἐχ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ε, διδασκεις την βασιλεια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B7FDAB9E-7F48-487B-9BCF-E7A7FDFD6A2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000080" y="1625760"/>
            <a:ext cx="735804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 ἀδελφαι και οἱ ἀδελφοι τηρουσι τους νομους και το σαββα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σαββατον τηρει ὁ υἱος του ἀνθρωπ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ir church is seeking the glory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teaches the household of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thers and sisters, you (pl.) are receiving the love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hildren are throwing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928800" y="2224080"/>
            <a:ext cx="7500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αὐτοις τον λογον ὁ Ἰησ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τεκνα λυει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Μαρια ἀκουει την φωνην της θαλασσ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ομεν τα σημεια του εὐαγγελιου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ων ἐστι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700" spc="-1" strike="noStrike">
                <a:solidFill>
                  <a:srgbClr val="ffffff"/>
                </a:solidFill>
                <a:latin typeface="Gentium"/>
              </a:rPr>
              <a:t>i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βασιλεια των οὐραν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γαπη του θεου καλει τας ψυχα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000080" y="1625760"/>
            <a:ext cx="73580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ας ἡμερας και τας ὡρας της ζω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ειτε την δοξαν του προσωπου του θε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receives th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, do you believe the angel of the L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making the bread of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see the sins of the he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42960" y="2500200"/>
            <a:ext cx="8143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ὴ τοῦ εὐαγγελί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ησοῦ Χριστοῦ υἱοῦ θεο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2:13:19Z</dcterms:created>
  <dc:creator>Sarah</dc:creator>
  <dc:description/>
  <dc:language>en-US</dc:language>
  <cp:lastModifiedBy>Sarah</cp:lastModifiedBy>
  <dcterms:modified xsi:type="dcterms:W3CDTF">2008-09-07T14:16:52Z</dcterms:modified>
  <cp:revision>14</cp:revision>
  <dc:subject/>
  <dc:title>Slide 1</dc:title>
</cp:coreProperties>
</file>