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A983-540D-430C-B39E-66D1886B2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6640-DBD0-4E53-941C-CEF31664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79BB-50CA-47BE-9D4B-3EB4CA0F8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634E-8903-401E-B6FC-90A6FAA3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EAF5-BFAE-4866-BC12-0C623EB7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AF22-A9E5-4FC4-A93F-39F21A71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219A-2F76-416A-A34E-FA8D3C96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7CD6-C1A7-43D5-B6D2-5F2B2FB2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61B8-2C7C-4E1B-848A-DA87367B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7783-56F7-48A3-9A91-EA4C458B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5C46-50E0-4989-BB26-097C787E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38EB-AE8A-4578-B670-116827D5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D0F5-D0AE-4E49-8518-7E644476C8B4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EXERCISES FOR MODULE TE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Exercises 1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200160" y="1300320"/>
            <a:ext cx="894384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Section 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οὐκ εἰμι ἀποστολ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οὐχι Ἰησουν τον κυριον ἡμων ἐβλεψα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ἀκουσατε ἁ λεγω ὑμι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οἱ δ’ ἐκ των Φαρισαιων ἠκουσαν ταυτα και ἐθαυμαζον λεγοντες αὐτῳ∙ Μη και ἡμεις τυφλοι ἐσμε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οὐ μονον δε, ἀλλ’ ἐγγιζομεν τῳ θεῳ δια του κυριου ἡμων Ἰησου Χριστου δι’ οὑ νυν την εῤηνην μετα του θεου λαμβανομε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ἀλλοι ἐλεγον∙ Οὑτος ἐστιν ὁ Χριστος, οἱ δε  ἐλεγον∙ Μη ἐκ της Γαλιλαιας ὁ Χριστος ἐρχετ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αι Δαυιδ λεγει ὁτι Μακαριος ἐστιν ὁ ἀνθρωπος ῷ ὁ θεος λογιζεται δικαιοσυνην χωρις ἐργων.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ολλας ἡμερας ὁ λαος ἠν ἐν Αἰγυπτῳ καθως ἐλαλησεν ὁ θεος τῳ Ἀβραα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00160" y="1300320"/>
            <a:ext cx="8943840" cy="30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ἠρνησατο ὁ στρατιωτης λεγων∙ Μητι ἐγω Ἰουδαιος εἰμ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αι ἐσμεν ἐν τῳ ἀληθινῳ, ἐν τῳ υἱῳ αὐτου Ἰησου Χριστῳ, οὑτος ἐστιν ὁ ἀληλθινος θεος και ζωη αἰωνιο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Jesus says to him, ‘I am the way, the truth and the life.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ilate was sleeping on the other side of the sea of Galile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ut what I wrote to you, I bear witness in the presence of Go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o not be amazed because of this, because an hour is coming in which the dead will hear his voi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Exercises 3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142920" y="1143000"/>
            <a:ext cx="894384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Section 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λεγεν δε ὁ Ἰησους∙ Ἀμην λεγω ὑμιν, πολλοι οὐκετι ἐχουσιν οἰκιαν ἠ ἀδελγους ἠ ἀδελφας ἠ τεκνα ἑνεκα ἐμου και ἑνεκα του εὐαγγελιο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λην οὐτ’ ἀδελφη χωρις ἀδελφου οὐτ’ ἀδελφος χωρις ἀδελφης ἐν κυρι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διδασκεν αὐτους λεγων ὁτι Αὐτος Δαυιδ λεγει αὐτον κυριον, και ποθεν αὐτου ἐστιν υἱ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αι ὁ πολυς ὀχλος ἠκουεν αὐτο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αι ὁ Ἰησους ἐλεγεν αὐτῳ∙ Ὑπαγε. Και εὐθυς ἀνεβλεψεν και ἠκλουθει αὐτῳ ἐν τῃ ὁδ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ρχομενοι δε κηρυσσετε λεγοντες ὁτι Ἐγγιζει ἡ βασιλεια των οὐρανων.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αθως θελετε λαμβανειν ἀπο των ἀνθρωπων, ποιειτε αὐτοις ὁμοιω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Exercises 4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00160" y="1300320"/>
            <a:ext cx="8943840" cy="31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ἰ βλεπετε ταυτα, θαυμαζετε∙ ἐγγυς ἐστιν ἡ βασιλεια του θεο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ἀλλοι ἐλεγον ὁτι Οὑτος έστιν, ἀλλοι ἐλεγον, Οὐχι, ἀλλα ὁμοιος αὐτῳ ἐστιν. ἐκεινος ἐλεγεν ὁτι Ἐγω εἰμ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uring the Sabbath the brothers were sleeping but the sisters were  giving thanks to Go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ikewise neither life nor death is outside of (us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χωρις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God’s authorit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You have done these things well; go in pea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ilate was amazed because that man did nothing evil but healed man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Exercises 5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357120" y="1285920"/>
            <a:ext cx="8501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Mark 6.3-6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οὐχ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οὗτός ἐστιν ὁ τέκτω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uilder, carpenter, stonemaso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 υἱὸς τῆς Μαρίας καὶ ἀδελφὸς Ἰακώβου καὶ Ἰωσῆτο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Joses (gen.)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αὶ Ἰούδα καὶ Σίμωνο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imon (gen.)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αὶ οὐκ εἰσὶν αἱ ἀδελφαὶ αὐτοῦ ὧδε πρὸς ἡμα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καὶ ἐσκανδαλίζοντο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y were scandalize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ν αὐτῷ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  <a:ea typeface="Arial"/>
              </a:rPr>
              <a:t>4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καὶ ἔλεγεν αὐτοῖς ὁ Ἰησοῦς ὅτι Οὐκ ἔστιν προφήτης ἄτιμο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ishonoure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ἰ μὴ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xcept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ν τῇ πατρίδ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omelan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αὐτοῦ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  <a:ea typeface="Arial"/>
              </a:rPr>
              <a:t>5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καὶ οὐκ ἐδύνατο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e was abl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κεῖ ποιῆσαι οὐδεμία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o, none, no on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δύναμι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ct of power, miracl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, εἰ μὴ ὀλίγοι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 few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ἀρρώστοι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ick, ill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πιθεὶ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aying o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τὰς χεῖρα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ands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θεράπευσεν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  <a:ea typeface="Arial"/>
              </a:rPr>
              <a:t>6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καὶ ἐθαύμανζεν διὰ τὴν ἀπιστία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unbelief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αὐτῶν. Καὶ περιῆγε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go about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τὰς κώμα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villages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ύκλῳ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 a circle, round about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διδάσω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5:41:51Z</dcterms:created>
  <dc:creator>Sarah</dc:creator>
  <dc:description/>
  <dc:language>en-US</dc:language>
  <cp:lastModifiedBy>Sarah</cp:lastModifiedBy>
  <dcterms:modified xsi:type="dcterms:W3CDTF">2008-09-08T18:46:25Z</dcterms:modified>
  <cp:revision>17</cp:revision>
  <dc:subject/>
  <dc:title>Slide 1</dc:title>
</cp:coreProperties>
</file>