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759-7C03-4111-B32B-00666979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EF0-31B7-4065-955B-B16573BB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DFD-B97D-4BE4-A8BA-34F81AB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B66-18DD-4C07-94B4-67344972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0EF-EA53-4AD8-9209-C7002EB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B64-5085-435A-8F2A-AB8F2C1C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7D6-5488-436D-9AB0-73A31CB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A3A-B85D-4520-9335-58515774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6E7-9AEC-42B0-B4CA-82C36EE0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8BE-D064-4968-8F28-34C50081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998-83E0-41A4-AF63-B9FCABD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D9E-9037-4B84-AD15-A6690D2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0D7-5423-49D8-B3DB-5DAE2E52D7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ε δικαιε, και ὁ κοσμος σε οὐκ ἐγνω, ἐγω δε σε ἐγνων, και οὑ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coming into the house, he said, ‘Rejoice! We will eat with one another now’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άλυψ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ρεφω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ὡς νεκρός, καὶ ἔθηκ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ὴν δεξιὰ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ἐπ’ ἐμὲ λέγων, ..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9-03-02T17:11:18Z</dcterms:modified>
  <cp:revision>56</cp:revision>
  <dc:subject/>
  <dc:title>Slide 1</dc:title>
</cp:coreProperties>
</file>