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BCB-A938-4373-86AD-7630D234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8DA-9125-4010-A01A-7BF739F2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2051-BEEF-4186-AD29-8C74294F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542-ACDF-4614-AB48-066C5E1A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E15-F693-4C8C-92FC-BD6739D1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414-F78F-46B2-B0F4-4E5F0162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ED0-05B3-43C0-B71A-13E37DD3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E3B-1D39-4580-8FD9-6EA59E97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3D2F-63F4-48EA-873F-EC74C244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6E2-17C8-49A2-9DD2-D7F9C242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AE8-2ABF-4719-BE9B-495FCA24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7F6-E0D5-4800-8EBF-A970C949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3BBE-2D89-486D-8674-5ED38ACE934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NIN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9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00160" y="1300320"/>
            <a:ext cx="894384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αὐτος δε Ἰησους οὐκ ἐπιστευεν ἑαυτον αὐτοι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ἐλεγεν αὐτοις∙ ‘Υμεις ἐκ τουτου του κοσμου ἐστε, ἐγω οὐκ εἰμι ἐκ του κοσμου τουτο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τοιαυταις παραβολαις πολλαις ἐλαλει αὐτοις τον λογ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ἐρχονται παλιν εἰς Ἱεροσολυμα. και ἐν τῳ ἱερῳ περιπατει ὁ Ἰησους και ἐρχονται προς αὐτον οἱ Ἰουδαιο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λεγον οὐν οἱ Ἰουδαιοι προς ἑαυτους∙ Που οὑτος μελλει ἐρχεσθαι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κ του θεου ἐσμεν και ὁ κοσμος ὁλος ἐν τῳ πονηρῳ ἐστι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9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94384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ἐλεγεν αὐτοις∙ Ὑμιν το μυστηριον διδασκω της βασιλειας του θεου∙ ἐκεινοις δε τοις ἐξω ἐν παραβολαις ταυτα λεγω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λεγεν γαρ ὁ Ἰωαννης τῳ Ἡρῳδῃ∙ Οὐκ ἐξεστιν σοι ἐχειν την γυναικ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600" spc="-1" strike="noStrike">
                <a:solidFill>
                  <a:srgbClr val="ffffff"/>
                </a:solidFill>
                <a:latin typeface="Gentium"/>
              </a:rPr>
              <a:t>wife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του ἀδελφου σο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is is my commandment: Have love for one another, because you are my disciples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 am the bread of life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Jesus says to them, ‘I do not tell you (pl.) by (use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ν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hat authority I am doing these things.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aving received his sight, he was saying, ‘I see people, but they are walking about like trees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9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00160" y="1300320"/>
            <a:ext cx="89438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ζητουν οὐν τον Ἰησουν και ἐλεγον μετ’ ἀλληλων ἐν τῳ ἱερῳ∙ Πως ποιει ταυτα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στιν χαρα ἐν ὑμιν δια την ἀγαπην ὑμων τε και ἐμο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Σαδδουκαιο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Sadducees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εν γαρ λεγουσιν μη εἰναι ζωην μετα θανατον μητε ἀλλελον, Φαρισαιοι δε διδασκουσιν ταυτ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γω δε σοι λεγω ὁτ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συ εἶ Πετρος, και ἐπι ταυτῃ τῃ πετρᾳ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rock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ἰκοδομησω μου την ἐκκλησια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κραζον φωνῃ μεγαλῃ λεγοντες∙ Ἁγιον ἐστιν το ἀρνι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ἐλεγεν∙ Οὐ θελω το ποτηριον τουτο∙ ἀλλα τουτο θελεις, διο ἐγω δεξομαι αὐτ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9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0160" y="1300320"/>
            <a:ext cx="894384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εἰ γαρ εἰσιν ἀλλοι θεοι εἰτε ἐν οὐρανῳ εἰτε ἐπι γης, ἡμιν ἐστιν εἰ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ne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 θεος∙ και γε οὑτος ἐστιν ὁ κυριος του οὐρανου και της γης∙ αὐτῳ ἀπα προσκυνησομε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τοτε προσκαλεσαμενος αὐτον ὁ κυριος αὐτου λεγει αὐτῳ, Δουλε πονηρε, ποιησω ἐκεινο σοι ἐπει παρεκαλεσας μ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Pharisees therefore were saying to him, ‘You are bearing witness about yourself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whole earth exists for his glory, so we bless him and give thanks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f I cast out demons by the authority of God, the reign of God is upon you (pl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n the one hand, you come together with one another, on the other hand, you persecute one an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9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85840" y="1414440"/>
            <a:ext cx="85723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tthew 16.13-18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λθὼ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orist participle of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ρχομαι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ὲ ὁ Ἰησοῦς εἰς τὰ μέρη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the region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σαρείας τῆς Φιλίππου ἠρώτ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he began to ask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τοὺς μαθητὰς αὐτοῦ λέγω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saying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, Τίν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whom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λέγουσιν οἱ ἄνθρωποι εἶναι τὸν υἱὸν τοῦ ἀνθρώπ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n-GB" sz="2600" spc="-1" strike="noStrike" baseline="30000">
                <a:solidFill>
                  <a:srgbClr val="ffffff"/>
                </a:solidFill>
                <a:latin typeface="Gentium"/>
              </a:rPr>
              <a:t>14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ἱ δὲ εἶπα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they said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,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ἱ μὲν Ἰωάννην τὸν βαπτιστήν, ἄλλοι δὲ Ἠλίαν, ἕτερο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ὲ Ἰερεμίαν ἢ ἕν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ne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τῶν προφητῶν. </a:t>
            </a:r>
            <a:r>
              <a:rPr b="0" lang="el-GR" sz="2600" spc="-1" strike="noStrike" baseline="30000">
                <a:solidFill>
                  <a:srgbClr val="ffffff"/>
                </a:solidFill>
                <a:latin typeface="Gentium"/>
              </a:rPr>
              <a:t>15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 λέγει αὐτοῖς, Ὑμεῖς δὲ τίνα με λέγετε εἶναι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n-GB" sz="2600" spc="-1" strike="noStrike" baseline="30000">
                <a:solidFill>
                  <a:srgbClr val="ffffff"/>
                </a:solidFill>
                <a:latin typeface="Gentium"/>
              </a:rPr>
              <a:t>16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ποκριθεὶ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in reply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ὲ Σίμων Πέτρος εἶπε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said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,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Σὺ εἶ ὁ Χριστὸς ὁ υἱὸς τοῦ θεοῦ τοῦ ζῶντο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living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85840" y="2008080"/>
            <a:ext cx="86439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baseline="30000">
                <a:solidFill>
                  <a:srgbClr val="ffffff"/>
                </a:solidFill>
                <a:latin typeface="Gentium"/>
              </a:rPr>
              <a:t>17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 ἀποκριθεὶς δὲ ὁ Ἰησοῦς εἶπεν αὐτῷ, Μακάριος εἶ, Σίμων Βαριωνᾶ, ὅτι σὰρξ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flesh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ὶ αἷμ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blood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ὐκ ἀπεκάλυψέν σοι ἀλλ’ ὁ πατήρ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father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ου ὁ ἐν τοῖς οὐρανοῖς. </a:t>
            </a:r>
            <a:r>
              <a:rPr b="0" lang="el-GR" sz="2600" spc="-1" strike="noStrike" baseline="30000">
                <a:solidFill>
                  <a:srgbClr val="ffffff"/>
                </a:solidFill>
                <a:latin typeface="Gentium"/>
              </a:rPr>
              <a:t>18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 καγὼ δέ σοι λέγω ὅτι σὺ εἶ Πέτρος, καὶ ἐπὶ ταύτῃ τῇ πέτρᾳ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rock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ἰκοδομήσω μου τὴν ἐκκλησίαν καὶ πύλα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ates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ᾅδου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f Hades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ὐ κατισχύσουσιν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they will overcome + gen.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αὐτῆς.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9:Exercises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4:12:41Z</dcterms:created>
  <dc:creator>Sarah</dc:creator>
  <dc:description/>
  <dc:language>en-US</dc:language>
  <cp:lastModifiedBy>Sarah</cp:lastModifiedBy>
  <dcterms:modified xsi:type="dcterms:W3CDTF">2009-02-25T21:31:07Z</dcterms:modified>
  <cp:revision>27</cp:revision>
  <dc:subject/>
  <dc:title>Slide 1</dc:title>
</cp:coreProperties>
</file>