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B43-5CDB-4FE0-8291-D435FFCE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2FD-779D-4DFB-BD73-DC49E023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C2B-C6E1-4F27-9C30-DB50C2EB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2C9-972D-426A-9A5A-6D690B18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E5F2-2ED0-4954-8228-3BE665AC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EF7B-EA5F-4BFE-B6E7-379D9C0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B14F-4EA8-4B42-83F7-C742FAF1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88D8-60A4-4202-825E-0569A11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B96D-DFA9-4095-9EBC-89BE9DD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1907-D3C3-42AE-B07E-6CAF3A6F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D188-A1AD-4439-A5ED-B0CC8A3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889-9345-4EBD-A1C6-852EF8A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A0BE-CA63-4264-9755-D314E50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21EE-083B-49B3-937A-451D599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FA82-C05C-4FB1-82EA-70B9EF81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61E-6177-45DA-9C05-10F54999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5DDD-A5AB-4A32-BA55-5C143CAD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974-B503-4B29-A5B9-78CD0F5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1E7-B35E-470F-9405-F01173B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8E7-4C17-4159-9AD9-75406C9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3E9-84EF-440D-880A-9DED9CC0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551-7D20-4E6A-9458-457F6C09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394-1136-48A3-BE75-54E8912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AE6-6809-4D03-864D-F8F2A3A7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E3B7-7820-47AF-BEA7-AAECF183C9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4E57-0C75-4418-B1BD-087398AD11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571760"/>
            <a:ext cx="86439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ξαν παρα ἀνθρωπων οὐ λαμβαν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ιστευεις εἰς τον υἱον του ἀνθρω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κυριος λεγει αὐτοις∙ Που αὐτους ἀγετε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διδασκει αὐτους περι της βασιλειας παρα τοις ποιοις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ναβλεπομεν εις τον οὐρανον ἐνωπιον του ἱερ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ἐκβαλλει τα δαιμονια ἐκ του ἀωθρωπου λογ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ω ὑπο ἁμαρτιαν και κατα του νομου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συναγει την ἐκκλησιαν εἰς τον οἰκον της ἀδελφης του Ἰακωβ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departing towards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exhorting the brothers in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s.) keep the Sabbath because of the l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in the boat are worshipping the Lord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357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0280" y="1714680"/>
            <a:ext cx="8883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ῃ ἡμερᾳ του κυριου βλεπομεν τον θεον προσωπ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υριε, οὐ πιστευω εἰς αὐ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σκυνουμεν τῳ θεῳ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ια την ὡραν ὁ κυριος ἀπολυει τον ὀχ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ειτε ἐν τῃ ἀγαπῃ του θεου κατα τον λογον αὐτ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αγγελος λυει τον Πετρον και παραλαμβανει αὐτον προς τους ἀδελφ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1071720"/>
            <a:ext cx="90010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τα την ἀρχην του σαββατον ὁ ῥαββι και οἱ υἱοι αὐτου οὐ ποιουσιν ἐρ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ου ὁ κυριος διδασκει περι του εὐαγγελιου της βασιλειας του θε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y gathers the sisters and they seek the Lord with the br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child dwells in the house of the Lord, and does not depart from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voice of God is [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ἐστι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ve the heavens and in their he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do works on behalf of the children because of the love of Chr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2436840"/>
            <a:ext cx="8143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 ἀρχῃ ἦ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λόγος, καὶ ὁ λόγος ἦν πρὸς τὸν θεόν, και θεὸς ἦν ὁ λόγος. οὖτος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ἦν ἐω ἀρχῃ προς τὸν θεόν....ἐν αὐτῳ ζωὴ ἦν, καὶ ἡ ζωὴ ἦν τὸ φ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igh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ῶν ἀνθρώπ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46:41Z</dcterms:created>
  <dc:creator>Sarah</dc:creator>
  <dc:description/>
  <dc:language>en-US</dc:language>
  <cp:lastModifiedBy>Sarah</cp:lastModifiedBy>
  <dcterms:modified xsi:type="dcterms:W3CDTF">2008-09-07T14:17:43Z</dcterms:modified>
  <cp:revision>15</cp:revision>
  <dc:subject/>
  <dc:title>Slide 1</dc:title>
</cp:coreProperties>
</file>