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781-ECCC-4163-8C1F-58B53072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BD0-8F24-42E2-A0DE-1694E8ED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488-80D0-4A56-ADC7-25149BF8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A75-38E1-4D40-BCCF-5A10160A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D22-A05F-4FD7-B899-DF983B97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FAA-FEA8-4337-910C-5AB50C19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43A-0F6F-4E3A-994B-12323E8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619-1E0A-40EA-BA10-173D1F1C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746-0A38-4248-B47B-9FB470A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5CC-F187-4D05-ABC0-02194CB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CDA-9B12-4EB0-B98F-55AC77E0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259-796F-4A45-BDD2-190D7BF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6413-2A2A-4209-8CC2-D232B2AD21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ἠρξατο διδασκειν αὐτους ὁτι δει παθειν πολλα και διωχθηναι ὑπο των πρεσβυτερων και των ἀρχιερεων και των γραμματεων και ἀποκτανθην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υν ἡ κρισις ἐστιν του κοσμου τουτου, νυν ὁ ἀρχων του κοσμου τουτου ἐκβληθησεται ἐξ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οις∙ Το ποτηριον ὃ ἐγω πινω πιεσθε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rregular futur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ν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το βαπτισμα ὃ ἐγω βαπτιζομαι βαπτισθησ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ἐλεημον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ημων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erciful;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αὐτοι ἐλε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ακαριοι οἱ εἰρηνοποιοι [= εἰρηνη + ποιεω], ὁτι αὐτοι υἱοι θεου κλ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οκριθεις αὐτοις λεγει∙ Τίς ἐστιν ἡ μητηρ μου και οἱ ἀδελφοι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285920"/>
            <a:ext cx="9144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κριθη αὐτῳ εἱς ἐκ του ὀχλου∙ Διδασκαλε, ἠνεγκα τον υἱον μου προς σε, ἐχοντα πνευμα πονη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ξαντο λυπεισθαι και λεγειν αὐτῳ εἱς κατα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ἱς∙ Μητι ἐ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filled with great awe [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hey feared a great fear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and said to one another, ‘Who then is thi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aving entered he said to them, ‘Why are you afraid and weep? The child has not die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afraid and answered the chief priest, ‘They returned to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husband not having faith is made holy through [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s wife, and the wife not having faith is made holy through her husb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ανη ἀνηρ τις ἐκ της πολεως ἐχων δαιμονια και πολυν χρονον  οὐκ ἐνεδυσατο ἱματιον και ἐν οἰκιᾳ οὐκ ἐμε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ων δε ὁ Ἰησους ὀχλον περι αὐτον ἐκελευσεν τους μαθητας ἀπελθει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∙ Μη κωλυετε αὐτον. οὐδεις γαρ ἐστιν ὁς ποιησει δυναμιν ἐπι τῳ ὀνοματι μου και λαλησει κακως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κριθη αὐτῳ ὁ ἀσθενων∙ Κυριε, ὑπηρετην οὐκ ἐχω βαλειν με εἰς το ὑδωρ∙ ὁτε εἰς αὐτο ἐρχομαι ἐγω, ἀλλος προ ἐμου καταβαι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ουλομεθα οὐν γνωναι τίνα ταυτα ἐστ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γαρ ὁ Ἡρῳδης ἀποστειλας ἐκρατησεν τον Ἰωαννην και ἐδησεν αὐτον ἐν φυαλκ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ην γυναικα του ἀδελφου αὐτου, ὁτι αὐτην ἐγαμ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285920"/>
            <a:ext cx="87156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φαγον τον καρπον παντες, και ἠρθη το περισσ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αρ ἀγαπη του θεου ἐκχειται ἐν ταις καρδιαις ἡμων δια πνευματος ἁγιου του λαμβανομενου ὑφ’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time of harvest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it. ‘time of the fruits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came, he sent his slaves to receive the produc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fruit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which was 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ip said, ‘We were hindered by the devil but after a long time we finished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he sent one of his disciples, saying to him, ‘Go into the city, and a man carrying a cup of water will serve you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 make known to you, brothers and sisters, that the good news which was proclaimed by me is not according to a human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55760" y="1557360"/>
            <a:ext cx="8215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hew 11.2-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ὲ Ἰωάννης ἀκούσας ἐν τῷ δεσμωτηρί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 ἔργα τοῦ Χριστοῦ πέμψας διὰ τῶν μαθητῶν αὐτοῦ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ἶπεν αὐτῷ, Σὺ εἶ ὁ ἐρχόμενος ἢ ἕτερον προσδοκῶμ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e should wait f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;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ἀποκριθεὶς ὁ Ἰησοῦς εἶπεν αὐτοῖς∙ Πορευθέντες ἀπαγγείλατε Ἰωάννῃ ἃ ἀκούετε καὶ βλέπετε∙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υφλοὶ ἀναβλέπουσιν καὶ χωροὶ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πατοῦσιν, λεπρ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eper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ίζοντ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αριζω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leans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κωφ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ea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ύουσιν, καὶ νεκροὶ ἐγείρονται καὶ πτωχοὶ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αγγελίζ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15:13Z</dcterms:created>
  <dc:creator>Sarah</dc:creator>
  <dc:description/>
  <dc:language>en-US</dc:language>
  <cp:lastModifiedBy>Sarah</cp:lastModifiedBy>
  <dcterms:modified xsi:type="dcterms:W3CDTF">2009-03-02T18:40:54Z</dcterms:modified>
  <cp:revision>23</cp:revision>
  <dc:subject/>
  <dc:title>Slide 1</dc:title>
</cp:coreProperties>
</file>