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6B52-FF85-449B-822B-FACB9459D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0220-C09B-4C74-B432-37F574C7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1FA3-B762-49ED-B300-B062B68C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37DD-203F-4DFA-88FC-B762C966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61A3-893F-4E3F-99DC-0500017D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F4DE-1851-4061-B572-6BD3BD46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0AD4-1ECF-4147-8F6D-844C3722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F080-801D-4763-AC01-133214D6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DD50-DDF0-43EB-9E8A-BD6C5A14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02CA-4273-478A-9358-5EA6ABF7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E708-F578-4BB5-8A76-F86F7A2C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FFE6-3B9B-43D1-8697-29D52B21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03EA-5C80-4DA0-8A04-B3EC30F1F16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EXERCISES FOR MODULE FOURTEE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4:Exercises 1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9081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ection 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214200" y="1666800"/>
            <a:ext cx="8929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φιλων την ψυχην αὐτου οὐ σωσει αὐτην, και ὁ μισων την ψυχην αὐτου ἐν τῳ κοσμῳ τουτῳ εἰς ζωην αἰωνιον φυλαξει αὐτη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ἐξελθων εἰδεν πολυν ὀχλον και ἠλεησεν ἐπ’ αὐτους, ὁτι ἠσαν ὡς προβατα μη ἐχοντα ποιμενα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hepher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, και ἠρξατο διδασκειν αὐτους πολλ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μην ἀμην λεγω ὑμιν ὁτι ὁ τον λογον μου ἀκουων και πιστευων τῳ πεμψαντι με ἐχει ζωην αἰωνιον και εἰς κρισιν οὐκ ἐρχετα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ας ὁ θεωρων τον υἱον και πιστευων εἰς αὐτον ἐχει ζωην αἰωνιο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οὐν Ἰουδαιοι περι αὐτου ἐλαλουν μετ’ ἀλληλων ὁτι εἰπεν∙ Ἐγω εἰμι ὁ ἀρτος ὁ καταβας ἐκ του οὐρανο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ὑτος γαρ ἐστιν ὁ λογος δια Ἠσαϊου του προφητου λεγοντες∙ Φωνη κραζοντος ἐν τῃ ἐρημῳ∙ Ἑτοιμασατε την ὁδον κυριο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4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142920" y="1357200"/>
            <a:ext cx="8929800" cy="43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πεν τε προς αὐτους∙ Ἀνδρες Ἰσραηλ, προσεχετε ἑαυτοις ἐπι τοις ἀνθρωποις τουτοις τί μελλετε πρασσει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ὁ Σατανας ἠν ἐν τῃ ἐρημῳ πολλας ἡμερας πειραζων αὐτον, και ὁ Ἰησους ἠν μετα των θηριων, και οἱ ἀγγελοι διηκονουν αὐτ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FangSong"/>
              </a:rPr>
              <a:t>For the father has subjected all things under the feet of the S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FangSong"/>
              </a:rPr>
              <a:t>Beloved children, guard yourselves against [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FangSong"/>
              </a:rPr>
              <a:t>ἀπο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FangSong"/>
              </a:rPr>
              <a:t>] those who hate your sou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FangSong"/>
              </a:rPr>
              <a:t>That stone has the image of Caesar, not of some Gre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FangSong"/>
              </a:rPr>
              <a:t>What therefore will the lord of the vineyard do?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FangSo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4:Exercises 3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39153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ection 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214200" y="1666800"/>
            <a:ext cx="892980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λλα ἐχω ὑμιν γραφειν ἀλλα ἐλπιζω γενεσθαι προς ὑμας και στομα προς στομα λαλησα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εἰπεν ὁ Ἰησους∙ Εἰς κριμα ἐγω εἰς τον κοσμον τουτον ἠλθο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παις του διδασκαλου ἐμισει τα βιβλια του πατρος αὐτο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προσελθων ἠγειρεν αὐτην κρατησας της χειρο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ἐρχονται εἰς Ἱεροσολυμα∙ και εἰσελθων εἰς το ἱερον ἠρξατο ἐκβαλλειν τους ἀγοραζοντας ἐν τῳ ἱερ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Φαρισαιος προς ἑαυτον ταυτα προσηυχετο∙ Ὁ θεος, εὐχαριστω σοι ὁτι οὐκ εἰμι ὡσπερ οἱ ἀλλοι ἀνθρωποι, ἠ και ὡς οὑτος ὁ ἁμαρτωλος.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4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4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214200" y="1214280"/>
            <a:ext cx="8929800" cy="54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πρεσβυτεροι και οἱ διδασκαλοι ὀφειλουσιν διακονειν τοις προβατοις και προφητευειν τοις ἁμαρτωλοις και θεραπευειν τους ἀσθενεις και μητε βλασφημειν τον θεον ἡμων μητε σκανδαλιζειν τα παιδια του κυριο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η λεγετ ἐν ἑαυτοις∙ Πατερα ἐχομεν τον Ἀβρααμ. λεγω γαρ ὑμιν ὁτι δυνατι [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s abl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θεος ἐκ των λιθων τουτων ἐγειραι τεκνα τῳ Ἀβραα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ears of the sinners do not hear the seed which the sower sow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Judgement begins with the household of Go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elder prayed for James, and the lord, having heard, had merc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ouching the sinner, the one serving the Father in heaven healed her ears.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4:Exercises 5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214200" y="1285920"/>
            <a:ext cx="87156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ection 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Mark 1.7-10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αὶ ἐκήρυσσεν λέγων, Ἔρχεται ὁ ἰσχυρότερό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μου ὀπίσω μου,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o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ὗ οὐκ εἰμὶ ἱκανὸ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orthy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ύψα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υπτω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=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end dow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λῦσαι τὸν ἱμάντα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trap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τῶν ὑποδημάτω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andals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αὐτοῦ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  <a:ea typeface="Arial"/>
              </a:rPr>
              <a:t>8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ἐγὼ ἐβάπτισα ὑμᾶς ὕδᾶς ὕδατι, αὐτὸς δὲ βαπτίσει ὑμᾶς ἐν πνεύματι ἁγίῳ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  <a:ea typeface="Arial"/>
              </a:rPr>
              <a:t>9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Καὶ ἐγένετο ἐν ἐκείναις ταῖς ἡμέραις ἦλθεν Ἰησοῦς ἀπὸ Ναζαρὲτ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azareth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τῆς Γαλιλαίας καὶ ἐβαπτίσθη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e was baptize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ἰς τὸν Ἰορδάνη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Jorda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ὑπὸ Ἰωάννου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  <a:ea typeface="Arial"/>
              </a:rPr>
              <a:t>10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αὶ εὐθὺς ἀναβαίνων ἐκ τοῦ ὕδατος εἶδεν σχιζομένου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eing split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τοὺς οὐρανοὺς καὶ τὸ πνεῦμα ὡς περιστερὰ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ov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αταβαῖνον εἰς αὐτόν.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13:09:36Z</dcterms:created>
  <dc:creator>Sarah</dc:creator>
  <dc:description/>
  <dc:language>en-US</dc:language>
  <cp:lastModifiedBy>Sarah</cp:lastModifiedBy>
  <dcterms:modified xsi:type="dcterms:W3CDTF">2008-09-27T19:57:42Z</dcterms:modified>
  <cp:revision>21</cp:revision>
  <dc:subject/>
  <dc:title>Slide 1</dc:title>
</cp:coreProperties>
</file>