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730-A8F5-4A37-B72A-F66BBE80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D5C-303B-4156-993C-0CE106A4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B96-2F1E-4C77-B6C4-04374FB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2EC-9E7F-49C7-B2B5-0F6B3B4C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DC7-332B-4F9D-B2B2-58F519F7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E71-81A0-4A71-AF07-D09601C8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CA1-DD26-4D65-80F7-9C8B61C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5B2-802E-4125-8A77-B8F2CDE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C40-45CE-4A99-A9D4-FDFF57A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E56-64D6-48FD-B3F9-1FE36CA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2DB-045F-43E3-A51D-C24CFB8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FB-F6F1-4328-B565-124DACE3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CD3-11B0-410F-9481-39C8D1F71F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Γεγραπται, Ὁ οἰκος μου οἰκος προσευχης κλη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ἀγω ἑωρακα, και μεμαρτυρηκα ὁτι οὑτος ἐστιν ὁ υἱ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ιστευων εἰς αὐτον οὐ κρινεται∙ ὁ δε μη πιστευων ἠδη κεκριται, ὁτι οὐ πεπιστευκεν εἰς το ὀνομα του μονογενους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ἱου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ωαννης μεματυρηκεν τῃ ἀληθειᾳ∙ ταυτα λελαληκεν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ἡμεις πεπιστευκαμεν και ἐγνωκαμεν ὁτι συ εἶ ὁ ἁγι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αὐτῳ∙ Ναι, κυριε, ἐγω πεπιστευκα ὁτι συ εἶ ὁ χριστος ὁ υἱος του θεου ὁ εἰς τον κοσμον ἐρχομε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666800"/>
            <a:ext cx="9144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τον πατερα ἑωρακεν εἰ μη ὁ ὠν παρα του θεου, οὑτος ἑωρακεν τον 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τε φανησεται το σημειον του υἱου του ἀνθρωπου ἐν οὐρανῳ, και ὀψον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υἱον του ἀνθρωπου ἐρχομενον ἐπι των νεφελων του οὐρανου μετα δυναμεως και δοξης πολλης∙ οὑτως ἐσται ἡ παρουσια του υἱου του ἀνθρωπ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id, ‘Lord, look, here are two swords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 once his fame went out to the whole region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welve have heard his teaching and have seen his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ciple has loved the holy ones in the seven ch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ἐργον μου τετελεκα, την πιστιν τετηρη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ο εἰσερχομενος εἰς τον κοσμον λεγει∙ Ἐλεος θελω και οὐ θυσ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δε ὁ Ἰησους εἰπεν∙ Αὑτη ἡ ἀσθενεια οὐκ ἐστιν προς θανατον ἀλλ’ ὑπερ της δοξης του θεου, και δοξασθησεται ὁ υἱος του θεου δι’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δε οὐπω βλεπομεν αὐτῳ τα παντα ὑποτεταγμ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πτα ἀδελφοι ἠσαν∙ και ὁ πρωτος ἐλαβεν γυναικα και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λεγει αὐτοις∙ Ποσους ἀρτους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ετε ἰδετε. και γνοντες λεγουσιν, Πεν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666800"/>
            <a:ext cx="91440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 ἠν ἀπ’ ἀρχης, ὃ ἀκηκοαμεν, ὃ πεπιστευκαμεν περι του λογου της ζωης, λελαληται ὑμιν ὑπο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, Ἀμην λεγω ὑμιν ὁτι ὑμεις οἱ ἀκολουθησαντες μοι, ὁτε ὁ υἱος του ἀνθρωπου ἐστιν ἐπι θρονου δοξης αὐτου, και ὑμεις ἐσεσθε ἐπι δωδεκα θρονους κρινοντες τας δωδεκα φυλας του Ἰσραη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four days and four nights he prayed in the desert and saw a thousand angels in the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dow’s son was healed/saved immediately by her fa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n Greeks have believed the report about hi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second letter has been written teaching about patience, prayer, circumcision, immorality, and the feasts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71680" y="1285920"/>
            <a:ext cx="7929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5.25-34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γυνὴ οὖσα ἐν ῥύσ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ἵματος δώδεκα ἔτη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ολλὰ παθοῦ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aor. act. part. f. s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σχ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uff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ὑπὸ πολλῶν ἰατρῶ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hysician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δαπανήσα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απανα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παρ’ αὐτῆς πάντα καὶ μηδὲν ὠφεληθεί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φελε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ain, benef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ὰ μᾶλλ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ather, instea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 χεῖρ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or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οῦσα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κούσασα περὶ τοῦ Ἰησοῦ, ἐλθοῦσα ἐν τῷ ὄχλῳ ὄπισθ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rom behi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ψατο τοῦ ἱματίου αὐτοῦ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ἔλεγεν γὰρ ὅτι Ἐ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ἅψωμαι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might touc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ἂ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ven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ῶν ἱματίων αὐτοῦ σωθήσομαι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εὐθὺς ἐξηράν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ξηραιν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ry up, cea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ηγ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ring, fl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ῦ αἵματος αὐτῆς καὶ ἔγνω τῷ σώματι ὅτι ἴα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perf. pass.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αομ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hea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ὸ τῆς μάστι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sea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571760"/>
            <a:ext cx="792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3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ὐθὺς ὁ Ἰησοῦς ἐπιγνοὺς ἐν ἑαυτῷ τὴν ἐξ αὐτοῦ δύναμιν ἐξελθοῦσαν ἐπιστραφεὶς ἐν τῷ ὄχλῳ ἔλεγεν, Τίς μου ἥψατο τῶν ἱματί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3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ἔλεγον αὐτῷ οἱ μαθηταὶ αὐτοῦ, Βλέπεις τὸν ὄχλον συνθλίβοντ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ess up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 καὶ λέγεις, Τίς μου ἥψατ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εβλέπε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εῖν τὴν τοῦτο ποιήσασα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δὲ γυνὴ φοβηθεῖσα καὶ τρέμουσ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ρεμ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em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εἰδυῖ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know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 γέγονεν αὐτῇ, ἦλθεν καὶ προσέπεσ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ιπτω] αὐτῷ καὶ εἶπεν αὐτῷ πᾶσαν τὴν ἀλήθεια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δὲ εἶπεν αὐτῇ, Θυγάτηρ, ἡ πίστις σου σέσωκέν σε∙ ὕπαγε εἰς εἰρήνην καὶ ἴσθ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pres. imper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sing.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γιὴ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al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ὸ τῆς μάστιγός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32:13Z</dcterms:created>
  <dc:creator>Sarah</dc:creator>
  <dc:description/>
  <dc:language>en-US</dc:language>
  <cp:lastModifiedBy>Sarah</cp:lastModifiedBy>
  <dcterms:modified xsi:type="dcterms:W3CDTF">2009-03-02T18:59:44Z</dcterms:modified>
  <cp:revision>26</cp:revision>
  <dc:subject/>
  <dc:title>Slide 1</dc:title>
</cp:coreProperties>
</file>