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5DE-81DF-43B6-A899-43CB33D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A85-5A15-4DD7-8FB1-646F5F9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3EC-7621-4FB8-A8CD-ECE9B68A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D55-E675-4362-9C0C-29C0F89D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A5A-43DA-44DD-87F8-3CA692C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776B-A946-4DC4-87AB-0CC7EB1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B73D-7E04-4C43-9E0B-4323D20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3797-5E5D-4000-AC65-C07D741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072-E83D-4001-8710-03BA9CC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DC21-3A00-40B1-863B-A4F6B2B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ACEC-B2F3-4C4B-A5A7-78D29D5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2B2-FCE5-4261-BEFA-DC9A2C1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EE8-A759-4CCA-8814-D75ECE8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899-37D3-4AC8-AA4E-56B0E67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187D-38BC-4659-B686-F40169C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EB88-BB4D-43EE-82A8-718E4887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31D-95EE-461C-84F8-541D431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29B-FC55-486B-84BC-E05AD17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1A5-A1AE-4C7F-95D7-F059F31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D29-9FC6-410A-B540-395F722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1E0-22F2-44D8-8ADA-34E2E16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B72-6706-4733-BCC9-6D79E5E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69C-D6D0-40E2-A259-F16BFEF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4F1-0EA4-4930-A766-A3605EF9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D888-18AF-4760-AB4F-C1FADFFD55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D174-ED7F-4D89-93D3-FDE142D114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παραλαμβανεν τα τεκνα και 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ωξεν τον λαον αὐτον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preaching the good 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γουσιν σ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ffffff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νθρωπος ἁμαρτωλο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ρφήτη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στ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Οὐκ ἐπίστευσαω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 αὐτοῦ τοῦς ὀφθαλμοὺς ἡμεις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8-09-07T14:19:21Z</dcterms:modified>
  <cp:revision>38</cp:revision>
  <dc:subject/>
  <dc:title>Slide 1</dc:title>
</cp:coreProperties>
</file>