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DA25-97A9-4A57-87CF-5558A04DAC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C9AB-AC3B-4324-8670-9F7F0CF2FE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AA1-6C18-4074-B9A1-B9E5CC7D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D4A-2D72-4266-8E83-4F76D4B3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AE1-0D80-4A8F-99F2-133EC562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24E-FC2C-4E4B-B1AD-0899D1C8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A67-4C25-406E-9DF5-6CA5671D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C301-BB95-428A-BC72-559E3A06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A8C-543C-4663-81C6-02762EE5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9B4-E6B7-4DFE-9619-C90FAEAB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722B-44B9-4BD9-A574-3149F80E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A0C5-35D2-4A8C-85BD-492D7D72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281-6C2F-436A-8279-7ADA93D0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DC6-B263-4EE9-ACBF-4055C18D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22AD-2AD8-4B21-8106-1B4005EACE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F166-2E12-4047-B8CD-DA7A23CCEA5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51" name="TextBox 6"/>
          <p:cNvSpPr/>
          <p:nvPr/>
        </p:nvSpPr>
        <p:spPr>
          <a:xfrm>
            <a:off x="2428920" y="1428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928800" y="2071800"/>
            <a:ext cx="73580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ω υἱ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νθρωπος καλει δου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νομον φιλ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μην ἀμην λεγω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δασκει ὁ Χριστος τον ὀχ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ποιει τον κοσμον και τον οὐρ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F6F879B7-3128-43B6-80BF-CAEDC2D0C02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57" name="TextBox 5"/>
          <p:cNvSpPr/>
          <p:nvPr/>
        </p:nvSpPr>
        <p:spPr>
          <a:xfrm>
            <a:off x="1000080" y="1928880"/>
            <a:ext cx="785808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ωσηφ λαμβανει τους ἀδελφ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μεν και φιλουμεν τον λογ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rist says th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rowd listens to the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.) are setting free 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l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Some) People are making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E4ABF3F5-6535-42A7-84E2-12721B77586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61" name="TextBox 3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428920" y="1428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928800" y="2071800"/>
            <a:ext cx="73580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υἱοι λαλ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ἀγγελοι βλεπουσι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ὀχλος τον θεον ζητ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ετε τον ἀρτο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ακωβ ἀγει τον ἀδελφ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νομον τηρει ὁ λαος Ἰσραη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AEFF7D08-0B2E-4A8F-9735-91D540B37F7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68" name="TextBox 4"/>
          <p:cNvSpPr/>
          <p:nvPr/>
        </p:nvSpPr>
        <p:spPr>
          <a:xfrm>
            <a:off x="1000080" y="1928880"/>
            <a:ext cx="74296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ffffff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Δαυιδ ὁ κυριος ζητ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κυριος Χριστος τους ἀνθρωπους λυ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has messe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teach the 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seeking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are calling the br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Exercises </a:t>
            </a:r>
            <a:fld id="{3AD4EED8-BFD2-4A01-AE09-7DA8C74FA5B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0:38:08Z</dcterms:created>
  <dc:creator>Sarah</dc:creator>
  <dc:description/>
  <dc:language>en-US</dc:language>
  <cp:lastModifiedBy>Sarah</cp:lastModifiedBy>
  <dcterms:modified xsi:type="dcterms:W3CDTF">2008-12-30T22:24:12Z</dcterms:modified>
  <cp:revision>16</cp:revision>
  <dc:subject/>
  <dc:title>Slide 1</dc:title>
</cp:coreProperties>
</file>