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EDA-C5E2-4228-91BC-F53A22A1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48D-2227-4D82-B33C-8BBCEE3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BDB-71E6-4A1C-B406-74941A0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AD8-156C-40EE-AF39-DC68291B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05D-4B92-4DAE-BA7D-319171B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197-B33D-4A3A-ACB0-98A6EF7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AED-B0E6-4D43-B337-18B5038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67E-ACD6-4276-B460-0A1C75C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EBA-8C7B-40B1-A85F-FFD81F3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472-A1A0-4416-95BB-7F48F156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3F6-1F83-4B47-888F-D5751B7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F24-551E-42FE-815A-D44AEDB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D240-0024-4A80-B3F7-6D654F2E97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ε δικαιε, και ὁ κοσμος σε οὐκ ἐγνω, ἐγω δε σε ἐγνων, και οὐ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coming into the house, he said, ‘Rejoice! We will eat with on another now’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άλθψ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ρφ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ἐπ’ λέγων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8-09-17T11:26:22Z</dcterms:modified>
  <cp:revision>51</cp:revision>
  <dc:subject/>
  <dc:title>Slide 1</dc:title>
</cp:coreProperties>
</file>