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4F2-25D3-4D62-96E5-B6DBCD39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C52-A19B-4036-A6D4-A8AC19B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3D6-11F6-43B7-B88C-8B5E93C5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3BB-2DC3-4ABB-8FF2-5C42A641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D16-B869-4B9C-BE6C-850683F3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FEB-D41A-44C0-BDAF-68C3204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886-4E86-4FC0-89D1-55F8146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D6E-C83D-4EAF-8753-EAC8E99A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11E-73CD-493F-B46A-1993A2B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1BC-049B-460E-9B33-B0A1063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C3-21BD-4A4F-A471-413D681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A34-121F-49A1-B222-784A439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BEB-DFF7-4D6C-84C6-D2D2CEF2701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wif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 am the bread of life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αδδουκαι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dduc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μεν γαρ λεγουσιν μη εἰω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γω δε σοι λεγω ὁτ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Matthew 16.13-18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λθὼ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Aorist participle of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reg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he began to as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y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, Τί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whom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4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ἱ δὲ εἶπα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y 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ἱ μὲν Ἰωάννην τὸν βαπτιστήν, ἄλλοι δὲ Ἠλιαν, ἕτερ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ther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Ἰερεμίαν ἢ ἕ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τῶν πρφητῶν. 15 λέγει αὐτοῖς, Ὑμεῖς δὲ τίνα με λέγετε εἶν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6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ἀποκριθε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reply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ὲ Σίμων Πέτρος εἶπε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liv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7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lesh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καὶ αἷμ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bloo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ather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8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gat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ᾅδου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f Had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οὐ καιτσχύσουσι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y will overcome + gen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αὐτῆς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8:Exercises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8-09-07T16:04:31Z</dcterms:modified>
  <cp:revision>21</cp:revision>
  <dc:subject/>
  <dc:title>Slide 1</dc:title>
</cp:coreProperties>
</file>