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3CE-045B-4943-9BE4-D3BBD0D8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647-A6B4-4B11-93E5-432A6AD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119-CB27-4AF2-9506-1837907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647-2493-4A52-811B-08CCD170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370E-53BD-43AF-9C93-3CB4991D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ED7E-2440-4AF2-A7EC-A20A86FD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1B76-9800-4848-805D-DF482E3C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EFE2-40D7-4AA6-8B81-4F18757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9C4-A4CA-4392-AABB-ECFBD0A3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669-0333-488E-9D01-D7A4511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BCB-438F-4F08-BC60-8648D62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F20-AB45-4E14-B68C-B17F166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D99-D01A-427F-A8BE-A38A763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3B3D-D9CF-4718-A1D1-7F6EFE9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8444-3833-4BE5-9678-6A74A61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805F-E3E8-466D-82EF-EDFB5326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50FB-0832-4E90-9B5B-F34D586C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0EB-E816-43D0-89CA-38275F9D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B41-A544-4751-8DCE-D204069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0CC-3DD6-488B-A400-0264FA1E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F59-F82F-41C8-847C-65F74024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0C3-514D-4DD6-ACB4-00B3796B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C3D-A3CC-436E-94AB-F668790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83B-40F0-41E6-A14B-0E630FB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CB77-C4CA-46C5-9A2A-1C6B6C1A5C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10D-E344-4A42-A0BE-46E753AB84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89200"/>
            <a:ext cx="86439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λεγει αὐτῃ∙ Εἰμι ἡ ζωη και ἡ εἰρην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Πετρος λεγει αὐτῳ∙ Εἶ ὁ Χριστος ὁ υἱ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αμβανω την του θεου βασιλειαω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κ ἐστιν θεος νεκρ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 δαιμονιον λεγει∙ Ἰησους, εἶ ὁ ἁγι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επει θεου τον καινον οὐρανον και την καινην γ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απητοι, νομον ἑτερον οὐ διδασκω ἀλλα τον ἀπ’ ἀρχης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μεγαλη φωνη ἐκ των οὐρανων λεγει∙ Εἶ ὁ υἱος μου [</a:t>
            </a:r>
            <a:r>
              <a:rPr b="0" i="1" lang="en-GB" sz="2600" spc="-1" strike="noStrike">
                <a:solidFill>
                  <a:srgbClr val="ffffff"/>
                </a:solidFill>
                <a:latin typeface="Gentium"/>
              </a:rPr>
              <a:t>my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ἀγαπητ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days are evil and evil people do evil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law is just, but it is the Gospel’s moment (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ne has his own ho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hrist is the head of the chu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1280" y="1527120"/>
            <a:ext cx="909828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Ἰησους ἐν τῃ συναγωγῃ∙ Ἡ βασιλεια των οὐρανων οὐκ ἐστιν ἐκ του κοσμ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εἰσιν ψυχαι πολλαι των ἀγαθων και των δικαιων ἐν τῃ οἰκιᾳ του αἰωνι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ἡ ἀγαπη του θεου ἐστιν ἐν ταις καρδιαις αὐτων δια του Χρισ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στιν αἰωνιος εἰρηνη τοις πιστοι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ἀγαπη ἐστιν∙ ἀνθρωποι της ἀγαπης ἐν τῳ θεῳ εἰσιν και ὁ θεος ἐν αὐτοις ἐστι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οις Ἰουδαιοις τοις ἐν Ἱεροσολυμοις λεγει ὁ Ἰησου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7680" y="1170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1280" y="1405080"/>
            <a:ext cx="914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 τα του κοσμου ἐργα πονηρα ἐστιν, πως οἱ πιστοι ποιουσι τα δικαια και τα καλ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ουσιν τον τυφλον προς τους Ἰουδαιους ἐν τῳ ἱερω τῳ μεγαλ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sons of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alone in Galil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aithful Jews are teaching the law of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ave a new holy peop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000240" y="1181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54476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1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ὸς ἄνθρωπος ἐκ τοῦ ἀγαθοῦ θησαυροῦ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treasure box/storeroom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άλλει ἀγαθά, καὶ ὁ πονηροῦ θησαυροῦ ἐκβαλλει πονηρ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428760" y="410688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Corinthians 13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χάρ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grace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κυρίου Ἰησοῦ Χριστοῦ καὶ ἡ ἀγάπη τοῦ θεοῦ καὶ ἡ κοινω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fellowship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ἁγίου πνεύματ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spirit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ὰ πάντ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all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μ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you (pl.)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03:31Z</dcterms:created>
  <dc:creator>Sarah</dc:creator>
  <dc:description/>
  <dc:language>en-US</dc:language>
  <cp:lastModifiedBy>Sarah</cp:lastModifiedBy>
  <dcterms:modified xsi:type="dcterms:W3CDTF">2008-09-07T14:18:27Z</dcterms:modified>
  <cp:revision>18</cp:revision>
  <dc:subject/>
  <dc:title>Slide 1</dc:title>
</cp:coreProperties>
</file>