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785-BB96-4F49-AE16-325596E7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95A-14F9-4F36-A4F8-B57B12B4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071-29FD-4A07-87B1-31450B9A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939-012C-40DD-8336-184F4D0B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66C-6F79-4061-9934-F6888DF2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88F-1712-4CC4-BF1E-2210CBB6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4C9-9A37-4460-9289-78EBCA3F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0F7-CDAB-4AF1-949C-C1A5C386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BC4-E09B-45A3-9A4D-C0C714B2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F5A-9418-4677-9D31-882EFEF7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C6B-C1D5-442E-B531-B4661CAD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F67-5547-4B5F-BABE-41F456AB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F44D-3B46-4987-B20C-A9A434EE46A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EIGH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Exercises 1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9240" y="12430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42920" y="1941480"/>
            <a:ext cx="871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Χριστος ὁ βασιλευς Ἰσραηλ καταβατω νυν ἀπο του σταυρου, ἱνα ἰδωμεν και πιστευσωμ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ἐλεγον∙ Οὐχ οὑτος ἐστιν Ἰησους ὁ υἱος Ἰωσηφ, οὑ ἡμεις οἰδαμεν τον πατερα και την μητερ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ως νυν λεγει ὁτι Ἐκ του οὐρανου καταβεβηκ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δε Ἰησους εἰπεν αὐτοις∙ Οὐκ οἰδατε τί αἰτεισθε. δυνασθε πιειν το ποτηριον ὃ ἐγω πινω ἠ το βαπτισμα ὃ ἐγω βαπτιζομαι βαπτισθην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357120" y="1714680"/>
            <a:ext cx="77151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φ’ ἑαυτου λαλων ζητει την δοξαν την ἰδιαν∙ ὁ δε ζητων την δοξαν του πεμψαντος αὐτον οὑτος ἀληθης ἐστιν και ἀδικια ἐν αὐτῳ οὐκ ἐστι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τε ὁ Ἰησους εἰπεν τοις μαθηταις αὐτου∙ Εἰ τις θελει ὀπισω μου ἐλθειν, ἀρνησασθω ἑαυτον και ἀρατω τον σταυρον αὐτου και ἀπολουθειτω μο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Μαρια θεωρει δυο ἀγγελους ἐν λευκοις καθιζομενους, ἑνα προς τῃ κεφαλῃ και ἑνα προς τοις ποσιν, ὁπου ἐκειτο το σωμα του Ἰησου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85840" y="1500120"/>
            <a:ext cx="8501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οντες δε φωνῃ μεγαλῃ εἰπαν∙ Ἀξιον ἐστιν το ἀρνιον καθημενον ἐπι τῳ θρονῳ ἐν δεξιᾳ του θεου λαβειν την δυναμιν και σοφιαν και τιμην και δοξ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μεν οὐν κυριος Ἰησους μετα το λαλησαι αὐτοις ἀνεβη εἰς τον οὐρανον και ἐκαθητο ἐκ δεξιων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lessed are the pure in heart, because they will see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God was there with a view to healing the sick and cleansing those with unclean spir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working now in order to read the New Test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ur knowledge is growing with the result that we are able to learn from the writings: first, the gospel according to Mark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Exercises 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917160" y="12430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142920" y="1941480"/>
            <a:ext cx="871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ρευθεντες δε μαθετε τί ἐστιν∙ Δει τον υἱον του ἀνθρωπου πολλα παθ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παλιν ἠρξατο διδασκειν παρα την θαλασσαν∙ και συναγεται προς αὐτον ὀχλος πολυς, ὡστε αὐτον εἰς πλοιον ἐμβαντα καθησθαι ἐν τῃ θαλασσῃ, και πας ὁ ὀχλος προς την θαλασσαν ἐπι της γης ἠ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υναμεις και σημεια ἐποιησεν δι’ αὐτου ὁ θεος ἐν μεσῳ ὑμων καθως αὐτοι οἰδατ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14200" y="1434960"/>
            <a:ext cx="89298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ριζω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arvester/reape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ισθον λαμβανει και συναγει καρπον εἰς ζωην αἰωνιον, ἱνα ὁ σπειρων ὁμου χαιρῃ και ὁ θεριζ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σασθε το ἱματιον το καθαρον προς το δυνασθαι εἰναι μετα του βασιλεως και των φιλων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δε ἀρχιερεις και παντες οἱ λοιποι ἐζητουν κατα του Ἰησου μαρτυριαν εἰς το ἀποκτεινειν αὐτον, και οὐχ ηὑρισκ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ἐν τῳ κατηγορεισθαι αὐτον ὑπο των ἀρχιερεων και πρεσβυτερων οὐδεν ἀπεκρινα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42920" y="638280"/>
            <a:ext cx="8858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δε Ἡρῳδης ἰδων τον Ἰησουν ἐχαρη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rreg. Aorist 3</a:t>
            </a:r>
            <a:r>
              <a:rPr b="0" i="1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sing. of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χαιρω], ἠν γαρ ἐξ ἱκανων χρονων θελων ἰδειν αὐτον δια το ἀκουειν περι αὐτου και ἠλπιζεν τι σημειον ἰδειν ὑπ’ αὐτου γινομε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t is necessary that servants of God be spiritual, worthy, and capable, free from impure desire, not new in the faith, and not unfaithfu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He is treating you unjustly with the result that you are not able to receive your wag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For do you rich not have homes for the purpose of eating and drinking i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 strong, because they are free, are able to sit and eat with the unclean n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Exercises 7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69920" y="1176480"/>
            <a:ext cx="87868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hew 6.9-13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ὕτως οὖν προσεύχεσθε ὑμεῖς∙ Πάτερ ἡμῶν ὁ ἐν τοῖς οὐρανοῖς, ἁγιασθήτω τὸ ὄνομά σου∙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10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λθέτω ἡ βασιλεία σου∙ γενηθήτω τὸ θέλημά σου, ὡς ἐν οὐρανᾠ καὶ ἐπὶ γῆς∙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11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ὸν ἄρτον ἡμῶν τὸν ἐπιούσιον 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for today, for the coming day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ὸ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ive!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μῖν σήμερον∙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12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καὶ ἄφε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forgive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φιημι] ἡμῖν τὰ ὀφειλήματ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ebts, from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φειλω] ἡμῶν, ὡς καὶ ἡμεῖς ἀφήκαμεν [ἀφιημι] τοῖς ὀφειλέταις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ebtors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μῶν. </a:t>
            </a:r>
            <a:r>
              <a:rPr b="0" lang="el-GR" sz="2700" spc="-1" strike="noStrike" baseline="30000">
                <a:solidFill>
                  <a:srgbClr val="ffffff"/>
                </a:solidFill>
                <a:latin typeface="Gentium"/>
              </a:rPr>
              <a:t>13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καὶ μὴ εἰσενέγκῃς [εἰσφερω = εἰς + φερω] ἡμᾶς εἰς πειρασμό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ime of testing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]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λλὰ ῥῦσαι ἡμᾶς ἀπὸ τοῦ πονηρο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9:18:09Z</dcterms:created>
  <dc:creator>Sarah</dc:creator>
  <dc:description/>
  <dc:language>en-US</dc:language>
  <cp:lastModifiedBy>Sarah</cp:lastModifiedBy>
  <dcterms:modified xsi:type="dcterms:W3CDTF">2009-03-02T20:22:01Z</dcterms:modified>
  <cp:revision>21</cp:revision>
  <dc:subject/>
  <dc:title>Slide 1</dc:title>
</cp:coreProperties>
</file>