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632-B7EA-48D3-AE66-DEA9AF50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F56-BFF8-40F2-A718-AA0AFD95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DEB-2904-4968-AD40-7C52A063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FA9-3473-4901-8EF5-DD46EBFD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0EBE-B70A-4B5D-94A0-B2556D36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7953-15D4-4A90-93B4-1183FC8D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CEC4-D41A-4997-9C32-93AB7B87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A87B-F2D8-46C1-A305-FC771195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2AB6-9809-47EA-BC20-F5A6FFCF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2BA1-36A9-45CC-8ECE-1D763234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405D-68D8-4077-A459-DD768942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5BB-F94E-4BDD-97CF-EAD185A2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164E-7FE5-4382-BFDA-D749513B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E087-56FD-4448-88C1-BAEC475A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70DB-99D4-4C50-B84C-FAB8BF52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594B-1BEC-42DA-A47F-2833AE99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A2F6-03F6-41C0-8B8A-822785B0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AD7-5584-4C7D-B6CD-FAF2FB9F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7C9-A3A4-4373-A63F-D7BF6F21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835-B6A9-437F-867E-1077F8CF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29B-A4AD-49FB-BDD6-E6527122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F08-D766-4196-BEDC-A810F493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DBA-48A9-417C-B5E7-8CB1B4EB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541-BA72-48D2-9324-F82E6B73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2D09-E573-4600-9021-F016972A32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CA73-F8E8-4D8F-96F6-9DA9C3DC28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57320" y="1214280"/>
            <a:ext cx="87724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λεγει τοις Φαρισαιοις∙ Ἐξεστιν ἐν τοις σαββασιν ἀγαθον ποιησαι ἠ κακοποιησ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o evi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ψυχην σωσαι ἠ μη σω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μην ἀμην λεγω, ὁ πιστευων ἐχει ζωην αἰων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ἐντολη αὐτου ἐστιν ζωη αἰωνι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τα προβατα την φωνην αὐτου ἀκουει και τα ἰδια προβατα ἀκολουθει ὀπισω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δελφη ἡ πιστη ἐκραζεν τῳ Ἰησου∙ Ἐλεησον, κυριε υἱε Δαυι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κηρυξεν ὁ Ἰησους λεγων∙ Μετανοειτε και πιστευετε ἐν τῳ εὐαγγελι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14200" y="1711440"/>
            <a:ext cx="8001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τῳ ὀχλῳ συν τοις ἀποστολοις αὐτου∙ Εἰ θελεις ὀπισω του κυριου ἀκολουθειν, δει παρρησιαν ἐχ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ς εἰμι ὑπο ἐξουσιαν, και λεγω δουλῳ∙ Ποιησον αὐτο, και 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as telling a parable concerning j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not lead blind animals up into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you (pl.) looking at the tom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was speaking in parables but with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τα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] auth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57320" y="1357200"/>
            <a:ext cx="877248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 δοκειτε λεγειν∙ Ἐσμεν υἱοι του Ἀβραα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Φαρισαιοι καταργουσιν την ἐντολην της ἀγαπ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συνηγον θεωρειν το μνημε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αὐτῳ∙ Ἀκολουθει τῳ Ἰησου και μαρτυρ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προσκυνειν τῳ θεῳ δια την δοξα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εν ὁ ἀγγελος αὐτοις∙ Ἀκολουθειτε ὀπισω της φωνης αὐτου και μαρτυρειτε παρρησιᾳ και χαρ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1711440"/>
            <a:ext cx="80010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ποστολοι ἐκηρυσσον το εὐαγγελιον λεγοντες∙ Μετανοιε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δαιμονιον ἐδησεν αὐτην ἀλλ’ οἱ Φαρισσαιοι λεγουσιν∙ Οὐ δει και οὐκ ἐξεστιν αὐτην ἀπο του πονηρου ἐν τῳ σαββα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do not seek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man bound Paul, but an angel released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rd, open the eyes of th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about to bear witness concerning the righteousness of Chr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809880" y="12142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69000" y="1643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3.4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00040" y="2286000"/>
            <a:ext cx="8286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very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οιῶν τὴν ἁματίαν καὶ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so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ὴν ἀνομία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ωομία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awlessnes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ῖ, καὶ ἡ ἁμαρτία ἐστὶν ἡ ἀνομία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5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Καὶ οἴδατε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ou know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ὅτ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εῖν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at 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ανερώθη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as reveal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, ἵν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o tha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ὰς ἁμαρτίας ἄρῃ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might tak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, καὶ ἁμαρτία ἐν αὐτῷ οὐκ ἔστιν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6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πᾶς ὁ ἐν αὐτῷ μένω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ένω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 remai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χ ἁμαρτάνε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ανω –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Ι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 πᾶς ὁ ἁμαρτάνων οὐχ ἑώρακε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see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ὸν οὐδὲ ἔγνωκε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know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όν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7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εκνί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δει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bod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ανάτω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et him deceiv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ὑμ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14200" y="1351080"/>
            <a:ext cx="892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οιῶν τὴν δικαιοσύνην δίκαιός ἐστιν, καθὼ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just a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κεῖνος δίκαιός ἐστιν∙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8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ὁ ποιῶν τὴν ἁμαρτιαν ἐκ τοῦ  διαβόλου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άβολος -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evi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στιν, ὅτι ἀπ’ ἀρχῆς ὁ διάβολος ἁμαρτάνει. εἰς τοῦτο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or this reaso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ανερώθη ὁ υἱος τοῦ θεοῦ, ἵνα λύσῃ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o that he might release/destro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ἔργα τοῦ διαβόλου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9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Πᾶς ὁ γεγεννημέν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aving been bor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 τοῦ θεοῦ ἁμαρτίαν οὐ ποιεῖ, ὅτι σπέρμ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e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οῦ ἐν αὐτῷ μένει, και οὐ δύνατ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is abl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άνειν, ὅτι ἐκ τοῦ θεοῦ γεγέννητ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been bor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ν τούτῳ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 this wa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ανερ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reveal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 τὰ τέκνα τοῦ θεοῦ καὶ τὰ τέκνα τοῦ διαβόλου∙ πᾶς ὁ μὴ ποιῶν δικαιοσύνην οὐκ ἔστιν ἐκ τοῦ θεοῦ, καὶ ὁ μὴ ἀγαπῶ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oving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ὸν ἀδελφὸν αὐτοῦ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31:09Z</dcterms:created>
  <dc:creator>Sarah</dc:creator>
  <dc:description/>
  <dc:language>en-US</dc:language>
  <cp:lastModifiedBy>Sarah</cp:lastModifiedBy>
  <dcterms:modified xsi:type="dcterms:W3CDTF">2008-09-07T14:20:18Z</dcterms:modified>
  <cp:revision>26</cp:revision>
  <dc:subject/>
  <dc:title>Slide 1</dc:title>
</cp:coreProperties>
</file>