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EAFA-BB8D-4E97-94D3-6E29D530C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975D-5190-453F-AAB6-47962D0F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1006-2E00-48B8-ABA4-29712EB84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5923-C751-4278-B86C-61801F5FF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EF0B-AC2E-485F-B1EC-D215E623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9838-1C4C-4450-B5F0-1014BCE9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3D82-5375-47B6-9421-4D6A51F9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D2AA-860A-434B-8406-5D386867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0226-FCEF-45C1-8A30-A799D380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0F1A-03EF-4B8E-A145-20E2DA4D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FDFF-438F-436B-8811-03CA1BB3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FDFA-50B5-4FC5-9807-7C032784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2A6D-958F-4B0E-80A7-7041FA2A173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EIGH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:Exercises 1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00160" y="1300320"/>
            <a:ext cx="87152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ρχεται ὁ Ἰησους και λαμβανει τον ἀρτ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και ὁ οχλος ἠρχετο ὁ παλιν παρα την θαλασσαν προς αὐτον, και ἐδιδασκεν αὐτους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ἀπο τοτε ἠρξατο ὁ Ἰησους κυρυσσειν και λεγειν∙ Μετανοειτε∙ προσερχεται ἡ βασιλεια των οὐρανω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λεγεν ἐν παραβολῃ αὐτοις∙ Δει παντοτε προσευχεσθα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και ὁ ὀχλος ἐζητουν ἁπτεσθαι αὐτον∙ σημεια ἐξουσιας παρ’ αὐτου ἐξηρχετο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ὁ Ἰωαννης ἐσται μεγας ἐνωπιον του κυριου ὡς ὁ Ἠλιας∙ ἀλλ’ ὁ Ἡρῳδης πονηρο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00160" y="1300320"/>
            <a:ext cx="8715240" cy="48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μελλει ὁ υἱος του ἀνθρωπου ἐρχεσθαι ἐν τῃ δοξῃ του θεου μετα των ἀγγελων αὐτου, και τοτε δεξεται ἑκαστος κατα την ζωην αὐτο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λεγεν προς τους μαθητας∙ Εἰ θελετε ὀπισω του υἱου του ἀνθρωπου ἐρχεσθαι, ἀρνησασθε τον Σαταναν και ἀκολουθειτε τῳ κυριῳ καθ’ ἡμεραν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house of Judah prayed, ‘Lord, rescue Israel from Egypt!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lijah was a great proph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y were going away from the synagogue when we were going 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arnabas and Paul were proclaiming the good news on the road from Jerusalem with the faithful discip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:Exercises 3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200160" y="1300320"/>
            <a:ext cx="89438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οἱ προφηται ἐκηρυξαν∙ Ἐκ της καρδιας ἐξερχεται πονηρα και ἀγαθ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δει διερχεσθαι δια της ἐρημου συν τοις στρατιωται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ἡ ἀγαπη κακον οὐκ ἐργαζεται∙ ἡ μεγαλη ἐντολη ἐστιν ἀγαπη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ἀσπαζονται ἐν κυριῳ Βαρναβας και Ἰουδας οἱ μαθηται τας ἐκκλησιας της Ἰερουσαλη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λεγει προς τον ἀγγελον∙ Πως ἐσται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ὁτε ἠμην τεκνον, ἐλαλουν ὡς τεκνον, ἐλογιζομην ὡς τεκν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214200" y="1714680"/>
            <a:ext cx="8715600" cy="33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ἀλλα ἐρχεται ὡρα και νυν ἐστιν, ὁτε οἱ μαθηται χαρᾳ προσκυνησουσιν τῳ κυριῳ, ὡς αὐτους ζητει και προσκαλειται ὁ θεο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ῥυσῃ ἀνθρωπον ἁμαρτιας ἐκ του θανατου του αἰωνιου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John was a brother and a discip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soldiers of Herod are passing on the ro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 you (pl.) wish to go into church or to be alon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ecause of Herod, Joseph and Mary were going along the sea on the road to Egypt with the child Jes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:Exercises 5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642960" y="1571760"/>
            <a:ext cx="7929720" cy="42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ark 4.1-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Καὶ πάλιν ἤρξατο διδάσκειν παρὰ τὴν θάλασσαν∙ καὶ συνάγεται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it was gathered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πρὸς αὐτὸν ὄχλος πλεῖστος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very large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, ὥστε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with the result that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αὐτὸν εἰς πλοῖον ἐμβάντα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getting in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 καθῆσθαι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sat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ν τῇ θαλάσσῃ, καὶ πᾶς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ὁ ὄχλος πρὸς τὴν θάλασσαν ἐπὶ τῆς γῆς ἦσαν.     2 καὶ ἐδίδασκεν αὐτοὺς ἐν παραβολαῖς πολλὰ καὶ ἔλεγεν αὐτοῖς ἐν τῇ διδαχῇ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teaching, instruction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αὐτοῦ, ...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22:20:43Z</dcterms:created>
  <dc:creator>Sarah</dc:creator>
  <dc:description/>
  <dc:language>en-US</dc:language>
  <cp:lastModifiedBy>Sarah</cp:lastModifiedBy>
  <dcterms:modified xsi:type="dcterms:W3CDTF">2008-09-07T14:20:55Z</dcterms:modified>
  <cp:revision>16</cp:revision>
  <dc:subject/>
  <dc:title>Slide 1</dc:title>
</cp:coreProperties>
</file>