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80B3-6143-46A4-B16B-268F721E7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E099-2FD0-4C74-A6ED-92843E79C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8A66-C87E-4FA8-83DD-D8CCDC2EE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2520-C53E-44DA-8802-77565F721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A77F-C9DA-4A50-B3FD-995BD1908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FFB0-4DF6-41F5-8791-62CFF2AFE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CB46-8A0A-4311-8637-5F5A5C595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ECD4-221F-42EF-8D8C-AD19ED944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E9A8-DCEB-4E3B-B465-E0880DE4E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388E-91BE-4E6F-BDB7-A855BC9E7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0BE9-5B35-4A17-ABDA-7B4AE00F3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B67B-B6C9-4CF8-BCB6-4DD9C6EDD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81F52-11B7-4931-B3EA-7D119E369CC8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857160" y="272880"/>
            <a:ext cx="74296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EXERCISES FOR MODULE FIFTEE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alphaomega.jpg"/>
          <p:cNvPicPr/>
          <p:nvPr/>
        </p:nvPicPr>
        <p:blipFill>
          <a:blip r:embed="rId2"/>
          <a:stretch/>
        </p:blipFill>
        <p:spPr>
          <a:xfrm>
            <a:off x="8059680" y="2376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5:Exercises 1/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3908160" y="1243080"/>
            <a:ext cx="126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ection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1280" y="1666800"/>
            <a:ext cx="9144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και ἠρξατο διδασκειν αὐτους ὁτι δει παθειν πολλα και διωχθηναι ὑπο των πρεσβυτερων και των ἀρχιερεων και των γραμματεων και ἀποκτανθηνα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νυν ἡ κρισις ἐστιν του κοσμου τουτου, νυν ὁ ἀρχων του κοσμου τουτου ἐκβληθησεται ἐξω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ὁ δε Ἰησους εἰπεν αὐτοις∙ Το ποτηριον ὃ ἐγω πινω πιεσθε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[=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irregular future of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πινω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και το βαπτισμα ὃ ἐγω βαπτιζομαι βαπτισθησεσθ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μακαριοι οἱ ἐλεημονες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ἐλεημων =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merciful; declines like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πλειων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ὁτι αὐτοι ἐλεηθησοντα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μακαριοι οἱ εἰρηνοποιοι [= εἰρηνη + ποιεω], ὁτι αὐτοι υἱοι θεου κληθησοντα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και ἀποκριθεις αὐτοις λεγει∙ Τίς ἐστιν ἡ μητηρ μου και οἱ ἀδελφοι μου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;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5:Exercises 2/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7"/>
          <p:cNvSpPr/>
          <p:nvPr/>
        </p:nvSpPr>
        <p:spPr>
          <a:xfrm>
            <a:off x="71280" y="1285920"/>
            <a:ext cx="9144000" cy="369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και ἀπεκριθη αὐτῳ εἱς ἐκ του ὀχλου∙ Διδασκαλε, ἠνεγκα τον υἱον μου προς σε, ἐχοντα πνευμα πονηρο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ἠρξαντο λυπεισθαι και λεγειν αὐτῳ εἱς κατα (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by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)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εἱς∙ Μητι ἐγω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they were filled with great awe [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lit. ‘they feared a great fear’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] and said to one another, ‘Who then is this?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having entered he said to them, ‘Why are you afraid and weep? The child has not died’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e was afraid and answered the chief priest, ‘They returned to the sanctuary’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the husband not having faith is made holy through [use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ἐν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]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is wife, and the wife not having faith is made holy through her husban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6"/>
          <p:cNvSpPr/>
          <p:nvPr/>
        </p:nvSpPr>
        <p:spPr>
          <a:xfrm>
            <a:off x="6867360" y="6278400"/>
            <a:ext cx="2003760" cy="36540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5:Exercises 3/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3915360" y="1243080"/>
            <a:ext cx="126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ection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7"/>
          <p:cNvSpPr/>
          <p:nvPr/>
        </p:nvSpPr>
        <p:spPr>
          <a:xfrm>
            <a:off x="71280" y="166680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ἐφανη ἀνηρ τις ἐκ της πολεως ἐχων δαιμονια και πολυν χρονον  οὐκ ἐνεδυσατιο ἱματιον και ἐν οἰκιᾳ οὐκ ἐμενε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Ἰδων δε ὁ Ἰησους ὀχλον περι αὐτον ἐκελευσεν τους μαθητας ἀπελθειν εἰς το περα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ὁ δε Ἰησους εἰπεν∙ Μη κωλυετε αὐτον. οὐδεις γαρ ἐστιν ὁς ποιησει δυναμιν ἐπι τῳ ὀνοματι μου και λαλησει κακως περι ἐμο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ἀπεκριθη αὐτῳ ὁ ἀσθενων∙ Κυριε, ὑπηρετην οὐκ ἐχω βαλειν με εἰς το ὑδωρ∙ ὁτε εἰς αὐτο ἐρχομαι ἐγω, ἀλλος προ ἐμου καταβαινε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βουλομεθα οὐν γνωναι τίνα ταυτα ἐστι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Αὐτος γαρ ὁ Ἡρῳδης ἀποστειλας ἐκρατησεν τον Ἰωαννην και ἐδησεν αὐτον ἐν φυαλκῃ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prison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δια την γυναικα του ἀδελφου αὐτου, ὁτι αὐτην ἐγαμησε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5:Exercises 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4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7"/>
          <p:cNvSpPr/>
          <p:nvPr/>
        </p:nvSpPr>
        <p:spPr>
          <a:xfrm>
            <a:off x="71280" y="1285920"/>
            <a:ext cx="871560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και ἐφαγον τον καρπον παντες, και ἠρθη το περισσευσα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ἡ γαρ ἀγαπη του θεου ἐκχειται ἐν ταις καρδιαις ἡμων δια πνευματος ἁγιου του λαμβανομενου ὑφ’ ἡμω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hen the time of harvest 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lit. ‘time of the fruits’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] came, he sent his slaves to receive the produce 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the fruit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] which was h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hilip said, ‘We were hindered by the devil but after a long time we finished the sanctuary’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 he sent one of his disciples, saying to him, ‘Go into the city, and a man carrying a cup of water will serve you.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I make known to you, brothers and sisters, that the good news which was proclaimed by me is not according to a human be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5:Exercises 5/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3"/>
          <p:cNvSpPr/>
          <p:nvPr/>
        </p:nvSpPr>
        <p:spPr>
          <a:xfrm>
            <a:off x="455760" y="1557360"/>
            <a:ext cx="8215200" cy="36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ection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atthew 11.2-5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ὁ δὲ Ἰωάννης ἀκούσας ἐν τῷ δεσμωτηρίῳ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prison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τὰ ἔργα τοῦ Χριστοῦ πέμψας διὰ τῶν μαθητῶν αὐτοῦ 3 εἶπεν αὐτῷ, Σὺ εἶ ὁ ἐρχόμενος ἢ ἕτερον προσδοκῶμεν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we should wait for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];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4 καὶ ἀποκριθεὶς ὁ Ἰησοῦς εἶπεν αὐτοῖς∙ Πορευθέντες ἀπαγγείλατε Ἰωάννῃ ἃ ἀκούετε καὶ βλέπετε∙ 5 τυφλοὶ ἀναβλέπουσιν καὶ χωροὶ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lame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περιπατοῦσιν, λεπροὶ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lepers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καθαρίζονται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καθαριζω =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cleanse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καὶ κωφοὶ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deaf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ἀκούουσιν, καὶ νεκροὶ ἐγείρονται καὶ πτωχοὶ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poor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εὐαγγελίζοντα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30T21:15:13Z</dcterms:created>
  <dc:creator>Sarah</dc:creator>
  <dc:description/>
  <dc:language>en-US</dc:language>
  <cp:lastModifiedBy>Sarah</cp:lastModifiedBy>
  <dcterms:modified xsi:type="dcterms:W3CDTF">2008-10-01T12:46:11Z</dcterms:modified>
  <cp:revision>21</cp:revision>
  <dc:subject/>
  <dc:title>Slide 1</dc:title>
</cp:coreProperties>
</file>