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E04-28E0-469F-953F-F486424C01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CEA-3F07-434D-84C1-58943B070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DFF-DAEA-4538-9D8A-D663BE0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385-5148-4BCB-986A-04B0436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AEB-D879-41D2-8D8B-AA48804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968-A66E-4E11-9A1B-F14AB515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A57-F851-4510-B235-8142E7A1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289-2158-4081-861E-1867450C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437-C6AA-4B43-8A35-B9F6F4D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F49-5AAE-4DA5-835C-468BA43B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3F-10F0-4CE9-9616-8772A094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0A5-8266-4CB3-8F83-032A67A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F9D-1724-4C8B-A1E8-3D30EDA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881-6E42-420D-B0D3-0F077AE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A0D-316F-46AB-B90C-8418AD2A84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 ζωη ἠν, και ἡ ζωη ἠν υο φως των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οντες εἰσηλθον λεγοντες∙ Που ἐστιν ὁ ἀρχων των Ἰουδαι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ὶ αὐτὸν ὄχλος, καὶ λέγουσιν αὐτῷ, Ἰδοὺ ἡ μήτηρ σο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9-03-02T17:36:22Z</dcterms:modified>
  <cp:revision>20</cp:revision>
  <dc:subject/>
  <dc:title>Slide 1</dc:title>
</cp:coreProperties>
</file>