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8C7-61FC-453A-AC1E-D22D3028B5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9115-4928-4650-A86C-97E17CA5C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AD-59E0-4A2A-9609-300C69A4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191-C0DB-4E0F-A631-6BEAFA9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531-62CA-4CAD-A2F6-3A93C1CA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D20-CC0B-45FF-86C1-83A8104B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5D7-9D51-486B-89F6-9C746566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EE9-E332-400B-8DEA-1901A8E6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223-B7BB-4773-9FCB-E393D6D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487-F626-4A32-8C5D-4897C5C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406-F964-4B1F-92CC-0A4132E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80F-2DE9-4BE5-8F0F-8CEF590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1D9-B37E-403F-A4BF-6726190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E2E-988F-4B46-B243-8914E30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A62-0A67-4C87-B606-BC466017C5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 ζωη ἠν, και ἡ ζωη ἠν υο φως των ἀ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οντες εἰσηλθον λεγοντες∙ Που ἐστιν ὁ ἀρχων των Ἱουδα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ὶ αὐτὸν ὄχλος, καὶ λέγουσιν αὐτῷ, Ἰδοὺ ἡ μήτηρ σπ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8-09-19T08:44:34Z</dcterms:modified>
  <cp:revision>16</cp:revision>
  <dc:subject/>
  <dc:title>Slide 1</dc:title>
</cp:coreProperties>
</file>