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ABF-19E3-4942-B3EA-BC5E6E56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9E4-6FF0-4DD7-BB89-264907CA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B1B-4312-436F-9FF5-AEF1841B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A66-33D3-495B-80B0-50900B30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206-F3BF-4F9D-9845-2FF89A9D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369-252D-49B6-B5AE-25724212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EA8-632D-4D56-841B-AD716855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B69-2BE2-4411-8F01-BBE777C2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CFE-0784-4594-A3CA-EB86B4FF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3C4-ECD7-404E-B3FA-9C3FA75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FF0-994D-481C-8992-B54C116D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55B-D24E-45A1-8D18-329612FE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638D-96DF-4DDE-8C15-0ECF4B8C54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715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χεται ὁ Ἰησους και λαμβανει τον ἀρτ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ὁ ὀχλος ἠρχετο παλιν παρα την θαλασσαν προς αὐτον, και ἐδιδασκεν αὐτου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πο τοτε ἠρξατο ὁ Ἰησους κηρυσσειν και λεγειν∙ Μετανοειτε∙ προσερχεται ἡ βασιλεια των οὐραν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εγεν ἐν παραβολῃ αὐτοις∙ Δει παντοτε προσευχεσθα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ὁ ὀχλος ἐζητουν ἁπτεσθαι αὐτου∙ σημεια ἐξουσιας παρ’ αὐτου ἐξηρχετ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ωαννης ἐσται μεγας ἐνωπιον του κυριου ὡς ὁ Ἠλιας∙ ἀλλ’ ὁ Ἡρῳδης πονηρ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71524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λλει ὁ υἱος του ἀνθρωπου ἐρχεσθαι ἐν τῃ δοξῃ του θεου μετα των ἀγγελων αὐτου, και τοτε δεξεται ἑκαστος κατα την ζωην αὐτ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εγεν προς τους μαθητας∙ Εἰ θελετε ὀπισω του υἱου του ἀνθρωπου ἐρχεσθαι, ἀρνησασθε τον Σαταναν και ἀκολουθειτε τῳ κυριῳ καθ’ ἡμερα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house of Judah prayed, ‘Lord, rescue Israel from Egypt!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lijah was a great proph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y were going away from the synagogue when we were going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arnabas and Paul were proclaiming the good news on the road from Jerusalem with the faithful dis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300320"/>
            <a:ext cx="89438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ἱ προφηται ἐκηρυξαν∙ Ἐκ της καρδιας ἐξερχεται πονηρα και ἀγαθ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ει διερχεσθαι δια της ἐρημου συν τοις στρατιωτα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ἡ ἀγαπη κακον οὐκ ἐργαζεται∙ ἡ μεγαλη ἐντολη ἐστιν ἀγαπ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σπαζονται ἐν κυριῳ Βαρναβας και Ἰουδας οἱ μαθηται τας ἐκκλησιας της Ἰερουσαλη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εγει προς τον ἀγγελον∙ Πως ἐσται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τε ἠμην τεκνον, ἐλαλουν ὡς τεκνον, ἐλογιζομην ὡς τεκν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14200" y="1714680"/>
            <a:ext cx="871560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λλα ἐρχεται ὡρα και νυν ἐστιν, ὁτε οἱ μαθηται χαρᾳ προσκυνησουσιν τῳ κυριῳ, ὡς αὐτους ζητει και προσκαλειται ὁ θε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ῥυσῃ ἀνθρωπον ἁμαρτιας ἐκ του θανατου του αἰωνι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was a brother and a disci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soldiers of Herod are passing on the r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you (pl.) wish to go into church or to be alo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of Herod, Joseph and Mary were going along the sea on the road to Egypt with the child Jes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42960" y="1571760"/>
            <a:ext cx="792972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k 4.1-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ὶ πάλιν ἤρξατο διδάσκειν παρὰ τὴν θάλασσαν∙ καὶ συνάγετα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t was gathered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ὸς αὐτὸν ὄχλος πλεῖστο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very large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, ὥστε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with the result that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ὐτὸν εἰς πλοῖον ἐμβάντα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tting in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καθῆσθαι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at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ν τῇ θαλάσσῃ, καὶ πᾶς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ὄχλος πρὸς τὴν θάλασσαν ἐπὶ τῆς γῆς ἦσαν. 2 καὶ ἐδίδασκεν αὐτοὺς ἐν παραβολαῖς πολλὰ καὶ ἔλεγεν αὐτοῖς ἐν τῇ διδαχῇ 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eaching, instruction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ὐτοῦ, ..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20:43Z</dcterms:created>
  <dc:creator>Sarah</dc:creator>
  <dc:description/>
  <dc:language>en-US</dc:language>
  <cp:lastModifiedBy>Sarah</cp:lastModifiedBy>
  <dcterms:modified xsi:type="dcterms:W3CDTF">2009-02-25T21:16:31Z</dcterms:modified>
  <cp:revision>20</cp:revision>
  <dc:subject/>
  <dc:title>Slide 1</dc:title>
</cp:coreProperties>
</file>