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004-0AD1-4986-9D04-C88A4018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3A7-5014-494A-8F76-854B0BB9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AFF-3E2A-4328-AFCB-B6128F54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A7F-E303-4CDC-9F26-041D5F78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E95-E4FE-4ECD-BE1E-2851F7B3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A22-F91B-4412-8687-7BE6F246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D22-7DAA-4C9E-BFC1-021444C3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0D3-20D4-4D38-B4A3-A528F654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4EF-A254-45F1-8A61-F341819F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E69-29D6-43A3-AD62-709D6542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9F4-F988-402B-AA4A-81A9244C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9B7-1678-4BBD-9842-2C397D26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F471-6CB8-4AD9-B0C0-ED98F9B59E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OU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14200" y="1666800"/>
            <a:ext cx="892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ιλων την ψυχην αὐτου οὐ σωσει αὐτην, και ὁ μισων την ψυχην αὐτου ἐν τῳ κοσμῳ τουτῳ εἰς ζωην αἰωνιον φυλαξει αὐτ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ξελθων εἰδεν πολυν ὀχλον και ἠλεησεν ἐπ’ αὐτους, ὁτι ἠσαν ὡς προβατα μη ἐχοντα ποιμεν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hepher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και ἠρξατο διδασκειν αὐτους πολλ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μην ἀμην λεγω ὑμιν ὁτι ὁ τον λογον μου ἀκουων και πιστευων τῳ πεμψαντι με ἐχει ζωην αἰωνιον και εἰς κρισιν οὐκ ἐρχ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ς ὁ θεωρων τον υἱον και πιστευων εἰς αὐτον ἐχει ζωην αἰων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οὐν Ἰουδαιοι περι αὐτου ἐλαλουν μετ’ ἀλληλων ὁτι εἰπεν∙ Ἐγω εἰμι ὁ ἀρτος ὁ καταβας ἐκ του οὐρα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 γαρ ἐστιν ὁ λογος δια Ἠσαϊου του προφητου λεγοντος∙ Φωνη κραζοντος ἐν τῃ ἐρημῳ∙ Ἑτοιμασατε την ὁδον κυρι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42920" y="1357200"/>
            <a:ext cx="8929800" cy="43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τε προς αὐτους∙ Ἀνδρες Ἰσραηλ, προσεχετε ἑαυτοις ἐπι τοις ἀνθρωποις τουτοις τί μελλετε πρασσ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Σατανας ἠν ἐν τῃ ἐρημῳ πολλας ἡμερας πειραζων αὐτον, και ὁ Ἰησους ἠν μετα των θηριων, και οἱ ἀγγελοι διηκονου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For the father has subjected all things under the feet of the 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Beloved children, guard yourselves against 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FangSong"/>
              </a:rPr>
              <a:t>ἀπ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] those who hate your so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That stone has the image of Caesar, not of some Gr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FangSong"/>
              </a:rPr>
              <a:t>What therefore will the lord of the vineyard do?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FangSo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666800"/>
            <a:ext cx="89298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λλα ἐχω ὑμιν γραφειν ἀλλα ἐλπιζω γενεσθαι προς ὑμας και στομα προς στομα λαλησ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εἰπεν ὁ Ἰησους∙ Εἰς κριμα ἐγω εἰς τον κοσμον τουτον ἠ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ις του διδασκαλου ἐμισει τα βιβλια του πατρο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προσελθων ἠγειρεν αὐτην κρατησας της χειρ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ρχονται εἰς Ἱεροσολυμα∙ και εἰσελθων εἰς το ἱερον ἠρξατο ἐκβαλλειν τους ἀγοραζοντας ἐν τῳ ἱερ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αρισαιος προς ἑαυτον ταυτα προσηυχετο∙ Ὁ θεος, εὐχαριστω σοι ὁτι οὐκ εἰμι ὡσπερ οἱ ἀλλοι ἀνθρωποι, ἠ και ὡς οὑτος ὁ ἁμαρτωλος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14200" y="1214280"/>
            <a:ext cx="892980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πρεσβυτεροι και οἱ διδασκαλοι ὀφειλουσιν διακονειν τοις προβατοις και προφητευειν τοις ἁμαρτωλοις και θεραπευειν τους ἀσθενεις και μητε βλασφημειν τον θεον ἡμων μητε σκανδαλιζειν τα παιδια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λεγετε ἐν ἑαυτοις∙ Πατερα ἐχομεν τον Ἀβρααμ. λεγω γαρ ὑμιν ὁτι δυναται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s ab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ἐκ των λιθων τουτων ἐγειραι τεκνα τῳ Ἀβραα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ars of the sinners do not hear the seed which the sewing one s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dgement begins with the household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lder prayed for James, and the lord, having heard, had mer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uching the sinner, the one serving the Father in heaven healed her ears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14200" y="1285920"/>
            <a:ext cx="8715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1.7-10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ἐκήρυσσεν λέγων, Ἔρχεται ὁ ἰσχυρότερ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powerful tha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ου ὀπίσω μου,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o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ὗ οὐκ εἰμὶ ἱκανὸ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orth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ύψ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υπτω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end dow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ῦσαι τὸν ἱμάντ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trap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ῶν ὑποδημά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andal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ὼ ἐβάπτισα ὑμᾶς ὕδατι, αὐτὸς δὲ βαπτίσει ὑμᾶς ἐν πνεύματι ἁγίῳ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γένετο ἐν ἐκείναις ταῖς ἡμέραις ἦλθεν Ἰησοῦς ἀπὸ Ναζαρὲτ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azareth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ῆς Γαλιλαίας καὶ ἐβαπτίσθη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was baptiz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ὸν Ἰορδάνη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Jorda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ὸ Ἰωάννου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εὐθὺς ἀναβαίνων ἐκ τοῦ ὕδατος εἶδεν σχιζομέν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eing spli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ὺς οὐρανοὺς καὶ τὸ πνεῦμα ὡς περιστερὰ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ov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ταβαῖνον εἰς αὐτόν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3:09:36Z</dcterms:created>
  <dc:creator>Sarah</dc:creator>
  <dc:description/>
  <dc:language>en-US</dc:language>
  <cp:lastModifiedBy>Sarah</cp:lastModifiedBy>
  <dcterms:modified xsi:type="dcterms:W3CDTF">2009-03-02T18:24:11Z</dcterms:modified>
  <cp:revision>27</cp:revision>
  <dc:subject/>
  <dc:title>Slide 1</dc:title>
</cp:coreProperties>
</file>