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38EE-0EAF-4306-AEEE-618FD764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10DD-49AE-438C-BDDA-4C24F3F8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88A-3203-499E-B387-13981AEC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102-32BA-46F4-920D-2E1E1FA7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BE94-CBF6-4ECC-9DBD-D72E3944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DFF-3C07-4D68-9BED-B3A343A4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947-4311-4883-AA6E-A880D7F1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E8D-10B4-48A5-AAC3-7121C474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E0E-5584-4BFD-BBB1-AD16CE53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943-4164-41CB-8065-AEA70D40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860-2B98-41FE-8C82-DF8A277A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556-CE18-4E36-B3ED-7B49CA8C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213E-3636-4D29-AE5D-E1EADB5DE90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HI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14200" y="145584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εγον οὐν τῳ Πιλατῳ οἱ ἀρχιερεις των Ἰουδαιων∙ Μη γραφε∙ Ὁ βασιλευς των Ἰουδαιων, ἀλλ’ ὁτι ἐκεινος εἰπεν, Βασιλευς εἰμι των Ἰουδαι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εἰπεν αὐτῳ∙ Τί με λεγεις ἀγαθ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δεις ἀγαθος εἰ μη εἱς ὁ θε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χαρις του κυριου Ἰησου Χριστου και ἡ ἀγαπη του θεου και ἡ κοινωνι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fellowship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 ἁγιου πνευματος μετα παντων ὑ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καλειτε τινα Ῥαββι∙ εἱς γαρ ἐστιν ὑμων ὁ διδασκαλ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eache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παντες δε ὑμεις ἀδελφοι ἐσ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 Πετρος λεγει τῳ Ἰησου∙ Ῥαββι, καλον ἐστιν ἡμας ὡδε εἰναι, και οἰδοκομησομεν τρεις σκην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ee tent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μιν, σοι μιαν και Μωϋσει μιαν και Ἠλιᾳ μ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σονται οἱ δυο εἰς σαρκα μιαν∙ οὑτως οὐκετι εἰσιν δυο ἀλλα μια σαρ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908160" y="111276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14200" y="1357200"/>
            <a:ext cx="864396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πας ὁ ὀχλος ἐζητουν ἁπτεσθαι αὐτου, ὁτι δυναμις παρ’ αὐτου ἐξηρχετο και ἐθεραπευεν παντ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ξηλθον οἱ μαθηται και ἠλθον εἰς την πολιν και εὑρον καθως εἰπεν αὐτο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ne of the scribes, having approached, said to him, ‘Rabbi, I will follow you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he will be king over the house of Jacob forever, and of his kingdom there will not be an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is world you have suffering, but you have peace in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go out into resurrection of life, but others to a resurrection of jud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14200" y="184644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ρχεται εἱς των ἀρχισυναγωνων, ὀνοματι Ἰαϊρος, και ἰδων αὐτον πιπτει προς τους ποδα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νους ἐν τῳ σκοτει ἐργαζεται πονηρα τῃ συνειδησει τῃ κακ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 δε πληθος ἐπι τῳ ὀρει αἰτησει την παρακλησιν ἀπο 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ν ἐτος  ὁ ἀρχιερευς ἠν ἀσθεν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ς δεξεται το ἐλεος του βασιλεω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δεις ἠ πα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πασιν μεν ἡ γνωσις της ἀναστασεως, πολλων δε ὁ νους ἐν σκοτε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14200" y="135720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νομος του Μωϋσεως λεγει περι του ἐλεους του ἀληθους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πεστειλεν αὐτους κηρυσσειν την βασιλειαν του θεου και θεραπευειν παντας τους ἀσθεν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ur nation has knowledge about the blind and the we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received from his father his part of their prope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are all members of the body of Chr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 will be suffering for everybody, good and b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4240" y="1500120"/>
            <a:ext cx="7786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hew 28.18-20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προσελθὼν ὁ Ἰησοῦς ἐλάλησεν αὐτοῖς λέγων, Ἐδόθη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as been give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οι πᾶσα ἐξουσία ἐν οὐρανῷ καὶ ἐπὶ τῆς γῆς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πορευθέντε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o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ὖν μαθητεύσατε [μαθητευω = μαθητης ποιω] πάντα τὰ ἔθνη, βαπτίζοντες αὐτοὺς εἰς τὸ ὄνομα τοῦ πατρὸς καὶ τοῦ υἱοῦ καὶ τοῦ ἁγίου πνεύματος,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0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διδάσκοντες αὐτοὺς τηρεῖν πάντα ὅσα ἐνετειλάμην [ἐντελλομαι =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 comma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μῖν∙ καὶ ἰδοὺ ἐγὼ μεθ’ ὑμῶν εἰμι πάσας τὰς ἡμέρας ἕως τῆς συντελεί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ompleti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ῦ αἰῶν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9:56:56Z</dcterms:created>
  <dc:creator>Sarah</dc:creator>
  <dc:description/>
  <dc:language>en-US</dc:language>
  <cp:lastModifiedBy>Sarah</cp:lastModifiedBy>
  <dcterms:modified xsi:type="dcterms:W3CDTF">2009-03-02T17:57:44Z</dcterms:modified>
  <cp:revision>18</cp:revision>
  <dc:subject/>
  <dc:title>Slide 1</dc:title>
</cp:coreProperties>
</file>