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9CC-173B-4F83-ADAA-339E582F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EEF-07A5-4163-9167-27F9B223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973-9718-4B0B-922E-8CB1360A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708-2EB2-4E97-973D-D7CFE8C1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FF29-4AED-4114-B3E5-F912EEDE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7E80-6D67-40CE-8591-74438F51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0050-9F76-47B1-BBF4-E1E77547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84F2-60B0-4EF5-BF76-827174EA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2448-B7E2-430F-B898-EA099439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35FA-AEF1-4CEA-9EFB-06E46C8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6DA3-79A5-4D17-AAF2-C6F574E4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DC5-F3ED-47FF-9F1D-A98E7564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F69-3A9B-4D8E-AF3E-0520E926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3137-E98B-44E3-9096-DC005140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C766-F15C-454A-82BE-402DF4B7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4A0E-1BB0-4FB4-9D32-1473EA8E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7F4E-54AE-4366-8D30-D1E11845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A52-5344-4AB2-AA90-8AC65C48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92F-B16A-4853-96A5-C65FAD00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BFF-5186-4438-A99D-EF8AEA24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A33-6A5B-4277-AECB-1854F200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A67-0420-4B22-BC0A-D412FC8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BE0-1BE4-473E-BCC6-233BC295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6B6-6D66-48DC-9523-A33E0679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FBA6-AF6A-4C0C-9A45-BEE477FD36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28E3-C25C-425F-BA93-B721CEDA25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FB7F795E-5230-475A-B8E2-01E76D842D1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928800" y="2224080"/>
            <a:ext cx="73580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δελφη λεγει τῳ Ἰησου∙ Κυριε, πιστευ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ω τα ἐργα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φιλει τον υἱον και λαλει αὐ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ομεν και τηρου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βιβλια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ὀχλος λεγει τῳ Ἰησου∙ Δαιμονιον ἐχ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ε, διδασκεις την βασιλεια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9188192E-3BAB-4D3E-8993-EB618919D6C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000080" y="1625760"/>
            <a:ext cx="735804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 ἀδελφαι και οἱ ἀδελφοι τηρουσι τους νομους και το σαββα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σαββατον τηρει ὁ υἱος του ἀνθρωπ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ir church is seeking the glory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teaches the household of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thers and sisters, you (pl.) are receiving the love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hildren are throwing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928800" y="2224080"/>
            <a:ext cx="7500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αὐτοις τον λογον ὁ Ἰησ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τεκνα λυει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Μαρια ἀκουει την φωνην της θαλασσ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ομεν τα σημεια του εὐαγγελιου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ων ἐστι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βασιλεια των οὐραν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ἀγαπη του θεου καλει τας ψυχα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000080" y="1625760"/>
            <a:ext cx="73580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ας ἡμερας και τας ὡρας της ζω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ειτε την δοξαν του προσωπου του θε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receives th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, do you believe the angel of the L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making the bread of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see the sins of the he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42960" y="2500200"/>
            <a:ext cx="8143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ὴ τοῦ εὐαγγελί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ησοῦ Χριστοῦ υἱοῦ θεο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2:13:19Z</dcterms:created>
  <dc:creator>Sarah</dc:creator>
  <dc:description/>
  <dc:language>en-US</dc:language>
  <cp:lastModifiedBy>Sarah</cp:lastModifiedBy>
  <dcterms:modified xsi:type="dcterms:W3CDTF">2008-12-30T22:30:24Z</dcterms:modified>
  <cp:revision>16</cp:revision>
  <dc:subject/>
  <dc:title>Slide 1</dc:title>
</cp:coreProperties>
</file>