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F2C-BC6E-4525-AEA7-4BF0BF41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8F0-9138-4375-8419-76B2D15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EE2-2A76-4948-A241-A95235B5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A42-3323-494C-86C6-AA78FBA8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33F-0540-4D4B-B56E-EAFFCC2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137-EBD3-4968-B877-D88574E1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798-0F8B-47E8-9C40-72B6915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154-7A70-4C90-A264-40AFD2E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5E2-22A3-475F-AF7E-4175887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CD4-A10C-40C4-97C0-454624DA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A64-5D5B-4F28-B740-604C685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2D6-E361-41EA-B09A-FDE81846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F6BE-7161-48D8-BEF0-91EDEC012D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78596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φεντες τον πατερα αὐτων Ζεβεδαιον ἐν τῳ πλοιῳ μετα των ἀλλων ἀπηλθον ὀπισω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ἀποκριθεις εἰπεν αὐτοις∙ Δοτε αὐτοις ὑμεις φ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πεινωντες και διψωντες την δικαιοσυ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ποιων την ἀληθειαν ἐρχεται προς το φως, ἱνα φανερωθῃ αὐτου τα ἐργ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ἱνα παντες τιμωσι τον υἱον καθως τιμωσι τον πατερα, ὁ μη τιμων τον υἱον οὐ τιμᾳ τον πατερα τον πεμψαντα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Ἐγω εἰμι ὁ ἀρτος της ζωης∙ ὁ ἐρχομενος προς ἐμε οὐ μη πεινασῃ, και ὁ πιστευων εἰς ἐμε οὐ μη διψη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42920" y="1571760"/>
            <a:ext cx="871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δε ἐστιν το θελημα τ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ψαντος με, ἱνα παν ὃ δεδωκεν μοι μη ἀπολεσω ἐξ αὐτου, ἀλλα ἀναστησω αὐτο ἐν τῃ ἐσχατῃ ἡμερ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ἀκουσας ὁτι Ἰησους ἡκει ἐκ της Ἰουδαιας εἰς την Γαλιλαιαν ἀπηλθεν προς αὐτον και ἠρωτα ἱνα καταβῃ και ἰασηται αὐτου τον υἱον, ἠμελλεν γαρ ἀποθνῃ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he perished, he ros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strong man will win – he labours and lives to win (for ‘win’ 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ικα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asked where she was b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led them astray from the path; who can justify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42920" y="17859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απητοι, ἀγαπωμεν ἀλληλους, ὁτι ἡ ἀγαπη ἐκ του θεου ἐστιν, και πας ὁ ἀγαπων ἐκ του θεου γεγεννηται και γινωσκε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υτο εἰδως ὁ Ἰησους ὁτι ἠδη παντα τετελεσται, ἱνα πληρωθῃ ἡ γραφη, λεγει∙ Δι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νεδυσαν αὐτον τα ἱματια αὐτου και ἀπηγαγον [= ἀπ-ἀγω] αὐτον εἰς το σταυρωσ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ε εἰπαν αὐτῳ∙ Δος ἡμιν ἱνα εἱς σου ἐκ δεξιων και εἱς ἐξ ἀριστερ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ισωμεν ἐν τῃ δοξῃ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οὐν ποιησει ὁ κυριος του ἀμπελω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λευσεται και ἀπολεσει τους διακονους και δωσει τον ἀμπελωνα ἀλλ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προσεκαλεσατο αὐτους λεγων∙ Ἀφετε τα παιδια ἐρχεσθαι προς με∙ των γαρ τοιουτων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2920" y="1571760"/>
            <a:ext cx="87152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τολην καινην διδωμι ὑμιν, ἱνα ἀγαπατε ἀλληλους∙ καθως ἠγαπησα ὑμας ἱνα και ὑμεις ἀγαπατε ἀλλη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λαλειν τους μαθητας αὐτος ὁ Ἰησους ἐστη ἐν μεσῳ αὐτων και λεγει αὐτοις∙ Εἰρηνη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knows to give good things in order to honour his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, filled with wisdom, said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μι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I am standing where you left m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promise was fulfilled and he appeared standing befor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laced his hands on the sick child with the result that the child was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14200" y="1219320"/>
            <a:ext cx="8715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3.24-3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ὰν βασιλεία ἐφ’ ἑαυτὴν μερισθῇ [μερι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vid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οὐ δύναται σταθῆναι ἡ βασιλεία ἐκείνη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ὰν οἰκία ἐφ’ ἑαυτὴν μερισθῇ, οὐ δυνήσεται ἡ οἰκία ἐκείνη σταθῆνα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εἰ ὁ Σατανᾶς ἀνέστη ἐφ’ ἑαυτὸν καὶ ἐμερίσθη, οὐ δύναται στῆναι ἀλλὰ τέλος ἔχε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λλ’ οὐ δύναται οὐδεὶς εἰς τὴν οἰκίαν τοῦ ἰσχυροῦ εἰσελθὼν τὰ σκεύη αὐτοῦ διαρπάσαι [διαρπα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lund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ἐὰν μὴ πρῶτον τὸν ἰσχυρὸν δήσῃ, καὶ τότε τὴν οἰκίαν αὐτοῦ διαρπάσε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μὴν λέγω ὑμῖν ὅτι πάντα ἀφεθήσεται τοῖς υἱοῖς τῶν ἀνθρώπων τὰ ἁμαρτήμα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n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αἱ βλασφημί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lasphemi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ὅσα ἐὰν βλασφημήσωσιν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δ’ ἂν βλασφημήσῃ εἰς τὸ πνεῦμα τὸ ἅγιον, οὐκ ἔχει ἄφεσ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orgivenes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ν αἰῶνα, ἀλλὰ ἔνοχ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uilt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ιν αἰωνίου ἁμαρτήματο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ὅτι ἔλεγον, Πνεῦμα ἀκάθαρτον ἔχει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3:15Z</dcterms:created>
  <dc:creator>Sarah</dc:creator>
  <dc:description/>
  <dc:language>en-US</dc:language>
  <cp:lastModifiedBy>Sarah</cp:lastModifiedBy>
  <dcterms:modified xsi:type="dcterms:W3CDTF">2009-03-02T20:40:13Z</dcterms:modified>
  <cp:revision>18</cp:revision>
  <dc:subject/>
  <dc:title>Slide 1</dc:title>
</cp:coreProperties>
</file>