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47B6-C217-43FF-9A0F-0B1548C9A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A5A1-DBEA-4689-ABD1-8013CDFD2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CF2A-5CB1-4A2C-8B44-48C18ECF3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4DA0-3454-4DAD-9D6B-80C26B599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D8E3-6AD3-40CF-B328-DA00EDE38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C18F-B14F-43E5-8A44-93E64B012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54C7-5E15-43AC-88EE-93D029A03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0305-6A35-4859-82C6-E771A623A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357D-CB74-4247-A31B-9B0B52727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89F8-1259-4F90-9FE7-A02805BC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8754-8C44-4014-81C9-B02BD6793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E1BB-298E-4A35-B7F8-789BE49C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1BFF2-90C8-4BB3-B292-F6C1A84B60F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857160" y="272880"/>
            <a:ext cx="7429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EXERCISES FOR MODULE TWENT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alphaomega.jpg"/>
          <p:cNvPicPr/>
          <p:nvPr/>
        </p:nvPicPr>
        <p:blipFill>
          <a:blip r:embed="rId2"/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0:Exercises 1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3909240" y="1285920"/>
            <a:ext cx="14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ction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200160" y="2000160"/>
            <a:ext cx="8800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αι τοτε ἐαν τις ὑμιν εἰπῃ∙ Ἰδε ὡδε ὁ Χριστος, Ἰδε ἐκει, μη πιστευετε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αι προελθων μικρον ἐπιπτεν ἐπι της γης και προσηυχετο ἱνα εἰ δυνατον ἐστιν παρελθῃ ἀπ’ αὐτου ἡ ὡρα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πεκριθη Ἰησους∙ Ἀμην ἀμην λεγω σοι, ἐαν μη τις γεννηθῃ ἐξ ὑδατος και πνευματος, οὐ δυναται εἰσελθειν εἰς την βασιλειαν του θεου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μετα ταυτα εὑρισκει αὐτον ὁ Ἰησους ἐν τῳ ἱερῳ και εἰπεν αὐτῳ∙ Ἰδε ὑγιης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well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γεγονας. μηκετι ἁμαρτανε, ἱνα μη χειρον σοι τι γενητα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"/>
          <p:cNvSpPr/>
          <p:nvPr/>
        </p:nvSpPr>
        <p:spPr>
          <a:xfrm>
            <a:off x="42840" y="1185840"/>
            <a:ext cx="93013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γαρ πατηρ φιλει τον υἱον και παντα δεικνυσιν αὐτῳ ἃ αὐτος ποιει, και μειζονα τουτων δειξει αὐτῳ ἐργα, ἱνα ὑμεις θαυμαζητε.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γω δε ἐχω την μαρτυριαν μειζονα του Ἰωαννου∙ τα γαρ ἐργα ἃ δεδωκεν μοι ὁ πατηρ ἱνα τελειωσω αὐτα, αὐτα τα ἐργα ἃ ποιω μαρτυρει περι ἐμου ὁτι ὁ πατηρ με ἀπεσταλκε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αι ἐθαυμαζον ἐπι τῃ διδαχῃ αὐτου ἐτι μαλλον∙ ἠν γαρ διδασκων αὐτους ὡς ἐξουσιαν ἐχων και οὐχ ὡς οἱ γραμματει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αι γενομενου σαββατου ἠρξατο διδασκειν ἐν τῃ συναγωγῃ, και πολλοι ἀκουοντες ἐθαυμασαν λεγοντες∙ Ποθεν τουτῳ ταυτα, και τίς ἡ σοφια, και αἱ δυναμεις τοιαυται δια των χειρων αὐτου γινομενα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0:Exercises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0:Exercises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142920" y="1542960"/>
            <a:ext cx="8929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200000"/>
              </a:lnSpc>
              <a:buClr>
                <a:srgbClr val="ffffff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et us remember the shepherd of our sou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200000"/>
              </a:lnSpc>
              <a:buClr>
                <a:srgbClr val="ffffff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f the son makes you free, you will be truly 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reall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] f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200000"/>
              </a:lnSpc>
              <a:buClr>
                <a:srgbClr val="ffffff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 was teaching [use periphrastic] them about love for the least of the brothers and for all living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200000"/>
              </a:lnSpc>
              <a:buClr>
                <a:srgbClr val="ffffff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ll I crucify again the one who washed me from sin? May it never be!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0:Exercises 4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3917160" y="1285920"/>
            <a:ext cx="14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ctio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"/>
          <p:cNvSpPr/>
          <p:nvPr/>
        </p:nvSpPr>
        <p:spPr>
          <a:xfrm>
            <a:off x="200160" y="2000160"/>
            <a:ext cx="880092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ἠσαν δε τινες των γραμματεων ἐκει καθημενοι και λογιζομενοι ἐν ταις καρδιαις αὐτω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αν ἐγω μαρτυρω περι ἐμαυτου, ἡ μαρτυρια μου οὐκ ἐστιν ἀληθη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γω εἰμι ὁ ποιμην ὁ καλος και εὐ γινωσκω τα ἐμα και γινωσκει με τα ἐμα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αι ἐθεασαμεθα την δοξαν αὐτου και μιμνῃσκομεθα μαλιστα του κυριου της δοξης νιπτοντος τους ποδας ἡμω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"/>
          <p:cNvSpPr/>
          <p:nvPr/>
        </p:nvSpPr>
        <p:spPr>
          <a:xfrm>
            <a:off x="42840" y="1185840"/>
            <a:ext cx="91011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αὐτη ἐγερθησεται ἐν τῃ κρισει μετα των ἀνδρων της γενεας ταυτης και κατακρινεῖ [κατα + κρινω =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I condemn]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αὐτους, ὁτι ἠλθεν ἀκουσαι την σοφιαν του βασιλεως, και ἰδου πλειον του βασιλεως ὡδε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γενετο δε ἐν τῳ βαπτισθηναι ἁπαντα τον λαον και Ἰησου βαπτισθεντος και προσευχομενου ἀνεῳχθηναι τον οὐραν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αι ἐρχεται το τριτον και λεγει αὐτοις∙ Καθευδετε το λοιπο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;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ἠλθεν ἡ ὡρα, ἰδου παραδιδοται ὁ υἱος του ἀνθρωπου εἰς τας χειρας των ἁμαρτωλω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αν οὐν προσφερῃς τι ἐπι το θυσιαστηριον και μνησθῃς ἐκει ὁτι ὁ ἀδελφος σου ἐχει τι κατα σου, ὑμοστρεφε εὐθυς προς αὐτον και ἐρωτα εἰρηνη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0:Exercises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5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0:Exercises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6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142920" y="1542960"/>
            <a:ext cx="8929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200000"/>
              </a:lnSpc>
              <a:buClr>
                <a:srgbClr val="ffffff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f we live, it is better to live well and to love one an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200000"/>
              </a:lnSpc>
              <a:buClr>
                <a:srgbClr val="ffffff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n the shepherds had arrived, they saw the sleeping chi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200000"/>
              </a:lnSpc>
              <a:buClr>
                <a:srgbClr val="ffffff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 who has given you all things in Christ, will he not also give you his lo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200000"/>
              </a:lnSpc>
              <a:buClr>
                <a:srgbClr val="ffffff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have a beautiful and very wise wif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0:Exercises 7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285840" y="1397160"/>
            <a:ext cx="857232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ction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 Corinthians 13.1-3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ὰν ταῖς γλώσσαις τῶν ἀνθρώπων λαλῶ καὶ τῶν ἀγγέλων, ἀγάπην δὲ μὴ ἔχω, γέγονα χαλκὸ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brass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ἠχῶν [ἠχεω =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be noisy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ἢ κύμβαλον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cymbal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λαλάζον [ἀλαλαζω =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clang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. </a:t>
            </a:r>
            <a:r>
              <a:rPr b="0" lang="en-GB" sz="2400" spc="-1" strike="noStrike" baseline="30000">
                <a:solidFill>
                  <a:srgbClr val="ffffff"/>
                </a:solidFill>
                <a:latin typeface="Gentium"/>
              </a:rPr>
              <a:t>2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καὶ ἐὰν ἔχω προφητείαν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prophecy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ὶ εἰδῶ τὰ μυστήρια πάντα καὶ πᾶσαν τὴν γνῶσιν καὶ ἐὰν ἔχω πᾶσαν τὴν πίστιν ὥστε ὄρη μεθιστάναι [μεθιστημι =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remove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], ἀγάπην δὲ μὴ ἔχω, οὐθέν [= οὐδεν] εἰμι. </a:t>
            </a:r>
            <a:r>
              <a:rPr b="0" lang="el-GR" sz="2400" spc="-1" strike="noStrike" baseline="30000">
                <a:solidFill>
                  <a:srgbClr val="ffffff"/>
                </a:solidFill>
                <a:latin typeface="Gentium"/>
              </a:rPr>
              <a:t>3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κἂν ψωμίσω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feed, give away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άντα τὰ ὑπάρχοντά μου καὶ ἐὰν παραδῶ τὸ σῶμά μου ἵνα καυχήσωμαι, ἀγάπην δὲ μὴ ἔχω, οὐδὲν ὠφελοῦμαι [ὠφελεω =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gain, profit, benefit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19:05:18Z</dcterms:created>
  <dc:creator>Sarah</dc:creator>
  <dc:description/>
  <dc:language>en-US</dc:language>
  <cp:lastModifiedBy>Sarah</cp:lastModifiedBy>
  <dcterms:modified xsi:type="dcterms:W3CDTF">2009-03-02T20:55:11Z</dcterms:modified>
  <cp:revision>13</cp:revision>
  <dc:subject/>
  <dc:title>Slide 1</dc:title>
</cp:coreProperties>
</file>