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BB4-CF52-4AF6-AD35-3F05F7D3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92F-77B5-4312-AED4-1790E334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8BC-F93B-4358-9BB7-B1FFC4B4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91A-7344-457E-8519-A8377DF4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D1E9-35E0-406F-A296-2864B557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DD11-C04C-47B7-AA44-C7960679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6C7A-A8B7-46FD-9E75-336327DF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DDD1-2161-4C30-8840-8ADE8E5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33B-88D5-4EE8-801F-9F35BA5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598-C178-4A97-A45E-FC45CCB8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8A30-C696-4A45-86A2-A59611D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C43-5455-4A1C-83F1-DDF91F4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8B65-38BC-4D7F-A932-AC2AA54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B3D4-2CDB-425A-85CD-A2F7D59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545A-6C9A-401A-B819-A49B923F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DC9-49CF-4285-A0C4-85238D27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230B-A7BC-465C-AD4A-4C1436F4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BAF-17CE-4D1A-8046-A8BEB4F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A85-04E6-4C7B-A0C7-54704E5A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769-959A-428A-A07C-50DD7D7D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D74-178D-4530-BD1A-F304FAFB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BA8-C5A6-4E0A-B1AC-2444489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A0B-2EEF-4FF6-9EE8-85C0828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8D7-1DC7-4C70-A60F-7CD11CE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2203-28D9-4F4F-A92F-5EEDD77A23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ABD-8F59-4E6A-B2CD-02E4640C7F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14680"/>
            <a:ext cx="86439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ξαν παρα ἀνθρωπων οὐ λαμβαν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ιστευεις εἰς τον υἱον του ἀνθρωπ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κυριος λεγει αὐτοις∙ Που αὐτους ἀγετε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διδασκει αὐτους περι της βασιλειας παρα τοις πλοι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ναβλεπομεν εἰς τον οὐρανον ἐνωπιον του ἱερ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Ἰησους ἐκβαλλει τα δαιμονια ἐκ του ἀνθρωπου λογ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ω ὑπο ἁμαρτιαν και κατα του νομου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Πετρος συναγει την ἐκκλησιαν εἰς τον οἰκον της ἀδελφης του Ἰακωβ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e are departing towards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 (pl.) are exhorting the brothers in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(s.) keep the Sabbath because of the law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in the boat are worshipping the Lord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357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0280" y="1785960"/>
            <a:ext cx="88837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ν τῃ ἡμερᾳ του κυριου βλεπομεν τον θεον προσωπον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ς προσωπ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υριε, οὐ πιστευω εἰς αὐ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σκυνουμεν τῳ θεῳ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ια την ὡραν ὁ κυριος ἀπολυει τον ὀχ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εριπατειτε ἐν τῃ ἀγαπῃ του θεου κατα τον λογον αὐτ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αγγελος λυει τον Πετρον και παραλαμβανει αὐτον προς τους ἀδελφ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1071720"/>
            <a:ext cx="900108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τα την ἀρχην του σαββατου ὁ ῥαββι και οἱ υἱοι αὐτου οὐ ποιουσιν ἐρ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ου ὁ κυριος διδασκει περι του εὐαγγελιου της βασιλειας του θεου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y gathers the sisters and they seek the Lord with the br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child dwells in the house of the Lord, and does not depart from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voice of God is [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στιν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ve the heavens and in their he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eople do works on behalf of the children because of the love of Chr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2436840"/>
            <a:ext cx="8143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ἀρχῇ ἦ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λόγος, καὶ ὁ λόγος ἦν πρὸς τὸν θεόν, και θεὸς ἦν ὁ λόγος. οὗτος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is on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ἦν ἐν ἀρχῇ πρὸς τὸν θεόν....ἐν αὐτῷ ζωὴ ἦν, καὶ ἡ ζωὴ ἦν τὸ φῶ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ight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ῶν ἀνθρώπ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Exercises 5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46:41Z</dcterms:created>
  <dc:creator>Sarah</dc:creator>
  <dc:description/>
  <dc:language>en-US</dc:language>
  <cp:lastModifiedBy>Sarah</cp:lastModifiedBy>
  <dcterms:modified xsi:type="dcterms:W3CDTF">2009-02-25T20:03:48Z</dcterms:modified>
  <cp:revision>22</cp:revision>
  <dc:subject/>
  <dc:title>Slide 1</dc:title>
</cp:coreProperties>
</file>