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F8F-3A94-4BB5-97F2-B2EA8CCA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44B-753E-4236-BE50-5F203217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789-BB16-4D91-B667-BBBEB0CF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123-868D-441B-9282-1D818C36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0C2-00E3-45BC-8D63-5DECBBCB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680-F288-4EB4-B387-44D8714B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B7D-CE43-44A8-9A9C-5FA2BA38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BFC-8339-494F-9C1B-8F345907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78A-D4DA-45AD-BBE6-434FFD3E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254-5E5B-4651-AC88-B019AB4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441-736F-4716-8538-6189E4C2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CFD-4FA5-484E-B086-C7BDDC9D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61EF-F79F-46DB-AA1D-E0B79C5952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Footer Placeholder 2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BDE2D8B4-CBB7-488B-952A-1BE80E4A07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5360" y="1333440"/>
            <a:ext cx="815328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. 16.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σπασασθε Ἐπαινετον τον ἀγαπητον μου,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στι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ἀπαρχη της Ἀσιας εἰς Χριστ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t my beloved Epaenetos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beginn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sia for Chr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7.27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ὑτος ἐστι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ρι οὑ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γεγραπ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(the one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ncerning wh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t is writte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6.46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ί δε με καλειτε∙ κυριε κυριε, και οὐ ποιετε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ἁ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λεγ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do you call me, 'Lord, Lord', and do not 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sa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98280" y="1373040"/>
            <a:ext cx="891540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·         Often the relative clause will come in the middle of the complex sentence, not neatly at the end. English also does this, but not as often as in Gr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α τεκνα ἁ ἐδιδασκον κραζ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ldren whom I was teaching are crying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·         If the antecedent should be part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αὐτ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κειν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often be o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υἱος οὑς θελει ζῳοποι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=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υἱος ζῳοποιε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ου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ὑς θελ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on makes alive those whom he wishes (John 5.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F401AE0E-ABA5-417F-A4E1-F47F0DE912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62120" y="1447920"/>
            <a:ext cx="76197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reek will often put the relative claus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ἁ βλεπω φιλω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=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ἁ βλεπ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ke the things which I see = I like what I s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9680" y="3357720"/>
            <a:ext cx="91440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6.2: 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θεωρουν τα σημεια ἁ ἐποι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ere seeing the signs which he wa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9.1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ρα οὐν ὁν θελει ἐλε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n, he has mercy on whom he wis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B9C6460F-43AB-4010-BBAD-E8DE781D5D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7320" y="1511280"/>
          <a:ext cx="8829360" cy="1158840"/>
        </p:xfrm>
        <a:graphic>
          <a:graphicData uri="http://schemas.openxmlformats.org/drawingml/2006/table">
            <a:tbl>
              <a:tblPr/>
              <a:tblGrid>
                <a:gridCol w="6283080"/>
                <a:gridCol w="254628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question expecting the answer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no' –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yes' –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8"/>
          <p:cNvSpPr/>
          <p:nvPr/>
        </p:nvSpPr>
        <p:spPr>
          <a:xfrm>
            <a:off x="1447920" y="3048120"/>
            <a:ext cx="62481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 6.67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 και ὑμεις θελετε ὑπαγει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on't also wish to go away, do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ely you don't also want to go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.2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χ οὑτος ἐστιν ὁν ζητουσι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whom they are seeking isn't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ely this is the one they are af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6F9632B6-0584-42BA-B16E-9ACAAA5424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1295280"/>
            <a:ext cx="853416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difficult to find any logical reason behind the use in slanted questions of these two forms of 'not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question words, they will normally come first in the sentence, which is rare when they occur simply as the negative (and there will also always be a question mark of cour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τ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sometimes used instead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χ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4920" y="4267080"/>
            <a:ext cx="85341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4.22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ἐλεγον, Οὐκι υἱος ἐστιν Ἰωσηφ οὑτ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y were saying, 'Isn't this Joseph's son?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 8:22: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λεγον οὐν οἱ Ἰουδαιοι, Μητι ἀποκτενε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kill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ἑαυτ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 Jews were saying, 'He isn't going to kill himself, is he?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1630FD9E-F2DF-46BF-BAFB-8E7EE5808B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F073F501-C8DE-420E-A8C4-5856FC9E9B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19040" y="1785960"/>
            <a:ext cx="83059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said, '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 am the Chri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Direc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sai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at he was the Chri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Indirect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rect statements also occur after other '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erbs of saying or think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 (such as feeling, believing, knowing, learning, fearing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ought that he was the Chr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AD8CE84E-49C6-4EDE-BFCB-3DCDC58D2F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52600" y="1217520"/>
            <a:ext cx="80388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Stat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expressed in four different ways in Gree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or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τ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used to introduce the direct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us th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equivalent to the opening inverted comm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iciple of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dded immediately before the 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ment (again, the Participle is then equivalent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ing inverted comm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ἐκηρυσσεν λεγων∙ Ἐρχε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.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rk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e used to proclaim (saying), ‘He is coming …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.e. 1 and 2 combin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marks out the beginning of the direct stat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1C31CD8A-2E9A-4E6C-84F3-A33B7DDD1B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71680" y="3124080"/>
            <a:ext cx="800100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rect Stat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rect statements are expressed in Greek by the wor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τ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meaning 'that'), and so are quite straight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ωρω ὁτι προφητης εἶ σ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John 4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 that you are a prop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536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hing marks out the end of a direct statement in Greek. Thus it is hard to be certain where direct speech finishes (e.g. in John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495360" y="2928960"/>
            <a:ext cx="8153280" cy="311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be confused by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fferent meanings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τ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To introduce direct statements (= open quota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To introduce indirect statements (= 'that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As a word meaning 'becaus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866960" y="1500120"/>
            <a:ext cx="541008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eek uses the tense of the original words or thou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2ECB9404-EDB5-4F0B-A7EE-180D23F2DF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3CCA223A-5A5A-4B93-B8DC-1D9AB1C7D8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09760" y="2362320"/>
            <a:ext cx="6324480" cy="181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'how long' –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ccusa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'during'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gen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'at' –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a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609480" y="1219320"/>
            <a:ext cx="79250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υο ἡμερ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means time 'how long', expres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nglish by 'for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or two day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ης ἡμερ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en. 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en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ime 'during', expressed i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lish by 'during' or 'by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uring the 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y listen to the Lord.' or '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B0B662C6-F0BF-4894-966E-D81C8B95B1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523880" y="2365200"/>
            <a:ext cx="6096240" cy="97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relative pronoun links together two basic sentenc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43080" y="3500280"/>
            <a:ext cx="84582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wo basic sentenc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The lord sent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the messen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The messeng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aw the se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ne complex sente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The lord sent the messenger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a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42960" y="1371600"/>
            <a:ext cx="605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.1 Understanding rel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860D823A-90D0-4A70-BAED-63797B4DDE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14E57A3A-E4D7-41A6-9596-10C642F758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19040" y="1828800"/>
            <a:ext cx="830592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ῃ ἡμερ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μερᾳ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ime 'at which', expressed i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lish by 'on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the 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y listen to the Lord.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Sometimes, although no preposition is needed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ν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used as well as the dative (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ν τῃ ἡμερᾳ βλεπουσ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This makes no difference to the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53EE6E14-CE13-4D1D-8B23-FFD2DC5358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71680" y="1357200"/>
            <a:ext cx="800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ne complex sente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 They are keeping the law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hic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ach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wo basic sentenc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They are keeping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the law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He teaches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the law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5920" y="3476520"/>
            <a:ext cx="8929800" cy="249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ntecedent will come in the first sent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lative will be in the second sent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replacing the anteceden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English the antecedent normally immediately precedes the relat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90440" y="1098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1.2 Formation of the relative in Gr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52560" y="1660680"/>
          <a:ext cx="7119720" cy="4054320"/>
        </p:xfrm>
        <a:graphic>
          <a:graphicData uri="http://schemas.openxmlformats.org/drawingml/2006/table">
            <a:tbl>
              <a:tblPr/>
              <a:tblGrid>
                <a:gridCol w="892080"/>
                <a:gridCol w="835200"/>
                <a:gridCol w="892080"/>
                <a:gridCol w="1027080"/>
                <a:gridCol w="758880"/>
                <a:gridCol w="1130400"/>
                <a:gridCol w="658800"/>
                <a:gridCol w="925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ἣ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η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η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ᾑ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ὑ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ἁ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64960" y="5796000"/>
          <a:ext cx="8614080" cy="533520"/>
        </p:xfrm>
        <a:graphic>
          <a:graphicData uri="http://schemas.openxmlformats.org/drawingml/2006/table">
            <a:tbl>
              <a:tblPr/>
              <a:tblGrid>
                <a:gridCol w="866880"/>
                <a:gridCol w="546120"/>
                <a:gridCol w="2438280"/>
                <a:gridCol w="668520"/>
                <a:gridCol w="40942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pronou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e article for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E31106C8-38F5-4280-9D9C-81857FB72D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000080" y="1643040"/>
            <a:ext cx="7062840" cy="4026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very short word with a rough breathing is almost certain to be part of the relative prono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the rough breathing by a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you will have the corresponding part of the article which you should be able to recogn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F83E8E76-ECD8-43BA-8C83-9431318DC3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135080" y="1549440"/>
            <a:ext cx="68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.3 Using the relative in Greek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6720" y="2540160"/>
            <a:ext cx="7810560" cy="178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relativ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gree with the antece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s determined within its own sentence, by the normal rules (e.g. it is the object, governed by a preposition etc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809720" y="4902120"/>
            <a:ext cx="552456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lative pronoun links together two basic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0600640A-0EE6-4375-BA31-9BA100A00D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BF0DDA5F-557B-4CDA-A14F-B39749343F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0440" y="1214280"/>
            <a:ext cx="8596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·         The lord sent the messeng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aw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ecedent: the mess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ntence: who (the messenger) saw the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tecedent is masculine singular; 'who' is the subject of its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ve should be masculine, singular, nominative 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κυριος ἐπεμψεν τον ἀγγελο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βλεψεν την θαλασσα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33200" y="1454040"/>
            <a:ext cx="901080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·         They are keeping the law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e te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ecedent: th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ntence: he teaches which (the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tecedent is masculine singular; 'which'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its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ve should be masculine singular, accusative 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ηρουσιν τον νομο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διδασκ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89CB8CD6-7763-42E9-9401-FD34DBE793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17DF1582-E9E5-486B-BBEC-095A0472A5B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03040" y="1585800"/>
            <a:ext cx="83584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·         That is the synagogu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to whi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y are 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ecedent: the synag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ntence: they are coming into which (the synago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tecedent is feminine singular; 'who' is governed by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therefore must be accusative. Relative should be feminine, singular, accusative =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=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κεινη ἐστιν ἡ συναγωγη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εἰς ἡ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ρχοντ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10:59Z</dcterms:created>
  <dc:creator>Sarah</dc:creator>
  <dc:description/>
  <dc:language>en-US</dc:language>
  <cp:lastModifiedBy>Sarah</cp:lastModifiedBy>
  <dcterms:modified xsi:type="dcterms:W3CDTF">2009-07-10T23:48:31Z</dcterms:modified>
  <cp:revision>48</cp:revision>
  <dc:subject/>
  <dc:title>Slide 1</dc:title>
</cp:coreProperties>
</file>