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730-6682-42D6-A05B-C625B30C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194-4386-49D0-A650-A260200B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3EB-7F57-4637-9103-A2E1DB1F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F26-2B32-4442-90E1-B9DEA067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B831-554D-48E7-8F61-A35974F6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936-4043-412F-82D9-75A50275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459-0450-41DB-BEAC-94F8B105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D794-8512-4D92-A51D-2730953C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C895-CA37-4225-A1E3-0EBA9ED8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B172-1E71-45E2-B693-95FD041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167D-FC4C-4CF2-83DF-AFF76D8D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D38-C4B4-4A1C-BA09-750EBD16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5797-D8C6-4D47-812A-3E7446BA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CEFD-9F62-4784-AE09-8B67FB29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24A5-0F21-4310-9753-6B4B3942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BB90-452F-4FC3-ACF7-F06541C6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CAB1-342F-440D-BC2B-E3B4129C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158-1668-453B-B326-CE6AA86F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77B-FD97-4CF1-B071-4F36D733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66F-8695-42D6-8484-6392BE24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6F2-21E6-4617-A534-9FAFB8BB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9D1-B93A-401D-8F8F-B898ED49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4D1-E058-4034-B089-5CCA0281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1F2-2972-44A9-9153-E62CBC3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47D1-47CC-4790-A8F3-CD0425CAD8C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9075-B344-494B-8E4F-5E5C132B44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09760" y="1258920"/>
            <a:ext cx="6324480" cy="109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Prepositions dictate the case of the noun they prece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08E3E872-166B-4AC0-A282-3F9A178205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0040" y="2666880"/>
          <a:ext cx="5330880" cy="3316320"/>
        </p:xfrm>
        <a:graphic>
          <a:graphicData uri="http://schemas.openxmlformats.org/drawingml/2006/table">
            <a:tbl>
              <a:tblPr/>
              <a:tblGrid>
                <a:gridCol w="2840040"/>
                <a:gridCol w="2490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o, i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o, towar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πο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(away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κ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(out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60280" y="2286000"/>
          <a:ext cx="8643960" cy="3421080"/>
        </p:xfrm>
        <a:graphic>
          <a:graphicData uri="http://schemas.openxmlformats.org/drawingml/2006/table">
            <a:tbl>
              <a:tblPr/>
              <a:tblGrid>
                <a:gridCol w="974880"/>
                <a:gridCol w="1604880"/>
                <a:gridCol w="606420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imately, around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 τον Παυλ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round Pau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ing, about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 ἁμαρτια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concerning s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ε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ve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ερ την γη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bove the ear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behalf of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ερ τεκν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on behalf of a chil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ο νομ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under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ο του Πετρ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by Pet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2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F1F99C28-8D15-4388-AF5C-E630E1FBF7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209680"/>
            <a:ext cx="76197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y’ or ‘with’ occurs in English to indicat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nstrum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but in Greek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dat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FB86BA0B-898A-413A-8B84-BB3091CAFA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143000" y="1084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2.4 Prepositions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2000" y="1698480"/>
          <a:ext cx="8820000" cy="4462560"/>
        </p:xfrm>
        <a:graphic>
          <a:graphicData uri="http://schemas.openxmlformats.org/drawingml/2006/table">
            <a:tbl>
              <a:tblPr/>
              <a:tblGrid>
                <a:gridCol w="1569960"/>
                <a:gridCol w="1606680"/>
                <a:gridCol w="56433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accusa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, in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, to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π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geni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way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ut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νωπι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(place) -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νωπιον του θεου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before 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ξ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 -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ξω της οἰκα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outside the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ἑω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- 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ἑω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until th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(time)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 σαββατο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befor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da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υν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υν αὐτοι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with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155E36E1-4103-4FBF-8C8F-3994E6D2DF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73200" y="1195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2.5 Elision in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219320" y="18892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front of a word beginning with a vow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1840"/>
          <a:ext cx="7848720" cy="1371600"/>
        </p:xfrm>
        <a:graphic>
          <a:graphicData uri="http://schemas.openxmlformats.org/drawingml/2006/table">
            <a:tbl>
              <a:tblPr/>
              <a:tblGrid>
                <a:gridCol w="4753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, δια, ἐπι, κατα, μετα, παρα, ὑπ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 their final vow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ξω, περ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in unchan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9"/>
          <p:cNvSpPr/>
          <p:nvPr/>
        </p:nvSpPr>
        <p:spPr>
          <a:xfrm>
            <a:off x="1928880" y="442908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δι’ αὐ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through h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περι ἁμαρτι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concerning si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ξ οἰκι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from the ho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8320" y="4143240"/>
            <a:ext cx="14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C9BD1E0E-97C5-44CE-B3CD-1AF4CC63C4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457200" y="16002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English, there are two uses of 'with' or 'by‘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98600"/>
          <a:ext cx="8229600" cy="1968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dicate the means by which something happens, or an instrument or agent used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helped </a:t>
                      </a:r>
                      <a:r>
                        <a:rPr b="0" lang="en-GB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walking </a:t>
                      </a:r>
                      <a:r>
                        <a:rPr b="0" lang="en-GB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it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stick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hit </a:t>
                      </a:r>
                      <a:r>
                        <a:rPr b="0" lang="en-GB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ston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5"/>
          <p:cNvSpPr/>
          <p:nvPr/>
        </p:nvSpPr>
        <p:spPr>
          <a:xfrm>
            <a:off x="428760" y="4572000"/>
            <a:ext cx="82296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'with' in a different sense, not meaning 'by means of' but rather 'along with'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 went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i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him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BBEFE314-1D78-469E-AA54-8E0A9E1BE1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57120" y="928800"/>
            <a:ext cx="838224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nanima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bject by means of which the action of the verb happens; dative - no prepos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d makes the heavens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ith a wo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ποιει τους ουρανους  λογ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ever, sometimes an instrument is expressed by the preposition 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d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C0ABD125-7AA9-42FE-B145-AFEB288212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44468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Greek, ‘with’ and ‘by’ exp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F35D2D58-C863-4134-81AD-E5B0304051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6680" y="2449440"/>
            <a:ext cx="90486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With' meaning 'along with' rather than 'by means of';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μετ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more rarely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+ dat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epart with Peter –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ὑπαγω του Πετρ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ὁ θεος λεγει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μετα τεκνων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και ποιει τον κοσμον λογ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speak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th childr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makes the worl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th a wo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8120" y="1114560"/>
            <a:ext cx="785844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gent i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iving be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y means of which the action of the ve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ppen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.g.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ὑπ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spel was proclaime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y Pe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…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ὑπο του Πετρ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409760" y="1843200"/>
            <a:ext cx="63244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reek many words are constructed by combining a basic word with a pre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ou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I 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βαλλ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I throw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8524E268-34E2-4546-BE5C-77F1B7C480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0039DC85-F9AB-4AF4-978B-016B57039F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135080"/>
            <a:ext cx="853416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· In Greek you cannot always deduce the meaning of a word from its par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of both the verb and the preposition is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βαλλ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I throw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the meaning is intensified or completed, though without the force of the preposition being clearly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λυ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I release (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tself means 'I unti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the verb is given a new meaning, which is not easily connected to the force of the prepos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αγινωσκ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I read (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ινωσκ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tself means 'I know' and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'upwards' or 'again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F17C5B17-EC0E-476A-A40D-AD8F4AC162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357200"/>
            <a:ext cx="87156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forming compounds, the rules for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lis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prepositions are particularly important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γ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αγω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 lead awa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n though a compound verb may 'contain' a preposition, the correct preposition will still be found in the sentence used in the normal way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αλλω αὐτο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ης οἰκ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C71F3FEB-9C16-44CB-B1C7-A84FEEAC70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00040" y="1214280"/>
            <a:ext cx="7929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gnifi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betwee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 an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nd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500280" y="3500280"/>
            <a:ext cx="2143440" cy="1714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143240" y="3954600"/>
            <a:ext cx="857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ἐ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9"/>
          <p:cNvCxnSpPr/>
          <p:nvPr/>
        </p:nvCxnSpPr>
        <p:spPr>
          <a:xfrm>
            <a:off x="1143000" y="3785760"/>
            <a:ext cx="19296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357200" y="30718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προ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1"/>
          <p:cNvCxnSpPr/>
          <p:nvPr/>
        </p:nvCxnSpPr>
        <p:spPr>
          <a:xfrm>
            <a:off x="6000840" y="3785760"/>
            <a:ext cx="19296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2"/>
          <p:cNvSpPr/>
          <p:nvPr/>
        </p:nvSpPr>
        <p:spPr>
          <a:xfrm>
            <a:off x="6357960" y="3084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ἀπο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3"/>
          <p:cNvCxnSpPr/>
          <p:nvPr/>
        </p:nvCxnSpPr>
        <p:spPr>
          <a:xfrm>
            <a:off x="1143000" y="4928760"/>
            <a:ext cx="2929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Straight Arrow Connector 25"/>
          <p:cNvCxnSpPr/>
          <p:nvPr/>
        </p:nvCxnSpPr>
        <p:spPr>
          <a:xfrm>
            <a:off x="5143320" y="4928760"/>
            <a:ext cx="2929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TextBox 26"/>
          <p:cNvSpPr/>
          <p:nvPr/>
        </p:nvSpPr>
        <p:spPr>
          <a:xfrm>
            <a:off x="1500120" y="42400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εἰ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6500880" y="4227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ἐ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642960" y="1454040"/>
            <a:ext cx="80010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Use a question word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ω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how?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υ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 - wher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ως βλεπεις τον θε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 - How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Rely on tone of voice; but when written, questions are marked with a question m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- You see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 -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37240" y="128412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king questions is simple in Gre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22FE2937-CB26-4684-A521-E881604EE5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85840" y="1481040"/>
            <a:ext cx="835812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verb in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ndicat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which means all the verbs we have met so far) is made negative by the addition of the word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=‘not’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moo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reathing this become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oug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reathing this beca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βλεπ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- I do not s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 ἀκουουσ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- They do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 εὑρισκει το τεκν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– She does not find the chil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9BC75428-A3AD-4D85-B00D-C6D475AC06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280" y="1179360"/>
            <a:ext cx="9072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2900" spc="-1" strike="noStrike">
                <a:solidFill>
                  <a:srgbClr val="000000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000000"/>
                </a:solidFill>
                <a:uFillTx/>
                <a:latin typeface="Gentium"/>
              </a:rPr>
              <a:t>εἰς την οἰκαν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Gent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  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ν οἰκια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the objec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cause it is governed by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hich takes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ntence = 'The master is leading the slav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nto the house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677FDAA2-2376-48C8-AFC7-610FDDC6B40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471600" y="1500120"/>
            <a:ext cx="78865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000000"/>
                </a:solidFill>
                <a:uFillTx/>
                <a:latin typeface="Gentium"/>
              </a:rPr>
              <a:t>ἐκ της οἰκιας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n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ς οἰκια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the object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en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it is governed by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hich 'takes'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enit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ntence = 'The master leads the slav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ut of the house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BD04D43E-95CE-4D74-BB49-9F4E5D37CC9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785880" y="2408400"/>
            <a:ext cx="7572240" cy="23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The two different factors which determine which case a noun will be in: function in the sentence or preposition. Fortunately, these two never clash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-71280" y="2602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C7013B78-8917-4A62-9528-57B3B0D7BA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47640" y="1905120"/>
            <a:ext cx="784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1 The principle of prepositions with more than on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19320" y="3657600"/>
            <a:ext cx="6705360" cy="1328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same preposition has a different meaning when it is used with a different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1011B7F0-04FE-46C7-B0F1-A32538906D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8C95FE51-2EF2-4ABF-9D59-E1AAC7F823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1353960"/>
            <a:ext cx="777240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Gentium"/>
              </a:rPr>
              <a:t>παρα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Gentium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2798640"/>
          <a:ext cx="8215200" cy="2578320"/>
        </p:xfrm>
        <a:graphic>
          <a:graphicData uri="http://schemas.openxmlformats.org/drawingml/2006/table">
            <a:tbl>
              <a:tblPr/>
              <a:tblGrid>
                <a:gridCol w="1563840"/>
                <a:gridCol w="665136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side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πατει παρα την θαλασ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he walk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beside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νθρωπος παρα του θε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 man from G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ide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δασκει παρα τῃ θαλασσ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e teache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17F62A9F-9B6B-4EDC-A9A4-C6F4E525F8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04960" y="1195560"/>
            <a:ext cx="769608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πι 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7160" y="2357280"/>
          <a:ext cx="7562880" cy="3859200"/>
        </p:xfrm>
        <a:graphic>
          <a:graphicData uri="http://schemas.openxmlformats.org/drawingml/2006/table">
            <a:tbl>
              <a:tblPr/>
              <a:tblGrid>
                <a:gridCol w="1876680"/>
                <a:gridCol w="568620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βαλλει τον ἀρτον ἐπι το βιβλ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he throws the bread onto the bo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πι της γη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on the land/earth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time of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πατει ἐπι του Ἰησ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e lives in the time of Je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/in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πι τοις οὐρα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 the heave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basis o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ὐ περιπατει ἐπι ἀρτῳ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he does not live by brea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0AB2FF68-F867-4FD3-8104-F426B8624F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4200" y="2254320"/>
          <a:ext cx="8715600" cy="3531960"/>
        </p:xfrm>
        <a:graphic>
          <a:graphicData uri="http://schemas.openxmlformats.org/drawingml/2006/table">
            <a:tbl>
              <a:tblPr/>
              <a:tblGrid>
                <a:gridCol w="984240"/>
                <a:gridCol w="1722600"/>
                <a:gridCol w="600876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ause of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α τον ὀχλ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because of the crow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α του ἀγγελου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hrough the messen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 νομ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ccording to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inst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 του Ἰησ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gainst Je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ετα το σαββατ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fter the Sabbath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ετα αὐτ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with h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59:45Z</dcterms:created>
  <dc:creator>Sarah</dc:creator>
  <dc:description/>
  <dc:language>en-US</dc:language>
  <cp:lastModifiedBy>Sarah</cp:lastModifiedBy>
  <dcterms:modified xsi:type="dcterms:W3CDTF">2009-07-10T21:49:12Z</dcterms:modified>
  <cp:revision>63</cp:revision>
  <dc:subject/>
  <dc:title>Slide 1</dc:title>
</cp:coreProperties>
</file>