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3C32-69FE-42A2-B57F-BC19AA69A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502B-0A29-402B-B0A6-B6EBC462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9946-7B12-4E58-B682-9290FA57B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8314-EE87-4C99-BE12-6DB5BFD12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AFA0-0C3A-41D7-A022-F3E53A98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7FF0-B43E-4A27-AE5B-5BA3D149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06E1-8D82-45F2-9F7C-0E1A1109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C387-44EE-45A8-A071-E7B4BB49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24EC-6BEA-4BBA-82FE-DF4BEA6B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EEFD-8C18-4F8D-9910-4FD12BA2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1F7A-1563-48FB-B0BC-FB9F2BCE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80FF-6783-4DAA-8BBF-1852A4A4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BF04-3EB3-4DE9-9610-0F64BE3CD7D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fld id="{7D2292C4-41BB-458D-8D40-38C58AAA6F5D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14200" y="2262240"/>
            <a:ext cx="9001080" cy="22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hn 1.11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εἰς τα ἰδια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ἠλθε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, και οἱ ἰδιοι αὐτον οὐ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παρελαβο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ca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his own, and his own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receiv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him n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uke 4.9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: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ἠγαγε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δε αὐτον εἰς Ἰερουσαλημ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...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και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εἰπε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αὐτῳ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l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him to Jerusalem …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ai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him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685800" y="2624040"/>
          <a:ext cx="7772400" cy="2590920"/>
        </p:xfrm>
        <a:graphic>
          <a:graphicData uri="http://schemas.openxmlformats.org/drawingml/2006/table">
            <a:tbl>
              <a:tblPr/>
              <a:tblGrid>
                <a:gridCol w="1271520"/>
                <a:gridCol w="3884760"/>
                <a:gridCol w="2616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ἰδετε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lural Aorist Indic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saw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φευγ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lural Imperfect Indic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were flee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φυγ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lural Aorist Indic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fl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γινετο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ingular Imperfect Indicativ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was happe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γενετο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ingular Aorist Indicativ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happen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 Box 115"/>
          <p:cNvSpPr/>
          <p:nvPr/>
        </p:nvSpPr>
        <p:spPr>
          <a:xfrm>
            <a:off x="647640" y="1998720"/>
            <a:ext cx="3314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8"/>
          <p:cNvSpPr/>
          <p:nvPr/>
        </p:nvSpPr>
        <p:spPr>
          <a:xfrm>
            <a:off x="1714680" y="1319040"/>
            <a:ext cx="5715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11.1.4 Indicative 2</a:t>
            </a:r>
            <a:r>
              <a:rPr b="0" lang="en-GB" sz="29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d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Aorists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74676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Grammar </a:t>
            </a:r>
            <a:fld id="{81AF8595-9F5E-4565-8BD6-3809DB7B464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-68400" y="271440"/>
            <a:ext cx="9283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6"/>
          <p:cNvSpPr/>
          <p:nvPr/>
        </p:nvSpPr>
        <p:spPr>
          <a:xfrm>
            <a:off x="6786720" y="6299280"/>
            <a:ext cx="2084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Grammar </a:t>
            </a:r>
            <a:fld id="{FDAED876-320F-4F09-9FFB-A895366AD6E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95400" y="271440"/>
            <a:ext cx="8977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486080" y="1219320"/>
            <a:ext cx="6172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.5 Other moods 2</a:t>
            </a:r>
            <a:r>
              <a:rPr b="0" lang="en-GB" sz="29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33520" y="184140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gments &amp; E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44440" y="3063960"/>
          <a:ext cx="8643960" cy="2773440"/>
        </p:xfrm>
        <a:graphic>
          <a:graphicData uri="http://schemas.openxmlformats.org/drawingml/2006/table">
            <a:tbl>
              <a:tblPr/>
              <a:tblGrid>
                <a:gridCol w="1513080"/>
                <a:gridCol w="4635360"/>
                <a:gridCol w="2495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αμβανω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. Nom. Sing. Present Partici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αβω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. Nom. Sing. Aorist Partici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ing tak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λθει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 Infini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come (undefined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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ἰδοντες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. Nom. Pl. Aorist Partici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ing se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ανθανε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ingular Present Impera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! (process/ongoing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Grammar </a:t>
            </a:r>
            <a:fld id="{45756C13-B2CA-4E22-9914-E0303837B65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95400" y="271440"/>
            <a:ext cx="8977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22200" y="2571840"/>
          <a:ext cx="7750080" cy="1431720"/>
        </p:xfrm>
        <a:graphic>
          <a:graphicData uri="http://schemas.openxmlformats.org/drawingml/2006/table">
            <a:tbl>
              <a:tblPr/>
              <a:tblGrid>
                <a:gridCol w="1497240"/>
                <a:gridCol w="2523960"/>
                <a:gridCol w="1582560"/>
                <a:gridCol w="2146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γνω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γνως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γνω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γνωμε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γνωτε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γνωσα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γνω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γνω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γνωνα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γνους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γνοντ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Text Box 38"/>
          <p:cNvSpPr/>
          <p:nvPr/>
        </p:nvSpPr>
        <p:spPr>
          <a:xfrm>
            <a:off x="609480" y="1857240"/>
            <a:ext cx="4176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γινωσκω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καταβαινω</a:t>
            </a:r>
            <a:r>
              <a:rPr b="0" lang="en-GB" sz="22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12840" y="4235400"/>
          <a:ext cx="9144000" cy="1798560"/>
        </p:xfrm>
        <a:graphic>
          <a:graphicData uri="http://schemas.openxmlformats.org/drawingml/2006/table">
            <a:tbl>
              <a:tblPr/>
              <a:tblGrid>
                <a:gridCol w="1658880"/>
                <a:gridCol w="3325680"/>
                <a:gridCol w="1765440"/>
                <a:gridCol w="23940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κατεβη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κατεβης,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κατεβη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κατεβημε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κατεβητε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κατεβησα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καταβηθ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καταβητε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αταβηναι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reek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καταβας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καταβαντες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Text Box 152"/>
          <p:cNvSpPr/>
          <p:nvPr/>
        </p:nvSpPr>
        <p:spPr>
          <a:xfrm>
            <a:off x="1905120" y="1214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.1.6 Unusual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642960" y="1884240"/>
            <a:ext cx="8072280" cy="30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i)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orists with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orist ending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ἠλθο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εἰπο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εἰδο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ἠνεγκον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re sometimes used with the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orist endings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.g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εἰπ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α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ather than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εἰπ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ο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Acts 16.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ἠλθ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ατε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ather than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ἠλθ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ετε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Matthew 25.36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Grammar </a:t>
            </a:r>
            <a:fld id="{6DBE9732-EE7C-4DAB-A6EA-41DAEF0FDEB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95400" y="271440"/>
            <a:ext cx="8977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Grammar </a:t>
            </a:r>
            <a:fld id="{583DFBFB-710D-4A6B-93C5-A25038FD668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95400" y="57240"/>
            <a:ext cx="89773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28560" y="2214720"/>
            <a:ext cx="78868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Cor. 1.17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οὐ γαρ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ἀπεστειλε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με Χριστος βαπτιζει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..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cause Christ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id not se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me to baptis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uke 11.49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: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ἀποστελῶ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εἰς αὐτους προφητας και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ἀποστολου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 will se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o them prophets and apostles 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495360" y="1143000"/>
            <a:ext cx="7648560" cy="44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different stem is 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o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σ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s added (which you would expect for the Futur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endings from the Present of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φιλεω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re used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(-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ω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, -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ει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, -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ε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,  -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ουμε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,  -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ειτε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, -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ουσι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ori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different stem is 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o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σ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s added (which you would expect for the Aoris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ugment and endings of the (1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Aorist are used as normal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33520" y="5619600"/>
            <a:ext cx="8076960" cy="581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liquid verbs there is no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the Future or Aor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Grammar </a:t>
            </a:r>
            <a:fld id="{7A8A4A47-E5EB-4794-B76C-C15378D1C25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95400" y="57240"/>
            <a:ext cx="89773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1276200" y="2643120"/>
          <a:ext cx="6510600" cy="1965240"/>
        </p:xfrm>
        <a:graphic>
          <a:graphicData uri="http://schemas.openxmlformats.org/drawingml/2006/table">
            <a:tbl>
              <a:tblPr/>
              <a:tblGrid>
                <a:gridCol w="1209960"/>
                <a:gridCol w="1766880"/>
                <a:gridCol w="1766880"/>
                <a:gridCol w="1766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s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πειρ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περ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σπειρ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ra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γειρ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γερ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ἠγειρ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ki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ποκτειν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ποκτεν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πεκτειν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Text Box 79"/>
          <p:cNvSpPr/>
          <p:nvPr/>
        </p:nvSpPr>
        <p:spPr>
          <a:xfrm>
            <a:off x="1790640" y="1271520"/>
            <a:ext cx="5562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11.2.1 Common Liquid Verbs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0"/>
          <p:cNvSpPr/>
          <p:nvPr/>
        </p:nvSpPr>
        <p:spPr>
          <a:xfrm>
            <a:off x="871560" y="1928880"/>
            <a:ext cx="74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y use the same stem in the Aorist as the Pres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4"/>
          <p:cNvSpPr/>
          <p:nvPr/>
        </p:nvSpPr>
        <p:spPr>
          <a:xfrm>
            <a:off x="871560" y="482436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ilar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552680" y="5484960"/>
          <a:ext cx="6091200" cy="502920"/>
        </p:xfrm>
        <a:graphic>
          <a:graphicData uri="http://schemas.openxmlformats.org/drawingml/2006/table">
            <a:tbl>
              <a:tblPr/>
              <a:tblGrid>
                <a:gridCol w="1147680"/>
                <a:gridCol w="1647720"/>
                <a:gridCol w="1648080"/>
                <a:gridCol w="164772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lift 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ἰρ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ρ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ἠρ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Grammar </a:t>
            </a:r>
            <a:fld id="{FAB05AE1-F13C-4A06-A61F-E86915E9EE6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95400" y="57240"/>
            <a:ext cx="89773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Grammar </a:t>
            </a:r>
            <a:fld id="{5D431C79-DD1C-4D3C-AE4E-83AF76AA3FA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95400" y="57240"/>
            <a:ext cx="89773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304920" y="12142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thers move from a final double consonant in the Present, to a single consonant in the Future, and to a single consonant with a lengthened vowel in the Aorist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14240" y="2637000"/>
          <a:ext cx="7715520" cy="1006200"/>
        </p:xfrm>
        <a:graphic>
          <a:graphicData uri="http://schemas.openxmlformats.org/drawingml/2006/table">
            <a:tbl>
              <a:tblPr/>
              <a:tblGrid>
                <a:gridCol w="1928880"/>
                <a:gridCol w="1928880"/>
                <a:gridCol w="1928880"/>
                <a:gridCol w="192888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s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ποστελλ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ποστελ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πεστειλ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annou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γγελλ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γγελ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ἠγγειλ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Text Box 25"/>
          <p:cNvSpPr/>
          <p:nvPr/>
        </p:nvSpPr>
        <p:spPr>
          <a:xfrm>
            <a:off x="304920" y="390204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me are similar, but show no change in the Future since in the Present their final vowel is already short, and their final consonant is not doubl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500120" y="5214960"/>
          <a:ext cx="6096240" cy="91440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rema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εν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ενε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μει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jud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ριν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ρινε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ρι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Grammar </a:t>
            </a:r>
            <a:fld id="{FE3E47A4-8AE3-452A-A2EE-05D278BEEE6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95400" y="57240"/>
            <a:ext cx="89773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71440" y="1214280"/>
            <a:ext cx="902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me follow the same general principles, but hav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orists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843120" y="1922400"/>
          <a:ext cx="7467480" cy="1006560"/>
        </p:xfrm>
        <a:graphic>
          <a:graphicData uri="http://schemas.openxmlformats.org/drawingml/2006/table">
            <a:tbl>
              <a:tblPr/>
              <a:tblGrid>
                <a:gridCol w="1312560"/>
                <a:gridCol w="2049480"/>
                <a:gridCol w="2265480"/>
                <a:gridCol w="18399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ποθνῃσκ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ποθανεο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πεθανον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thr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λλ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λ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βαλ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Text Box 45"/>
          <p:cNvSpPr/>
          <p:nvPr/>
        </p:nvSpPr>
        <p:spPr>
          <a:xfrm>
            <a:off x="284040" y="3255840"/>
            <a:ext cx="8758440" cy="28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ohn 15.10: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μενειτε ἐν τῃ ἀγαπῃ μου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You will remain in my love.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tthew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1.1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τοτε Ἰησους ἀπεστειλεν δυο μαθητα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Then Jesus sent two disciples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Grammar </a:t>
            </a:r>
            <a:fld id="{4CEB3BE3-0217-4215-9636-BC8F1870E39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95400" y="57240"/>
            <a:ext cx="89773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104840" y="1538280"/>
            <a:ext cx="6934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.2 Accents in the Futur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752480" y="2743200"/>
            <a:ext cx="5639040" cy="947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liquid verb has a circumflex if  - and only if - it is Futu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24000" y="4286160"/>
            <a:ext cx="853416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μένει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Present (you remain)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μενεῖ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Future (you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ill remain)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057400" y="1676520"/>
            <a:ext cx="5029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The Princip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214280" y="3048120"/>
            <a:ext cx="6705720" cy="209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en-GB" sz="29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Aorist has the same meaning as the 1</a:t>
            </a:r>
            <a:r>
              <a:rPr b="0" lang="en-GB" sz="29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Aorist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 verb will have </a:t>
            </a:r>
            <a:r>
              <a:rPr b="0" i="1" lang="en-GB" sz="2900" spc="-1" strike="noStrike">
                <a:solidFill>
                  <a:srgbClr val="000000"/>
                </a:solidFill>
                <a:latin typeface="Arial"/>
              </a:rPr>
              <a:t>either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a 1</a:t>
            </a:r>
            <a:r>
              <a:rPr b="0" lang="en-GB" sz="29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Aorist </a:t>
            </a:r>
            <a:r>
              <a:rPr b="0" i="1" lang="en-GB" sz="29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a 2</a:t>
            </a:r>
            <a:r>
              <a:rPr b="0" lang="en-GB" sz="29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Aorist but </a:t>
            </a:r>
            <a:r>
              <a:rPr b="0" i="1" lang="en-GB" sz="29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both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fld id="{D7C6D6BD-4BDF-4F9E-A29D-AB7B531B6DEC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fld id="{AAD691FC-A547-490B-820C-37F85940F0E4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714680" y="1241280"/>
            <a:ext cx="57909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.2 Compare in English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19040" y="1981080"/>
            <a:ext cx="830592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ost English words form their past tense by adding –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.g. walk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walked; row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rowed; attack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ttack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ome words form their past tense by changing their stem instead of adding -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.g. sing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sung; see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saw; throw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thr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nly very rare words can do bo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.g. hang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hung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hang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95360" y="1200240"/>
          <a:ext cx="8153280" cy="500544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67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lis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 is a standard form of the past ten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verbs have a 1st Aori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ain words follow a different patter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verbs have a 2nd Aori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few words can follow both pattern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verb has a 1st and a 2nd Aori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normal pattern forms the past tense by adding –ed to the ste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t Aorists are formed by adding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o the ste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other group forms the past tense by changing the stem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d Aorists are formed by changing their stem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fld id="{84741EE2-E0D5-4BF5-BC2C-426BC55B29AF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838080" y="1447920"/>
            <a:ext cx="74678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.3 The formation of the 2</a:t>
            </a:r>
            <a:r>
              <a:rPr b="0" lang="en-GB" sz="29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Aorist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905120" y="2438280"/>
            <a:ext cx="5333760" cy="52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orist = Changed 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914400" y="3733920"/>
            <a:ext cx="7391520" cy="181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impossible to spot a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ori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less you recognise the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orist 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rn Them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fld id="{40A03FDD-A54B-4149-AFD2-599F76EA9D6D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405080" y="1765440"/>
          <a:ext cx="6095880" cy="466380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 s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ἁμαρταν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ἡμαρτ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 d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ποθνῃσκ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πεθαν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 thr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λλ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βαλ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 fi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ὑπισκ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ὑρ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 lea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αταλειπ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ατελιπ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 ta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αμβαν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λαβ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 lea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ανθαν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μαθ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 suf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σχ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παθ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 dr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ιν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πι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 fl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ευγ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φυγ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100"/>
          <p:cNvSpPr/>
          <p:nvPr/>
        </p:nvSpPr>
        <p:spPr>
          <a:xfrm>
            <a:off x="214200" y="1214280"/>
            <a:ext cx="88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ome 2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orist stems are shortened versions of the Present stem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fld id="{EBBBC280-14B4-4FF5-926F-E4D83B4AD74F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600200" y="1828800"/>
          <a:ext cx="5943600" cy="1463760"/>
        </p:xfrm>
        <a:graphic>
          <a:graphicData uri="http://schemas.openxmlformats.org/drawingml/2006/table">
            <a:tbl>
              <a:tblPr/>
              <a:tblGrid>
                <a:gridCol w="1981080"/>
                <a:gridCol w="1981440"/>
                <a:gridCol w="1981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g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ιν-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β-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kn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γινωσκ-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γν-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 Box 41"/>
          <p:cNvSpPr/>
          <p:nvPr/>
        </p:nvSpPr>
        <p:spPr>
          <a:xfrm>
            <a:off x="428760" y="121932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include two whose endings are a little different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523880" y="4324320"/>
          <a:ext cx="6096240" cy="18288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lea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γ-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ἠγαγ-ο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χ-ω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σχ-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fal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ιπτ-ω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πεσ-ο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118"/>
          <p:cNvSpPr/>
          <p:nvPr/>
        </p:nvSpPr>
        <p:spPr>
          <a:xfrm>
            <a:off x="452520" y="3683160"/>
            <a:ext cx="79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thers make other minor adjustments to the stem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fld id="{F5875A12-5F30-439F-A9EF-9C9BA6C27675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523880" y="1670040"/>
          <a:ext cx="6096240" cy="9604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becom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γιν-ομαι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γεν-ομην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24"/>
          <p:cNvSpPr/>
          <p:nvPr/>
        </p:nvSpPr>
        <p:spPr>
          <a:xfrm>
            <a:off x="571680" y="120168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e is deponent (and therefore has deponent endings)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23880" y="3402000"/>
          <a:ext cx="6096240" cy="29718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co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ρχ-ο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ἠλθ-ον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s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γ-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ἰπ-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e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σθι-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φαγ-ον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s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ὁρα-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ἰδ-ον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car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ερ-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ἠνεγκ-ον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 Box 61"/>
          <p:cNvSpPr/>
          <p:nvPr/>
        </p:nvSpPr>
        <p:spPr>
          <a:xfrm>
            <a:off x="571680" y="2643120"/>
            <a:ext cx="79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ve hav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orists that bear no resemblance to their forms in the Present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fld id="{793CB859-7168-4E5F-8D9F-8E1E80C0D42E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Grammar </a:t>
            </a:r>
            <a:fld id="{A4888732-D9C0-4998-937D-9258BA3B300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638360" y="1413000"/>
            <a:ext cx="5867280" cy="1015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orist Indicative – Imperfect E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orist Other Moods – Present Ending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25280" y="2840040"/>
          <a:ext cx="8893440" cy="2743200"/>
        </p:xfrm>
        <a:graphic>
          <a:graphicData uri="http://schemas.openxmlformats.org/drawingml/2006/table">
            <a:tbl>
              <a:tblPr/>
              <a:tblGrid>
                <a:gridCol w="1609920"/>
                <a:gridCol w="1412640"/>
                <a:gridCol w="1498680"/>
                <a:gridCol w="1690920"/>
                <a:gridCol w="1323720"/>
                <a:gridCol w="1357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βαλ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d Sing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λ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(s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βαλ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d Pl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λε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, she,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βαλ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λε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βαλο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λ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(pl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βαλε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asc. nom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λοντ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βαλ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11:29:26Z</dcterms:created>
  <dc:creator>Sarah</dc:creator>
  <dc:description/>
  <dc:language>en-US</dc:language>
  <cp:lastModifiedBy>Sarah</cp:lastModifiedBy>
  <dcterms:modified xsi:type="dcterms:W3CDTF">2009-07-10T23:57:48Z</dcterms:modified>
  <cp:revision>49</cp:revision>
  <dc:subject/>
  <dc:title>Slide 1</dc:title>
</cp:coreProperties>
</file>