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920-B168-499D-81A7-1ACA12593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8F7-2EF3-4D1C-9C9B-8FD3F0F74E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988-1F53-4381-AC9A-44FD9D57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DCC-57E8-4D57-8E3B-9383296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49A-8654-498B-89C5-EF347D06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9A8-9548-4767-9424-B1A57370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4FB-53BC-44F5-B57A-AD3A5B43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936-86B8-4BA2-9F0C-60B9EA62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8C3F-9D1F-4290-BDA3-9E10F3A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81F2-D22A-4A82-B8EC-6B129D7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CDC2-0ADE-472D-A8C1-71C719CF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AE3-0F95-486A-A7E7-1685564A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AB28-A6C8-4D25-A691-B539CB1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35A-CDE4-45E9-81AB-992CF49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29F1-A566-45D2-A6E4-F04793B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B11C-D1CB-4334-9A1D-665D071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51D4-CB79-4902-A7C7-EE00B52D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1DC-6785-452A-A066-12632484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B59-9A43-49E9-BE32-F4B225DF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82F9-A77E-42CE-8345-B9E3E050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4FD7-AFD2-45DB-8D6A-1181823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8578-C68E-4A06-B9E6-0D0D668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B167-574C-450F-9C7C-45168D22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AAA8-3292-4233-BE0C-EF04174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007-4120-45F9-BB96-A4B99D8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3F9C-AA93-4FB4-B43E-48E1F4B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59A4-8E0D-4385-80D0-AA5D079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041F-5CB9-4846-8A3C-6DA53EA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B1E8-A796-416A-8532-22C97C0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A993-FC9A-4111-AD0A-C821E8E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7FD6-2A14-4C8D-80F1-8D3B182C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3791-3D98-4400-A017-6D554DFF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2849-5657-4447-B628-FC0C94AE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A34A-4EC3-471D-8A2C-CD637F55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88AC-EA1E-453F-AB87-3C771D92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DA3-BF10-4C86-9B77-EA313DC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8A6B-6831-4D01-A1E3-3358D87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5E14-2FAF-4538-AAD8-3865508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DEA1-3BE8-410E-AE29-D70129E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8176-68AE-4F3D-BF30-A76227C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0A31-0976-42F1-8B87-3BD2DD31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3435-523D-43B8-9032-FC4DC02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CAA2-672D-4397-B4EA-E249F5E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3FDE-EEFC-4EA4-B29E-11D2EC29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4DD3-6A7A-41FD-A4EE-C2D4F5A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549-2D33-4E92-ABC5-A4D5AB7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FC0-8C5B-4061-8943-019BA0D5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90FB-BE86-4CC8-9D8F-A9FAA3B4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9F94-5895-4D37-A6C3-3F982AB8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0015-82BB-4A55-A29E-CB1C23B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E150-782C-4D52-BCF2-70CC547A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894C-68EA-4A7F-BE58-229CAAC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4041-676A-4F51-9A88-830EC1B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49F4-CE9B-4D55-9B2B-EC1020C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4739-0E33-417E-B045-93FD1E8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0F7CC-5619-4BEE-AB1E-91725C7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57A-27D1-4A14-9A61-43ABF9E0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D774-B186-46FF-AC30-1213A96A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F110-2FA3-4C3B-9FE3-7EB5A29B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1C3D-6243-454A-A1A7-1787EEA3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03C-7E6F-4EA4-9B9B-5B152B75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C0B-D02B-43E7-BD6F-F439067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AF2-C4DD-441E-B72A-DAF1B2A1B98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1D17-BAA2-4AAE-A284-5B9859E30E3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49" name="Group 1990"/>
          <p:cNvGrpSpPr/>
          <p:nvPr/>
        </p:nvGrpSpPr>
        <p:grpSpPr>
          <a:xfrm>
            <a:off x="71280" y="1209600"/>
            <a:ext cx="8991720" cy="4219560"/>
            <a:chOff x="71280" y="1209600"/>
            <a:chExt cx="8991720" cy="4219560"/>
          </a:xfrm>
        </p:grpSpPr>
        <p:sp>
          <p:nvSpPr>
            <p:cNvPr id="50" name=""/>
            <p:cNvSpPr/>
            <p:nvPr/>
          </p:nvSpPr>
          <p:spPr>
            <a:xfrm>
              <a:off x="71280" y="1209600"/>
              <a:ext cx="2210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ek Let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209600"/>
              <a:ext cx="2666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e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8200" y="1209600"/>
              <a:ext cx="1301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ritt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49960" y="1209600"/>
              <a:ext cx="1755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05680" y="1209600"/>
              <a:ext cx="1057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16462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280" y="1646280"/>
              <a:ext cx="106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6462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Englis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2920" y="16462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Gree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48200" y="1646280"/>
              <a:ext cx="1301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Ι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 Englis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960" y="1646280"/>
              <a:ext cx="175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5680" y="1646280"/>
              <a:ext cx="10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" y="212400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4280" y="2124000"/>
              <a:ext cx="1067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1320" y="2124000"/>
              <a:ext cx="1371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ph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2920" y="2124000"/>
              <a:ext cx="12952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ἀλφ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8200" y="2124000"/>
              <a:ext cx="1301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49960" y="2124000"/>
              <a:ext cx="1755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as in 'ha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05680" y="2124000"/>
              <a:ext cx="1057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80" y="259560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4280" y="259560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59560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e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2920" y="259560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η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8200" y="259560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9960" y="259560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5680" y="259560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280" y="30654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4280" y="3065400"/>
              <a:ext cx="106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1320" y="30654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mm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2920" y="3065400"/>
              <a:ext cx="1295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αμμ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48200" y="3065400"/>
              <a:ext cx="1301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9960" y="3065400"/>
              <a:ext cx="17557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ard g as in 'ge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5680" y="3065400"/>
              <a:ext cx="105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" y="3795840"/>
              <a:ext cx="1143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4280" y="3795840"/>
              <a:ext cx="1067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1320" y="3795840"/>
              <a:ext cx="1371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2920" y="3795840"/>
              <a:ext cx="1295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ελ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200" y="3795840"/>
              <a:ext cx="1301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9960" y="3795840"/>
              <a:ext cx="1755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5680" y="3795840"/>
              <a:ext cx="1057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280" y="425772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4280" y="4257720"/>
              <a:ext cx="1067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4257720"/>
              <a:ext cx="137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psil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2920" y="42577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ἐψιλο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8200" y="4257720"/>
              <a:ext cx="130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9960" y="4257720"/>
              <a:ext cx="175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hort e as in 'me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5680" y="4257720"/>
              <a:ext cx="1057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80" y="495936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4280" y="495936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1320" y="495936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Ze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2920" y="495936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η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8200" y="495936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9960" y="495936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5680" y="495936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132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292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820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996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568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" y="164628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280" y="21240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28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6300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280" y="12096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80" y="542916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Arial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2182"/>
          <p:cNvGrpSpPr/>
          <p:nvPr/>
        </p:nvGrpSpPr>
        <p:grpSpPr>
          <a:xfrm>
            <a:off x="5676840" y="5500800"/>
            <a:ext cx="2895840" cy="1189080"/>
            <a:chOff x="5676840" y="5500800"/>
            <a:chExt cx="2895840" cy="1189080"/>
          </a:xfrm>
        </p:grpSpPr>
        <p:sp>
          <p:nvSpPr>
            <p:cNvPr id="118" name=""/>
            <p:cNvSpPr/>
            <p:nvPr/>
          </p:nvSpPr>
          <p:spPr>
            <a:xfrm>
              <a:off x="5676840" y="5500800"/>
              <a:ext cx="838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550080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8440" y="550080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5640" y="550080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0560" y="550080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1440" y="5500800"/>
              <a:ext cx="38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6840" y="5897520"/>
              <a:ext cx="83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5897520"/>
              <a:ext cx="533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440" y="589752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5640" y="5897520"/>
              <a:ext cx="30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0560" y="5897520"/>
              <a:ext cx="38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5897520"/>
              <a:ext cx="381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6292800"/>
              <a:ext cx="83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15280" y="6292800"/>
              <a:ext cx="53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6292800"/>
              <a:ext cx="457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5640" y="629280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10560" y="6292800"/>
              <a:ext cx="380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91440" y="6292800"/>
              <a:ext cx="38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52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56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056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91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6840" y="589752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6840" y="6292800"/>
              <a:ext cx="8384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768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726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6840" y="550080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668988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FB5-F31B-4F64-9BA9-F5C22A3255E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B1A6-8941-4DD6-B9E1-37D503C11E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0798-3EC3-4195-95CB-04876E0520A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57" name=""/>
          <p:cNvGraphicFramePr/>
          <p:nvPr/>
        </p:nvGraphicFramePr>
        <p:xfrm>
          <a:off x="71280" y="1209600"/>
          <a:ext cx="89917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371600"/>
                <a:gridCol w="1295280"/>
                <a:gridCol w="1301760"/>
                <a:gridCol w="1755720"/>
                <a:gridCol w="10573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ἀλφ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as in 'ha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αμ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 g as in 'g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ελ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 e as in 'm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Rectangle 5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γγ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000680" y="5500800"/>
          <a:ext cx="2895480" cy="11890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457200"/>
                <a:gridCol w="304560"/>
                <a:gridCol w="381240"/>
                <a:gridCol w="38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Slide Number Placeholder 8"/>
          <p:cNvSpPr/>
          <p:nvPr/>
        </p:nvSpPr>
        <p:spPr>
          <a:xfrm>
            <a:off x="7010280" y="6286680"/>
            <a:ext cx="19908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947-37F1-49E4-89BF-CE194ACC13DD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Grammar 1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42920" y="1467000"/>
          <a:ext cx="8839080" cy="2819160"/>
        </p:xfrm>
        <a:graphic>
          <a:graphicData uri="http://schemas.openxmlformats.org/drawingml/2006/table">
            <a:tbl>
              <a:tblPr/>
              <a:tblGrid>
                <a:gridCol w="2313000"/>
                <a:gridCol w="2477880"/>
                <a:gridCol w="404820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n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 of 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baseline="40000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bove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an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;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s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2"/>
          <p:cNvSpPr/>
          <p:nvPr/>
        </p:nvSpPr>
        <p:spPr>
          <a:xfrm>
            <a:off x="428760" y="4572000"/>
            <a:ext cx="7715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al vowel of a word normally dropped (replaced wit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 if next word begins with vow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α ἐγω                ἀλλ’ ἐγ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6 PUNCTU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>
            <a:off x="3824280" y="5935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4D12F0B9-800D-426D-9243-B1EBA5CFD93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81000" y="1143000"/>
          <a:ext cx="8991720" cy="38955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ἠ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e as in 'ob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y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ἰω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as in 'hi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αππ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b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αμβδ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2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Rectangle 5"/>
          <p:cNvSpPr/>
          <p:nvPr/>
        </p:nvSpPr>
        <p:spPr>
          <a:xfrm>
            <a:off x="285840" y="5084640"/>
            <a:ext cx="91440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Pronunciation of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η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varies - some say 'b</a:t>
            </a:r>
            <a:r>
              <a:rPr b="0" lang="en-GB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a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r' or 'hon</a:t>
            </a:r>
            <a:r>
              <a:rPr b="0" lang="en-GB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ι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can sometimes behave as a consonant when it begins a wo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(k) and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χ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(kh).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8"/>
          <p:cNvSpPr/>
          <p:nvPr/>
        </p:nvSpPr>
        <p:spPr>
          <a:xfrm>
            <a:off x="7000920" y="6278400"/>
            <a:ext cx="20448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Grammar 2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81000" y="1170000"/>
          <a:ext cx="8991720" cy="36162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ic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ὀμικρ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 o as in 'n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or 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or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γ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9" name="Rectangle 253"/>
          <p:cNvSpPr/>
          <p:nvPr/>
        </p:nvSpPr>
        <p:spPr>
          <a:xfrm>
            <a:off x="104760" y="4824360"/>
            <a:ext cx="8610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SzPct val="114000"/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ν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looks like an English v but is an 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ῥ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should really be ‘aspirated’ (i.e. pronounced 'rh'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ρ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looks like an English p but is an r (the Greek p is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π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igma is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σ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rmally, but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ς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if it is the last letter in a wo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7000920" y="6286680"/>
            <a:ext cx="20001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E079C8F4-F6A3-4DA6-97CF-5C80ADAFEB5E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1000" y="1143000"/>
          <a:ext cx="8991720" cy="38307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 or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 or 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 as in lo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in li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ὠμεγ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o as in 't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14200" y="5159520"/>
            <a:ext cx="86439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χ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υ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has become a y in English words derived from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6BBDB418-5F15-4676-9E71-F947563D3C5D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Rectangle 5"/>
          <p:cNvSpPr/>
          <p:nvPr/>
        </p:nvSpPr>
        <p:spPr>
          <a:xfrm>
            <a:off x="428760" y="4541760"/>
            <a:ext cx="7429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1063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δ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ζ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θ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λ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ξ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tretch above the line (and the central stroke of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φ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ψ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in many people's handwriting). Contrary to English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τ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do no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γ, ζ, η, μ, ξ, ρ, ς, φ, χ</a:t>
            </a:r>
            <a:r>
              <a:rPr b="0" lang="el-GR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 ψ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have 'tails' which stretch below the l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85840" y="217980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αβγδεζηθικλμνξοπρσςτυφχψω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8"/>
          <p:cNvSpPr/>
          <p:nvPr/>
        </p:nvSpPr>
        <p:spPr>
          <a:xfrm>
            <a:off x="357120" y="2513160"/>
            <a:ext cx="821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"/>
          <p:cNvSpPr/>
          <p:nvPr/>
        </p:nvSpPr>
        <p:spPr>
          <a:xfrm>
            <a:off x="357120" y="2844720"/>
            <a:ext cx="821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4D6CD349-6D52-4688-A48D-4490220C84C2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1143000" y="3143160"/>
            <a:ext cx="6572160" cy="100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8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1319040"/>
          <a:ext cx="8534160" cy="132408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  <a:gridCol w="1295280"/>
                <a:gridCol w="3200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g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‘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γι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agios - holy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oot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gelos - ang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5"/>
          <p:cNvSpPr/>
          <p:nvPr/>
        </p:nvSpPr>
        <p:spPr>
          <a:xfrm>
            <a:off x="1143000" y="328608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Greek vowel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 at the beginning of a word must have a brea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57120" y="4214880"/>
            <a:ext cx="814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reathings are written on top -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ἀ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ἐ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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ἑ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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ἠ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ἡ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ἰ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ἱ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ὀ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ὐ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ὑ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ὠ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ὡ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mooth breathings are not optional just because they are not pronounc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 letter, it also must carry a rough breathing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ῥ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FDA07E92-7EA6-457E-8F72-F447C0D1ABB3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28760" y="2357280"/>
            <a:ext cx="835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Η, Ρ, Υ, Χ </a:t>
            </a:r>
            <a:r>
              <a:rPr b="0" lang="en-GB" sz="5200" spc="-1" strike="noStrike">
                <a:solidFill>
                  <a:srgbClr val="000000"/>
                </a:solidFill>
                <a:latin typeface="Arial"/>
                <a:ea typeface="Arial"/>
              </a:rPr>
              <a:t>vs. English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Γ, Δ, Μ, Ξ, Σ, Ω </a:t>
            </a:r>
            <a:r>
              <a:rPr b="0" lang="en-GB" sz="5200" spc="-1" strike="noStrike">
                <a:solidFill>
                  <a:srgbClr val="000000"/>
                </a:solidFill>
                <a:latin typeface="Arial"/>
                <a:ea typeface="Arial"/>
              </a:rPr>
              <a:t>vs. lower case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EE0013EF-117C-4B82-B3FC-0D81767C189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 DIPHTHONGS AND IOTA SUBSCRI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01" name=""/>
          <p:cNvGraphicFramePr/>
          <p:nvPr/>
        </p:nvGraphicFramePr>
        <p:xfrm>
          <a:off x="1071720" y="1876320"/>
          <a:ext cx="7035480" cy="4052880"/>
        </p:xfrm>
        <a:graphic>
          <a:graphicData uri="http://schemas.openxmlformats.org/drawingml/2006/table">
            <a:tbl>
              <a:tblPr/>
              <a:tblGrid>
                <a:gridCol w="1049040"/>
                <a:gridCol w="5986440"/>
              </a:tblGrid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ai' as in T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d, or the English word 'ey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ei' as in v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or the 'ay'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 as in 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ui' as in q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u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au' as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kraut, or the 'ow' in 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ou' as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, or the 'oo' in '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/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eu' as in f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, or the English word 'you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s - the iota subscript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ῃ ῳ 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ED5521CA-084C-4A1C-AC49-0415731781F3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981000" y="2593800"/>
            <a:ext cx="7162920" cy="167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entium"/>
              </a:rPr>
              <a:t>Breathings – Essentia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entium"/>
              </a:rPr>
              <a:t>Accents – Unimportan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5 ACCENTS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DE2A560D-B44F-4BDB-A8FF-302700BC58B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5:43:53Z</dcterms:created>
  <dc:creator>Sarah</dc:creator>
  <dc:description/>
  <dc:language>en-US</dc:language>
  <cp:lastModifiedBy>Sarah</cp:lastModifiedBy>
  <dcterms:modified xsi:type="dcterms:W3CDTF">2009-07-09T22:57:00Z</dcterms:modified>
  <cp:revision>69</cp:revision>
  <dc:subject/>
  <dc:title>Slide 1</dc:title>
</cp:coreProperties>
</file>