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2F7-3622-4B97-8C3F-B4AF1F98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FE3-68A0-48E6-8BE9-099CC39E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DF7-41DB-4BBD-8B2C-B0761F72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896-6FA0-409A-B089-AB46334E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F37B-5A06-4913-B5A8-B2E29DAE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A24B-0E30-4C61-A12D-9D830338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B603-F8AF-41EA-9287-AE387327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828D-B839-40A9-B5BA-3E8568A7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BBE4-242A-48F8-B68E-FC588A16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4601-58A3-4C63-BCAF-54DBA7A8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1DD9-7A57-436D-94C3-CF910F06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E35-A8D7-41D1-99D8-F6F0F42F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B833-002A-4FFC-BD1C-BA516386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8039-2B2A-42FD-9082-505E4D2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305B-BC59-43FB-91B9-F01E4CB0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8F88-3E8A-432B-92FA-33AE1A2E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192B-F6CE-4286-94F6-C656BFD3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D86-F900-44C5-94A5-E412F55E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1FC-8ADF-40B3-B27E-451DF574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AD4-084F-4361-A111-4449030E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6D7-E2EB-4566-9645-07382C26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169-2992-4B71-B1DB-0A7463D6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225-9839-4EF7-9A73-9145096E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3A0-0131-48B1-9B7F-CB5BCF0E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B2F9-ADDE-4E62-951B-42C85107FC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4CC8-AE33-4EEE-936A-9F16F618CA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0A940E56-40FE-4E15-B3E0-5985BF6A542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66840" y="1274760"/>
            <a:ext cx="806292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14.1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ιστευετε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εἰς τον θεον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you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belie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n G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11.48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παντες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ιστευσουσιν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εἰς αὐτον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everyon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ill belie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n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7.5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οἱ ἀδελφοι αὐτου  ἐπιστευον εἰς αὐτο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s brothers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ere believ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n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4.50: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πιστευσεν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ὁ ἀνθρωπος τῳ λογῳ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the m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believ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he w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erations in a verb change its tense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πιστευετε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believe;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πιστευ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ουσιν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will believe; </a:t>
            </a:r>
            <a:r>
              <a:rPr b="0" lang="en-GB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πιστευον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were believing; </a:t>
            </a:r>
            <a:r>
              <a:rPr b="0" lang="en-GB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πιστευ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εν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believ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952560" y="1785960"/>
            <a:ext cx="7238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5.1 Words beginning with a vow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42960" y="3143160"/>
            <a:ext cx="6058080" cy="177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atch out when an 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</a:t>
            </a:r>
            <a:r>
              <a:rPr b="1" lang="el-GR" sz="40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l-GR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Arial"/>
              </a:rPr>
              <a:t>augment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) is added to a word beginning with a vowel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3375508B-6B2A-4C37-8185-5A43C6F42B9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2FA09E2B-A1A9-4608-94EA-1BCF2E8F930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28840" y="5000760"/>
          <a:ext cx="6229440" cy="1066680"/>
        </p:xfrm>
        <a:graphic>
          <a:graphicData uri="http://schemas.openxmlformats.org/drawingml/2006/table">
            <a:tbl>
              <a:tblPr/>
              <a:tblGrid>
                <a:gridCol w="566640"/>
                <a:gridCol w="565200"/>
                <a:gridCol w="566640"/>
                <a:gridCol w="566640"/>
                <a:gridCol w="565200"/>
                <a:gridCol w="568440"/>
                <a:gridCol w="565200"/>
                <a:gridCol w="566640"/>
                <a:gridCol w="566640"/>
                <a:gridCol w="565200"/>
                <a:gridCol w="567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ῳ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2"/>
          <p:cNvSpPr/>
          <p:nvPr/>
        </p:nvSpPr>
        <p:spPr>
          <a:xfrm>
            <a:off x="500040" y="4324320"/>
            <a:ext cx="45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pthongs follow the ch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1800" y="1428840"/>
          <a:ext cx="7358040" cy="2428920"/>
        </p:xfrm>
        <a:graphic>
          <a:graphicData uri="http://schemas.openxmlformats.org/drawingml/2006/table">
            <a:tbl>
              <a:tblPr/>
              <a:tblGrid>
                <a:gridCol w="1104840"/>
                <a:gridCol w="2181240"/>
                <a:gridCol w="1666800"/>
                <a:gridCol w="2405160"/>
              </a:tblGrid>
              <a:tr h="608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reek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ai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Box 6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5E54D446-2ADE-4C5F-936C-A7E0934999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098800" y="1843200"/>
            <a:ext cx="4800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5.2 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643040" y="3000240"/>
            <a:ext cx="5791320" cy="1694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atch out when an 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™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GB" sz="3500" spc="-1" strike="noStrike">
                <a:solidFill>
                  <a:srgbClr val="000000"/>
                </a:solidFill>
                <a:latin typeface="Arial"/>
              </a:rPr>
              <a:t>augment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) is added to a compound verb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12680" y="1928880"/>
          <a:ext cx="8929800" cy="3357360"/>
        </p:xfrm>
        <a:graphic>
          <a:graphicData uri="http://schemas.openxmlformats.org/drawingml/2006/table">
            <a:tbl>
              <a:tblPr/>
              <a:tblGrid>
                <a:gridCol w="1365120"/>
                <a:gridCol w="1621080"/>
                <a:gridCol w="2344680"/>
                <a:gridCol w="359892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λυ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ελυ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setting f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 - ελυον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βαλλ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ξεβαλλ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throwing o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 - εβαλλον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ὑπαγ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ὑπ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depa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ὑπο - εαγον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→ 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ὑπο - 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υναγ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υν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gath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υν - εαγον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→ 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υν - 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122"/>
          <p:cNvSpPr/>
          <p:nvPr/>
        </p:nvSpPr>
        <p:spPr>
          <a:xfrm>
            <a:off x="304920" y="12794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5B215D82-2EA9-402D-999C-1A0D22A3833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00040" y="1565280"/>
            <a:ext cx="8001000" cy="3935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Observe the difference between 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contraction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elisio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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+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ἀγον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ἠγον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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ἀναβλεπον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ἀνεβλεπον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 +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ἀναγον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ἀνηγο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D80EBBA3-8988-4F5D-A588-2ED7123781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973080" y="1504800"/>
            <a:ext cx="7143840" cy="1740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atch out when an </a:t>
            </a:r>
            <a:r>
              <a:rPr b="1" lang="el-GR" sz="38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is added to stem of a verb ending in a consonan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0200" y="3786120"/>
          <a:ext cx="4157640" cy="1736640"/>
        </p:xfrm>
        <a:graphic>
          <a:graphicData uri="http://schemas.openxmlformats.org/drawingml/2006/table">
            <a:tbl>
              <a:tblPr/>
              <a:tblGrid>
                <a:gridCol w="1994040"/>
                <a:gridCol w="525600"/>
                <a:gridCol w="493560"/>
                <a:gridCol w="654120"/>
                <a:gridCol w="4903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Box 3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AD34F03F-4986-4769-A831-6A482F38777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85840" y="1643040"/>
          <a:ext cx="8572320" cy="2422440"/>
        </p:xfrm>
        <a:graphic>
          <a:graphicData uri="http://schemas.openxmlformats.org/drawingml/2006/table">
            <a:tbl>
              <a:tblPr/>
              <a:tblGrid>
                <a:gridCol w="1812960"/>
                <a:gridCol w="2259000"/>
                <a:gridCol w="2387520"/>
                <a:gridCol w="211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λεπ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λεψω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λεπ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πτιζω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πτισω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bapt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πτζ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νοιγω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νοιξ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op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νοιγ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7"/>
          <p:cNvSpPr/>
          <p:nvPr/>
        </p:nvSpPr>
        <p:spPr>
          <a:xfrm>
            <a:off x="252360" y="1136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0"/>
          <p:cNvSpPr/>
          <p:nvPr/>
        </p:nvSpPr>
        <p:spPr>
          <a:xfrm>
            <a:off x="714240" y="4259160"/>
            <a:ext cx="7572600" cy="186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the Aorist involves the addition of th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efix and th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ffix, both sets of complications can occur. Thus the aorist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ιγ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ἠνοιξ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ε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οι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γσ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C9F1A74A-DB44-473E-B56A-26EF92B12E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1000080" y="1212840"/>
            <a:ext cx="63914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ἠγον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really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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ἐ - ἀγον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d thus is an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mperfec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νοιξω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really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νοιγ - σω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d thus a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73200" y="2438280"/>
            <a:ext cx="7810560" cy="157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ery few verbs begin with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η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ω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or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most no verbs end in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ψ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ξ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or a single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oris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14400" y="4191120"/>
            <a:ext cx="73152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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ἐχω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I have) is unusu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mperfec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εἰχον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being augmented to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εἰ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 not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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ἑξω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χ 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+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σ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ξ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s expected, but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ἑ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 not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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73080" y="41400"/>
            <a:ext cx="8985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EALING WITH THE PREFIX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SUF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557D0F73-85A2-4076-B140-D3AF1A2A24F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952560" y="2214720"/>
            <a:ext cx="72388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Future and the Aorist the addition of th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ffix causes two cha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lengthen to a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) The endings are now be next to th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ot the weak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so there are no contr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73080" y="25884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-ε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5D7309EE-1FCB-4102-8A4E-5146D02202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3"/>
          <p:cNvSpPr/>
          <p:nvPr/>
        </p:nvSpPr>
        <p:spPr>
          <a:xfrm>
            <a:off x="73080" y="25884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-ε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171BDD95-81D2-470E-8750-4C9C51FB06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5440" y="1357200"/>
          <a:ext cx="8475840" cy="4741920"/>
        </p:xfrm>
        <a:graphic>
          <a:graphicData uri="http://schemas.openxmlformats.org/drawingml/2006/table">
            <a:tbl>
              <a:tblPr/>
              <a:tblGrid>
                <a:gridCol w="1695600"/>
                <a:gridCol w="1693800"/>
                <a:gridCol w="1695240"/>
                <a:gridCol w="1695600"/>
                <a:gridCol w="169560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ησ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ου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ησ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s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ησ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ησ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ησ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ησ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ου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ησ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ου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ησ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ει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ησ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ει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ησ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ουσιν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ουσ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ησου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ου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η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14200" y="1214280"/>
            <a:ext cx="87156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ur Tenses: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sent, Future, Imperfect, Aori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fferent tenses communicate bo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i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action is taking place (present, future, past etc.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the nature of the action – was it a process? is it completed? etc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μεν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te adde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‘w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ti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3D5DF828-9D90-4A53-8B5D-F9617941747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E7B7E753-2CE7-49C1-A62F-BC087B4AD1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87400" y="1511280"/>
          <a:ext cx="6899400" cy="2631960"/>
        </p:xfrm>
        <a:graphic>
          <a:graphicData uri="http://schemas.openxmlformats.org/drawingml/2006/table">
            <a:tbl>
              <a:tblPr/>
              <a:tblGrid>
                <a:gridCol w="1565280"/>
                <a:gridCol w="1795320"/>
                <a:gridCol w="739800"/>
                <a:gridCol w="700200"/>
                <a:gridCol w="600120"/>
                <a:gridCol w="14986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se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211"/>
          <p:cNvSpPr/>
          <p:nvPr/>
        </p:nvSpPr>
        <p:spPr>
          <a:xfrm>
            <a:off x="785880" y="4572000"/>
            <a:ext cx="71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different tenses are form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ding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prefix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suffix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to the st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having a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different set of ending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79280" y="1173240"/>
            <a:ext cx="8329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fixes and suffixes are the easiest to sp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wo past tenses (Aorist and Imperfect) have an </a:t>
            </a:r>
            <a:r>
              <a:rPr b="1" lang="el-GR" sz="27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efix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ugment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uture and the Aorist both have a </a:t>
            </a:r>
            <a:r>
              <a:rPr b="1" lang="el-GR" sz="27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ff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86040" y="3289320"/>
          <a:ext cx="5400720" cy="2682720"/>
        </p:xfrm>
        <a:graphic>
          <a:graphicData uri="http://schemas.openxmlformats.org/drawingml/2006/table">
            <a:tbl>
              <a:tblPr/>
              <a:tblGrid>
                <a:gridCol w="1203120"/>
                <a:gridCol w="816120"/>
                <a:gridCol w="1523880"/>
                <a:gridCol w="333360"/>
                <a:gridCol w="15242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</a:t>
                      </a:r>
                      <a:r>
                        <a:rPr b="1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</a:t>
                      </a:r>
                      <a:r>
                        <a:rPr b="1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05404D0C-D41B-4B73-AA01-55B585E6414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FF5D5D7D-EF9E-41F0-8AEB-AF85BDA52A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34920" y="1217520"/>
          <a:ext cx="7272360" cy="3568680"/>
        </p:xfrm>
        <a:graphic>
          <a:graphicData uri="http://schemas.openxmlformats.org/drawingml/2006/table">
            <a:tbl>
              <a:tblPr/>
              <a:tblGrid>
                <a:gridCol w="1785960"/>
                <a:gridCol w="1219320"/>
                <a:gridCol w="1752480"/>
                <a:gridCol w="2514600"/>
              </a:tblGrid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k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 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unty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29"/>
          <p:cNvSpPr/>
          <p:nvPr/>
        </p:nvSpPr>
        <p:spPr>
          <a:xfrm>
            <a:off x="800280" y="4884840"/>
            <a:ext cx="754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ndefin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pect may be used for two reas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implication as to manner of a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nctilliar (‘one time’) s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28760" y="1285920"/>
            <a:ext cx="7272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fference between the Imperfect and the Aor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: Un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 unt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fect: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 used to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 was unt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 began to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5760" y="4986360"/>
            <a:ext cx="811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tthe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5.2: He opened his mouth (Aorist) and began to teach (Imperfec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D1A2C22D-DB10-41BC-96C2-47F3355CC4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95120" y="1357200"/>
          <a:ext cx="8734680" cy="3286080"/>
        </p:xfrm>
        <a:graphic>
          <a:graphicData uri="http://schemas.openxmlformats.org/drawingml/2006/table">
            <a:tbl>
              <a:tblPr/>
              <a:tblGrid>
                <a:gridCol w="865440"/>
                <a:gridCol w="2138400"/>
                <a:gridCol w="1860480"/>
                <a:gridCol w="2325600"/>
                <a:gridCol w="154476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i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49"/>
          <p:cNvSpPr/>
          <p:nvPr/>
        </p:nvSpPr>
        <p:spPr>
          <a:xfrm>
            <a:off x="509760" y="4756320"/>
            <a:ext cx="556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erson sing. is ‘he’, ‘she’, or ‘it’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 can be ‘I loosen’, ‘You loosen’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rfect can be 'I used to untie'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99B3471D-EA76-42B1-A305-99D69039F56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500040" y="1192320"/>
          <a:ext cx="8210520" cy="3139920"/>
        </p:xfrm>
        <a:graphic>
          <a:graphicData uri="http://schemas.openxmlformats.org/drawingml/2006/table">
            <a:tbl>
              <a:tblPr/>
              <a:tblGrid>
                <a:gridCol w="1546200"/>
                <a:gridCol w="1663920"/>
                <a:gridCol w="1800000"/>
                <a:gridCol w="1560600"/>
                <a:gridCol w="1639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 - 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 - 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 - 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 - 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sing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 - 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 - 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 - 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 - 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 - 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 - 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 - ε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 - ε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 - 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 - ετ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 - 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 - 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 - 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 - ουσι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 - ουσι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 - 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 - 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65"/>
          <p:cNvSpPr/>
          <p:nvPr/>
        </p:nvSpPr>
        <p:spPr>
          <a:xfrm>
            <a:off x="304920" y="4335480"/>
            <a:ext cx="8534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ture endings = Present e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, Future, Imperfect begin with ‘o’ or ‘e’ sound, Aorist with ‘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erson pl. simi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vabl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Imperfect and Aorist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erson sing., as in Present and Future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erson 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8A510F45-F6F5-412C-99ED-083839226FF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85840" y="1143000"/>
            <a:ext cx="850104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Gentium"/>
              </a:rPr>
              <a:t>ὁ Ἰησους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διδασκεν</a:t>
            </a:r>
            <a:r>
              <a:rPr b="1" lang="el-GR" sz="2400" spc="-1" strike="noStrike">
                <a:solidFill>
                  <a:srgbClr val="000000"/>
                </a:solidFill>
                <a:latin typeface="Gentium"/>
              </a:rPr>
              <a:t> ἐν τῃ συναγωγῃ και πολλοι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πιστευσαν</a:t>
            </a:r>
            <a:r>
              <a:rPr b="1" lang="el-GR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</a:rPr>
              <a:t>ἐδιδασκε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mperfect, therefore describing a past process – 'Jesus was in the process of teaching in the synagogu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</a:rPr>
              <a:t>ἐπιστευσα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orist, therefore describing a past undefined (not a process) action – 'many believed' or 'many came to believ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Jesus was teaching in the synagogue and many believed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Gentium"/>
              </a:rPr>
              <a:t>ὁ θεος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πεμπεν</a:t>
            </a:r>
            <a:r>
              <a:rPr b="1" lang="el-GR" sz="2400" spc="-1" strike="noStrike">
                <a:solidFill>
                  <a:srgbClr val="000000"/>
                </a:solidFill>
                <a:latin typeface="Gentium"/>
              </a:rPr>
              <a:t> τους ἀγγελους. ἀλλα νυν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σμεν</a:t>
            </a:r>
            <a:r>
              <a:rPr b="1" lang="el-GR" sz="2400" spc="-1" strike="noStrike">
                <a:solidFill>
                  <a:srgbClr val="000000"/>
                </a:solidFill>
                <a:latin typeface="Gentium"/>
              </a:rPr>
              <a:t> μον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</a:rPr>
              <a:t>ἐπεμπε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mperfect, therefore describing a past process – 'God used to send messengers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</a:rPr>
              <a:t>ἐσμε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Present, therefore describing the current situation – 'we are alon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God used to send messengers, but now we are al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CC84EEF3-DA56-4342-9601-19FFFDE3059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15:50Z</dcterms:created>
  <dc:creator>Sarah</dc:creator>
  <dc:description/>
  <dc:language>en-US</dc:language>
  <cp:lastModifiedBy>Sarah</cp:lastModifiedBy>
  <dcterms:modified xsi:type="dcterms:W3CDTF">2009-07-10T22:46:57Z</dcterms:modified>
  <cp:revision>64</cp:revision>
  <dc:subject/>
  <dc:title>Slide 1</dc:title>
</cp:coreProperties>
</file>