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6849-65A3-4078-A0BB-DE92390E1F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192B-D3C0-4972-A890-61A24647D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B1C-EA70-4287-999D-638F34E4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DEF-33BB-4A48-BE11-E2B43E86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C7F-F5BF-484A-847A-4EF97034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970-26B1-45C5-82BD-4736ED63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3F8-A0DE-4ADC-95AB-D97FFDA3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317-E4B6-49F7-9C3C-F335EF29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A86-79E3-4CAE-8123-9119F796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53A-A336-44EA-88AC-1962E86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E4D-8C93-4C71-9428-4521326E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9D9-8789-47BA-816C-0C5FABF1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C03-D1B7-4BD5-94E6-BBDB6E5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806-CDA8-43E4-8EDD-E376182F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3BA8-50C9-4B7A-BC62-3896C3243A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D4F340D1-9E97-4534-85B3-4D765BA919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31800" y="1643040"/>
            <a:ext cx="7839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27.6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θη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αὐτο ἐν τῳ καινῳ αὐ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νημει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plac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 in his new t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20.3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καριον ἐστιν μαλλο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διδον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ἠ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μβαν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more bless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g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n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. 3.20: 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ου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ἑστηκ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πι την θυραν και κρου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old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 st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 the door and kn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1E89C6FE-9ECD-4EAD-9B73-382CA5EEAB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800" y="1428840"/>
            <a:ext cx="84204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s marked † conjugate identically to the corresponding par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the Perfect Active is used for a Present intransitive meaning, the Pluperfect Active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ἱστηκε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†) is used for an Imperfect intransitive mea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στημ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both a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, watch the forms of the participles (and the other moods) - 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στ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Present Participle)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τησ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 -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Participle – transitive)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τ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no suffix -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Participle – intransitiv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4497BBC4-8A81-4AD3-A070-99866716BE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8120" y="1128600"/>
            <a:ext cx="89614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9.36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λαβων παιδιον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ἐστησεν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αὐτο ἐν μεσῳ αὐτω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aking a child 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ood h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ir mid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25.33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στησει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τα μεν προβατα ἐκ δεξιων αὐτου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 will st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or 'put') the sheep on his right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ansi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20.32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στας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ὁ Ἰησους ἐφωνησαν αὐτους και εἰπεν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Jesu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ood sti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t: 'having stood') and called them and sai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Cor. 1.24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συνεργοι ἐσμεν της χαρας ὑμων∙ τῃ γαρ πιστει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ἑστηκατ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fellow-workers of your joy, becau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you st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0CAC6453-9650-42BA-9117-4B917BAC28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714680" y="131616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9.1.4 The pattern of ending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6160" y="2643120"/>
          <a:ext cx="8858160" cy="3140280"/>
        </p:xfrm>
        <a:graphic>
          <a:graphicData uri="http://schemas.openxmlformats.org/drawingml/2006/table">
            <a:tbl>
              <a:tblPr/>
              <a:tblGrid>
                <a:gridCol w="1584360"/>
                <a:gridCol w="1455480"/>
                <a:gridCol w="1536840"/>
                <a:gridCol w="1477800"/>
                <a:gridCol w="1428840"/>
                <a:gridCol w="137484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ῳ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α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α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ω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ω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9"/>
          <p:cNvSpPr/>
          <p:nvPr/>
        </p:nvSpPr>
        <p:spPr>
          <a:xfrm>
            <a:off x="2362320" y="1928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41C6EE6D-E91C-4DC5-BC8D-844C32BD9B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528720" y="12859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7320" y="2057400"/>
          <a:ext cx="8915400" cy="3139920"/>
        </p:xfrm>
        <a:graphic>
          <a:graphicData uri="http://schemas.openxmlformats.org/drawingml/2006/table">
            <a:tbl>
              <a:tblPr/>
              <a:tblGrid>
                <a:gridCol w="1557360"/>
                <a:gridCol w="1571400"/>
                <a:gridCol w="1571760"/>
                <a:gridCol w="1191960"/>
                <a:gridCol w="1251000"/>
                <a:gridCol w="177192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ν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ν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ν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ις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–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σα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;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ντ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ς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ντ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υ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σ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ντ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8CABEECE-C35B-4A61-A493-4AA5103DC7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43080" y="1500120"/>
            <a:ext cx="84582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orist A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ica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ηκ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ησα, ἐδωκ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njugat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ly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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στημ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so has intransi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η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ndings a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υθη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s in the Present but using the Verbal 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missing the initial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, δ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except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ative which ar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ς, στηθι, δ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finitiv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ιναι, στηναι, δουν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V="1">
            <a:off x="342360" y="3981600"/>
            <a:ext cx="8458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70766577-496A-4A6C-8A5C-8E7C94CAEC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371600" y="1122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9.1.5 Other similar verb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28520" y="1684440"/>
            <a:ext cx="88012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ἱη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iterally 'send' but only found in compounds such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φιη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forgive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ιη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understand) – This follows that same pattern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ιθη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the Present ste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ἱ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Verbal ste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erbs in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υ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uch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κνυ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I show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λλυ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destroy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ῥηγνυ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break) – These hav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 endings in the Present Tense (with th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owel dominating), but then use an altered stem for the other tenses along with the normal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dings  (see the principal parts for the detai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φημι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(I  sa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- This only appears in the following Indicative Active forms: Present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η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say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ησ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says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ασ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y say; Imperfect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φ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εἰμι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(I am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If you look back at the Present of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see that it has some similarities with the Present of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142920" y="1214280"/>
            <a:ext cx="885816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5.21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ς δυναται ἁμαρτιας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ἀφειναι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εἰ μη μονος ὁ θε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is abl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o forg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s except God al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. 2.4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α ἐχω κατα σου ὁτι την ἀγαπην σου την πρωτη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ἀφηκε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 have (this) against you tha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you abando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r fir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4.7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φη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αὐτῳ ὁ Ἰησους∙ Παλιν γεγραπτ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him, 'Again it is written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s. 2.18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δειξο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μοι την πιστιν σου χωρις των ἐργων, καγω σο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δειξω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ων ἐργων μου την πιστ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 your faith without works,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ill s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 m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ith through my wo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42834E8A-6862-410C-8AB9-234A74B67C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4B792980-AFF6-4E89-8B16-03A51CA7A1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181160" y="2233440"/>
            <a:ext cx="6781680" cy="2297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and Imperf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Te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vowel leng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1C7B8529-C466-4DD8-9E42-2BEAC668A9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0840" y="1865160"/>
          <a:ext cx="8840880" cy="3292560"/>
        </p:xfrm>
        <a:graphic>
          <a:graphicData uri="http://schemas.openxmlformats.org/drawingml/2006/table">
            <a:tbl>
              <a:tblPr/>
              <a:tblGrid>
                <a:gridCol w="1523880"/>
                <a:gridCol w="2210040"/>
                <a:gridCol w="2280960"/>
                <a:gridCol w="282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o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μα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onou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ηρο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ulf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hthong or long drops o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ten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63FD0878-D31E-4556-BF47-C2E41D0FF0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643040"/>
            <a:ext cx="830592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t infinitives of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behave as if the Infinitive ending is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t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henc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ρου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 Imperfect Active Indicative of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the 'optional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 was not used. Thus the ending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ing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ιλει, ἐτιμα, ἐπληρ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ew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keep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other tenses 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σ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75B4FFDC-1DC1-4949-958C-E3DD8CB80A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1415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.1 Characteristics of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5840" y="2581200"/>
          <a:ext cx="8529480" cy="2770200"/>
        </p:xfrm>
        <a:graphic>
          <a:graphicData uri="http://schemas.openxmlformats.org/drawingml/2006/table">
            <a:tbl>
              <a:tblPr/>
              <a:tblGrid>
                <a:gridCol w="1357200"/>
                <a:gridCol w="2428920"/>
                <a:gridCol w="2028960"/>
                <a:gridCol w="2714400"/>
              </a:tblGrid>
              <a:tr h="126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ree 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er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Present &amp; Imperfec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l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use to 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D277A6CB-9EDE-40BE-BB52-4DE74FF39E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785880" y="1187280"/>
            <a:ext cx="548640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ιλε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 He was l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φιλημ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 I have been 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τιμ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She was hon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ᾳ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You are hono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714680" y="4143240"/>
            <a:ext cx="59292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ησ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 I will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ρο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t is fulf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ρου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It is being fulf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πληρω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It has been fulf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DBCC3083-D4B0-42B5-84B3-E565EF0847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42920" y="128592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hes. 2.1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ρωτω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δε ὑμας, ἀδελφοι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e as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ou, broth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h. 6.2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τιμ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ν πατερα σου και την μητε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on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our father and m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. 2:20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δε οὐκετι ἐγω,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ζ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δε ἐν ἐμοι Χριστος∙ ὃ δε νυ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 σαρκι, ἐν πιστ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ῃ του υἱου του θεου 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ἀγαπησαντο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με και παραδοντος ἑαυτον ὑπερ ἐμ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is no long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who l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but Chris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n me. W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w l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n fles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l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y faith in the son of Go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o lo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lit: 'the one having loved') me and handed himself ov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8565E0E9-434D-48CF-8D96-F703A4DF4E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428840"/>
            <a:ext cx="871560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12.16-1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μετιμησ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αὐτοις ἱνα μη φανερον αὐτο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ησωσιν, ἱν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ληρωθ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 ῥηθεν δια Ἠσαϊου 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ου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rebuk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m so that they would not make hi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, in order that what was spoken through Isaiah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he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ight be fulfi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im. 3.1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φανερωθη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ν σαρκι, ἐδικαιωθη ἐ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as revea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flesh, justified in spirit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7C990217-9080-4390-960B-F1E8CFD112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14200" y="1214280"/>
            <a:ext cx="89298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t stem is formed from the Verbal stem by a form of redup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consonant is repeated (or an 'h' sound for those beginning with vowels 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together with 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he difference between this and proper reduplication (for the Perfect) which uses 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ow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4761000"/>
            <a:ext cx="7772400" cy="111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-</a:t>
            </a:r>
            <a:r>
              <a:rPr b="0" lang="el-GR" sz="35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erbs the Present stem is longer than the Verbal 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383BB133-AB40-4468-ADA6-93045A6A5E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8280" y="11764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.2 Parsing -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verbs – the survival guid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2360" y="1801800"/>
          <a:ext cx="8534520" cy="4602240"/>
        </p:xfrm>
        <a:graphic>
          <a:graphicData uri="http://schemas.openxmlformats.org/drawingml/2006/table">
            <a:tbl>
              <a:tblPr/>
              <a:tblGrid>
                <a:gridCol w="4516560"/>
                <a:gridCol w="40179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Indicative (or 1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Other Mood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augment +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Other Mo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 (+augment in Indicativ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θη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ass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plicated Verbal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E52364BA-F327-4721-A9E3-596E350207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41360" y="1428840"/>
            <a:ext cx="82296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διδωμ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τιθημ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oth use a 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in the Indicative, and a 2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in the Other Moods. Thus, Verbal stem plu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ust be the Future Indicative (since there is no 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Other Moods). For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ἱστημ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here there is a 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in the Other Moods, the Future Indicative has to be distinguished by its endings, which are always the same as the Future Indicativ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duplication in the Perfect is proper reduplication with an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δεδο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τεθε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ἑστα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89D61A8B-3049-45C5-89B2-4D68907E5E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1550880"/>
          <a:ext cx="8839440" cy="4822920"/>
        </p:xfrm>
        <a:graphic>
          <a:graphicData uri="http://schemas.openxmlformats.org/drawingml/2006/table">
            <a:tbl>
              <a:tblPr/>
              <a:tblGrid>
                <a:gridCol w="1368720"/>
                <a:gridCol w="2365200"/>
                <a:gridCol w="457200"/>
                <a:gridCol w="2563920"/>
                <a:gridCol w="331560"/>
                <a:gridCol w="1752840"/>
              </a:tblGrid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ιθετε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you pla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θηκε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nd Aorist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he plac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ιθεναι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θειναι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εδοτ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edupl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erf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t has been giv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ἱστας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tanding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τας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aving stood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ωσετε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uture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you will g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στησεν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 ε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+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st Aorist In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e st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95"/>
          <p:cNvSpPr/>
          <p:nvPr/>
        </p:nvSpPr>
        <p:spPr>
          <a:xfrm>
            <a:off x="152280" y="113364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00E2FE93-2D60-4D20-A248-FB6A6ABB74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47600" y="1157400"/>
            <a:ext cx="88534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2.10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ῳ∙ Πας ἀνθρωπος πρωτον τον καλον οἰνο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τιθησι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he said to him, 'Every perso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uts (out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 fine wine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rst …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t. 12.18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θησω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ο πνευμα μου ἐπ’ αὐ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 will pla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y spirit on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19.19: 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ραψεν δε και τιτλον ὁ Πιλατος κα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θηκε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πι του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ταυρ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ilate also wrote a notice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lac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it) on the cro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 Tim. 1.11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ὃ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τεθη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γω κηρυξ και ἀποστολος και διδασκαλ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which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 was appoint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 herald, and apostle and teach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30320" y="1235160"/>
            <a:ext cx="89154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ph. 1.22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αὐτον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ἐδωκεν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κεφαλην ὑπερ παντα τῃ ἐκκλησιᾳ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 ga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m as head (or 'made him head') over all thing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u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4.11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λεγεν αὐτοις∙ Ὑμιν το μυστηριον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δεδοται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της βασιλειας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ου θε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id to them, 'The secret of the kingdom of Go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as been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you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20.18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ὁ υἱος του ἀνθρωπου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παραδοθησεται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τοις ἀρχιερευσιν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son of ma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ll be handed o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he chief prie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Pet. 3.15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θως και ὁ ἀγαπητος ἡμων ἀδελφος Παυλος κατα την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δοθεισαν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αὐτῳ σοφιαν ἐγραψεν ὑμ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as our beloved brother Paul also wrote to you according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sdo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112F4E75-3576-4F92-889D-0848CDF873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5EDC3650-E2D4-435B-8286-72F79D9B26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547640" y="1108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.3 The meaning of 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ἱστημι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1360" y="1758960"/>
          <a:ext cx="8758440" cy="4486320"/>
        </p:xfrm>
        <a:graphic>
          <a:graphicData uri="http://schemas.openxmlformats.org/drawingml/2006/table">
            <a:tbl>
              <a:tblPr/>
              <a:tblGrid>
                <a:gridCol w="819000"/>
                <a:gridCol w="904320"/>
                <a:gridCol w="216000"/>
                <a:gridCol w="2443680"/>
                <a:gridCol w="2738520"/>
                <a:gridCol w="16369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want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use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τησ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used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στησ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nsitiv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ἑστηκ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τησο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t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her 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στ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σταθ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22:23:23Z</dcterms:created>
  <dc:creator>Sarah</dc:creator>
  <dc:description/>
  <dc:language>en-US</dc:language>
  <cp:lastModifiedBy>Sarah</cp:lastModifiedBy>
  <dcterms:modified xsi:type="dcterms:W3CDTF">2009-07-11T14:37:20Z</dcterms:modified>
  <cp:revision>71</cp:revision>
  <dc:subject/>
  <dc:title>Slide 1</dc:title>
</cp:coreProperties>
</file>