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8158-D509-4D26-845B-DE76DE861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0620-3726-42EC-BAB5-AAC96FEF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B679-0A60-497E-A264-5350431A2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51EB-1531-4AB9-8B6D-BC3D0BB52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897A-29A4-4E8D-B6D2-2BD70542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D4D7-C78A-4753-A403-DD0510CE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6BB8-19CD-47D3-9F68-6EE90034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1E99-270C-455F-915B-887705B1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3ACB-364F-4C45-B9CC-186B1405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B28C-306F-4439-A298-6E0C3DA3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D7BF-5972-4EA7-90BD-A60F3653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2781-5F5B-4605-B02B-6D37CCD8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02E3-FA0E-4A25-BDA6-64B4F2E0BD4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:Grammar </a:t>
            </a:r>
            <a:fld id="{B03871F8-B54D-4415-9FDA-34DA1D9806C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1 NOUNS WITH VOWEL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85840" y="1500120"/>
            <a:ext cx="8572320" cy="15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ty' or ‘town’ is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πολι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πολεω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ἡ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'king' is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βασιλευ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,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βασιλεω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ὁ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914400" y="3232080"/>
          <a:ext cx="7342200" cy="2468520"/>
        </p:xfrm>
        <a:graphic>
          <a:graphicData uri="http://schemas.openxmlformats.org/drawingml/2006/table">
            <a:tbl>
              <a:tblPr/>
              <a:tblGrid>
                <a:gridCol w="1486080"/>
                <a:gridCol w="1371600"/>
                <a:gridCol w="1014120"/>
                <a:gridCol w="1592280"/>
                <a:gridCol w="1878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ολ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ολε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ασιλευ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ασιλε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ολ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ολε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ασιλε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ασιλε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ολεω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ολε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ασιλεω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ασιλε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ολε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ολε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ασιλε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ασιλευ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εἱ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(ONE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:Grammar </a:t>
            </a:r>
            <a:fld id="{17514543-E46B-48CF-9FB8-AF59DD88A1B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655640" y="1560600"/>
          <a:ext cx="5803920" cy="2468520"/>
        </p:xfrm>
        <a:graphic>
          <a:graphicData uri="http://schemas.openxmlformats.org/drawingml/2006/table">
            <a:tbl>
              <a:tblPr/>
              <a:tblGrid>
                <a:gridCol w="1005120"/>
                <a:gridCol w="1795320"/>
                <a:gridCol w="1687680"/>
                <a:gridCol w="131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u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in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ι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ἑν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ια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ἑ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ἑ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ι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ἑ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ἑν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ιᾳ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ἑν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Text Box 131"/>
          <p:cNvSpPr/>
          <p:nvPr/>
        </p:nvSpPr>
        <p:spPr>
          <a:xfrm>
            <a:off x="1986120" y="4473720"/>
            <a:ext cx="5138640" cy="147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nt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tch the breathings -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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ἑ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one) and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in);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ἱ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one) and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ἰ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into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εἱ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(ONE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:Grammar </a:t>
            </a:r>
            <a:fld id="{F8F24256-D7A5-4658-B39C-B5DACD5449A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714680" y="1071720"/>
            <a:ext cx="5715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οὐδεις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μηδεις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'no one, nothing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880920" y="1598760"/>
          <a:ext cx="7358040" cy="2225520"/>
        </p:xfrm>
        <a:graphic>
          <a:graphicData uri="http://schemas.openxmlformats.org/drawingml/2006/table">
            <a:tbl>
              <a:tblPr/>
              <a:tblGrid>
                <a:gridCol w="1252800"/>
                <a:gridCol w="2235240"/>
                <a:gridCol w="2100240"/>
                <a:gridCol w="1769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u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in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ὐδ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ὐδεμι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ὐδ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ὐδε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ὐδεμια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ὐδ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ὐδε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ὐδεμι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ὐδε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ὐδεν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ὐδεμι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ὐδεν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427040" y="4000680"/>
          <a:ext cx="6288120" cy="2225520"/>
        </p:xfrm>
        <a:graphic>
          <a:graphicData uri="http://schemas.openxmlformats.org/drawingml/2006/table">
            <a:tbl>
              <a:tblPr/>
              <a:tblGrid>
                <a:gridCol w="1067040"/>
                <a:gridCol w="1904760"/>
                <a:gridCol w="1791000"/>
                <a:gridCol w="1525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u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in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ηδ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ηδεμι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ηδ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ηδε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ηδεμια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ηδ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ηδε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ηδεμι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ηδε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ηδεν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ηδεμι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ηδεν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εἱ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(ONE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:Grammar </a:t>
            </a:r>
            <a:fld id="{20330A96-D6FB-4BB7-819A-B6E634A44B8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42920" y="1143000"/>
            <a:ext cx="8929800" cy="53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Greek, a sentence is either negative, or not; unlike in English, two negatives do not make a pos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 13.32: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περι δε της ἡμερας ἐκεινης ἠ της ὡρας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οὐδεις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οἰδεν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he knows]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οὐδε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οἱ ἀγγελοι ἐν οὐρανῳ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οὐδε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ὁ υἱος, εἰ μη ὁ πατηρ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But about that day or hour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no o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knows,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neith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gels in heaven,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n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Son, but only the Fa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 14.60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Οὐκ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ἀποκρινῃ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οὐδε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;                                  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 Do you reply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noth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176040" y="1500120"/>
            <a:ext cx="8610840" cy="43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600" indent="-9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0800" indent="-936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se two patterns are very similar – in particular having the distinctive gen. singular in -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εω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and nom. and acc. plurals in -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ει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. The main difference between them is in the acc. singular (-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ιν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r -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ε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0800" indent="-936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nk of -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εω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as -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εο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and then -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ο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ending is correct for the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declens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0800" indent="-93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re is another pattern of words which have stems ending in -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υ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. However, there only word in this family which is at all common, 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ἰχθυ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, and even that only occurs 20 times in the New Testament. Its endings are the same as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ἀστηρ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xcept for the accusative singular: 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ἰχθυς,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Arial"/>
              </a:rPr>
              <a:t>ἰχθυν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, ἰχθυος, ἰχθυ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Arial"/>
              </a:rPr>
              <a:t>;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ἰχθυες, ἰχθυας, ἰχθυων, ἰχθυσι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:Grammar </a:t>
            </a:r>
            <a:fld id="{010AA202-F8A2-4B7A-9B32-1FCC9422540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1 NOUNS WITH VOWEL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:Grammar </a:t>
            </a:r>
            <a:fld id="{FB20499C-DC57-460A-94D2-C4D11E0010D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1 NOUNS WITH VOWEL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892080" y="1817640"/>
            <a:ext cx="7353360" cy="332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int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on't worry too much about these noun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y are not particularly common,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nd most of their forms are close enough to either the 1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or the 3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declension endings in the appropriate case and number, that you can normally guess them correctly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2705040" y="11239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3.2.1 Nou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028880" y="1765440"/>
          <a:ext cx="7099200" cy="4343400"/>
        </p:xfrm>
        <a:graphic>
          <a:graphicData uri="http://schemas.openxmlformats.org/drawingml/2006/table">
            <a:tbl>
              <a:tblPr/>
              <a:tblGrid>
                <a:gridCol w="1212840"/>
                <a:gridCol w="798480"/>
                <a:gridCol w="1174680"/>
                <a:gridCol w="1538280"/>
                <a:gridCol w="117360"/>
                <a:gridCol w="2257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 of getting the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θ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θ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er, therefore as nomina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θνου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θνε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θνε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θνε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θν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θνε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θν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er, therefore as nomina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θν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θνε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θνε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θνε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:Grammar </a:t>
            </a:r>
            <a:fld id="{6588CFC9-A7F9-4353-A183-67317D77B11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24120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NTRACTING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:Grammar </a:t>
            </a:r>
            <a:fld id="{C65F2254-3824-469E-A65A-D9D5A33C747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71680" y="1527120"/>
          <a:ext cx="8001000" cy="3916440"/>
        </p:xfrm>
        <a:graphic>
          <a:graphicData uri="http://schemas.openxmlformats.org/drawingml/2006/table">
            <a:tbl>
              <a:tblPr/>
              <a:tblGrid>
                <a:gridCol w="907920"/>
                <a:gridCol w="798480"/>
                <a:gridCol w="1494000"/>
                <a:gridCol w="1828800"/>
                <a:gridCol w="1371600"/>
                <a:gridCol w="1600200"/>
              </a:tblGrid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uline / Feminine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er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.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ληθη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ληθε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ληθ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ληθε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ληθου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ληθου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ληθε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ληθε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ληθε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ληθ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ληθε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ying 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ληθ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ληθ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ληθ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ληθεσι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ληθεσι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Text Box 262"/>
          <p:cNvSpPr/>
          <p:nvPr/>
        </p:nvSpPr>
        <p:spPr>
          <a:xfrm>
            <a:off x="1409760" y="103824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.2.2 Adjecti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63"/>
          <p:cNvSpPr/>
          <p:nvPr/>
        </p:nvSpPr>
        <p:spPr>
          <a:xfrm>
            <a:off x="176040" y="5572080"/>
            <a:ext cx="832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t is only the acc. plural masculine/feminine which is peculiar, i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ing the nom. when one might expect some contraction of –</a:t>
            </a:r>
            <a:r>
              <a:rPr b="0" lang="el-GR" sz="2100" spc="-1" strike="noStrike">
                <a:solidFill>
                  <a:srgbClr val="000000"/>
                </a:solidFill>
                <a:latin typeface="Gentium"/>
              </a:rPr>
              <a:t>εα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24120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NTRACTING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"/>
          <p:cNvSpPr/>
          <p:nvPr/>
        </p:nvSpPr>
        <p:spPr>
          <a:xfrm>
            <a:off x="357120" y="1392120"/>
            <a:ext cx="8215560" cy="46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decline a word such as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you needs to know four pieces of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masculine nomin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neuter nomin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genitive (or stem) for the masculine &amp; ne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feminine nominative sin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once we know the nom. sing.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σα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th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 stem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ντ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we can deduce the rest of the declens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:Grammar </a:t>
            </a:r>
            <a:fld id="{A688E1AA-76DD-4A46-9158-17B2D0ED4BD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πα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(ALL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:Grammar </a:t>
            </a:r>
            <a:fld id="{33DEFD05-CF31-4BB6-9BED-FB813063D3F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41200" y="1285920"/>
          <a:ext cx="8643960" cy="4937040"/>
        </p:xfrm>
        <a:graphic>
          <a:graphicData uri="http://schemas.openxmlformats.org/drawingml/2006/table">
            <a:tbl>
              <a:tblPr/>
              <a:tblGrid>
                <a:gridCol w="1330560"/>
                <a:gridCol w="1171440"/>
                <a:gridCol w="2192400"/>
                <a:gridCol w="2062080"/>
                <a:gridCol w="1887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u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in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rd Dec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t Dec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rd Dec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σ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ντ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σα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ντ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ση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ντ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ντ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σ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ντ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ντε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σ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ντ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ντ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σ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ντ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ντ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σ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ντ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σα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TextBox 4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πα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(ALL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30240" y="1098720"/>
            <a:ext cx="914400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ς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n its own; masculine = person/man; feminine = woman;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euter = thing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John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1.3: 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Gentium"/>
              </a:rPr>
              <a:t>παντα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 δι’ αὐτου ἐγενετο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All thing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came to be through hi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rk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6.50: 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Gentium"/>
              </a:rPr>
              <a:t>παντες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 γαρ αὐτον εἰδον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everyon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saw hi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t can occur with a noun without an artic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Matt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7.17: 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Gentium"/>
              </a:rPr>
              <a:t>παν</a:t>
            </a:r>
            <a:r>
              <a:rPr b="0" lang="en-GB" sz="25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δενδρον ἀγαθον καρπους καλους ποιει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Every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good tree produces good fruit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:Grammar </a:t>
            </a:r>
            <a:fld id="{90F75583-E383-4FCD-A7AB-8DDEB280A29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πα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(ALL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πα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(ALL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:Grammar </a:t>
            </a:r>
            <a:fld id="{D05E2876-A4CA-4E46-91FC-7F49F1A550D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57320" y="1214280"/>
            <a:ext cx="8772480" cy="50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· It can occur with a noun with the article, in which case it normally stands in the predicative positive (i.e. before the 'the'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 14.53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υνερχονται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παντες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οἱ ἀρχιερει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chief priests ga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·  It can occur with the article and particip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John 5.1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πας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ὁ πιστευων ὁτι Ἰησους ἐστιν ὁ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Χριστο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veryo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ho believes that the Messiah is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su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10:11:56Z</dcterms:created>
  <dc:creator>Sarah</dc:creator>
  <dc:description/>
  <dc:language>en-US</dc:language>
  <cp:lastModifiedBy>Sarah</cp:lastModifiedBy>
  <dcterms:modified xsi:type="dcterms:W3CDTF">2009-07-11T00:15:49Z</dcterms:modified>
  <cp:revision>27</cp:revision>
  <dc:subject/>
  <dc:title>Slide 1</dc:title>
</cp:coreProperties>
</file>