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263F-7C5C-4596-A909-719B146B7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E46C-21D8-45D0-8A1C-70027F34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66EC-A984-49ED-A64D-3D691F6D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68F2-276E-41B2-9A03-ACF3FF86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3950-985C-47B5-BAC3-DD74E1BE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38B5-A9F8-4A38-B561-FC3CA1DD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A0CF-6F7D-4C12-AE68-7CA53F6C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36A6-BB36-4D4E-BE35-3BC0E022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FA45-AE98-4A20-8102-1DC56F71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A481-074B-420F-8D53-A10B616D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2BD0-B1E4-4DEE-8209-5CEDD306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6299-B37B-4B8D-B737-DBB7D856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1ABA-0702-4896-AE05-81C348C9D54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3" name="TextBox 5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Grammar </a:t>
            </a:r>
            <a:fld id="{A8849D16-0161-43A4-80BC-C527906D32C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428760" y="2133720"/>
            <a:ext cx="8429400" cy="26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t. 21.11: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ἐλεγον∙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Οὐτο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ἐστιν ὁ προφητης Ἰησου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were saying: '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i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the prophe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sus …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t. 14.1: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ἐ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ἐκεινῳ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τῳ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καιρῳ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ἠκουσε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Ἡρῳδη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a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ime Herod heard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1905120" y="117324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9.2.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λλος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λληλος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303120" y="2000160"/>
            <a:ext cx="850104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λλος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other) and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λληλος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one another) both decline like 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ἐκεινο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4.36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και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ἄλλα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πλοια ἠν μετ’ αὐτο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oth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oats were with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4.41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ἐλεγον προς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ἀλληλου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And they were saying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o one anoth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2 THIRD PERSON PRO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Grammar </a:t>
            </a:r>
            <a:fld id="{C7FEE08D-3451-4686-A9F2-45D861D13C7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247680" y="60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3 FIRST AND SECOND PERS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RONOUNS 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Grammar </a:t>
            </a:r>
            <a:fld id="{EDA31308-91B8-42DC-9FBA-E3ADE686036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2428920" y="11239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9.3.1 Pronou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87200" y="1790640"/>
          <a:ext cx="8786880" cy="3353040"/>
        </p:xfrm>
        <a:graphic>
          <a:graphicData uri="http://schemas.openxmlformats.org/drawingml/2006/table">
            <a:tbl>
              <a:tblPr/>
              <a:tblGrid>
                <a:gridCol w="900360"/>
                <a:gridCol w="1290600"/>
                <a:gridCol w="1461960"/>
                <a:gridCol w="1116000"/>
                <a:gridCol w="1031760"/>
                <a:gridCol w="939960"/>
                <a:gridCol w="1101600"/>
                <a:gridCol w="944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ers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ers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γω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ἡμ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ὑμ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με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ἡμ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ὑμ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μου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μ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me, 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ἡμ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us, 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you, 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ὑμ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μο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ο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/for 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ἡμ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/for 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ο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/for y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ὑμ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Text Box 273"/>
          <p:cNvSpPr/>
          <p:nvPr/>
        </p:nvSpPr>
        <p:spPr>
          <a:xfrm>
            <a:off x="357120" y="5357880"/>
            <a:ext cx="82296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υομε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self means 'we untie'. There is no need for a word for 'we'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428760" y="1773360"/>
            <a:ext cx="824868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l. 5.2: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Greek"/>
                <a:ea typeface="Times New Roman"/>
              </a:rPr>
              <a:t>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ἐγω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Παυλος λεγω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ὑμι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..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aul tell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yo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ohn 12.27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σωσον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με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ἐκ της ὡρας ταυτη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Sa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from this h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ohn 21.17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λεγει αὐτῳ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...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Φιλεις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με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; ...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και λεγε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αὐτῳ∙ Κυριε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..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συ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γινωσκεις ὁτι φιλω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σε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he said … 'Do you lo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?' … and he said to him, 'Lord …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yo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know that I lo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yo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'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247680" y="60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3 FIRST AND SECOND PERS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RONOUNS 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Grammar </a:t>
            </a:r>
            <a:fld id="{79BAF97F-6194-44A5-A0B1-83C59D281A2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247680" y="60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3 FIRST AND SECOND PERS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RONOUNS 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Grammar </a:t>
            </a:r>
            <a:fld id="{00E312BD-2503-4D3D-AFC2-B7B112B5664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752480" y="1752480"/>
            <a:ext cx="5639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9.3.2 Reflexive Pronouns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219320" y="2971800"/>
          <a:ext cx="6705360" cy="2011320"/>
        </p:xfrm>
        <a:graphic>
          <a:graphicData uri="http://schemas.openxmlformats.org/drawingml/2006/table">
            <a:tbl>
              <a:tblPr/>
              <a:tblGrid>
                <a:gridCol w="2347920"/>
                <a:gridCol w="435744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el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μαυτος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(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lines like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ὐτος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rself (sing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εαυτος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(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lines like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ὐτος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rsel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 use 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ἑαυτ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rselves (pl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 use 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ἑαυτ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1866960" y="1428840"/>
            <a:ext cx="5410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9.3.3 Possessive Adjectives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85800" y="2286000"/>
            <a:ext cx="77724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commonly by usin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genitive of the personal pronouns -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μο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σο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ἡμω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ὑμω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of me, of you, of us, of you)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, in the singular you can use a special adje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928960" y="4786200"/>
          <a:ext cx="3090960" cy="1006560"/>
        </p:xfrm>
        <a:graphic>
          <a:graphicData uri="http://schemas.openxmlformats.org/drawingml/2006/table">
            <a:tbl>
              <a:tblPr/>
              <a:tblGrid>
                <a:gridCol w="2168640"/>
                <a:gridCol w="92232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μος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r (sing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TextBox 4"/>
          <p:cNvSpPr/>
          <p:nvPr/>
        </p:nvSpPr>
        <p:spPr>
          <a:xfrm>
            <a:off x="247680" y="60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3 FIRST AND SECOND PERS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RONOUNS 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Grammar </a:t>
            </a:r>
            <a:fld id="{B8EF5B0F-D703-4D9C-802A-A864EABD3F6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247680" y="60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3 FIRST AND SECOND PERS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RONOUNS 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Grammar </a:t>
            </a:r>
            <a:fld id="{A0875E28-ACFF-46E0-A61B-4265BE746FE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500040" y="3500280"/>
            <a:ext cx="7929720" cy="28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ohn 10.26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οὐκ ἐστε ἐκ των προβατων των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ἐμω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ou are not 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heep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hn 20.28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Ὁ κυριος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μου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και ὁ θεος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μο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Lord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Go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990720" y="1357200"/>
            <a:ext cx="7138800" cy="1899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Hin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'My words' is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οἱ λογου μο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not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λογοι μο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Compare: 'his words'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οἱ λογοι αὐτο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) 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ἐμο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σο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μο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ἡμω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σο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ὑμων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l need the artic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2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Grammar </a:t>
            </a:r>
            <a:fld id="{37BA0CCD-7D87-443C-9499-ED7A16FE25C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2324160" y="1595520"/>
            <a:ext cx="4495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9.4.1 Timid words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271520" y="2814480"/>
            <a:ext cx="6572160" cy="2235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ἀρα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με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 the one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γα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cause / fo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οὐν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r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δε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u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τε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nnot come as the first wo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3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Grammar </a:t>
            </a:r>
            <a:fld id="{9F4AD257-7570-4387-9238-A4ED34129AC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04920" y="2556000"/>
            <a:ext cx="8610480" cy="28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rk 3.10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πολλους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γαρ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ἐθεραπευσε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becau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aled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Thes. 2.20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ὑμεις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γαρ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ἐστε ἡ δοξα ἡμων και ἡ χαρα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becau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you are our glory and joy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4"/>
          <p:cNvGrpSpPr/>
          <p:nvPr/>
        </p:nvGrpSpPr>
        <p:grpSpPr>
          <a:xfrm>
            <a:off x="2142720" y="2490840"/>
            <a:ext cx="1667160" cy="223920"/>
            <a:chOff x="2142720" y="2490840"/>
            <a:chExt cx="1667160" cy="223920"/>
          </a:xfrm>
        </p:grpSpPr>
        <p:sp>
          <p:nvSpPr>
            <p:cNvPr id="151" name="Line 5"/>
            <p:cNvSpPr/>
            <p:nvPr/>
          </p:nvSpPr>
          <p:spPr>
            <a:xfrm flipH="1">
              <a:off x="2976120" y="2490840"/>
              <a:ext cx="83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6"/>
            <p:cNvSpPr/>
            <p:nvPr/>
          </p:nvSpPr>
          <p:spPr>
            <a:xfrm flipH="1">
              <a:off x="2142720" y="2490840"/>
              <a:ext cx="83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"/>
            <p:cNvSpPr/>
            <p:nvPr/>
          </p:nvSpPr>
          <p:spPr>
            <a:xfrm>
              <a:off x="2143080" y="2490840"/>
              <a:ext cx="0" cy="22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8"/>
            <p:cNvSpPr/>
            <p:nvPr/>
          </p:nvSpPr>
          <p:spPr>
            <a:xfrm flipV="1">
              <a:off x="3809880" y="2490840"/>
              <a:ext cx="0" cy="22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9"/>
          <p:cNvSpPr/>
          <p:nvPr/>
        </p:nvSpPr>
        <p:spPr>
          <a:xfrm>
            <a:off x="304920" y="1946160"/>
            <a:ext cx="327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Grammar </a:t>
            </a:r>
            <a:fld id="{BCDC6C5C-51D2-49B7-B53E-CBC31DC829A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2286000" y="13572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9.4.2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μεν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δε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457200" y="2143080"/>
            <a:ext cx="7620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ε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recedes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order to express contr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57120" y="3000240"/>
            <a:ext cx="8305920" cy="32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λογιζεσθε ἑαυτους εἰνα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νεκρους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με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τῃ ἁμαρτιᾳ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ζωντας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δε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τῳ θε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om 6.1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consider yourselves to be (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n the on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h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dead to sin but (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ne the other h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alive t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od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6"/>
          <p:cNvGrpSpPr/>
          <p:nvPr/>
        </p:nvGrpSpPr>
        <p:grpSpPr>
          <a:xfrm>
            <a:off x="4786200" y="3670200"/>
            <a:ext cx="1643040" cy="214560"/>
            <a:chOff x="4786200" y="3670200"/>
            <a:chExt cx="1643040" cy="214560"/>
          </a:xfrm>
        </p:grpSpPr>
        <p:sp>
          <p:nvSpPr>
            <p:cNvPr id="162" name="Line 7"/>
            <p:cNvSpPr/>
            <p:nvPr/>
          </p:nvSpPr>
          <p:spPr>
            <a:xfrm flipH="1">
              <a:off x="5607720" y="3670200"/>
              <a:ext cx="821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8"/>
            <p:cNvSpPr/>
            <p:nvPr/>
          </p:nvSpPr>
          <p:spPr>
            <a:xfrm flipH="1">
              <a:off x="4786200" y="3670200"/>
              <a:ext cx="821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9"/>
            <p:cNvSpPr/>
            <p:nvPr/>
          </p:nvSpPr>
          <p:spPr>
            <a:xfrm>
              <a:off x="4786200" y="3670200"/>
              <a:ext cx="0" cy="21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0"/>
            <p:cNvSpPr/>
            <p:nvPr/>
          </p:nvSpPr>
          <p:spPr>
            <a:xfrm flipV="1">
              <a:off x="6429240" y="3670200"/>
              <a:ext cx="0" cy="21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1271160" y="4348080"/>
            <a:ext cx="1371960" cy="152640"/>
            <a:chOff x="1271160" y="4348080"/>
            <a:chExt cx="1371960" cy="152640"/>
          </a:xfrm>
        </p:grpSpPr>
        <p:sp>
          <p:nvSpPr>
            <p:cNvPr id="167" name="Line 12"/>
            <p:cNvSpPr/>
            <p:nvPr/>
          </p:nvSpPr>
          <p:spPr>
            <a:xfrm flipH="1">
              <a:off x="1956960" y="434808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3"/>
            <p:cNvSpPr/>
            <p:nvPr/>
          </p:nvSpPr>
          <p:spPr>
            <a:xfrm flipH="1">
              <a:off x="1271160" y="434808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4"/>
            <p:cNvSpPr/>
            <p:nvPr/>
          </p:nvSpPr>
          <p:spPr>
            <a:xfrm>
              <a:off x="1271520" y="4348080"/>
              <a:ext cx="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5"/>
            <p:cNvSpPr/>
            <p:nvPr/>
          </p:nvSpPr>
          <p:spPr>
            <a:xfrm flipV="1">
              <a:off x="2643120" y="4348080"/>
              <a:ext cx="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239760" y="1414440"/>
            <a:ext cx="8648640" cy="43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Cor. 1.12:</a:t>
            </a: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ἑκαστος ὑμων λεγει∙ Ἐγω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με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εἰμι Παυλου, ἐγω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δε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’Απολλω, ἐγω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δε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Κηφα, ἐγω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δε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Χριστο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Each of you says, 'I am Paul's, I am Apollos', I a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phas', I am Christ's'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Acts 14.4: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..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και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οἱ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με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ἠσαν συν τοις Ἰουδαιοις,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οἱ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δε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συν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 τοις ἀποστολοι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ere with the Jews but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othe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ere with th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ostles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Grammar </a:t>
            </a:r>
            <a:fld id="{FEF9ADC3-D1DB-4FEB-AB46-676ACBBAE86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2743200" y="10954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.1.1 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46200" y="2035080"/>
          <a:ext cx="7854840" cy="4108680"/>
        </p:xfrm>
        <a:graphic>
          <a:graphicData uri="http://schemas.openxmlformats.org/drawingml/2006/table">
            <a:tbl>
              <a:tblPr/>
              <a:tblGrid>
                <a:gridCol w="1166760"/>
                <a:gridCol w="1127160"/>
                <a:gridCol w="2012760"/>
                <a:gridCol w="1890720"/>
                <a:gridCol w="1657440"/>
              </a:tblGrid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u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i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ν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ν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ν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ν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ν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ν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νη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ν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κειν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ν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ν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νο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ν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νου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ν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ν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να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ν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 Box 202"/>
          <p:cNvSpPr/>
          <p:nvPr/>
        </p:nvSpPr>
        <p:spPr>
          <a:xfrm>
            <a:off x="928800" y="1428840"/>
            <a:ext cx="160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ἐκεινο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Grammar </a:t>
            </a:r>
            <a:fld id="{25A0F1AE-1DF2-4DA8-9D13-A8895D2E931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1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Grammar </a:t>
            </a:r>
            <a:fld id="{BBF8CD91-53F5-449C-A5D8-6218ABEDF41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981080" y="12142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9.4.3 Use of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δε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723960" y="1857240"/>
            <a:ext cx="7696080" cy="45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δε</a:t>
            </a: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a weak ‘but’, whereas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λλα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resses 'but' more strongly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δε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also used just with the article (e.g.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ὁ δε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point out that the subject has changed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rk 6.37-38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λεγουσιν αὐτῳ ...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ὁ δε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λεγει αὐτοις,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      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Ποσους ἀρτους ἐχετε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;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They said to him ..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he sai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o them, 'How many loaves of brea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do you have?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3"/>
          <p:cNvSpPr/>
          <p:nvPr/>
        </p:nvSpPr>
        <p:spPr>
          <a:xfrm>
            <a:off x="2666880" y="114300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.4.4 Use of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και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85840" y="1614600"/>
            <a:ext cx="8786880" cy="47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Gentium"/>
                <a:ea typeface="Times New Roman"/>
              </a:rPr>
              <a:t>και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rmally means 'and', but can also be used to give emphasis, equivalent to 'also' or 'even'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τε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s often followed by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και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iving the meaning 'both … and'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2.28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κυριος ἐστιν ὁ υἱος του ἀνθρωπου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και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του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       σαββατο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on of man is lor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v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ver the Sabba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s 1.1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(ὡν) ἠρξατο ὁ Ἰησους ποιειν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τε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και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διδασκει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which) Jesus began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d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tea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Grammar </a:t>
            </a:r>
            <a:fld id="{1B850DE5-F017-4DC2-9227-56AD6A9399F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857160" y="14000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οὑτο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09720" y="1963800"/>
          <a:ext cx="7305480" cy="4108320"/>
        </p:xfrm>
        <a:graphic>
          <a:graphicData uri="http://schemas.openxmlformats.org/drawingml/2006/table">
            <a:tbl>
              <a:tblPr/>
              <a:tblGrid>
                <a:gridCol w="1104840"/>
                <a:gridCol w="1068480"/>
                <a:gridCol w="1904760"/>
                <a:gridCol w="1791000"/>
                <a:gridCol w="1436400"/>
              </a:tblGrid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u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i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οὑ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αὑ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υτ</a:t>
                      </a:r>
                      <a:r>
                        <a:rPr b="0" lang="el-GR" sz="24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υτ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αυτ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υτ</a:t>
                      </a:r>
                      <a:r>
                        <a:rPr b="0" lang="el-GR" sz="24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υτ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αυτη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υτ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υτ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αυτ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υτ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οὑ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αὑ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l-GR" sz="24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αυ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υτου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αυτ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l-GR" sz="24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αυ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υ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l-GR" sz="24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υ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υτ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αυτα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υτ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Box 3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Grammar </a:t>
            </a:r>
            <a:fld id="{ECBC414A-83D4-42A5-9B2B-35A8B406396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357120" y="1179360"/>
            <a:ext cx="8572680" cy="30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ndings of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re actually the same as for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egins with a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 most of its forms; rough breathing in the nom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asc. and fem., sing. and plural, the same as in the art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irst vowel fluctuates between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υ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υ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 it matches the second vowel.  If the second vowel has an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ound, the first vowel is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υ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but if it has an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η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ound, it is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υ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28800" y="4238640"/>
            <a:ext cx="7277040" cy="2356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itially, what is important is simply to be able to recognise the forms of 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Greek. This is relatively easy, but watch for the forms without the 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τ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Grammar </a:t>
            </a:r>
            <a:fld id="{92FDF5D1-D4EE-43BD-AE7E-642BA4F9328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1790640" y="1949400"/>
            <a:ext cx="5562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1.2 Us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000080" y="2635200"/>
            <a:ext cx="74296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Use as pronoun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ἐβλεψα ἐκεινου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I saw those (peopl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ἀρξεται ταυτα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He will begin these thin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Grammar </a:t>
            </a:r>
            <a:fld id="{86D764CF-263C-4E00-8F26-04C7F940C55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Grammar </a:t>
            </a:r>
            <a:fld id="{2241A0EB-BFEC-4DA5-A80A-179DA48A759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990720" y="1500120"/>
            <a:ext cx="7162560" cy="45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Use as adjectiv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) The article must always be used in addition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i) They are placed in the predicative word order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English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br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Greek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ἀδελφος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This the brothe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λο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lines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γαθο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it is used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.e. it comes before the article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whole crowd =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λος ὁ ὀχλο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ὁλος ὀχλο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1447920" y="121428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2.1 Further use of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ὐτος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33280" y="2168640"/>
            <a:ext cx="891072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αὐτο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n be used as an adjective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jective meaning 'same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rmal attributive position (between article and nou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mphatic adjective (himself, herself, itself, themselv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ing before the article (predicative position) 'for emphasis'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2 THIRD PERSON PRO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Grammar </a:t>
            </a:r>
            <a:fld id="{E3698A7D-F70E-419F-96BE-82FFD177177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2 THIRD PERSON PRO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Grammar </a:t>
            </a:r>
            <a:fld id="{A6EB7398-552B-4AF4-9119-A240BE8874A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14200" y="1643040"/>
            <a:ext cx="8643960" cy="35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λεγω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αὐτῃ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I am speaking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o h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οἱ μαθηται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αὐτου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ἐλεγο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i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sciples s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ὁ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αὐτος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κυριος σωζει τον λαο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T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a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or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ves the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αὐτος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ὁ κυριος σωζει τον λαο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The Lor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imsel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ves the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2552760" y="11635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9.2.2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ἑαυτ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3480" y="1781280"/>
            <a:ext cx="914400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ἑαυτο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the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erson reflexive pronoun (himself, herself, itself, themselves).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ἑαυτο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eclines exactly as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ὐτο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o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κυριος σωζει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ἑαυτο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- The Lord save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himsel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αὐτος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ὁ κυριος σωζει τον λαο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- The Lord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himsel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aves the peop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143000" y="4200480"/>
            <a:ext cx="6858000" cy="195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Hint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You can tell whether 'himself' etc. is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reflexiv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or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mphatic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by deleting it. If the sentence's basic meaning is unaltered, it was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mphatic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if not it was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reflexiv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2 THIRD PERSON PRO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Grammar </a:t>
            </a:r>
            <a:fld id="{09A67A25-F23A-45D3-9955-4B8252202CD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23:19:25Z</dcterms:created>
  <dc:creator>Sarah</dc:creator>
  <dc:description/>
  <dc:language>en-US</dc:language>
  <cp:lastModifiedBy>Sarah</cp:lastModifiedBy>
  <dcterms:modified xsi:type="dcterms:W3CDTF">2009-07-10T23:16:43Z</dcterms:modified>
  <cp:revision>70</cp:revision>
  <dc:subject/>
  <dc:title>Slide 1</dc:title>
</cp:coreProperties>
</file>