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5459-D3A3-44D3-80AA-331C010EDB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4B15-F41E-4A33-A22F-016E80E044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E2A0-6F12-4B83-A687-518E60F0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C356-04E3-4A4D-83B8-AEDFD556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F08D-F4B8-4D9D-BD15-3DE549D9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724-CA4F-4D84-97C0-90BBA77A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C652-8B49-40CC-B990-65F6211F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0C47-66D1-4BA2-AD5A-0E2CB4E2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EE74-C396-45E9-8701-23979C91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1E2-FF9D-48A3-86A1-A3BF1856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159-F7D0-446A-8748-A0847891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0D3-7832-4AA9-AC7B-4C7E2E51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7581-967C-46B2-B480-B408B57F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6C5-557C-413E-BA8C-5B6DFB0B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94C6-968C-4C3F-8B8F-EA277BFB98D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3E4089B6-7AA6-4B10-AFE3-1F26659DD82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85880" y="1247760"/>
            <a:ext cx="75438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.1 The basic conditional sent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14200" y="2133720"/>
          <a:ext cx="9072720" cy="2295360"/>
        </p:xfrm>
        <a:graphic>
          <a:graphicData uri="http://schemas.openxmlformats.org/drawingml/2006/table">
            <a:tbl>
              <a:tblPr/>
              <a:tblGrid>
                <a:gridCol w="1621080"/>
                <a:gridCol w="3736800"/>
                <a:gridCol w="37148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asis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he 'if' cl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dosis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he 'then' cl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.18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 δε πνευματι ἀγ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οὐκ ἐστε ὑπο νομ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you are led by the spir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 not under la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 Box 54"/>
          <p:cNvSpPr/>
          <p:nvPr/>
        </p:nvSpPr>
        <p:spPr>
          <a:xfrm>
            <a:off x="228600" y="4276800"/>
            <a:ext cx="8986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like Greek (then) you are wise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is true that you like Greek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is automatically true that you are w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EE95FA18-8D27-46B7-BDCF-37A3B2086F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8075160" y="36972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Group 46" descr=""/>
          <p:cNvPicPr/>
          <p:nvPr/>
        </p:nvPicPr>
        <p:blipFill>
          <a:blip r:embed="rId1"/>
          <a:stretch/>
        </p:blipFill>
        <p:spPr>
          <a:xfrm>
            <a:off x="895320" y="1901880"/>
            <a:ext cx="7456680" cy="4406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4"/>
          <p:cNvSpPr/>
          <p:nvPr/>
        </p:nvSpPr>
        <p:spPr>
          <a:xfrm>
            <a:off x="214200" y="114300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k 14.17: 'Evening having happened, he comes with the twelve'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41"/>
          <p:cNvSpPr/>
          <p:nvPr/>
        </p:nvSpPr>
        <p:spPr>
          <a:xfrm>
            <a:off x="3338640" y="1785960"/>
            <a:ext cx="1440" cy="439884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C45E0176-73A3-4617-AB62-ACE38A1107E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85680" y="1984320"/>
            <a:ext cx="7162920" cy="337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nitive absolutes normally occur at the beginning of sentences – so if the first word in a sentence is in the genitive, 'think genitive absolute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y often genitive absolutes give some 'background information', such as the time or circumstances at which something happe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5CDF0113-8AE9-4F39-B86D-0CAA9F81501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42920" y="1157400"/>
            <a:ext cx="9001080" cy="51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14.66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ὀντος του Πετρου κατω ἐν τῃ αὐλῃ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χεται μια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ων παιδισκ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ile Peter was below in the H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one of the servant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rls of the high priest c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. 26.21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ἐσθιοντων αὐτω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π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∙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μην λεγω ὑμι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ile they were eat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Jesus said, 'Amen I say t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m. 5.13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μαρτια δε οὐκ ἐλλογειτ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μη ὀντος νομ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 is not counte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n there is no la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ERIPHRASTIC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9D906B93-ABA5-48C3-9EED-0FB57683C2E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53880" y="1928880"/>
          <a:ext cx="8404200" cy="3475080"/>
        </p:xfrm>
        <a:graphic>
          <a:graphicData uri="http://schemas.openxmlformats.org/drawingml/2006/table">
            <a:tbl>
              <a:tblPr/>
              <a:tblGrid>
                <a:gridCol w="2235240"/>
                <a:gridCol w="2683080"/>
                <a:gridCol w="3485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phrastic Construc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of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Presen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 of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Presen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of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Presen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of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Perfec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 of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Perfec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of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Perfec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ERIPHRASTIC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D6C5A851-1D26-4880-A9D4-B368FA78E18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62000" y="1173240"/>
            <a:ext cx="955368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2.18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ἠσα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οἱ μαθηται Ἰωαννου και οἱ Φαρισαιοι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νηστευοντε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sciples of John and the Pharisee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ere fast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ph. 2.5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χαριτ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ἐστε σεσῳσμεν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grac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you have been sav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John 12: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 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ἱνα ἡ χαρα ἡμω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επληρωμενη ᾐ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rder that our jo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ight be comple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Note: here the periphrastic uses the present subjunctiv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μ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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ἱν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095C9E82-D7BD-4D58-A444-1F529A4DBBE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3840" y="1596960"/>
          <a:ext cx="8867880" cy="4118040"/>
        </p:xfrm>
        <a:graphic>
          <a:graphicData uri="http://schemas.openxmlformats.org/drawingml/2006/table">
            <a:tbl>
              <a:tblPr/>
              <a:tblGrid>
                <a:gridCol w="2662200"/>
                <a:gridCol w="2714760"/>
                <a:gridCol w="1643040"/>
                <a:gridCol w="1847880"/>
              </a:tblGrid>
              <a:tr h="46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Vow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Vow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οφ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ικαι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ativ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d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er, more w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οφ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</a:rPr>
                        <a:t>ω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ε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ικαι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</a:rPr>
                        <a:t>ο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ε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lative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est, most/very w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οφ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</a:rPr>
                        <a:t>ω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α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ικαι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</a:rPr>
                        <a:t>ο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α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e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οφω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ικαιω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ative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wise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οφ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</a:rPr>
                        <a:t>ω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ερ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ικαι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</a:rPr>
                        <a:t>ο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ερ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lativ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d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/very wise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οφ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</a:rPr>
                        <a:t>ω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ικαι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</a:rPr>
                        <a:t>ο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6B2953CF-79EF-44FD-BA59-F9D3F456102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28520" y="2185920"/>
          <a:ext cx="9752040" cy="3017880"/>
        </p:xfrm>
        <a:graphic>
          <a:graphicData uri="http://schemas.openxmlformats.org/drawingml/2006/table">
            <a:tbl>
              <a:tblPr/>
              <a:tblGrid>
                <a:gridCol w="1214640"/>
                <a:gridCol w="1000080"/>
                <a:gridCol w="642960"/>
                <a:gridCol w="1785960"/>
                <a:gridCol w="1314360"/>
                <a:gridCol w="231840"/>
                <a:gridCol w="1411200"/>
                <a:gridCol w="1371600"/>
                <a:gridCol w="779400"/>
              </a:tblGrid>
              <a:tr h="505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ectives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γαθ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ρεισσ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κ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χειρ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γ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ιζ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λυ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ικρ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ικροτερ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er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αχιστος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2" name="Text Box 267"/>
          <p:cNvSpPr/>
          <p:nvPr/>
        </p:nvSpPr>
        <p:spPr>
          <a:xfrm>
            <a:off x="685800" y="14288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on Irregular Fo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Straight Arrow Connector 7"/>
          <p:cNvCxnSpPr/>
          <p:nvPr/>
        </p:nvCxnSpPr>
        <p:spPr>
          <a:xfrm>
            <a:off x="2443320" y="2943360"/>
            <a:ext cx="6433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Straight Arrow Connector 8"/>
          <p:cNvCxnSpPr/>
          <p:nvPr/>
        </p:nvCxnSpPr>
        <p:spPr>
          <a:xfrm>
            <a:off x="2443320" y="3486240"/>
            <a:ext cx="6433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" name="Straight Arrow Connector 9"/>
          <p:cNvCxnSpPr/>
          <p:nvPr/>
        </p:nvCxnSpPr>
        <p:spPr>
          <a:xfrm>
            <a:off x="2443320" y="3971520"/>
            <a:ext cx="6433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7" name="Straight Arrow Connector 10"/>
          <p:cNvCxnSpPr/>
          <p:nvPr/>
        </p:nvCxnSpPr>
        <p:spPr>
          <a:xfrm>
            <a:off x="2457360" y="4457880"/>
            <a:ext cx="6433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8" name="Straight Arrow Connector 11"/>
          <p:cNvCxnSpPr/>
          <p:nvPr/>
        </p:nvCxnSpPr>
        <p:spPr>
          <a:xfrm>
            <a:off x="2443320" y="4955760"/>
            <a:ext cx="6433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1C1A97DE-7FFA-4F1C-A258-96AA6D208C6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28760" y="1371600"/>
          <a:ext cx="8501040" cy="2057400"/>
        </p:xfrm>
        <a:graphic>
          <a:graphicData uri="http://schemas.openxmlformats.org/drawingml/2006/table">
            <a:tbl>
              <a:tblPr/>
              <a:tblGrid>
                <a:gridCol w="1300680"/>
                <a:gridCol w="499680"/>
                <a:gridCol w="331560"/>
                <a:gridCol w="216000"/>
                <a:gridCol w="607680"/>
                <a:gridCol w="1478520"/>
                <a:gridCol w="1284840"/>
                <a:gridCol w="428040"/>
                <a:gridCol w="1405440"/>
                <a:gridCol w="948600"/>
              </a:tblGrid>
              <a:tr h="505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e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γαθ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ὐ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used ro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αλλ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αλισ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λυ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λλ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a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96"/>
          <p:cNvSpPr/>
          <p:nvPr/>
        </p:nvSpPr>
        <p:spPr>
          <a:xfrm>
            <a:off x="243000" y="3714840"/>
            <a:ext cx="8686800" cy="28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learned in module 12.4 that comparison is expressed in Greek either (i) by a genitive, or (ii) by the use of the word </a:t>
            </a:r>
            <a:r>
              <a:rPr b="0" lang="el-GR" sz="2100" spc="-1" strike="noStrike">
                <a:solidFill>
                  <a:srgbClr val="000000"/>
                </a:solidFill>
                <a:latin typeface="Gentium"/>
              </a:rPr>
              <a:t>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th the second noun in the same case as the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Gentium"/>
              </a:rPr>
              <a:t>μαλλο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er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'more' (qualifying a verb), while </a:t>
            </a:r>
            <a:r>
              <a:rPr b="0" lang="el-GR" sz="2100" spc="-1" strike="noStrike">
                <a:solidFill>
                  <a:srgbClr val="000000"/>
                </a:solidFill>
                <a:latin typeface="Gentium"/>
              </a:rPr>
              <a:t>πλειω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the adjective 'more' (qualifying a no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uperlative was gradually falling out of use, and often the comparative was used in its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Straight Arrow Connector 5"/>
          <p:cNvCxnSpPr/>
          <p:nvPr/>
        </p:nvCxnSpPr>
        <p:spPr>
          <a:xfrm>
            <a:off x="2700360" y="2114640"/>
            <a:ext cx="6433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4" name="Straight Arrow Connector 6"/>
          <p:cNvCxnSpPr/>
          <p:nvPr/>
        </p:nvCxnSpPr>
        <p:spPr>
          <a:xfrm>
            <a:off x="2700360" y="2685600"/>
            <a:ext cx="6433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5" name="Straight Arrow Connector 7"/>
          <p:cNvCxnSpPr/>
          <p:nvPr/>
        </p:nvCxnSpPr>
        <p:spPr>
          <a:xfrm>
            <a:off x="2700360" y="3184560"/>
            <a:ext cx="6433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Straight Arrow Connector 8"/>
          <p:cNvCxnSpPr/>
          <p:nvPr/>
        </p:nvCxnSpPr>
        <p:spPr>
          <a:xfrm>
            <a:off x="5929200" y="2685600"/>
            <a:ext cx="6433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3E2CA6EB-426A-49AB-8B1A-BE51A99DC5E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71520" y="2233440"/>
            <a:ext cx="8400960" cy="231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helpful to remember that words ending in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ω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adverbs. You should now understand how the form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λω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μοιω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ὑτω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which you learnt earlier, have been formed from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λος, ὁμοιο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24CA0B83-9C48-46F9-8E25-6508CB6A8D2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71680" y="1171440"/>
          <a:ext cx="8143560" cy="1524240"/>
        </p:xfrm>
        <a:graphic>
          <a:graphicData uri="http://schemas.openxmlformats.org/drawingml/2006/table">
            <a:tbl>
              <a:tblPr/>
              <a:tblGrid>
                <a:gridCol w="4174920"/>
                <a:gridCol w="3968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ξιως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a worthy ma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ρωτως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the first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ως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all m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ὀντως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­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29"/>
          <p:cNvSpPr/>
          <p:nvPr/>
        </p:nvSpPr>
        <p:spPr>
          <a:xfrm>
            <a:off x="338040" y="292248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214200" y="2957400"/>
            <a:ext cx="914400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1.32: 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ἐφερον προς αὐτον παντας τους </a:t>
            </a: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</a:rPr>
              <a:t>κακως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 ἐχοντας</a:t>
            </a:r>
            <a:r>
              <a:rPr b="0" lang="en-GB" sz="23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ere bringing to him all those who were si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lit: the ones 'having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adl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'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5.23: 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λεγων ὁτι Το θυγατριον μου </a:t>
            </a: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</a:rPr>
              <a:t>ἐσχατως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 ἐχε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ying, 'My daughter is dying' (lit: ha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inall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Cor. 7.40: </a:t>
            </a: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</a:rPr>
              <a:t>μακαριωτερα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 δε ἐστιν ἐαν </a:t>
            </a: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</a:rPr>
              <a:t>οὑτως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 μειν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more bless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f she remains as she is (lit: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h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B33ADF9C-DF8B-4034-B546-5636CE4A69D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00200" y="1176480"/>
            <a:ext cx="7743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.2 Two variations on the basic condition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33200" y="1814400"/>
            <a:ext cx="89964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) Indefinite Conditions (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subjunc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imes Greek will use 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subjunctive rather than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 + Indicative in the prota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 'If you like Greek, you will learn it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sometimes, 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subjunctive is used to highlight that the protasis is indefinite because it addresses a generic situation, without a particular occasion being in m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 ‘If someone enjoys rules and patterns, they like Greek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7901EFC9-1DEC-4143-A833-659C07668E2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244440" y="2761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OPT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14200" y="121428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ptative is used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For wi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For indirect questions (i.e. questions within reported speech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42920" y="2928960"/>
            <a:ext cx="88581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mans 6.1-2: 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μενωμεν τῃ ἁμαρτιᾳ, ἱνα ἡ χαρις πλεονασῃ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μη γενοιτο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hould we remain in sin in order that grace abounds?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y no mea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uke 1.38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γενοιτο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μοι κατα το ῥημα σ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ay it b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me according to your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4F0DA6E6-91CD-4C84-81B0-05FE81A198C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214280" y="4000680"/>
            <a:ext cx="6715440" cy="1723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English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trary to fact condi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re marked out by 'would' in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podos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90440" y="1214280"/>
            <a:ext cx="89535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'Contrary to Fact' conditions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apodos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imes Greek will put the wor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apodosis; it is still the case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protasis is tru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apodosis follows. However, the writer believes that the protasis is NOT tr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 ‘If you had liked Greek, you would have learnt it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1EA1AD18-FDAF-4FC2-B0F4-1EE4C925F59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00120" y="1157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.1.3 The form of conditionals in Gr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73040" y="1785960"/>
          <a:ext cx="8199360" cy="1768320"/>
        </p:xfrm>
        <a:graphic>
          <a:graphicData uri="http://schemas.openxmlformats.org/drawingml/2006/table">
            <a:tbl>
              <a:tblPr/>
              <a:tblGrid>
                <a:gridCol w="3460680"/>
                <a:gridCol w="2352960"/>
                <a:gridCol w="2385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a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d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Conditio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Mood or T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finite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αν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Subjun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Mood or T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'Contrary to Fact'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ν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40"/>
          <p:cNvSpPr/>
          <p:nvPr/>
        </p:nvSpPr>
        <p:spPr>
          <a:xfrm>
            <a:off x="152280" y="3857760"/>
            <a:ext cx="8839440" cy="2273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tasis: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000" spc="-1" strike="noStrike">
                <a:solidFill>
                  <a:srgbClr val="000000"/>
                </a:solidFill>
                <a:latin typeface="Gentium"/>
              </a:rPr>
              <a:t>ε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 + Indicative = If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</a:t>
            </a:r>
            <a:r>
              <a:rPr b="0" lang="el-GR" sz="3000" spc="-1" strike="noStrike">
                <a:solidFill>
                  <a:srgbClr val="000000"/>
                </a:solidFill>
                <a:latin typeface="Gentium"/>
              </a:rPr>
              <a:t>ἐαν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+ Subjunctive = If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(future/generalised/hypothetical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podosis: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000" spc="-1" strike="noStrike">
                <a:solidFill>
                  <a:srgbClr val="000000"/>
                </a:solidFill>
                <a:latin typeface="Gentium"/>
              </a:rPr>
              <a:t>ἀν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= Would (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rotasis seen as untrue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C37BB2A5-B829-4C6C-B4B7-37F544010A4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14200" y="1274760"/>
            <a:ext cx="871560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Basic Conditions (Fulfille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al. 3.29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εἰ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δε ὑμεις Χριστου, ἀρα του Ἀβρααμ σπερμα ἐστε</a:t>
            </a:r>
            <a:r>
              <a:rPr b="0" lang="en-GB" sz="23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f you are Christ's, then you are Abraham's offspr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 Cor. 8.3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εἰ</a:t>
            </a:r>
            <a:r>
              <a:rPr b="0" lang="en-GB" sz="2500" spc="-1" strike="noStrike" u="sng">
                <a:solidFill>
                  <a:srgbClr val="000000"/>
                </a:solidFill>
                <a:uFillTx/>
                <a:latin typeface="Gentium"/>
              </a:rPr>
              <a:t>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δε τις ἀγαπᾳ τον θεον, οὑτος ἐγνωσται ὑπ’ αὐτο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f someone loves God, he is known by hi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uke 23.37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εἰ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συ εἶ ὁ βασιλευς των Ἰουδαιων, σωσον σεαυτον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f you are the king of Israel, save yourself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uke 11.19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εἰ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δε ἐγω ἐν Βεελζεβουλ ἐκβαλλω τα δαιμονια, οἱ υἱοι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ὑμων ἐν τίνι ἐκβαλλουσιν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f I cast out demons by Beelzeboul, by whom do your sons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ast them out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14200" y="1184400"/>
            <a:ext cx="885852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definite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t. 9.21: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ονο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ἁψωμαι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του ἱματιου αὐτου, σωθησομ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only I touch his cloak, I will be sa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hn 14.14: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ι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αἰτησητε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με ἐν τῳ ὀνοματι μου, ἐγω ποιησ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ask me for anything in my name, I will d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. 14.14: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γαρ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προσευχωμ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γλωσσῃ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νευμα μου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σευχετ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if I pray in a tongue, my spirit pray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John 2.15: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ἀγαπᾳ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ν κοσμον, οὐκ ἐστιν ἡ ἀγαπη του πατρος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meone loves the world, the love of th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ther is not in 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9649B5F1-9B27-4C4C-B943-1514AD57CAB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59B65DA5-AF98-43B0-B9AD-B06C2A6F374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57120" y="1440000"/>
            <a:ext cx="850104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Unfulfilled Cond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John 5.46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εἰ</a:t>
            </a:r>
            <a:r>
              <a:rPr b="0" lang="en-GB" sz="2500" spc="-1" strike="noStrike" u="sng">
                <a:solidFill>
                  <a:srgbClr val="000000"/>
                </a:solidFill>
                <a:uFillTx/>
                <a:latin typeface="Gentium"/>
              </a:rPr>
              <a:t>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γαρ ἐπιστευετε Μωϋσει, ἐπιστευετε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ἀν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ἐμοι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if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you believe Moses, you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woul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believe m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 Cor. 2.8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εἰ</a:t>
            </a:r>
            <a:r>
              <a:rPr b="0" lang="en-GB" sz="2500" spc="-1" strike="noStrike" u="sng">
                <a:solidFill>
                  <a:srgbClr val="000000"/>
                </a:solidFill>
                <a:uFillTx/>
                <a:latin typeface="Gentium"/>
              </a:rPr>
              <a:t>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γαρ ἐγνωσαν, οὐκ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ἀν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τον κυριον της δοξης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ἐσταυρωσα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if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they had known, they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woul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not have crucified the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ord of glor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eb. 8.4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εἰ</a:t>
            </a:r>
            <a:r>
              <a:rPr b="0" lang="en-GB" sz="2500" spc="-1" strike="noStrike" u="sng">
                <a:solidFill>
                  <a:srgbClr val="000000"/>
                </a:solidFill>
                <a:uFillTx/>
                <a:latin typeface="Gentium"/>
              </a:rPr>
              <a:t>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μεν οὐν ἠν ἐπι γης, οὐδ’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ἀν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ἠν ἱερευς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if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he were on earth, he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woul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not even be a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ries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285840" y="2205000"/>
            <a:ext cx="8748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14.17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ὀψιας γενομενη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χεται μετα των δωδεκ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n it was eve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he comes (came) with t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e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it: 'evening having happened'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0E391402-27C1-4D60-A70C-6A429A24D61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9AB1F369-94AD-4399-A732-E927F11F1C2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425240" y="183348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5038560" y="19684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4746600" y="22255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5199120" y="30542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4840200" y="33130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4919760" y="41385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5051520" y="49212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3"/>
          <p:cNvSpPr/>
          <p:nvPr/>
        </p:nvSpPr>
        <p:spPr>
          <a:xfrm>
            <a:off x="7361280" y="25639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7318440" y="28224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7481880" y="36511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0"/>
          <p:cNvSpPr/>
          <p:nvPr/>
        </p:nvSpPr>
        <p:spPr>
          <a:xfrm>
            <a:off x="7164360" y="39099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7"/>
          <p:cNvSpPr/>
          <p:nvPr/>
        </p:nvSpPr>
        <p:spPr>
          <a:xfrm>
            <a:off x="7291440" y="47340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1"/>
          <p:cNvSpPr/>
          <p:nvPr/>
        </p:nvSpPr>
        <p:spPr>
          <a:xfrm>
            <a:off x="2932200" y="39625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3"/>
          <p:cNvSpPr/>
          <p:nvPr/>
        </p:nvSpPr>
        <p:spPr>
          <a:xfrm>
            <a:off x="2859120" y="42210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7"/>
          <p:cNvSpPr/>
          <p:nvPr/>
        </p:nvSpPr>
        <p:spPr>
          <a:xfrm>
            <a:off x="3052800" y="50497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9"/>
          <p:cNvSpPr/>
          <p:nvPr/>
        </p:nvSpPr>
        <p:spPr>
          <a:xfrm>
            <a:off x="2474640" y="530064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2"/>
          <p:cNvSpPr/>
          <p:nvPr/>
        </p:nvSpPr>
        <p:spPr>
          <a:xfrm>
            <a:off x="2920680" y="613260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Group 65" descr=""/>
          <p:cNvPicPr/>
          <p:nvPr/>
        </p:nvPicPr>
        <p:blipFill>
          <a:blip r:embed="rId1"/>
          <a:stretch/>
        </p:blipFill>
        <p:spPr>
          <a:xfrm>
            <a:off x="1401840" y="1908000"/>
            <a:ext cx="6315120" cy="47008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142920" y="11415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'While he was passing along the sea, he saw Simon and Andrew casting (nets) in the sea'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8:27:07Z</dcterms:created>
  <dc:creator>Sarah</dc:creator>
  <dc:description/>
  <dc:language>en-US</dc:language>
  <cp:lastModifiedBy>Sarah</cp:lastModifiedBy>
  <dcterms:modified xsi:type="dcterms:W3CDTF">2009-07-11T14:52:55Z</dcterms:modified>
  <cp:revision>46</cp:revision>
  <dc:subject/>
  <dc:title>Slide 1</dc:title>
</cp:coreProperties>
</file>