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15D-FF13-4175-8369-3A1BF001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EB9-94F5-454C-B5E0-15015E7D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051-DA43-4E35-86EF-B3423896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495-8968-4D11-B836-5A19B109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B1FF-B4F9-4E3A-AAA0-423150F9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32F2-F14B-4FCC-9D4F-4F7C417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1180-50A5-4007-A0ED-E257E053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F0BA-D4BF-419A-B8A9-CB51527C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4CD1-F276-4F35-B9E1-C00ACFF3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DAA4-1FEC-450D-A8B9-E49C4023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644B-E9ED-4A08-A38D-E9242FD4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E31B-4363-487B-ADBA-9FFA2B9A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A66A-F380-4C25-89D7-0566E17B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F2F7-B4A4-4913-A1D5-1A3A559B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27D3-B849-41AF-8DF3-D46ECF3D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899B-7C59-4B79-9D76-21DAC56E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0D05-9690-42DB-949D-A16EB90B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1C3-07FB-4515-95C8-53BEC02A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F20-F65D-41E5-8A2A-2FB4B58E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DCD-EBC8-4D3A-BF6F-D31908C8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235-1463-4AB4-9F0E-85517E4A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D3E-2A7C-4516-BA95-B6A99E5A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77F-E19A-4BDC-9051-CCFE673E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F32-05E6-4B40-A650-1E8759F3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0719-87D6-4EB6-B6D1-4866147CE6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4A6B-4566-4C78-939A-38A35107868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87" name=""/>
          <p:cNvGraphicFramePr/>
          <p:nvPr/>
        </p:nvGraphicFramePr>
        <p:xfrm>
          <a:off x="155520" y="1357200"/>
          <a:ext cx="8832960" cy="4373640"/>
        </p:xfrm>
        <a:graphic>
          <a:graphicData uri="http://schemas.openxmlformats.org/drawingml/2006/table">
            <a:tbl>
              <a:tblPr/>
              <a:tblGrid>
                <a:gridCol w="1951200"/>
                <a:gridCol w="1293840"/>
                <a:gridCol w="3041640"/>
                <a:gridCol w="2546280"/>
              </a:tblGrid>
              <a:tr h="45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 or it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 or it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ADAF8B6C-CB2B-4858-8F9C-4472C7F6F54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662400" y="15001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3.3 Forming a Sen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28760" y="2071800"/>
            <a:ext cx="8715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ι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- You (singular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ις αγγελ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- You (singular)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ις αγγελο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- You (singular)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τ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- You (plural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ος βλεπει αγγελ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- A slave sees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οι βλεπουσιν αγγελ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- Slaves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οι βλεπουσιν αγγελο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laves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486080" y="1641600"/>
            <a:ext cx="617220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erbs agree with their subject in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57120" y="3251160"/>
            <a:ext cx="8286840" cy="2684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three steps to trans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Work out the cases of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Work out why the different words have the cases they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Translate the sentence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14200" y="2428920"/>
            <a:ext cx="878688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Greek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κυριος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rd)</a:t>
            </a:r>
            <a:r>
              <a:rPr b="0" lang="en-GB" sz="24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δουλους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slave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κυριος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cause it is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ουλου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cause it is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tence = 'A lord has slaves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143000" y="171468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928800" y="221472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  <a:ea typeface="Arial"/>
              </a:rPr>
              <a:t>κυριος ἐχει δουλ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460520"/>
          <a:ext cx="5977080" cy="2271600"/>
        </p:xfrm>
        <a:graphic>
          <a:graphicData uri="http://schemas.openxmlformats.org/drawingml/2006/table">
            <a:tbl>
              <a:tblPr/>
              <a:tblGrid>
                <a:gridCol w="1992600"/>
                <a:gridCol w="1992240"/>
                <a:gridCol w="199224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42920" y="4000680"/>
            <a:ext cx="1035828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βλεπει 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ον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 αγγελον.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reek"/>
                <a:ea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ingular) se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 αγγελοι βλεπουσιν.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gels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 ἀνθρωπος βλεπει τους αγγελους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 </a:t>
            </a:r>
            <a:r>
              <a:rPr b="0" lang="el-GR" sz="1000" spc="-1" strike="noStrike">
                <a:solidFill>
                  <a:srgbClr val="000000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erson see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214200" y="1658880"/>
            <a:ext cx="878688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pecial uses of the definite 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Arial"/>
              </a:rPr>
              <a:t>ὁ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Arial"/>
              </a:rPr>
              <a:t>Δαυι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David (not 'the David'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tract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Arial"/>
              </a:rPr>
              <a:t>ὁ ανθρωπ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‘the person’, also ‘humanity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Arial"/>
              </a:rPr>
              <a:t>ὁ νομ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‘law’ (as a concept), also ‘the law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o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ather than ‘a god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Arial"/>
              </a:rPr>
              <a:t>ὁ θε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PECIAL USES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Rectangle 4"/>
          <p:cNvSpPr/>
          <p:nvPr/>
        </p:nvSpPr>
        <p:spPr>
          <a:xfrm>
            <a:off x="928800" y="2013120"/>
            <a:ext cx="70722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 or Plural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ε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: he, she, or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: two possibilities –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ουσι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ουσ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ουσ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always used before a vowel and at the end of a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299AE7FB-9334-465B-8204-83A5795B0F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.1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343080" y="4626000"/>
            <a:ext cx="8458200" cy="10076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ne Greek word often means more than one English w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71720" y="1785960"/>
          <a:ext cx="6765840" cy="1879560"/>
        </p:xfrm>
        <a:graphic>
          <a:graphicData uri="http://schemas.openxmlformats.org/drawingml/2006/table">
            <a:tbl>
              <a:tblPr/>
              <a:tblGrid>
                <a:gridCol w="761760"/>
                <a:gridCol w="1024200"/>
                <a:gridCol w="1593720"/>
                <a:gridCol w="1003320"/>
                <a:gridCol w="1023840"/>
                <a:gridCol w="1359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με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 or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2CBC9F9F-E1CD-4E24-91A2-5C5AEA7869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3" name="Group 28"/>
          <p:cNvGrpSpPr/>
          <p:nvPr/>
        </p:nvGrpSpPr>
        <p:grpSpPr>
          <a:xfrm>
            <a:off x="228600" y="1709640"/>
            <a:ext cx="8686080" cy="2362320"/>
            <a:chOff x="228600" y="1709640"/>
            <a:chExt cx="8686080" cy="2362320"/>
          </a:xfrm>
        </p:grpSpPr>
        <p:sp>
          <p:nvSpPr>
            <p:cNvPr id="104" name="Rectangle 4"/>
            <p:cNvSpPr/>
            <p:nvPr/>
          </p:nvSpPr>
          <p:spPr>
            <a:xfrm>
              <a:off x="228600" y="1709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λεγ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1757880" y="1709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 am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4604760" y="1709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βλεπ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6144840" y="1709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 am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228600" y="2087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λεγ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1757880" y="2087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ou (sing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4604760" y="2087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βλεπ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6144840" y="2087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ou (sing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228600" y="2465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λεγε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1757880" y="2465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, she or it is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4604760" y="2465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6144840" y="2465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, she or it is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28600" y="2843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λεγ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1757880" y="2843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e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604760" y="2843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βλεπ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6144840" y="2843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e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228600" y="3221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λεγ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1757880" y="3221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ou (pl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4604760" y="3221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βλεπ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6144840" y="3221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ou (pl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228600" y="3599640"/>
              <a:ext cx="15292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λεγ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1757880" y="3599640"/>
              <a:ext cx="28468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y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4604760" y="3599640"/>
              <a:ext cx="153972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βλεπ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6144840" y="3599640"/>
              <a:ext cx="276984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y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3"/>
          <p:cNvSpPr/>
          <p:nvPr/>
        </p:nvSpPr>
        <p:spPr>
          <a:xfrm>
            <a:off x="142920" y="4514760"/>
            <a:ext cx="8658360" cy="10994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nce you know the Present of </a:t>
            </a:r>
            <a:r>
              <a:rPr b="0" lang="el-GR" sz="36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</a:t>
            </a:r>
            <a:r>
              <a:rPr b="0" lang="en-GB" sz="36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you know the Present of almost every Greek verb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>
            <a:off x="4611600" y="24685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Gentium"/>
              </a:rPr>
              <a:t>βλεπε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1580B405-9731-4722-95F6-2A8BBCB34E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33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Text Box 4"/>
          <p:cNvSpPr/>
          <p:nvPr/>
        </p:nvSpPr>
        <p:spPr>
          <a:xfrm>
            <a:off x="857160" y="1428840"/>
            <a:ext cx="7358040" cy="19404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ek grammar is very regul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ut with many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minor adjust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en certain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letters comb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4"/>
          <p:cNvSpPr/>
          <p:nvPr/>
        </p:nvSpPr>
        <p:spPr>
          <a:xfrm>
            <a:off x="71280" y="4214880"/>
            <a:ext cx="914400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ops out before long vowel or dipht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8C9B96E4-7010-4DE4-9165-673F108E67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33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0" name=""/>
          <p:cNvGraphicFramePr/>
          <p:nvPr/>
        </p:nvGraphicFramePr>
        <p:xfrm>
          <a:off x="166680" y="1576440"/>
          <a:ext cx="8763120" cy="4281480"/>
        </p:xfrm>
        <a:graphic>
          <a:graphicData uri="http://schemas.openxmlformats.org/drawingml/2006/table">
            <a:tbl>
              <a:tblPr/>
              <a:tblGrid>
                <a:gridCol w="2679840"/>
                <a:gridCol w="1807920"/>
                <a:gridCol w="42753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cess of getting the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lov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ι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 or it is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ουσι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09540D4F-745B-4CD0-A5E1-81C02592D8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285840" y="2000160"/>
            <a:ext cx="8420040" cy="23198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ω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φιλε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always listed in vocabularies or dictionaries in their uncontracted form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φιλ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hough this form will never be found in Greek (since it would have contracted into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φιλ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33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E66525ED-879E-478C-8C38-C89D6774D6A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785880" y="428760"/>
            <a:ext cx="664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0DE1C3A2-F071-4A80-AD3D-39409C837A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62040" y="2768760"/>
          <a:ext cx="6172200" cy="2184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76"/>
          <p:cNvSpPr/>
          <p:nvPr/>
        </p:nvSpPr>
        <p:spPr>
          <a:xfrm>
            <a:off x="1523880" y="18543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3.1 The forms of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ογ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071720" y="200016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3.2 The Meaning of the Nominative and Accusative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000160" y="3429000"/>
            <a:ext cx="514368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minative –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ccusative –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0:50:58Z</dcterms:created>
  <dc:creator>Sarah</dc:creator>
  <dc:description/>
  <dc:language>en-US</dc:language>
  <cp:lastModifiedBy>Sarah</cp:lastModifiedBy>
  <dcterms:modified xsi:type="dcterms:W3CDTF">2009-07-10T19:28:04Z</dcterms:modified>
  <cp:revision>56</cp:revision>
  <dc:subject/>
  <dc:title>Slide 1</dc:title>
</cp:coreProperties>
</file>