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5E7-D89F-4B15-8407-F274F723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117-6685-4B6A-879E-EAC541A5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CB2-23CC-485C-9F24-354A60A0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5C1-E704-40ED-8444-220BEB0E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6EA-26C5-417F-9116-3C183339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60E-E070-4301-9DD0-D5706D4C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AC4-7A7E-4225-B501-F665E20F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507-0344-4FDE-9FD3-616E2030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A08-106F-42F0-80D2-74BC83AB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1AB-AE2E-4371-9556-A76117DD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FFF-F40E-4B3B-8153-3FAAF0A9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E7C-D706-4DD7-AD0F-8F471C00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9E4C-9BEE-486D-84E2-8704A74CE80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142920" y="1143000"/>
            <a:ext cx="876312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.2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θω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γεγραπτα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ν τῳ Ἠσαϊᾳ τῳ προφητῃ∙ Ἰδου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ποστελλ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t is writt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Isaiah the prophet, 'Look! I a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ding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19.30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Ἰησους εἰπεν∙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ετελεστα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 said, ‘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t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nish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John 5.10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μη πιστευων τῳ θεῳ ψευστη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εποιηκ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αὐτον, ὁτι οὐ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επιστευκ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εἰς την μαρτυριαν ἡ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εματυρηκ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ὁ θεος περι του υἱου αὐτ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e who does not believe in Go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as ma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im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ar, becaus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e has not belie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testimony whic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as testifi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cerning his 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502CE0F6-FB3C-4146-932D-60FCEBBD1E0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: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4120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CFC2CBB7-1AA1-4F91-9CEB-EB510CD512F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66760" y="1785960"/>
            <a:ext cx="86104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f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 state arising from event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'I have broken the window' – past event, but it is sti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perfe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st state arising from event in the remot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'I had broken the window' – past event, created a state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t the state is now past (it was broken for a time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t now is fixed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4120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28E42EFA-3C0A-48AF-9F10-7B328485ED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4080" y="1146240"/>
            <a:ext cx="882972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irect statement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But he said tha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e had not destroy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law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ek uses the original tense of the words of the thought/spee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δε εἰπεν ὁτι οὐ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καταλελυκ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ον νομ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mporal cla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n he had c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he spoke to the people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ek would normally translate this by a Participle, 'having come, he spoke to the people‘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λθω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εἰπεν τῳ λα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ὁτε ἠλθε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πεν τῳ λα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714240" y="131904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 of the Pluperfe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7360" y="2143080"/>
          <a:ext cx="8358120" cy="3722760"/>
        </p:xfrm>
        <a:graphic>
          <a:graphicData uri="http://schemas.openxmlformats.org/drawingml/2006/table">
            <a:tbl>
              <a:tblPr/>
              <a:tblGrid>
                <a:gridCol w="2214720"/>
                <a:gridCol w="3074760"/>
                <a:gridCol w="3068640"/>
              </a:tblGrid>
              <a:tr h="69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and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σ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ει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ει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ει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ν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24120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D972A73F-C0CF-4A92-AF1C-18C75522480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5A487EAB-FCA1-42B9-9F17-DDF7D51AC4A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5840" y="1714680"/>
          <a:ext cx="8572320" cy="3840120"/>
        </p:xfrm>
        <a:graphic>
          <a:graphicData uri="http://schemas.openxmlformats.org/drawingml/2006/table">
            <a:tbl>
              <a:tblPr/>
              <a:tblGrid>
                <a:gridCol w="1685880"/>
                <a:gridCol w="1684440"/>
                <a:gridCol w="1768320"/>
                <a:gridCol w="3433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k T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 Equival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def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untying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 unt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unt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unty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unti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and 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 unti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8C15C8C7-FE8D-4F07-8881-01B4A57EDD6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12840" y="1655640"/>
          <a:ext cx="8518320" cy="3978360"/>
        </p:xfrm>
        <a:graphic>
          <a:graphicData uri="http://schemas.openxmlformats.org/drawingml/2006/table">
            <a:tbl>
              <a:tblPr/>
              <a:tblGrid>
                <a:gridCol w="1703160"/>
                <a:gridCol w="1627200"/>
                <a:gridCol w="1781280"/>
                <a:gridCol w="1703520"/>
                <a:gridCol w="1703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ερυμαι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ερυσαι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ερυ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α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ερυ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ερυσθ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ερυνται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ερυμενο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228600" y="1268280"/>
            <a:ext cx="868680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stinguishing mark of the Perfect, in all forms, 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plic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erfect Active also has a characteristic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erfect Indicative Active endings are similar to those in the Aor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iddle and the Passive share the same forms in the Perfect (as they also do in the Present and Imperfec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erfect Middle and Passive endings are similar to the Present Middle and Passive endings, but they lack any initial vowel (e.g.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α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ot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τα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ν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ot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μεν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λυκω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clines lik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th nominative singular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λυκω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λυκυια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λυκ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and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clension stem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λυκοτ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-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get Perfects in all of the other moods, where they convey a sense of completion (e.g. Perfect Infinitive Activ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λυκενα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Passiv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λυσθα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 However these are very r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246FDAB6-C63B-45E5-B98D-8A928CCC5E7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C5D2B1F5-8A0B-40C8-892F-A93A44260C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171880" y="1571760"/>
            <a:ext cx="4800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2.1 Reduplicati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62120" y="2895480"/>
            <a:ext cx="7467480" cy="1810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plication - Perfect - in all m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gmentation – Imperfect and Aorist - only in the Indic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B8939FB0-35E9-4689-999A-2A8E624D41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33720" y="1371600"/>
            <a:ext cx="4876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2.2 Stem Chang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90680" y="2286000"/>
            <a:ext cx="81532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sence of consonants next to the stem in the perfect causes complication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erbs are straight forward - th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urns into a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verbs are complicated - the final letter of the stem shifts within defined groups to whateve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s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κ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γ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χ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σσ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π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β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φ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 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τ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δ,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θ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ζ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D2261E3B-1BDD-4057-9BF0-12B464A2F15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76240" y="128124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.1 Participl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60200" y="1851120"/>
            <a:ext cx="87631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s 16.34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ἠγαλλιασατο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επιστευκω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ῳ θεῳ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rejoiced … becaus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e had become a believ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.e. he had believed and still believed in God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. 5.10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ακαριοι οἱ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εδιωγμενο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essed are thos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o have been persecut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i.e.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ecute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1214280" y="1967040"/>
            <a:ext cx="65534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1)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ἡ πιστις σου σεσωκεν σ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Mark 5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2)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κ ἀνεγνω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Mark 12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3)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καλεσεν αὐτ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Mark 1.2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90720" y="4724280"/>
            <a:ext cx="7162560" cy="116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on the meaning of the tens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their rough English equival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4C6BC84F-951F-4778-9147-699450B1959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87360" y="1281240"/>
            <a:ext cx="835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ifference between the Perfect and Aori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CA9008F9-0C40-4E8F-86D3-0006B3D5453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6000" y="1866960"/>
          <a:ext cx="8686800" cy="3419280"/>
        </p:xfrm>
        <a:graphic>
          <a:graphicData uri="http://schemas.openxmlformats.org/drawingml/2006/table">
            <a:tbl>
              <a:tblPr/>
              <a:tblGrid>
                <a:gridCol w="2670120"/>
                <a:gridCol w="4105080"/>
                <a:gridCol w="1911600"/>
              </a:tblGrid>
              <a:tr h="1267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state resulting from past 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s eaten it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k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in indefinite 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s eaten many apples over the last year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k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Si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in definite 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ate i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5:55:53Z</dcterms:created>
  <dc:creator>Sarah</dc:creator>
  <dc:description/>
  <dc:language>en-US</dc:language>
  <cp:lastModifiedBy>Sarah</cp:lastModifiedBy>
  <dcterms:modified xsi:type="dcterms:W3CDTF">2009-07-11T10:45:41Z</dcterms:modified>
  <cp:revision>29</cp:revision>
  <dc:subject/>
  <dc:title>Slide 1</dc:title>
</cp:coreProperties>
</file>