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96C-839C-4D5C-8A4E-1245F8B4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938-7A69-4FB8-B25B-BE81362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D72-F03E-4618-8665-BB3D5346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33B-1133-4E21-9B93-2CA7375F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6EE4-4135-436F-9FFB-1381EC5B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18E2-E606-4665-9CFF-EE6882F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4DC6-77FB-4172-A61B-47BCC198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898F-3813-424E-902A-460F623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23A6-05B0-4861-A031-EEC04FDA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1AD-E441-4BB3-B006-7F560AE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468-5878-4697-B719-5AB8553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3A2-647C-4A1E-A70F-087DEAD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BB2-C76D-4130-93B4-697707E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64A8-4D71-4148-9323-BA7AA7F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958-018D-4E53-9DF6-012FC9E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123B-3EA9-4D9C-91F1-52A1D143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F6D8-0CCF-4101-B263-0B1727B2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63F-24D9-4A0C-BEFA-0FB3570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529-4687-4852-8C4C-6D26BAF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955-D6F9-4DBE-ABB4-35A88402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6AF-BAA0-4E01-A719-9B40DA95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0AD-093A-40A9-9A1A-E08BCAB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775-DF39-48FC-AD5C-308351B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0A9-C716-44F1-B1A4-C358977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760-2C93-4ED3-8A0D-9839D43321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F88-B18B-4513-ACD2-B2E25E5365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19E6CB94-5CB3-4170-BD94-E09200E5C9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ilemon 4-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FB3249C6-9D9A-4E36-A6B1-6B441D697D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83FB3FD2-51DD-4612-8B77-DEBFB8668C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1CC5423A-DBDB-4BD4-A4E0-DBD8E0E0F7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9BE85550-BFF8-4E2E-BBED-B38DE0EC78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ρῳδης ἐλεγ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A029C10E-FED3-440C-AFD7-43481FD276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E126E037-E23B-4622-8973-B0FD857728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0F0DBC97-E2A6-4653-B65B-F379C55907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7462080" y="4483080"/>
            <a:ext cx="3240" cy="51768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73585D91-6DF6-4627-A624-989C91C6DF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3FE20075-A27C-44A1-AEFF-F6F5CDB525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BA6A47C0-D502-4F13-9993-A6446F9E66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000000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98E97BDE-3A37-4D1C-95F5-D497AC3F30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's easy to mix up the Future Indicative and the Aorist Imperative (both have a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3F395B8B-DACB-4F96-870F-B98710B309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95455AAD-834B-4FE4-94E3-0B4B26F6C8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6071BF8B-EEA3-41F7-A7E7-EECF3B55E1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equivalent of 'to say' in English. This is clearly closely related to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E9B1FFAF-47BC-4460-89B5-C611708690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A656CD0B-65B0-4EEF-B71E-CCAB337E8F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in the Imperative, the Aorist Infinitive has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the normal rules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ησ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3FA49943-6BB8-4319-8778-40B33E3BB8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9-07-10T22:56:43Z</dcterms:modified>
  <cp:revision>61</cp:revision>
  <dc:subject/>
  <dc:title>Slide 1</dc:title>
</cp:coreProperties>
</file>