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290B-F1DD-49DA-A8F5-7247147B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D1C4-CF30-4E1B-80DB-270D941F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903F-F87D-4AAA-8E35-1AE11944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F73D-8AE6-4636-9D64-E1E5BEE7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79BA-0AD8-4D38-ADDC-BEA88BCD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DA4C-C966-4ADE-97E3-BDC8DAB3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538C-9688-4475-8A70-A7174139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7E42-4AE7-4F97-96CA-2EE7AC3F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5F90-D116-495C-8BDC-19C23BC3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2997-EA42-44AB-8BC7-42607AC5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6CA0-C9AF-4F06-9480-20FA33FC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5B78-E175-44A6-8B08-CE325F66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6805-7BB8-4053-84BC-99AD8111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08B0-AB82-4EBA-A8C6-F691117A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156B-3929-40B7-B87C-D1A231D4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49FE-70D5-47E6-984E-B71A93F39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9BB0-91C8-4B23-A2EC-AC08BECA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7351-0355-4A98-B0FA-7B637E8B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8AB1-817D-4F81-8BD7-372FEBC2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D064-5CE1-4206-B6F4-F1FA1FD4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2BD6-F7C9-4210-90E9-EE9BD8F6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62F1-811F-4DA9-BF6C-5BEC8C30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0B2A-3F32-46C3-8EDD-32EE5284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D1F9-36BF-47A1-B116-252E77D3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B6FA-F7BE-4EE8-8AE7-E9CDD7C8E98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5077-66AD-415B-A20B-9AF24126352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Grammar </a:t>
            </a:r>
            <a:fld id="{5062DB29-8BE9-427F-A635-3B06DF80842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11"/>
          <p:cNvSpPr/>
          <p:nvPr/>
        </p:nvSpPr>
        <p:spPr>
          <a:xfrm>
            <a:off x="571680" y="4419720"/>
            <a:ext cx="8001000" cy="1068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itive – Possessor 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'of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ive – Indirect object 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'to' or 'for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71720" y="1538280"/>
          <a:ext cx="6922800" cy="2247840"/>
        </p:xfrm>
        <a:graphic>
          <a:graphicData uri="http://schemas.openxmlformats.org/drawingml/2006/table">
            <a:tbl>
              <a:tblPr/>
              <a:tblGrid>
                <a:gridCol w="1249200"/>
                <a:gridCol w="1568520"/>
                <a:gridCol w="1515960"/>
                <a:gridCol w="1424160"/>
                <a:gridCol w="1164960"/>
              </a:tblGrid>
              <a:tr h="484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ὁ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th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ος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wor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81"/>
          <p:cNvSpPr/>
          <p:nvPr/>
        </p:nvSpPr>
        <p:spPr>
          <a:xfrm>
            <a:off x="1214280" y="2643120"/>
            <a:ext cx="6567480" cy="119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rticle and noun must agree in gender, case and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Grammar </a:t>
            </a:r>
            <a:fld id="{494180B4-006D-42B6-95D2-31A20FC31F8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Grammar </a:t>
            </a:r>
            <a:fld id="{3F865E99-26EE-413E-9931-0C281D64DA5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84"/>
          <p:cNvSpPr/>
          <p:nvPr/>
        </p:nvSpPr>
        <p:spPr>
          <a:xfrm>
            <a:off x="357120" y="10717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3.4 Overview of Nouns and the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81160" y="1617840"/>
          <a:ext cx="8648640" cy="3841560"/>
        </p:xfrm>
        <a:graphic>
          <a:graphicData uri="http://schemas.openxmlformats.org/drawingml/2006/table">
            <a:tbl>
              <a:tblPr/>
              <a:tblGrid>
                <a:gridCol w="1017360"/>
                <a:gridCol w="939960"/>
                <a:gridCol w="1017360"/>
                <a:gridCol w="1133640"/>
                <a:gridCol w="1133280"/>
                <a:gridCol w="1136880"/>
                <a:gridCol w="1135080"/>
                <a:gridCol w="1135080"/>
              </a:tblGrid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ic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ic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ic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ὁ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ο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ἡ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ργ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η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η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ργ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ργ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ργ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οἱ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ο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ἱ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α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ργ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α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α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ργ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ργ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αις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α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ργ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377"/>
          <p:cNvSpPr/>
          <p:nvPr/>
        </p:nvSpPr>
        <p:spPr>
          <a:xfrm>
            <a:off x="361800" y="5564160"/>
            <a:ext cx="7925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icle endings are the same as the noun except in masc. and fem. nom., and in the neuter (sing.) nom. and ac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258840" y="10587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3.5 Variant Feminine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Grammar </a:t>
            </a:r>
            <a:fld id="{3621F1F0-BB76-4151-90D2-78D54C989E4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143000" y="1500120"/>
          <a:ext cx="7010280" cy="4235400"/>
        </p:xfrm>
        <a:graphic>
          <a:graphicData uri="http://schemas.openxmlformats.org/drawingml/2006/table">
            <a:tbl>
              <a:tblPr/>
              <a:tblGrid>
                <a:gridCol w="1103400"/>
                <a:gridCol w="903240"/>
                <a:gridCol w="1563480"/>
                <a:gridCol w="1459080"/>
                <a:gridCol w="198108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lor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eginn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ἡμερ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οξ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η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ἡμερα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οξα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η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ἡμερ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οξη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η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ἡμερᾳ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οξῃ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ῃ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ἡμερ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οξ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ἡμερ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οξ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ἡμερ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οξ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ἡμερα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οξα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α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264"/>
          <p:cNvSpPr/>
          <p:nvPr/>
        </p:nvSpPr>
        <p:spPr>
          <a:xfrm>
            <a:off x="1214280" y="5811840"/>
            <a:ext cx="77724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100" spc="-1" strike="noStrike">
                <a:solidFill>
                  <a:srgbClr val="000000"/>
                </a:solidFill>
                <a:latin typeface="Gentium"/>
              </a:rPr>
              <a:t>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</a:rPr>
              <a:t>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variations between sing. and p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wel or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</a:rPr>
              <a:t>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fore end, 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ζ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inite article pattern follows 3.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357120" y="5740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785880" y="1214280"/>
          <a:ext cx="7510320" cy="2283120"/>
        </p:xfrm>
        <a:graphic>
          <a:graphicData uri="http://schemas.openxmlformats.org/drawingml/2006/table">
            <a:tbl>
              <a:tblPr/>
              <a:tblGrid>
                <a:gridCol w="1633320"/>
                <a:gridCol w="2122560"/>
                <a:gridCol w="1447920"/>
                <a:gridCol w="2306520"/>
              </a:tblGrid>
              <a:tr h="49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tiv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nomin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nomin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THE VOC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Grammar </a:t>
            </a:r>
            <a:fld id="{CA50786B-1CCB-4707-81FE-7A5F90BF0D3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4"/>
          <p:cNvSpPr/>
          <p:nvPr/>
        </p:nvSpPr>
        <p:spPr>
          <a:xfrm>
            <a:off x="357120" y="3506760"/>
            <a:ext cx="828684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τρε βλεπω δαιμονιον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Peter, I see a demon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ρια φιλεις τον κυρι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Mary! Do you love the lor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5"/>
          <p:cNvSpPr/>
          <p:nvPr/>
        </p:nvSpPr>
        <p:spPr>
          <a:xfrm>
            <a:off x="2428920" y="5214600"/>
            <a:ext cx="4343400" cy="1085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Kyrie Eleison 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κυριε ἐλεησ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Grammar </a:t>
            </a:r>
            <a:fld id="{5596324E-77CC-40FA-8E2C-D1DCEFE3684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857240" y="23328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Ἰησου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8"/>
          <p:cNvSpPr/>
          <p:nvPr/>
        </p:nvSpPr>
        <p:spPr>
          <a:xfrm>
            <a:off x="214200" y="3214800"/>
            <a:ext cx="8572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ἱ ὀχλοι ζητουσιν τον Ἰησου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The crowds are seeking Jes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δουλος του Ἰησου λεγε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The slave of Jesus is spea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9"/>
          <p:cNvSpPr/>
          <p:nvPr/>
        </p:nvSpPr>
        <p:spPr>
          <a:xfrm>
            <a:off x="1857240" y="5221440"/>
            <a:ext cx="4876920" cy="106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ησου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e definite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847880" y="1168560"/>
          <a:ext cx="5653080" cy="1996920"/>
        </p:xfrm>
        <a:graphic>
          <a:graphicData uri="http://schemas.openxmlformats.org/drawingml/2006/table">
            <a:tbl>
              <a:tblPr/>
              <a:tblGrid>
                <a:gridCol w="1208160"/>
                <a:gridCol w="1344600"/>
                <a:gridCol w="1709640"/>
                <a:gridCol w="1390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Ἰησ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Ἰησου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ocative is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Ἰησου</a:t>
                      </a: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Ἰησ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Ἰησ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96840" y="1214280"/>
          <a:ext cx="8939160" cy="4508640"/>
        </p:xfrm>
        <a:graphic>
          <a:graphicData uri="http://schemas.openxmlformats.org/drawingml/2006/table">
            <a:tbl>
              <a:tblPr/>
              <a:tblGrid>
                <a:gridCol w="798480"/>
                <a:gridCol w="825480"/>
                <a:gridCol w="1273320"/>
                <a:gridCol w="1233360"/>
                <a:gridCol w="1182600"/>
                <a:gridCol w="1208160"/>
                <a:gridCol w="1211400"/>
                <a:gridCol w="1206360"/>
              </a:tblGrid>
              <a:tr h="549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ο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η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hi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h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i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ο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α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α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i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i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i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οις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αις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οις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Box 2"/>
          <p:cNvSpPr/>
          <p:nvPr/>
        </p:nvSpPr>
        <p:spPr>
          <a:xfrm>
            <a:off x="1857240" y="23328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ὐ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Grammar </a:t>
            </a:r>
            <a:fld id="{F342B910-0DA5-4C14-9FA6-6418E82329C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Grammar </a:t>
            </a:r>
            <a:fld id="{01AE67FC-F246-4049-B249-006F29097D2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1857240" y="23328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ὐ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85840" y="1247760"/>
            <a:ext cx="79246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dings of </a:t>
            </a:r>
            <a:r>
              <a:rPr b="0" lang="el-GR" sz="2100" spc="-1" strike="noStrike">
                <a:solidFill>
                  <a:srgbClr val="000000"/>
                </a:solidFill>
                <a:latin typeface="Gentium"/>
              </a:rPr>
              <a:t>αὐτο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similarity to the article in neu. nom. and acc. sing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100" spc="-1" strike="noStrike">
                <a:solidFill>
                  <a:srgbClr val="000000"/>
                </a:solidFill>
                <a:latin typeface="Gentium"/>
              </a:rPr>
              <a:t>αὐτο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unnecessary in n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sessive </a:t>
            </a:r>
            <a:r>
              <a:rPr b="0" lang="el-GR" sz="2100" spc="-1" strike="noStrike">
                <a:solidFill>
                  <a:srgbClr val="000000"/>
                </a:solidFill>
                <a:latin typeface="Gentium"/>
              </a:rPr>
              <a:t>αὐτο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uses definite article and 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714240" y="3382920"/>
            <a:ext cx="771552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αλουμεν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αὐτ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 - We are speaking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o h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κυριος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αὐτου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φιλε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αὐτο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aster love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επεις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αὐτο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Do you se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Grammar </a:t>
            </a:r>
            <a:fld id="{964453CD-1ED7-4ABC-9968-96DD4E7DDDC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42880" y="1406520"/>
            <a:ext cx="777240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l-GR" sz="3000" spc="-1" strike="noStrike">
                <a:solidFill>
                  <a:srgbClr val="000000"/>
                </a:solidFill>
                <a:latin typeface="Gentium"/>
              </a:rPr>
              <a:t>ὁ ἀγγελος του θεου λεγει τον λογο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αγγελο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the angel –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m.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υ θεου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God –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ν λογον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the word -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gel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cause it is the subje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d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the poss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d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cc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tence = 'The angel of God speaks the word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Grammar </a:t>
            </a:r>
            <a:fld id="{BDFF50FB-17CB-4FC9-8165-DC7181D0EEE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04880" y="1655640"/>
            <a:ext cx="7010280" cy="35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l-GR" sz="3000" spc="-1" strike="noStrike">
                <a:solidFill>
                  <a:srgbClr val="000000"/>
                </a:solidFill>
                <a:latin typeface="Gentium"/>
              </a:rPr>
              <a:t>ὁ αγγελος λεγει τῳ δουλῳ</a:t>
            </a:r>
            <a:r>
              <a:rPr b="0" lang="en-GB" sz="30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ἀγγελος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the angel –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m.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ῳ δουλῳ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the slave –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gel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cause it is the subje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lave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at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the indirec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tence = 'The angel speaks to the slave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Grammar </a:t>
            </a:r>
            <a:fld id="{83DEDFA6-5D69-4397-8502-641E09C9061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85840" y="1339920"/>
            <a:ext cx="110728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l-GR" sz="3000" spc="-1" strike="noStrike">
                <a:solidFill>
                  <a:srgbClr val="000000"/>
                </a:solidFill>
                <a:latin typeface="Gentium"/>
              </a:rPr>
              <a:t>ὁ ἀγγελος λεγει τον λογον του θεου τῳ δουλ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ἀγγελ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the angel –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ν λογον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the word –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υ θεου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God –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ῳ δουλῳ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the slave –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gel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cause it is the subje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d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cc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th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d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the possess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lave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a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the indirec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tence = 'The angel speaks the word of God to the slave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576360" y="2025720"/>
            <a:ext cx="749592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υομεν του κυριου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e hear the L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υομεν τον λογον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We hear the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στευουσιν τῳ θεῳ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They believe in G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Grammar </a:t>
            </a:r>
            <a:fld id="{A6195290-3CF7-4DB6-875D-F0705E3A1AB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230040" y="87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SPECIAL USES OF THE GENITIV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D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Grammar </a:t>
            </a:r>
            <a:fld id="{8B9A8866-370D-41BF-B62C-F25A14A523F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00040" y="1523880"/>
            <a:ext cx="834408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ar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3.31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οὐρανος και ἡ γη παρελευσοντα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he)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eav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(the)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ar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ll pass aw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80880" y="3198960"/>
            <a:ext cx="838224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.3.1 The idea of gend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uns ending in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e masculine and decline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ογ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1687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uns ending in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e feminine and decline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χ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μερα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οξ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nouns ending in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e neuter and decline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ργ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39"/>
          <p:cNvSpPr/>
          <p:nvPr/>
        </p:nvSpPr>
        <p:spPr>
          <a:xfrm>
            <a:off x="374760" y="12002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3.2 The Feminine and Neuter Decl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57160" y="1763640"/>
          <a:ext cx="7429680" cy="4449960"/>
        </p:xfrm>
        <a:graphic>
          <a:graphicData uri="http://schemas.openxmlformats.org/drawingml/2006/table">
            <a:tbl>
              <a:tblPr/>
              <a:tblGrid>
                <a:gridCol w="1521000"/>
                <a:gridCol w="1374840"/>
                <a:gridCol w="2328840"/>
                <a:gridCol w="22050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eginn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or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η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ργο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η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ργο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η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ργου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ῃ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ργῳ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ργ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ργ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ργ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α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ργο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Grammar </a:t>
            </a:r>
            <a:fld id="{6E7D49F6-2FAD-469C-BD6A-F9FC26AC6CD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Grammar </a:t>
            </a:r>
            <a:fld id="{0897D5B7-33FB-430B-B451-BEF1AADFA91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00040" y="1428840"/>
            <a:ext cx="7315200" cy="32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om. and acc.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ργο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e identic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always true in the neu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a special rule for neuter plural nou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normally take a singular ver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.e. 'children keep the law' is ‘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α τεκνα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τηρει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τον νομο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’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71680" y="4980960"/>
            <a:ext cx="8001000" cy="601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Neuter Plural Nouns take a singular verb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66"/>
          <p:cNvSpPr/>
          <p:nvPr/>
        </p:nvSpPr>
        <p:spPr>
          <a:xfrm>
            <a:off x="347760" y="1143000"/>
            <a:ext cx="7010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.3.3 The feminine and the neuter of the definite article: agre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Grammar </a:t>
            </a:r>
            <a:fld id="{17C60F9E-5D13-4815-BE46-2CC83662E47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38320" y="2214720"/>
          <a:ext cx="6648480" cy="3992400"/>
        </p:xfrm>
        <a:graphic>
          <a:graphicData uri="http://schemas.openxmlformats.org/drawingml/2006/table">
            <a:tbl>
              <a:tblPr/>
              <a:tblGrid>
                <a:gridCol w="1066680"/>
                <a:gridCol w="933480"/>
                <a:gridCol w="1477800"/>
                <a:gridCol w="1443240"/>
                <a:gridCol w="1727280"/>
              </a:tblGrid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ὁ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ἡ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η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ο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α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10:23:27Z</dcterms:created>
  <dc:creator>Sarah</dc:creator>
  <dc:description/>
  <dc:language>en-US</dc:language>
  <cp:lastModifiedBy>Sarah</cp:lastModifiedBy>
  <dcterms:modified xsi:type="dcterms:W3CDTF">2009-07-10T19:47:40Z</dcterms:modified>
  <cp:revision>63</cp:revision>
  <dc:subject/>
  <dc:title>Slide 1</dc:title>
</cp:coreProperties>
</file>