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AB5-6495-40D2-AD50-C300539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559-5826-4142-9833-396F6C5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952-348D-4CE8-956C-8EF89520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C1C-F602-4B2A-956E-E58D45D2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8AC-07CC-4252-A215-83D237C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2C9-2108-4812-9306-4CA9241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5BF-821B-40AF-9A29-27DB588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007-D1BC-48FC-A936-3F9EC7CE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AB5-3C21-497C-980E-74F4E4E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98A-5E7C-48E1-9025-9517B64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5D0-533B-4281-89F5-0AC89DE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E16-4697-482B-9C97-2FFAF7B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2246-C622-4D71-8762-C1DB8C8F07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FE91D4C9-48D8-45CD-B624-56360B9600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8.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not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16.1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loo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th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2.1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al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ns and you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ugh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43602C63-66D4-4AEF-8921-ECFFAB6F42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DA20B836-A843-4688-8761-1C8EE2310F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e as Pronou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m do you see?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coming?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e as Ad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Ι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an also mean 'why?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are you speaking ?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what are you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ing?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AA81C54E-9CE3-469A-9BC3-A8AC650BC3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Distinguishing between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(someone) and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nt on the first syllabl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4828DA33-DDC6-4FA5-B2F4-4D97C8C10C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for a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ave always declined lik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7EF16F40-EB33-44A1-81FF-3312204C38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ding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2560"/>
                <a:gridCol w="36054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2DE3286F-CD27-4201-B4F2-754C75206D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51F2DE6B-6B78-4D37-B5D7-CF20E4522B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'star'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and therefore its stem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ε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5B8DE045-677F-4716-A660-FF79F54325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flesh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κ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ξ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child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δ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ruler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ω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οντ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ου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280D15D1-0B79-43C0-A1C6-5ABECE1D72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sometimes part of the stem, and sometimes not. Also the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dative plural.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τη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τ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ε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7D22A38E-2CD9-49E0-9A01-ACF116EC7C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body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624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11280"/>
                <a:gridCol w="141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0474DC43-6CB6-463E-8B9F-C6790F6912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9-07-11T00:07:56Z</dcterms:modified>
  <cp:revision>38</cp:revision>
  <dc:subject/>
  <dc:title>Slide 1</dc:title>
</cp:coreProperties>
</file>