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85568-F7CE-41FE-883F-2C0F0EE4F3C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5D5CE-69E2-4782-A2FB-6591104C7C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BCA8-6D97-4904-A4E8-E51A4CC99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555E-C1D0-4C04-A7B5-9AED211AD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0E09-52E7-46C8-8041-F4B766A89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D222-8893-48FB-B072-B7CE1525F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9AC7-F40A-4ECB-978D-26897B106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8B4B-52D1-4EFE-BEA6-8A4ADC153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2676-70AD-4E93-81FF-C43DD4FF0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E8AA-4A7B-4761-99EB-D366E6656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93E4-59C5-408E-B53B-94FC4AF7D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F17C-25C4-4CFE-B999-BC00E2C11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8A18-BF27-4DD0-A947-BCA039170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05A3-B445-4537-8388-3C3E654E9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90CAD-FFA7-470B-9841-023A80F8A8A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alphaomega.jpg"/>
          <p:cNvPicPr/>
          <p:nvPr/>
        </p:nvPicPr>
        <p:blipFill>
          <a:blip r:embed="rId2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8:Grammar </a:t>
            </a:r>
            <a:fld id="{F74D2FD9-2E64-4369-B91F-C35DE1370CB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241200" y="44280"/>
            <a:ext cx="862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8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δυναμαι, καθημαι, κειμα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οἰδ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546200" y="1486080"/>
          <a:ext cx="6008760" cy="1006200"/>
        </p:xfrm>
        <a:graphic>
          <a:graphicData uri="http://schemas.openxmlformats.org/drawingml/2006/table">
            <a:tbl>
              <a:tblPr/>
              <a:tblGrid>
                <a:gridCol w="3606840"/>
                <a:gridCol w="240192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δυναμαι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I am able (to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κειμαι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I li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καθημαι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I si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οἰδα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I know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Text Box 24"/>
          <p:cNvSpPr/>
          <p:nvPr/>
        </p:nvSpPr>
        <p:spPr>
          <a:xfrm>
            <a:off x="0" y="3214800"/>
            <a:ext cx="9144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esent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urrent state arising from past a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Perfect end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st:      Past state arising from action in further pa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Pluperfect ending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8:Grammar </a:t>
            </a:r>
            <a:fld id="{EDA1D039-1ABD-4B7B-B79D-5D8347A7064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2"/>
          <p:cNvSpPr/>
          <p:nvPr/>
        </p:nvSpPr>
        <p:spPr>
          <a:xfrm>
            <a:off x="260280" y="26352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8.2 USE OF INFINI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357120" y="1714680"/>
            <a:ext cx="8229600" cy="36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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ἐξεστιν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is irregular and is normally followed by a dative. For example: Matt 14.4: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Οὐκ ἐξεστιν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Arial"/>
              </a:rPr>
              <a:t>σοι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 ἐχειν αὐτην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Arial"/>
              </a:rPr>
              <a:t>.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– 'It is not lawful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or you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to have her'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When translating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δε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it is often sensible to rephrase 'it is necessary' (which one hardly ever says in English) to some form of 'must'. (N.B. there is no word in Greek for 'must' -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δε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is used instead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3"/>
          <p:cNvSpPr/>
          <p:nvPr/>
        </p:nvSpPr>
        <p:spPr>
          <a:xfrm>
            <a:off x="2286000" y="1104840"/>
            <a:ext cx="4572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18.2.2 Result Clauses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1219320" y="1714680"/>
            <a:ext cx="6705360" cy="62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500" spc="-1" strike="noStrike">
                <a:solidFill>
                  <a:srgbClr val="000000"/>
                </a:solidFill>
                <a:latin typeface="Gentium"/>
              </a:rPr>
              <a:t>ὡστε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+ Infinitive = resul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142920" y="2401920"/>
            <a:ext cx="8800920" cy="42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Matthew 15.30-1: </a:t>
            </a: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και ἐθεραπευσεν αὐτους∙ </a:t>
            </a:r>
            <a:r>
              <a:rPr b="0" lang="el-GR" sz="2600" spc="-1" strike="noStrike" u="sng">
                <a:solidFill>
                  <a:srgbClr val="000000"/>
                </a:solidFill>
                <a:uFillTx/>
                <a:latin typeface="Gentium"/>
              </a:rPr>
              <a:t>ὡστε</a:t>
            </a: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 τον ὀχλον </a:t>
            </a: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600" spc="-1" strike="noStrike" u="sng">
                <a:solidFill>
                  <a:srgbClr val="000000"/>
                </a:solidFill>
                <a:uFillTx/>
                <a:latin typeface="Gentium"/>
              </a:rPr>
              <a:t>θαυμασαι</a:t>
            </a: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And he healed them, </a:t>
            </a:r>
            <a:r>
              <a:rPr b="0" lang="en-GB" sz="2300" spc="-1" strike="noStrike" u="sng">
                <a:solidFill>
                  <a:srgbClr val="000000"/>
                </a:solidFill>
                <a:uFillTx/>
                <a:latin typeface="Arial"/>
              </a:rPr>
              <a:t>with the result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that the crowd </a:t>
            </a:r>
            <a:r>
              <a:rPr b="0" lang="en-GB" sz="2300" spc="-1" strike="noStrike" u="sng">
                <a:solidFill>
                  <a:srgbClr val="000000"/>
                </a:solidFill>
                <a:uFillTx/>
                <a:latin typeface="Arial"/>
              </a:rPr>
              <a:t>was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 u="sng">
                <a:solidFill>
                  <a:srgbClr val="000000"/>
                </a:solidFill>
                <a:uFillTx/>
                <a:latin typeface="Arial"/>
              </a:rPr>
              <a:t>amazed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Mark 15.5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: </a:t>
            </a: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ὁ δε Ἰησους οὐκετι οὐδεν ἀπεκριθη, </a:t>
            </a:r>
            <a:r>
              <a:rPr b="0" lang="el-GR" sz="2600" spc="-1" strike="noStrike" u="sng">
                <a:solidFill>
                  <a:srgbClr val="000000"/>
                </a:solidFill>
                <a:uFillTx/>
                <a:latin typeface="Gentium"/>
              </a:rPr>
              <a:t>ὡστε θαυμαζειν</a:t>
            </a: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τον Πιλατον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But Jesus answered nothing further, </a:t>
            </a:r>
            <a:r>
              <a:rPr b="0" lang="en-GB" sz="2300" spc="-1" strike="noStrike" u="sng">
                <a:solidFill>
                  <a:srgbClr val="000000"/>
                </a:solidFill>
                <a:uFillTx/>
                <a:latin typeface="Arial"/>
              </a:rPr>
              <a:t>with the result that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ilate </a:t>
            </a:r>
            <a:r>
              <a:rPr b="0" lang="en-GB" sz="2300" spc="-1" strike="noStrike" u="sng">
                <a:solidFill>
                  <a:srgbClr val="000000"/>
                </a:solidFill>
                <a:uFillTx/>
                <a:latin typeface="Arial"/>
              </a:rPr>
              <a:t>was amazed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8:Grammar </a:t>
            </a:r>
            <a:fld id="{56AD61F7-E2D9-44C8-9B1F-C2EDC4EB804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5"/>
          <p:cNvSpPr/>
          <p:nvPr/>
        </p:nvSpPr>
        <p:spPr>
          <a:xfrm>
            <a:off x="260280" y="26352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8.2 USE OF INFINI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3"/>
          <p:cNvSpPr/>
          <p:nvPr/>
        </p:nvSpPr>
        <p:spPr>
          <a:xfrm>
            <a:off x="2057400" y="1143000"/>
            <a:ext cx="50292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18.2.3 Purpose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285840" y="1643040"/>
            <a:ext cx="8572320" cy="47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ude 14: 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ἰδου ἠλθεν κυριος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...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</a:rPr>
              <a:t>ποιησαι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ρισιν κατα παντων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hold, the Lord is coming …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to execut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lit: do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udgment against al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rk 3.14-15: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ποιησεν δωδεκα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</a:rPr>
              <a:t>ἱνα ὠσιν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μετ’ αὐτου και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</a:rPr>
              <a:t>ἱνα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</a:rPr>
              <a:t>ἀποστελλῃ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αὐτους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</a:rPr>
              <a:t>κυρυσσειν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και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</a:rPr>
              <a:t>ἐχειν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ἐξουσιαν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</a:rPr>
              <a:t>ἐκβαλλειν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τα δαιμονια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He made (the) twelv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in order (for them) to b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m and so that he might send them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to preac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t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hav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uthority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to cast ou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dem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8:Grammar </a:t>
            </a:r>
            <a:fld id="{51B41C5B-7615-4620-959D-5CE322FCFA5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4"/>
          <p:cNvSpPr/>
          <p:nvPr/>
        </p:nvSpPr>
        <p:spPr>
          <a:xfrm>
            <a:off x="260280" y="26352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8.2 USE OF INFINI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8:Grammar </a:t>
            </a:r>
            <a:fld id="{9C542124-0FA7-4384-B19A-DF1BF2DE8A4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4"/>
          <p:cNvSpPr/>
          <p:nvPr/>
        </p:nvSpPr>
        <p:spPr>
          <a:xfrm>
            <a:off x="260280" y="26352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8.2 USE OF INFINI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1828800" y="1300320"/>
            <a:ext cx="54864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18.2.4 Articular Infinitive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01760" y="2017800"/>
          <a:ext cx="9028080" cy="914400"/>
        </p:xfrm>
        <a:graphic>
          <a:graphicData uri="http://schemas.openxmlformats.org/drawingml/2006/table">
            <a:tbl>
              <a:tblPr/>
              <a:tblGrid>
                <a:gridCol w="2384280"/>
                <a:gridCol w="525600"/>
                <a:gridCol w="6118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κρινειν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-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judg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ο κρινειν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-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he activity of/the fact of) judgin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σθιειν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 -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ea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ο ἐσθιειν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-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he activity of/the fact of) eatin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428760" y="3286080"/>
          <a:ext cx="8196120" cy="2286000"/>
        </p:xfrm>
        <a:graphic>
          <a:graphicData uri="http://schemas.openxmlformats.org/drawingml/2006/table">
            <a:tbl>
              <a:tblPr/>
              <a:tblGrid>
                <a:gridCol w="3340080"/>
                <a:gridCol w="485604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δια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cause of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μετα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te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εἰς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. </a:t>
                      </a: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προς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acc.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a view to / aiming at / leading t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ρο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.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for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ν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.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ing / whil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8:Grammar </a:t>
            </a:r>
            <a:fld id="{98AFAC3B-7CCC-405F-A0AF-AFB1ED86632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2"/>
          <p:cNvSpPr/>
          <p:nvPr/>
        </p:nvSpPr>
        <p:spPr>
          <a:xfrm>
            <a:off x="260280" y="26352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8.2 USE OF INFINI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419040" y="1357200"/>
            <a:ext cx="8153640" cy="47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Jas. 4.2: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οὐκ ἐχετε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Arial"/>
              </a:rPr>
              <a:t>δια το μη αἰτεισθαι ὑμας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Arial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you do not hav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ecause you do not ask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lit: on account of the fact of you not ask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att. 26.32: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Arial"/>
              </a:rPr>
              <a:t>μετα δε το ἐγερθηναι με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Arial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προαξω ὑμας εἰς την Γαλιλαια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fter I have been raise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I will go head of you into Galil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lit: after the activity of me being raised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8:Grammar </a:t>
            </a:r>
            <a:fld id="{80B4621F-AE2D-4E83-91B6-CB1B54C9F6F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2"/>
          <p:cNvSpPr/>
          <p:nvPr/>
        </p:nvSpPr>
        <p:spPr>
          <a:xfrm>
            <a:off x="260280" y="26352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8.2 USE OF INFINI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142920" y="1332000"/>
            <a:ext cx="8724960" cy="49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 Cor. 1.4: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ὁ παρακαλων ἡμας ἐπι πασῃ τῃ θλιψει ἡμων 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</a:rPr>
              <a:t>εἰς το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</a:rPr>
              <a:t>δυνασθαι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</a:rPr>
              <a:t>ἡμας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παρακαλειν τους ἐν πασῃ θλιψει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one encouraging us in all our suffering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so that we might</a:t>
            </a:r>
            <a:r>
              <a:rPr b="0" lang="el-GR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be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able t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encourage those who are in any suffering. (lit: with a view to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activity of us being 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al. 2.12: 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</a:rPr>
              <a:t>προ του γαρ ἐλθειν τινας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ἀπο Ἰακωβου μετα των ἐθνων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συνησθιεν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for before some people cam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from James, he used to ea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th the Gentiles. (lit: before the fact of some people com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rk 4.4: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αι ἐγενετο 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</a:rPr>
              <a:t>ἐν τῳ σπειρειν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ὃ μεν ἐπεσεν παρα την ὁδον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as he sow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ome fell alongside the path. (lit: in th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tivity of sowing …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8:Grammar </a:t>
            </a:r>
            <a:fld id="{E2FAFCD2-DE77-4A13-AFA7-004CBCCE1EB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2"/>
          <p:cNvSpPr/>
          <p:nvPr/>
        </p:nvSpPr>
        <p:spPr>
          <a:xfrm>
            <a:off x="260280" y="26352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8.3 THIRD PERSON IMPERA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1295280" y="1500120"/>
            <a:ext cx="6553440" cy="581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r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Person Imperatives = 'Let …'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98280" y="2822400"/>
          <a:ext cx="8929800" cy="1951200"/>
        </p:xfrm>
        <a:graphic>
          <a:graphicData uri="http://schemas.openxmlformats.org/drawingml/2006/table">
            <a:tbl>
              <a:tblPr/>
              <a:tblGrid>
                <a:gridCol w="928800"/>
                <a:gridCol w="1428840"/>
                <a:gridCol w="1571400"/>
                <a:gridCol w="1643400"/>
                <a:gridCol w="1714320"/>
                <a:gridCol w="1643040"/>
              </a:tblGrid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 Ac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t Aorist Ac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ddle </a:t>
                      </a: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assiv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t Aoris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ddl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oris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iv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ετω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σατω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ῥυεσθω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ῥυσασθω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θητω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ετωσα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σατωσα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ῥυεσθωσα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ῥυσασθωσα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θητωσα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3"/>
          <p:cNvSpPr/>
          <p:nvPr/>
        </p:nvSpPr>
        <p:spPr>
          <a:xfrm>
            <a:off x="343080" y="1204920"/>
            <a:ext cx="8429400" cy="18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endings are very distinctive: -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ω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for 3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ingular, -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ωσαν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for 3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plur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standard distinctive features are visible: -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σα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n the 1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orist Active and Middle,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θ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n the Aorist Passiv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357120" y="3271680"/>
            <a:ext cx="8358120" cy="27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rk 4.23: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εἰ τις ἐχει ὠτα ἀκουειν ἀκουετω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If someone has ears to hear, he should hea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m. 6.12: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μη οὐν βασιλευετω ἡ ἁμαρτια ἐν τῳ θνητῳ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ὑμων σωματι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Therefore sin should not reign in your mortal bod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8:Grammar </a:t>
            </a:r>
            <a:fld id="{DD46EAF7-E742-485C-8856-B208F395709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260280" y="26352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8.3 THIRD PERSON IMPERA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8:Grammar </a:t>
            </a:r>
            <a:fld id="{680412CB-0B43-424E-B221-5EA757C6BAF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2"/>
          <p:cNvSpPr/>
          <p:nvPr/>
        </p:nvSpPr>
        <p:spPr>
          <a:xfrm>
            <a:off x="260280" y="26352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8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PRINCIPAL PAR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266760" y="1571760"/>
          <a:ext cx="8610480" cy="4114800"/>
        </p:xfrm>
        <a:graphic>
          <a:graphicData uri="http://schemas.openxmlformats.org/drawingml/2006/table">
            <a:tbl>
              <a:tblPr/>
              <a:tblGrid>
                <a:gridCol w="2162160"/>
                <a:gridCol w="1023840"/>
                <a:gridCol w="623880"/>
                <a:gridCol w="3106800"/>
                <a:gridCol w="1693800"/>
              </a:tblGrid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ncipal Part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the parts of the Verb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 Acti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υ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 Ac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υ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erfect Ac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ἐλυο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 Middle/Pass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υομ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erfect Middle/Pass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ἐλυομ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ture Acti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υσω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ture Ac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υσ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ture Midd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υσομ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8:Grammar </a:t>
            </a:r>
            <a:fld id="{27449E26-6D96-48C6-AC14-EAF3A3DEB65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"/>
          <p:cNvSpPr/>
          <p:nvPr/>
        </p:nvSpPr>
        <p:spPr>
          <a:xfrm>
            <a:off x="260280" y="26352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8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PRINCIPAL PAR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87200" y="1289160"/>
          <a:ext cx="8739360" cy="4800600"/>
        </p:xfrm>
        <a:graphic>
          <a:graphicData uri="http://schemas.openxmlformats.org/drawingml/2006/table">
            <a:tbl>
              <a:tblPr/>
              <a:tblGrid>
                <a:gridCol w="1598760"/>
                <a:gridCol w="1401840"/>
                <a:gridCol w="500040"/>
                <a:gridCol w="3357360"/>
                <a:gridCol w="1881360"/>
              </a:tblGrid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ncipal Part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the parts of the Verb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orist Acti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ἐλυσα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orist Ac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ἐλυσ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orist Midd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ἐλυσαμ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 Acti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ελυκα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 Ac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ελυκ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perfect Ac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(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ἐ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)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ελυκει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 Middle/ Passi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ελυμαι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Μ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dle/Pass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ελυμ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perfect Middle/Pass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ἐλελυμ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orist Passi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ἐλυθ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orist Pass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ἐλυθ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ture Pass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υθησομ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8:Grammar </a:t>
            </a:r>
            <a:fld id="{AF0FDEDA-BC75-4991-85CC-4796CD7CA85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241200" y="44280"/>
            <a:ext cx="862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8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δυναμαι, καθημαι, κειμα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οἰδ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152280" y="1181160"/>
            <a:ext cx="5486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buClr>
                <a:srgbClr val="000000"/>
              </a:buClr>
              <a:buFont typeface="Gent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δυναμαι, καθημαι, κειμαι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06200" y="1886040"/>
          <a:ext cx="8894880" cy="4114800"/>
        </p:xfrm>
        <a:graphic>
          <a:graphicData uri="http://schemas.openxmlformats.org/drawingml/2006/table">
            <a:tbl>
              <a:tblPr/>
              <a:tblGrid>
                <a:gridCol w="1487520"/>
                <a:gridCol w="1500480"/>
                <a:gridCol w="1271520"/>
                <a:gridCol w="1612800"/>
                <a:gridCol w="1623960"/>
                <a:gridCol w="1398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erfec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δυνα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μα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καθη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μα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κει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μα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δυνα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μη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καθη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μη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κει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μη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δυνα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σα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καθη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σα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κει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σα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δυνα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σ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καθη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σ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κει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σ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δυνα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α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καθη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α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κει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α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δυνα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καθη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κει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δυνα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μεθα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καθη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μεθα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κει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μεθα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δυνα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μεθα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καθη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μεθα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κει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μεθα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δυνα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σθ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καθη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σθ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κει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σθ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δυνα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σθ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καθη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σθ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κει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σθ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δυνα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ντα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καθη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ντα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κει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ντα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δυνα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ντ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καθη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ντ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κει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ντ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iv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δυνασθαι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καθησθαι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κεισθαι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cip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δυναμενος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καθημενος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κειμενος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8:Grammar </a:t>
            </a:r>
            <a:fld id="{A9F233AB-18B8-4CC0-A795-EE7206B7015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2"/>
          <p:cNvSpPr/>
          <p:nvPr/>
        </p:nvSpPr>
        <p:spPr>
          <a:xfrm>
            <a:off x="260280" y="26352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8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PRINCIPAL PAR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52280" y="2813040"/>
          <a:ext cx="9205920" cy="3322800"/>
        </p:xfrm>
        <a:graphic>
          <a:graphicData uri="http://schemas.openxmlformats.org/drawingml/2006/table">
            <a:tbl>
              <a:tblPr/>
              <a:tblGrid>
                <a:gridCol w="1478160"/>
                <a:gridCol w="1220760"/>
                <a:gridCol w="4125960"/>
                <a:gridCol w="23810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βαλλω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5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lls you that, for example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1</a:t>
                      </a:r>
                      <a:r>
                        <a:rPr b="0" lang="en-GB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ing. Imperfect Passive 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βαλλομη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βαλε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2</a:t>
                      </a:r>
                      <a:r>
                        <a:rPr b="0" lang="en-GB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lural Future Active 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βαλειτε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βαλο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3</a:t>
                      </a:r>
                      <a:r>
                        <a:rPr b="0" lang="en-GB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rd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ing. Aorist Active i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βαλ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nd -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ον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ending points out that it has a 2</a:t>
                      </a:r>
                      <a:r>
                        <a:rPr b="0" lang="en-GB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orist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βεβληκα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Perfect Participle 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βεβληκω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βεβλημαι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3</a:t>
                      </a:r>
                      <a:r>
                        <a:rPr b="0" lang="en-GB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rd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lural Perfect Passive 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βεβληντα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βληθην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1</a:t>
                      </a:r>
                      <a:r>
                        <a:rPr b="0" lang="en-GB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lural Future Passive 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βληθησομεθ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357120" y="1297080"/>
          <a:ext cx="8429760" cy="1158840"/>
        </p:xfrm>
        <a:graphic>
          <a:graphicData uri="http://schemas.openxmlformats.org/drawingml/2006/table">
            <a:tbl>
              <a:tblPr/>
              <a:tblGrid>
                <a:gridCol w="1405080"/>
                <a:gridCol w="1403280"/>
                <a:gridCol w="1407960"/>
                <a:gridCol w="1403640"/>
                <a:gridCol w="1455480"/>
                <a:gridCol w="13543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orist Ac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 Ac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 Pass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orist Pass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βαλλ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βαλε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βαλο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βεβληκ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βεβλημαι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βληθη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8:Grammar </a:t>
            </a:r>
            <a:fld id="{4B92333F-334F-4C37-BBA7-B28EB8CE4C5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2"/>
          <p:cNvSpPr/>
          <p:nvPr/>
        </p:nvSpPr>
        <p:spPr>
          <a:xfrm>
            <a:off x="260280" y="26352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8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ASPECT AND TIME IN TEN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142920" y="1214280"/>
            <a:ext cx="972504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9684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ree time distinctions: future, present,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9684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ree 'aspects'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ss – the action is 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ndefined – the action is considered in itself,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ithout reference to continuation or comple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mpleted – the action is comple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9684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tenses function differently in the different moo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dicatives – time and a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articiples – relative time (relative to the main ver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ther moods – aspect onl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23"/>
          <p:cNvSpPr/>
          <p:nvPr/>
        </p:nvSpPr>
        <p:spPr>
          <a:xfrm>
            <a:off x="142920" y="4387680"/>
            <a:ext cx="8786880" cy="26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multaneous/sequence is very similar to process/undefin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Indicative can be dominated by aspect, (e.g. Romans 3.23: </a:t>
            </a:r>
            <a:r>
              <a:rPr b="0" lang="el-GR" sz="2000" spc="-1" strike="noStrike">
                <a:solidFill>
                  <a:srgbClr val="000000"/>
                </a:solidFill>
                <a:latin typeface="Gentium"/>
              </a:rPr>
              <a:t>παντες γαρ ἡματον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 but normally time (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longsid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aspect) is very importan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ugment marks out past time – hence it occurs in the Imperfect and Aorist in th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dicativ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onl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8:Grammar </a:t>
            </a:r>
            <a:fld id="{20B4843F-0FC9-4AE7-BD62-AF94DE45453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2"/>
          <p:cNvSpPr/>
          <p:nvPr/>
        </p:nvSpPr>
        <p:spPr>
          <a:xfrm>
            <a:off x="260280" y="26352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8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ASPECT AND TIME IN TEN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90440" y="1230480"/>
          <a:ext cx="8763120" cy="3127320"/>
        </p:xfrm>
        <a:graphic>
          <a:graphicData uri="http://schemas.openxmlformats.org/drawingml/2006/table">
            <a:tbl>
              <a:tblPr/>
              <a:tblGrid>
                <a:gridCol w="1430280"/>
                <a:gridCol w="1231920"/>
                <a:gridCol w="495360"/>
                <a:gridCol w="1666800"/>
                <a:gridCol w="1994040"/>
                <a:gridCol w="1944720"/>
              </a:tblGrid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tiv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cipl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er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junctiv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s (or Undefine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ultaneou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tur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defin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erf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or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defin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quenc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define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8:Grammar </a:t>
            </a:r>
            <a:fld id="{06905676-5D51-41BC-AA99-CE75AEAA220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241200" y="44280"/>
            <a:ext cx="862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8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δυναμαι, καθημαι, κειμα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οἰδ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952560" y="2057400"/>
          <a:ext cx="7238880" cy="3521160"/>
        </p:xfrm>
        <a:graphic>
          <a:graphicData uri="http://schemas.openxmlformats.org/drawingml/2006/table">
            <a:tbl>
              <a:tblPr/>
              <a:tblGrid>
                <a:gridCol w="1809720"/>
                <a:gridCol w="1809720"/>
                <a:gridCol w="1809720"/>
                <a:gridCol w="180972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erf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οἰδ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-a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ᾐδ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ει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οἰδ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α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ᾐδ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ει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εἰδεν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οἰδ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ε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ᾐδ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ε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cip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εἰδω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οἰδ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αμε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ᾐδ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ειμε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οἰδ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ατ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ᾐδ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ειτ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οἰδ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ασι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ᾐδ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εισα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Text Box 143"/>
          <p:cNvSpPr/>
          <p:nvPr/>
        </p:nvSpPr>
        <p:spPr>
          <a:xfrm>
            <a:off x="762120" y="1371600"/>
            <a:ext cx="2514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buClr>
                <a:srgbClr val="000000"/>
              </a:buClr>
              <a:buFont typeface="Gent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οἰδ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8:Grammar </a:t>
            </a:r>
            <a:fld id="{4D4DEA17-8EE6-4EC3-A0D1-207F2D60D19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2"/>
          <p:cNvSpPr/>
          <p:nvPr/>
        </p:nvSpPr>
        <p:spPr>
          <a:xfrm>
            <a:off x="241200" y="44280"/>
            <a:ext cx="862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8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δυναμαι, καθημαι, κειμα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οἰδ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384120" y="1531800"/>
            <a:ext cx="8358120" cy="1917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Hint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of the forms of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οἰδα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re easily confused with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εἰδον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orist of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ραω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I see).  Remember that augments are lost in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other mood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687240" y="3840120"/>
          <a:ext cx="7715520" cy="1874880"/>
        </p:xfrm>
        <a:graphic>
          <a:graphicData uri="http://schemas.openxmlformats.org/drawingml/2006/table">
            <a:tbl>
              <a:tblPr/>
              <a:tblGrid>
                <a:gridCol w="2598840"/>
                <a:gridCol w="1758960"/>
                <a:gridCol w="1643040"/>
                <a:gridCol w="17146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cip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see – 2</a:t>
                      </a:r>
                      <a:r>
                        <a:rPr b="0" lang="en-GB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or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εἰδο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ἰδει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ἰδω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kn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ᾐδει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(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erfect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)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εἰδεν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εἰδω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8:Grammar </a:t>
            </a:r>
            <a:fld id="{31C4D4BC-6835-4DD2-9757-DFFCFA757E3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241200" y="44280"/>
            <a:ext cx="862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8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δυναμαι, καθημαι, κειμα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οἰδ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214200" y="1474920"/>
            <a:ext cx="8929800" cy="45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as. 2.14: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μη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δυναται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ἡ πιστις σωσαι αὐτον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;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ith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not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ab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o save him, is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ts 2.34: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εἰπεν ὁ κυριος τῳ κυριῳ μου∙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Καθου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ἐκ δεξιων μου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lord said to my lord, '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Si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t my right.'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tt. 28.6: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οὐκ ἐστιν ὡδε, ἠγερθη γαρ καθως εἰπεν∙ δευτε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ἰδετε τον τοπον ὁπου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</a:rPr>
              <a:t>ἐκειτο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 is not here, for he has been raised just as he said;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e see the place wher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he la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"/>
          <p:cNvSpPr/>
          <p:nvPr/>
        </p:nvSpPr>
        <p:spPr>
          <a:xfrm>
            <a:off x="142920" y="1177920"/>
            <a:ext cx="8772480" cy="54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Rev. 4.2: 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εὐθεως ἐγενομην ἐν πνευματι, και ἰδου θρονος </a:t>
            </a:r>
            <a:r>
              <a:rPr b="0" lang="el-GR" sz="2500" spc="-1" strike="noStrike" u="sng">
                <a:solidFill>
                  <a:srgbClr val="000000"/>
                </a:solidFill>
                <a:uFillTx/>
                <a:latin typeface="Gentium"/>
              </a:rPr>
              <a:t>ἐκειτο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 ἐν 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τῳ οὐρανῳ, και ἐπι τον θρονον </a:t>
            </a:r>
            <a:r>
              <a:rPr b="0" lang="el-GR" sz="2500" spc="-1" strike="noStrike" u="sng">
                <a:solidFill>
                  <a:srgbClr val="000000"/>
                </a:solidFill>
                <a:uFillTx/>
                <a:latin typeface="Gentium"/>
              </a:rPr>
              <a:t>καθημενος</a:t>
            </a:r>
            <a:r>
              <a:rPr b="0" lang="en-GB" sz="2500" spc="-1" strike="noStrike">
                <a:solidFill>
                  <a:srgbClr val="000000"/>
                </a:solidFill>
                <a:latin typeface="Gentium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Immediately I was in the spirit, and behold a throne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 u="sng">
                <a:solidFill>
                  <a:srgbClr val="000000"/>
                </a:solidFill>
                <a:uFillTx/>
                <a:latin typeface="Arial"/>
              </a:rPr>
              <a:t>lying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in heaven, and one </a:t>
            </a:r>
            <a:r>
              <a:rPr b="0" lang="en-GB" sz="2300" spc="-1" strike="noStrike" u="sng">
                <a:solidFill>
                  <a:srgbClr val="000000"/>
                </a:solidFill>
                <a:uFillTx/>
                <a:latin typeface="Arial"/>
              </a:rPr>
              <a:t>sitting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on the throne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3 John 12: 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και ἡμεις δε μαρτυρουμεν, και </a:t>
            </a:r>
            <a:r>
              <a:rPr b="0" lang="el-GR" sz="2500" spc="-1" strike="noStrike" u="sng">
                <a:solidFill>
                  <a:srgbClr val="000000"/>
                </a:solidFill>
                <a:uFillTx/>
                <a:latin typeface="Gentium"/>
              </a:rPr>
              <a:t>οἰδας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 ὁτι ἡ μαρτυρια 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ἡμων ἀληθης ἐστιν</a:t>
            </a:r>
            <a:r>
              <a:rPr b="0" lang="en-GB" sz="2500" spc="-1" strike="noStrike">
                <a:solidFill>
                  <a:srgbClr val="000000"/>
                </a:solidFill>
                <a:latin typeface="Gentium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We also testify, and </a:t>
            </a:r>
            <a:r>
              <a:rPr b="0" lang="en-GB" sz="2300" spc="-1" strike="noStrike" u="sng">
                <a:solidFill>
                  <a:srgbClr val="000000"/>
                </a:solidFill>
                <a:uFillTx/>
                <a:latin typeface="Arial"/>
              </a:rPr>
              <a:t>you know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that our testimony is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true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2 Cor. 4.14: </a:t>
            </a:r>
            <a:r>
              <a:rPr b="0" lang="el-GR" sz="2500" spc="-1" strike="noStrike" u="sng">
                <a:solidFill>
                  <a:srgbClr val="000000"/>
                </a:solidFill>
                <a:uFillTx/>
                <a:latin typeface="Gentium"/>
              </a:rPr>
              <a:t>εἰδοτες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 ὁτι ὁ ἐγειρας τνο κυριον Ἰησουν και ἡμας συν 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Ἰησου ἐγερεῖ</a:t>
            </a:r>
            <a:r>
              <a:rPr b="0" lang="en-GB" sz="2500" spc="-1" strike="noStrike">
                <a:solidFill>
                  <a:srgbClr val="000000"/>
                </a:solidFill>
                <a:latin typeface="Gentium"/>
              </a:rPr>
              <a:t>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300" spc="-1" strike="noStrike" u="sng">
                <a:solidFill>
                  <a:srgbClr val="000000"/>
                </a:solidFill>
                <a:uFillTx/>
                <a:latin typeface="Arial"/>
              </a:rPr>
              <a:t>Knowing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that the one who raised the Lord Jesus will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raise us also with Jesus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8:Grammar </a:t>
            </a:r>
            <a:fld id="{D858DF32-B6D2-41DD-9A41-6D6C9EDE288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"/>
          <p:cNvSpPr/>
          <p:nvPr/>
        </p:nvSpPr>
        <p:spPr>
          <a:xfrm>
            <a:off x="241200" y="44280"/>
            <a:ext cx="862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8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δυναμαι, καθημαι, κειμα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οἰδ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8:Grammar </a:t>
            </a:r>
            <a:fld id="{14F3C1BE-7AEB-4E3D-AC02-5248928F9BE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260280" y="26352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8.2 USE OF INFINI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1371600" y="1643040"/>
            <a:ext cx="64008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18.2.1  After certain verbs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85680" y="2849400"/>
          <a:ext cx="9001080" cy="1508400"/>
        </p:xfrm>
        <a:graphic>
          <a:graphicData uri="http://schemas.openxmlformats.org/drawingml/2006/table">
            <a:tbl>
              <a:tblPr/>
              <a:tblGrid>
                <a:gridCol w="1379520"/>
                <a:gridCol w="3121200"/>
                <a:gridCol w="1233360"/>
                <a:gridCol w="326700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δε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is (was) necessa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ξεστι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is lawfu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δυναμ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am ab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θελ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wis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στι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μελλ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intend / am about (to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8:Grammar </a:t>
            </a:r>
            <a:fld id="{C239DA3E-3F90-4591-B045-37230E2FFB6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2"/>
          <p:cNvSpPr/>
          <p:nvPr/>
        </p:nvSpPr>
        <p:spPr>
          <a:xfrm>
            <a:off x="260280" y="26352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8.2 USE OF INFINI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142920" y="1143000"/>
            <a:ext cx="8786880" cy="52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Rev. 1.19: 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γραψον οὐν ἁ εἰδες και ἁ εἰσιν και ἁ </a:t>
            </a:r>
            <a:r>
              <a:rPr b="0" lang="el-GR" sz="2500" spc="-1" strike="noStrike" u="sng">
                <a:solidFill>
                  <a:srgbClr val="000000"/>
                </a:solidFill>
                <a:uFillTx/>
                <a:latin typeface="Gentium"/>
              </a:rPr>
              <a:t>μελλει γενεσθαι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μετα ταυτα</a:t>
            </a:r>
            <a:r>
              <a:rPr b="0" lang="en-GB" sz="2500" spc="-1" strike="noStrike">
                <a:solidFill>
                  <a:srgbClr val="000000"/>
                </a:solidFill>
                <a:latin typeface="Gentium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Therefore write what you see and what is and what is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 u="sng">
                <a:solidFill>
                  <a:srgbClr val="000000"/>
                </a:solidFill>
                <a:uFillTx/>
                <a:latin typeface="Arial"/>
              </a:rPr>
              <a:t>about to happen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after these things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Gal. 4.21: 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λεγετε μοι, οἱ ὑπο νομον </a:t>
            </a:r>
            <a:r>
              <a:rPr b="0" lang="el-GR" sz="2500" spc="-1" strike="noStrike" u="sng">
                <a:solidFill>
                  <a:srgbClr val="000000"/>
                </a:solidFill>
                <a:uFillTx/>
                <a:latin typeface="Gentium"/>
              </a:rPr>
              <a:t>θελοντες εἰναι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, τον νομον οὐκ 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ἀκουετε</a:t>
            </a:r>
            <a:r>
              <a:rPr b="0" lang="en-GB" sz="2500" spc="-1" strike="noStrike">
                <a:solidFill>
                  <a:srgbClr val="000000"/>
                </a:solidFill>
                <a:latin typeface="Gentium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Tell me, you who </a:t>
            </a:r>
            <a:r>
              <a:rPr b="0" lang="en-GB" sz="2300" spc="-1" strike="noStrike" u="sng">
                <a:solidFill>
                  <a:srgbClr val="000000"/>
                </a:solidFill>
                <a:uFillTx/>
                <a:latin typeface="Arial"/>
              </a:rPr>
              <a:t>wish to be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under the law, don't you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listen to the law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1 Cor. 10.23: 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παντα </a:t>
            </a:r>
            <a:r>
              <a:rPr b="0" lang="el-GR" sz="2500" spc="-1" strike="noStrike" u="sng">
                <a:solidFill>
                  <a:srgbClr val="000000"/>
                </a:solidFill>
                <a:uFillTx/>
                <a:latin typeface="Gentium"/>
              </a:rPr>
              <a:t>ἐξεστιν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 ἀλλ’ οὐ παντα οἰκοδομει</a:t>
            </a:r>
            <a:r>
              <a:rPr b="0" lang="en-GB" sz="2500" spc="-1" strike="noStrike">
                <a:solidFill>
                  <a:srgbClr val="000000"/>
                </a:solidFill>
                <a:latin typeface="Gentium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verything </a:t>
            </a:r>
            <a:r>
              <a:rPr b="0" lang="en-GB" sz="2300" spc="-1" strike="noStrike" u="sng">
                <a:solidFill>
                  <a:srgbClr val="000000"/>
                </a:solidFill>
                <a:uFillTx/>
                <a:latin typeface="Arial"/>
              </a:rPr>
              <a:t>is permitted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but not everything builds up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3"/>
          <p:cNvSpPr/>
          <p:nvPr/>
        </p:nvSpPr>
        <p:spPr>
          <a:xfrm>
            <a:off x="1638360" y="1928880"/>
            <a:ext cx="5867280" cy="947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 'subject of an Infinitive' goes in the accusativ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214200" y="1214280"/>
            <a:ext cx="9001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want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the messenge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o depart –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θελω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τον ἀγγελον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ἀπελθειν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98280" y="3143160"/>
            <a:ext cx="9001440" cy="31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rk 8.31: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δει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τον υἱον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του ἀνθρωπου πολλα παθειν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The s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of man must suffer greatly (lit: it is necessary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the s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of man to suffer greatly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om. 16.19: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θελω δε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ὑμας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σοφους εἰναι εἰς το ἀγαθον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…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 want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you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o be wise towards the good …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8:Grammar </a:t>
            </a:r>
            <a:fld id="{8F433757-58A4-47FA-AE3A-45A335D171F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5"/>
          <p:cNvSpPr/>
          <p:nvPr/>
        </p:nvSpPr>
        <p:spPr>
          <a:xfrm>
            <a:off x="260280" y="26352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8.2 USE OF INFINI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8T21:42:24Z</dcterms:created>
  <dc:creator>Sarah</dc:creator>
  <dc:description/>
  <dc:language>en-US</dc:language>
  <cp:lastModifiedBy>Sarah</cp:lastModifiedBy>
  <dcterms:modified xsi:type="dcterms:W3CDTF">2009-07-11T14:00:39Z</dcterms:modified>
  <cp:revision>54</cp:revision>
  <dc:subject/>
  <dc:title>Slide 1</dc:title>
</cp:coreProperties>
</file>