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4C8-01B0-47F7-8EF3-64546448DB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65F-B18C-41E8-8A2C-E1615D042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72F-8D2E-4187-B34C-903B9E33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882-4893-4E7F-AC17-122736BC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298-FDB7-4181-9F47-714AFFC3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2E6-4097-49BC-8D68-57F22493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CA1-5C4A-4C0E-8767-2A1AFA68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67B-52D5-4D20-B88A-AE96DDC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9EB-80B0-4CF1-9965-B8108C72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9C6-6092-47FE-8CED-A07EE269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039-7E14-4537-80A6-ABCC17F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060-A548-435D-BD2F-610FAE92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116-6ECA-4744-A21E-0B89E2C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AFA-376A-46F7-9C0F-908672E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777-C462-4DCE-90E2-A0321D3261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10F6C3AA-9B14-4EAA-B17A-AD1028E243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804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ν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8280"/>
                <a:gridCol w="1103400"/>
                <a:gridCol w="1977840"/>
                <a:gridCol w="1212840"/>
                <a:gridCol w="1622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C5A14418-67E2-4417-9494-89512F413F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1785960" y="318600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F3D459B2-B8A5-4689-9261-9177075649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22"/>
          <p:cNvCxnSpPr>
            <a:stCxn id="99" idx="3"/>
            <a:endCxn id="100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F8FC3492-B271-47F1-AFF7-08BD0E3FD9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1680"/>
                <a:gridCol w="1200240"/>
                <a:gridCol w="1195200"/>
                <a:gridCol w="1424160"/>
                <a:gridCol w="1096920"/>
                <a:gridCol w="1171440"/>
                <a:gridCol w="13240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8FE9FCD8-27E9-4484-8C86-753D63C3DE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5200"/>
                <a:gridCol w="18669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9-07-11T10:35:26Z</dcterms:modified>
  <cp:revision>52</cp:revision>
  <dc:subject/>
  <dc:title>Slide 1</dc:title>
</cp:coreProperties>
</file>