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553-A31D-4888-9AD0-B88BCE29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7DD0-DF5B-4E88-96EE-85D316DC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C1A-E04B-4A96-BE85-48B9397F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91A-F1E8-4E75-A835-C6C0E15C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364-CF73-4776-9ED2-454F87D9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592-5EBA-4B08-B554-8F6550C8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680-AE0F-413B-8025-88FF7A41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32B-A76B-4D32-8E17-7F46FE9A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C1C-8642-4BDA-B2CE-0132807E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1C8-15CF-425B-A677-9F4AEB45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2B0-A40C-4F08-9496-3C3D7FF2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67A-A2FC-4101-91E1-E013F2B5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9D69-0668-4379-BF87-6DA50510223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69879C3E-E56D-4ED9-8D8A-E0A190FD56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320" y="1138320"/>
            <a:ext cx="899136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ke 18.22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 ὁ Ἰησους εἰπεν αὐτῳ∙ Ἐπι ἑ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σοι λειπει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aving hea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esus said to him, 'One thing still remai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you …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 Jesus hea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this) he said to him, 'You still lack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thing 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ke 7.9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: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σας δε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αυτ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Ἰησους ἐθαυμασεν αὐτ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he hear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se th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esus was amazed at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0E5F2045-12BA-4217-84DA-AAD96F06BB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000680" y="1143000"/>
          <a:ext cx="4786200" cy="275256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1143000"/>
                <a:gridCol w="1143000"/>
                <a:gridCol w="1071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11"/>
          <p:cNvSpPr/>
          <p:nvPr/>
        </p:nvSpPr>
        <p:spPr>
          <a:xfrm>
            <a:off x="330120" y="1901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υ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928880" y="1500120"/>
            <a:ext cx="1285920" cy="70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λυ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928800" y="2786040"/>
            <a:ext cx="1285920" cy="70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λυσ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5"/>
          <p:cNvCxnSpPr/>
          <p:nvPr/>
        </p:nvCxnSpPr>
        <p:spPr>
          <a:xfrm flipV="1">
            <a:off x="999720" y="1785240"/>
            <a:ext cx="85788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17"/>
          <p:cNvCxnSpPr/>
          <p:nvPr/>
        </p:nvCxnSpPr>
        <p:spPr>
          <a:xfrm>
            <a:off x="999720" y="2356920"/>
            <a:ext cx="429480" cy="3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Straight Arrow Connector 19"/>
          <p:cNvCxnSpPr/>
          <p:nvPr/>
        </p:nvCxnSpPr>
        <p:spPr>
          <a:xfrm>
            <a:off x="3286080" y="1714680"/>
            <a:ext cx="643320" cy="1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Straight Arrow Connector 26"/>
          <p:cNvCxnSpPr/>
          <p:nvPr/>
        </p:nvCxnSpPr>
        <p:spPr>
          <a:xfrm>
            <a:off x="2000160" y="3571920"/>
            <a:ext cx="35784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125" name=""/>
          <p:cNvGraphicFramePr/>
          <p:nvPr/>
        </p:nvGraphicFramePr>
        <p:xfrm>
          <a:off x="285840" y="3929040"/>
          <a:ext cx="5214960" cy="2752920"/>
        </p:xfrm>
        <a:graphic>
          <a:graphicData uri="http://schemas.openxmlformats.org/drawingml/2006/table">
            <a:tbl>
              <a:tblPr/>
              <a:tblGrid>
                <a:gridCol w="777960"/>
                <a:gridCol w="779400"/>
                <a:gridCol w="1322280"/>
                <a:gridCol w="1168560"/>
                <a:gridCol w="1166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9CA1399A-4290-483B-B259-E15B00CB724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649680" y="1143000"/>
          <a:ext cx="5351400" cy="2752560"/>
        </p:xfrm>
        <a:graphic>
          <a:graphicData uri="http://schemas.openxmlformats.org/drawingml/2006/table">
            <a:tbl>
              <a:tblPr/>
              <a:tblGrid>
                <a:gridCol w="765000"/>
                <a:gridCol w="763920"/>
                <a:gridCol w="1376280"/>
                <a:gridCol w="1231920"/>
                <a:gridCol w="121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4"/>
          <p:cNvSpPr/>
          <p:nvPr/>
        </p:nvSpPr>
        <p:spPr>
          <a:xfrm>
            <a:off x="71280" y="1860480"/>
            <a:ext cx="29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ῥυομ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571760" y="1500120"/>
            <a:ext cx="1319040" cy="70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ῥυο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71680" y="2786040"/>
            <a:ext cx="1612800" cy="70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ῥυσα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7"/>
          <p:cNvCxnSpPr/>
          <p:nvPr/>
        </p:nvCxnSpPr>
        <p:spPr>
          <a:xfrm flipV="1">
            <a:off x="642600" y="1785240"/>
            <a:ext cx="85788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Straight Arrow Connector 8"/>
          <p:cNvCxnSpPr/>
          <p:nvPr/>
        </p:nvCxnSpPr>
        <p:spPr>
          <a:xfrm>
            <a:off x="642600" y="2356920"/>
            <a:ext cx="429480" cy="3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Straight Arrow Connector 9"/>
          <p:cNvCxnSpPr/>
          <p:nvPr/>
        </p:nvCxnSpPr>
        <p:spPr>
          <a:xfrm>
            <a:off x="2928960" y="1714680"/>
            <a:ext cx="660600" cy="25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10"/>
          <p:cNvCxnSpPr/>
          <p:nvPr/>
        </p:nvCxnSpPr>
        <p:spPr>
          <a:xfrm>
            <a:off x="1643040" y="3571920"/>
            <a:ext cx="35784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136" name=""/>
          <p:cNvGraphicFramePr/>
          <p:nvPr/>
        </p:nvGraphicFramePr>
        <p:xfrm>
          <a:off x="285840" y="3962520"/>
          <a:ext cx="5786280" cy="275256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1468440"/>
                <a:gridCol w="1312560"/>
                <a:gridCol w="1278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85840" y="1928880"/>
          <a:ext cx="8858160" cy="974520"/>
        </p:xfrm>
        <a:graphic>
          <a:graphicData uri="http://schemas.openxmlformats.org/drawingml/2006/table">
            <a:tbl>
              <a:tblPr/>
              <a:tblGrid>
                <a:gridCol w="3643200"/>
                <a:gridCol w="2786040"/>
                <a:gridCol w="242892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en Translations: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ying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untie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014480" y="3786120"/>
          <a:ext cx="7138800" cy="1158840"/>
        </p:xfrm>
        <a:graphic>
          <a:graphicData uri="http://schemas.openxmlformats.org/drawingml/2006/table">
            <a:tbl>
              <a:tblPr/>
              <a:tblGrid>
                <a:gridCol w="3886200"/>
                <a:gridCol w="3252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EE0D649F-FC86-4027-8FC2-0165F42857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D856FDF5-4E1F-4C7B-8FAD-4EF7FE7049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42960" y="1428840"/>
            <a:ext cx="7858080" cy="159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ccessive Aorist participles are often best translated by a number of main verbs in English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28760" y="3500280"/>
            <a:ext cx="83581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Mark 5.27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σασα περι του Ἰησ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λθουσα ἐ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ῳ ὀχλῳ ὀπισθεν ἡψατα του ἱματιου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en she heard about Jesus, she came u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hind in the crowd and touched his cloak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833B1D3E-EECE-4B40-AA88-4C51D4D67D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33720" y="1163520"/>
            <a:ext cx="4876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.4.1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-642960" y="1609560"/>
            <a:ext cx="97869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15.23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με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ισω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τον πατερα μου μισ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one who hates 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or whoever hates me), also hates m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12.45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ὁ θεωρων ἐμε θεωρε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ον πεμψαντα μ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e who sees me is seeing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one who sent 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s 10.44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πεπεσεν το πνευμα το ἁγιον ἐπι παντας    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ους ἀκουοντα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oly spirit fell on al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ose who were liste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the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C21AE313-AB12-46C0-87E4-C8D7AD0EE9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00040" y="1109520"/>
            <a:ext cx="835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4.4.2 Casual, concessive and instrumental use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280" y="1785960"/>
            <a:ext cx="914400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usal: Matt. 1.19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Ἰωσηφ δε ὁ ἀνηρ αὐτης, δικαιο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ὠ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t Joseph her husband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ecause he w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ighteous ..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cessive: Rom. 1.21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γνοντε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ν θεον οὐχ ὡς θεο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δοξα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though they kn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God, they did not glorify him as God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rumental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Tim. 4.16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ουτο γαρ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οιω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σεαυτον σωσεις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τους ἀκουοντας σ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y do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is (lit: doing this) you will save bot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rself and your hear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AA11F099-B43F-4DEC-8B0D-6889113E3E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23960" y="1295280"/>
            <a:ext cx="7696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4.4.3 With Imperatives and Infinitive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2960" y="2357280"/>
            <a:ext cx="769608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7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κ εἰμι ἱκανο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κυφα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λυσαι το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ἱμαντα των ὑποδηματων αὐτ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am not worth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o stoop dow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untie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ap of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s sandals (lit: having stooped down, to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tie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2766DA92-2DCC-4FF3-8FBC-03C1D0B2A2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2120" y="2286000"/>
            <a:ext cx="761976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les must agree with the noun they qualify in gender, case and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621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62120" y="37940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62120" y="4521240"/>
            <a:ext cx="761976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les have a tense (Present or Aorist), and may have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6992E5A1-596B-4291-8E46-EE07FEF123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14200" y="1428840"/>
            <a:ext cx="864396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. 7.2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εἰδον ἀλλον ἀγγελο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ἀπο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νατολης ἡλιου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χοντ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σφραγιδα θε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I saw another ange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scend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the rising of the su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av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seal from God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δ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main verb, containing in it the subject – 'I saw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γγελ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object – an ang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n adjective qualifying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γγελον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ntence is enriched by two participles describing the objec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χον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EA249E93-86FB-4407-9BF7-1E79E9231D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66760" y="1322280"/>
            <a:ext cx="86104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.16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παρα την θαλασσαν ... εἰδε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Σιμωνα και Ἀνδρεαν 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ν τῃ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θαλασσῃ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ile he was pass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ongside the sea, he saw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on an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rew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as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nets) in the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δεν Σιμωνα και Ἀνδρεα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he saw Simon and Andr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2DF1375D-1AA7-4902-B069-A8878F8201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60020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basic partici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160" y="1785960"/>
          <a:ext cx="8877240" cy="1874880"/>
        </p:xfrm>
        <a:graphic>
          <a:graphicData uri="http://schemas.openxmlformats.org/drawingml/2006/table">
            <a:tbl>
              <a:tblPr/>
              <a:tblGrid>
                <a:gridCol w="1425600"/>
                <a:gridCol w="1236600"/>
                <a:gridCol w="1820880"/>
                <a:gridCol w="385560"/>
                <a:gridCol w="1843200"/>
                <a:gridCol w="2165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ty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-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scuing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-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aving unti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-σα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aving rescued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57"/>
          <p:cNvSpPr/>
          <p:nvPr/>
        </p:nvSpPr>
        <p:spPr>
          <a:xfrm>
            <a:off x="500040" y="3732120"/>
            <a:ext cx="78487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Aorist there is no augment (there are never augments in the other moo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Aorist there is a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orist Participle uses the Present Participle endings (e.g.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αλω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, as does the (Present)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ὠ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'being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669960" y="1319040"/>
            <a:ext cx="7791480" cy="132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les ending in -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ο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ecline like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ἀγαθ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les ending otherwise decline like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2920" y="2986200"/>
            <a:ext cx="885492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4.2.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ῥυομεν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ῥυσαμενος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decline exactly 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γαθ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. Th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ῥυομενου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ccusative masculine plural of the Present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ῥυ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ρξαμενα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ative feminine plural of the Aorist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ρχομεν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om./Acc. neuter plural of the Present Participle of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8E3443F4-2E00-4CB9-B37E-39C942A6BC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221BF803-16C8-4E9B-8504-2358E981A1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27040" y="1557360"/>
            <a:ext cx="8072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4.2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ν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follow the 3-1-3 pattern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to decline them, we need their three nominative singulars, and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ουσ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οντ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ς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σ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ντ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CF14FFEC-BF1F-4A93-A3EC-AFB315C0D4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6040" y="1351080"/>
          <a:ext cx="8786880" cy="4694040"/>
        </p:xfrm>
        <a:graphic>
          <a:graphicData uri="http://schemas.openxmlformats.org/drawingml/2006/table">
            <a:tbl>
              <a:tblPr/>
              <a:tblGrid>
                <a:gridCol w="798840"/>
                <a:gridCol w="1303200"/>
                <a:gridCol w="1328760"/>
                <a:gridCol w="1201680"/>
                <a:gridCol w="1393920"/>
                <a:gridCol w="1366920"/>
                <a:gridCol w="139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(Active) Participle -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ω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(Active) Participle -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ς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7DAD31FE-2A70-401B-8308-42D7818DB5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4200" y="1214280"/>
            <a:ext cx="900108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Nom./Acc. neuter singular of the Aorist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γραφοντ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Dative masc./neuter singular of the Present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γραφ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λθοντε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Nom. masculine plural of the (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Aorist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σι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Dative masc./neut. plural of the Present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71440" y="3143160"/>
            <a:ext cx="8572680" cy="310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re are two steps in forming a participle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le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basic forms (essentially a verbal matter – about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ens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ular instance of that form (essentially an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jectival matter – about gender, case and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umber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45:20Z</dcterms:created>
  <dc:creator>Sarah</dc:creator>
  <dc:description/>
  <dc:language>en-US</dc:language>
  <cp:lastModifiedBy>Sarah</cp:lastModifiedBy>
  <dcterms:modified xsi:type="dcterms:W3CDTF">2009-07-11T10:10:35Z</dcterms:modified>
  <cp:revision>73</cp:revision>
  <dc:subject/>
  <dc:title>Slide 1</dc:title>
</cp:coreProperties>
</file>