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16F-99C4-4418-8BB4-5CFCCA25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5E8-CB9A-4109-B1B5-74DDB4A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F15-9D63-4974-A564-3793A1D2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AD6-57DD-4CA4-9046-D2B8C24E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077-01D3-4ED5-899F-EDCD980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E38-4B8E-4157-8322-C93C597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59A-94EB-4FAB-A546-B3F997F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139-C970-4466-9EED-6B279C3F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149-672F-4BBD-894A-899539FD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318-F23D-495A-8432-0DB54DA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1BD-731F-4218-8885-8687705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9D3-4C18-46F9-92A2-1B118664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FC54-1666-44CD-B78F-2BCBC9E308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63F64887-4B84-4F33-B795-CA0AD40BB7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1285920"/>
            <a:ext cx="865332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2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αυτα γραφω ὑμ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ἱνα μη ἁμαρτη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riting these things to you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 that you may 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Pet. 3.1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Χριστος ἁπαξ περι ἁματιων ἐπαθεν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ἱν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ὑμα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ροσαγαγ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 once for all suffered for sins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order to br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to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Cor. 11.27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ς ἀν ἐσθι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ἀρτον ἠ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ιν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 ποτηριον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ever ea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bread 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rink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up of the Lord.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46200" y="3564000"/>
          <a:ext cx="7840440" cy="1508040"/>
        </p:xfrm>
        <a:graphic>
          <a:graphicData uri="http://schemas.openxmlformats.org/drawingml/2006/table">
            <a:tbl>
              <a:tblPr/>
              <a:tblGrid>
                <a:gridCol w="933480"/>
                <a:gridCol w="350640"/>
                <a:gridCol w="1081080"/>
                <a:gridCol w="3537000"/>
                <a:gridCol w="351000"/>
                <a:gridCol w="158724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ς ἀ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π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που ἀ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τα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85"/>
          <p:cNvSpPr/>
          <p:nvPr/>
        </p:nvSpPr>
        <p:spPr>
          <a:xfrm>
            <a:off x="2019240" y="1508040"/>
            <a:ext cx="5105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1 Indefinit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6"/>
          <p:cNvSpPr/>
          <p:nvPr/>
        </p:nvSpPr>
        <p:spPr>
          <a:xfrm>
            <a:off x="1333440" y="2398680"/>
            <a:ext cx="647712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+ Subjunctive = indefini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00E4C184-AB38-43B0-B662-46709573EC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499C717E-68B6-43EE-879F-FCF70A00AF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0360" y="1357200"/>
            <a:ext cx="92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3.35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ς ἀν ποιησ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 θελημα του θεου ..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ever do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ill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hew 6.6: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 δ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ταν προσευχ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ever you pr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. 14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ι οἱ ἀκολουθουντες τῳ ἀρνιῳ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που ἀ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ὑπαγ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se ones follow the lamb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ver he go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2FBEF4F4-906D-45D4-B425-620462A301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14200" y="157176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in plac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 uses the indefinite strictly, even when there is no ‘ever’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 6.6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‘ὁταν προσευχῃ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'whenever you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.10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‘μενετε ἑως ἀν ἐξελθητε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'remai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 ever you leav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1866960" y="117648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2 Purpos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52480" y="1833480"/>
            <a:ext cx="5639040" cy="62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</a:t>
            </a:r>
            <a:r>
              <a:rPr b="1" lang="el-GR" sz="35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Subjunctive =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2666880"/>
            <a:ext cx="8858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hn 8.59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ἠραν οὐν λιθους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ἱνα βαλωσι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ἐπ’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They took stone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order that they might thr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(them) 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t 7.1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μη κρινετε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ἱνα μη κριθητε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o not judge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order that you might not be judg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hil. 1.9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και τουτο προσευχομαι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ἱν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ἡ ἀγαπη ὑμ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περισσευ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 pray th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our lov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y overfl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1A6CE4F9-E594-4670-98C6-337C0D5AD9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49CD23E3-F287-40AF-AB3C-A0F7553D8F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7040" y="1631880"/>
          <a:ext cx="8699760" cy="3969000"/>
        </p:xfrm>
        <a:graphic>
          <a:graphicData uri="http://schemas.openxmlformats.org/drawingml/2006/table">
            <a:tbl>
              <a:tblPr/>
              <a:tblGrid>
                <a:gridCol w="2217600"/>
                <a:gridCol w="216000"/>
                <a:gridCol w="2426040"/>
                <a:gridCol w="1797120"/>
                <a:gridCol w="191520"/>
                <a:gridCol w="1851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 of thes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ραν οὐν λιθου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να βαλω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’ αὐτ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be translated by any of the following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fore they took st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m) at hi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CBAF94B8-98AE-495D-9687-50F6DFEA05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11400" y="3500280"/>
            <a:ext cx="6691320" cy="217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looked at the two most common uses of the Subjunctive. Notice that each has a 'flag word'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alerts you to the fact that a Subjunctive is on the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1428840"/>
            <a:ext cx="88390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ubjunctive is a more unusual alternativ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ubjun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9B83625D-EA6D-415B-AD8F-70953DE57E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04840"/>
            <a:ext cx="8229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3 Exhortations (Hortatory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486080" y="1797120"/>
            <a:ext cx="61722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lural Subjunctive = 'let us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768240" y="2544840"/>
            <a:ext cx="97581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 4.35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διελθωμε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εἰς το περα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us go to the other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m. 14.19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ἀρα οὐν τα της εἰρηνης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διωκωμε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therefor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t us purs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things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b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.22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προσερχωμεθ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μετα ἀληθινης καρδιας ἐν πληροφορι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ιστε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t us appro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ith a true heart in full assurance of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E2DA61FB-D6CC-4EED-B1FC-30CCC68253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117648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4 Deliberation (Deliberative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9480" y="1816200"/>
            <a:ext cx="792504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erson Subjunctive = delib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4200" y="2473200"/>
            <a:ext cx="85582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3.1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οὐ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οιησωμ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at the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we 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b. 11.3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τί ἐτ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– And what mo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I s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. 6.1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οὐ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ἁμαρτησω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, ὁτι οὐκ ἐσμεν ὑπο νομο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λα ὑπο χαρ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n?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we 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ecause we ar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under law bu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 gra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67E12400-4BA7-4226-9B03-0FF36DD3E6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76520" y="121932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5 Prohibitio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8080" y="2133720"/>
            <a:ext cx="74678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rist Subjunctive replaces Aorist Imperative in prohib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3786120"/>
          <a:ext cx="6622920" cy="1920960"/>
        </p:xfrm>
        <a:graphic>
          <a:graphicData uri="http://schemas.openxmlformats.org/drawingml/2006/table">
            <a:tbl>
              <a:tblPr/>
              <a:tblGrid>
                <a:gridCol w="1392120"/>
                <a:gridCol w="1471680"/>
                <a:gridCol w="375912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Imperative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244440" y="12636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11.4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εἰσενεγκῃ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ἡμας εἰς πειρασμ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 to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10.6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εἰπῃ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ν τῃ καρδιᾳ σου∙ τίς ἀναβησεται εἰ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ν οὐραν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s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your heart, 'Who will go up to heave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10.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υτους τους δωδεκα ἀπεστειλεν ὁ Ἰησους ..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ων∙ Εἰς ὁδον ἐθν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ἀπελθητε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εἰς πολ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αμαριτ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εἰσελθη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sent out these twelve … saying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go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o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ad of the Gentiles,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en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ity of the Samarians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A34809DB-9EA6-4561-B229-CB181EEDA2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7584497E-5EA9-475E-A2AE-E3B5C2965D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57120" y="1657440"/>
            <a:ext cx="840096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.10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που ἐαν εἰσελθητ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εἰς οἰκιαν, ἐκει μενετ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ver you en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house, stay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us 3.12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ταν πεμψ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Ἀρτεμαν προς σε ἠ Τυχικον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ουδασον ἐλθειν προς με εἰς Νικοπολ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(ever) I s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temas to you, or Tychicu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effort to come to me at Nicopol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3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λεγει αὐτοις∙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Ἀγω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ἀλλαχ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he said to them,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t us 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sewhere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C71E01FD-A3F5-49B3-9A18-6E3391341B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76240" y="111924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6 Emphatic Negative Futur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62040" y="1749600"/>
            <a:ext cx="6019920" cy="111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000000"/>
                </a:solidFill>
                <a:latin typeface="Gentium"/>
              </a:rPr>
              <a:t>οὐ</a:t>
            </a:r>
            <a:r>
              <a:rPr b="1" lang="en-GB" sz="3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500" spc="-1" strike="noStrike">
                <a:solidFill>
                  <a:srgbClr val="000000"/>
                </a:solidFill>
                <a:latin typeface="Gentium"/>
              </a:rPr>
              <a:t>μη</a:t>
            </a:r>
            <a:r>
              <a:rPr b="1" lang="en-GB" sz="3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Aorist Subjunctive = emphatic negativ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2871720"/>
            <a:ext cx="9144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13.30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μην λεγω ὑμιν ὁτ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οὐ μη παρελθῃ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ἡ γενεα αὑτ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ruly I tell to you that this generatio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ll (definitely) not pass aw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6.3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ἐρχομενον προς ἐμε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οὐ μη ἐκβαλω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ξ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who comes to m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ill (definitely) not drive aw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6.3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αὐτῳ ὁ Πετρος∙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οὑ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παρνησ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said to him, '…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ill never de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837BDBA2-4374-43D7-B043-CFD8C6BF29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61800" y="1428840"/>
            <a:ext cx="8496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.2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λθουσα εἰπεν τῃ μητρι αὐτης∙ Τί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ἰτησω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she had gone out, she said to her mother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Wh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I ask (f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b. 10.35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μη ἀποβαλητ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οὐν την παρρησιαν ὑ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o not thr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way you boldnes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. 18.2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ηθησεται Βαβυλων ἡ μεγαλη πολις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οὐ μη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εὑρεθ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τ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ylon the great city will be thrown down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ver be fou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2185FCF7-9B75-4C80-92EE-BD5FFD064E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IDEA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14240" y="211284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bjunctive is the fifth and final Mood which occurs in all three vo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, middle, or pa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6B20571E-EA75-4EAC-A622-A61BCE5AD5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01840" y="2327400"/>
            <a:ext cx="6324480" cy="181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any 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the Indicative endings with the Subjunctive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04A855F8-C041-4D43-BC66-99D29B9A2F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2840" y="1455840"/>
            <a:ext cx="850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.1 Present Active, Aorist Active, Aorist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2714760"/>
          <a:ext cx="8580240" cy="1828800"/>
        </p:xfrm>
        <a:graphic>
          <a:graphicData uri="http://schemas.openxmlformats.org/drawingml/2006/table">
            <a:tbl>
              <a:tblPr/>
              <a:tblGrid>
                <a:gridCol w="2428920"/>
                <a:gridCol w="615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, λυῃς, λυῃ, λυωμεν, λυητε, λυ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ω, λυσῃς, λυσῃ, λυσωμεν, λυσητε, λυσ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ω, βαλῃς, βαλῃ, βαλωμεν, βαλητε, βαλ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ω, λυθῃς, λυθῃ, λυθωμεν, λυθητε, λυθ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3"/>
          <p:cNvSpPr/>
          <p:nvPr/>
        </p:nvSpPr>
        <p:spPr>
          <a:xfrm>
            <a:off x="0" y="1461960"/>
            <a:ext cx="9061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.2 Present Middle, Present Passive, Aorist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3160" y="2389320"/>
          <a:ext cx="8785080" cy="3047760"/>
        </p:xfrm>
        <a:graphic>
          <a:graphicData uri="http://schemas.openxmlformats.org/drawingml/2006/table">
            <a:tbl>
              <a:tblPr/>
              <a:tblGrid>
                <a:gridCol w="1404720"/>
                <a:gridCol w="738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ωμαι, ῥυῃ, ῥυηται, ῥυωμεθα, ῥυησθε, ῥυωντα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μαι, λυῃ, λυηται, λυωμεθα, λυησθε, λυ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σωμαι, ῥυσῃ, ῥυσηται, ῥυσωμεθα, ῥυσησθε, ῥυσ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ενωμαι, γενῃ, γενηται, γενωμεθα, γενησθε, γεν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C4EE1E10-0FD1-4715-A00B-278D97EC26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B8BE2E68-19BF-4D2B-8505-3BE93DC0F6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303120" y="1614600"/>
            <a:ext cx="85010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are easy in the Subjunctive – the endings always begin with a long vowel, so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always be absor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us, the Present Active Subjun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ῃς, φιλῃ, φιλωμεν, φιλητε, φιλ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the same endings – its Present Subjunctive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ᾐ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ᾐ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ὠ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ὠ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09760" y="2604960"/>
            <a:ext cx="6324480" cy="132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Subjunctive –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rist Subjunctive – Defa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A883E8B7-E29B-4B4B-9A9E-E553D2BF51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3:35:06Z</dcterms:created>
  <dc:creator>Sarah</dc:creator>
  <dc:description/>
  <dc:language>en-US</dc:language>
  <cp:lastModifiedBy>Sarah</cp:lastModifiedBy>
  <dcterms:modified xsi:type="dcterms:W3CDTF">2009-07-11T11:15:48Z</dcterms:modified>
  <cp:revision>51</cp:revision>
  <dc:subject/>
  <dc:title>Slide 1</dc:title>
</cp:coreProperties>
</file>