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E0B-8A9D-4AE6-8216-98E9189D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DF8-2B66-44BA-B970-F89EDF73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256-19C9-4E18-9958-B4DFE5DD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656-973E-49AB-B7DB-99508345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3CD-2C3F-48F2-AF9C-4CEFE91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6BD-7553-456D-86B2-62964481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F03-C720-4B63-8E2A-A5245D41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C07-3A6D-493D-A7F2-30F773E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E28-4B8D-45D2-B924-5BAD8CCB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5BE-04E4-4A61-B0FC-F6D7971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B84-A8A0-4EE9-8E64-1E98AC4C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C5D-EB18-4228-9E0A-A006BDA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69A-72A3-451A-8BC8-5C7B44C9C3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D94F5EFB-3EE1-43B3-AC21-BA7747E28A8B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ε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ε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ινετ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ετ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E1266C11-6A42-4C25-9773-E5A089745AC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EE701EA-CB2C-473F-B564-B47D10484A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87E05783-F7A8-43C0-9169-64DA9C963E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DFA3ABC7-66DC-4720-9F8D-3BDAE4AC39F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D501AE1B-1D63-4298-98EB-0E49A2A807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F64B9E76-0128-4EA3-9EAD-68DDDFD5756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292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4DB1F5DB-2CA5-4BAD-9B93-E4D14F67C7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846B4A18-FDC3-433A-BAC2-05BD779CB16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521A768E-A0B9-4125-BD85-84C9D96B38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49480"/>
                <a:gridCol w="22654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5B2C9008-C96B-4BA2-9F5C-AB681EA25A0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BDCC3ECD-C2FC-4F1F-ACB3-5AA962095A03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6DAB1E91-1B14-419C-81BD-D7A8CC959DF2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s are formed by adding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other group forms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DFC48D33-91AE-48C9-9F43-F6BB38F9B97A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520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= Changed 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BFE1491D-5A14-4962-8683-428AB7DF77A9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CF2D3684-E23A-4A04-94D7-B87ED7A3A405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1E221507-55B7-48F4-8C3D-AC6D5CD7BA22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B7ECB1D2-E43D-4E38-8017-3C645D9FF530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ABC9A98-33B7-4144-8E27-876306C8AF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9-03-06T11:05:56Z</dcterms:modified>
  <cp:revision>48</cp:revision>
  <dc:subject/>
  <dc:title>Slide 1</dc:title>
</cp:coreProperties>
</file>