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517-9322-4D8F-893C-4EDD65EE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AF3-91CA-4C54-A475-390FF63C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826-1A99-4EC9-98D1-FD5E6D51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DCB-35B9-4E92-B2B6-083B4A3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48D-B077-4A0C-AC98-79939C9F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D7D-6205-4A27-ABFF-00B9E7FA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F45-676D-45AC-BF0C-FDEB276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018-5B9A-4F4D-B88F-9E6E343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EEA-7430-4C67-A90B-39F5B437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07E-90FD-448C-A0BB-675EFB4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757-C60A-4EEA-96AA-84099C95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C65-AFFF-48C1-92EF-FACDB3E0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126-EAD2-4E82-948C-2D6BA0B25B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01A08F5D-AC1F-4209-934E-34B1AA4FF72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e„de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e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i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e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F8718FB-A44A-44B5-AA9F-6F11427E6A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4ED4B64D-4984-4A69-90E1-CBFBD04672E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18AFDFB9-31F6-429C-B6C2-01C15EA35D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EF10601E-1FFD-42F4-846B-FE13FDA6669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4E216140-50A1-4BBC-BAD4-859478C704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7B50DA15-6D18-4CC7-ACDC-48AAA3D7BE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148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A4A2582-1789-4AE9-AD96-40A8CEB9CC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FC1418B8-DF92-4947-BA93-343E2AB31C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134D5F0-345C-48B0-A3E9-24B155F158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51280"/>
                <a:gridCol w="22636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628FD4A-BED4-4D35-AB33-37D968EB3BF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535A47A4-751F-4821-8575-E6F15ABC25F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7A6F79E-163E-4E9A-9FCF-68D995CD850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s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58CD8D02-7341-4C19-B370-3B9A675F8D8A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642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orist 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hanged Stem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C1F2690D-5519-4A49-AA73-3D565BD59D6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6A1D3099-AE04-4EC8-8412-F5403466E8FE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F92CE00-F859-4A93-8B69-2644321E8A3D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337D00A-BDE0-4B56-B8B7-B5594C66028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7956DDCA-1FCC-4D9F-A0B0-3552DF7264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8-09-17T16:32:11Z</dcterms:modified>
  <cp:revision>38</cp:revision>
  <dc:subject/>
  <dc:title>Slide 1</dc:title>
</cp:coreProperties>
</file>