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49D-5EA7-4D33-B0DB-AF8B901B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280-20A9-4201-A6AE-5D007DC0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B37-6878-4A0C-8F82-E10F02EC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B57-4F01-480A-B868-AF01D119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220-B14F-461A-95A4-1DAD7E25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58A-E006-4EAD-93B6-0E1E86A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E05-4011-4101-AF1F-394C79E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06B-271E-458E-9600-2F1F937B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425-76FB-4A3E-A752-5C8BEE6F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7E8-ED51-482D-872A-3F0E07F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3AC-0814-4033-B984-9CA11F5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DA0-46CB-41BB-BA25-DF9D8593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96D9-68F2-4DDD-BBEA-99C666A455A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454CD644-6FE8-40C4-BC96-C772006101F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840" y="1500120"/>
            <a:ext cx="857232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ity' or ‘town’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'king'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σιλε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ασι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3232080"/>
          <a:ext cx="7342200" cy="2468520"/>
        </p:xfrm>
        <a:graphic>
          <a:graphicData uri="http://schemas.openxmlformats.org/drawingml/2006/table">
            <a:tbl>
              <a:tblPr/>
              <a:tblGrid>
                <a:gridCol w="1486080"/>
                <a:gridCol w="1373040"/>
                <a:gridCol w="1014480"/>
                <a:gridCol w="1590480"/>
                <a:gridCol w="187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18674D87-4C33-4234-9A5F-1A3234AB0D37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55640" y="1560600"/>
          <a:ext cx="5803920" cy="2468520"/>
        </p:xfrm>
        <a:graphic>
          <a:graphicData uri="http://schemas.openxmlformats.org/drawingml/2006/table">
            <a:tbl>
              <a:tblPr/>
              <a:tblGrid>
                <a:gridCol w="1006560"/>
                <a:gridCol w="1795680"/>
                <a:gridCol w="1687320"/>
                <a:gridCol w="131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31"/>
          <p:cNvSpPr/>
          <p:nvPr/>
        </p:nvSpPr>
        <p:spPr>
          <a:xfrm>
            <a:off x="1986120" y="4473720"/>
            <a:ext cx="5138640" cy="1473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atch the breathings -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ἑ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in)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into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ADEB673E-2A78-4302-B463-D04FF88CF54F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14680" y="107172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= 'no one, nothing'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80920" y="1598760"/>
          <a:ext cx="7358040" cy="2225520"/>
        </p:xfrm>
        <a:graphic>
          <a:graphicData uri="http://schemas.openxmlformats.org/drawingml/2006/table">
            <a:tbl>
              <a:tblPr/>
              <a:tblGrid>
                <a:gridCol w="1252800"/>
                <a:gridCol w="2235240"/>
                <a:gridCol w="2100240"/>
                <a:gridCol w="176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27040" y="4000680"/>
          <a:ext cx="62881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904760"/>
                <a:gridCol w="1791000"/>
                <a:gridCol w="152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24D97560-EB64-43E2-BA74-62D70409EDF7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2920" y="114300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Greek, a sentence is either negative, or not; unlike in English, two negatives do not make a posi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 13.32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δε της ἡμερας ἐκεινης ἠ της ὡρα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ι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ἰδε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[he knows]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ἱ ἀγγελοι ἐν οὐρανῳ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υἱος, εἰ μη ὁ πατη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But about that day or hou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knows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i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gels in heaven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Son, but only the Fa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 14.60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κ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κριν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                                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 Do you repl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th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76040" y="1500120"/>
            <a:ext cx="861084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two patterns are very similar – in particular having the distinctive gen. singular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nom. and acc. plurals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ι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The main difference between them is in the acc. singular 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or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nk of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the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ending is correct for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clen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0800" indent="-9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is another pattern of words which have stems ending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However, there only word in this family which is at all common,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and even that only occurs 20 times in the New Testament. Its endings are the same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τηρ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cept for the accusative singular: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ἰχθυ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ἰχθυος, ἰχθυ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ες, ἰχθυας, ἰχθυων, ἰχθ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668892CC-F587-49F0-B2A2-C8641665627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85AADE2B-79E7-4E83-82A7-7598A341F86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92080" y="1817640"/>
            <a:ext cx="7353360" cy="3324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Don't worry too much about these nou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They are not particularly common,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and most of their forms are close enough to either the 1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 or the 3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 declension endings in the appropriate case and number, that you can normally guess them correctly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705040" y="112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13.2.1 Nou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28880" y="1765440"/>
          <a:ext cx="7099200" cy="4343400"/>
        </p:xfrm>
        <a:graphic>
          <a:graphicData uri="http://schemas.openxmlformats.org/drawingml/2006/table">
            <a:tbl>
              <a:tblPr/>
              <a:tblGrid>
                <a:gridCol w="1212840"/>
                <a:gridCol w="798480"/>
                <a:gridCol w="1174680"/>
                <a:gridCol w="1538280"/>
                <a:gridCol w="11736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ss of getting the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7CEE0E47-7704-4CA4-B133-88595CC7295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297D998A-7961-4558-AB34-1927A6103AE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1527120"/>
          <a:ext cx="8001000" cy="3916440"/>
        </p:xfrm>
        <a:graphic>
          <a:graphicData uri="http://schemas.openxmlformats.org/drawingml/2006/table">
            <a:tbl>
              <a:tblPr/>
              <a:tblGrid>
                <a:gridCol w="907920"/>
                <a:gridCol w="798480"/>
                <a:gridCol w="1494000"/>
                <a:gridCol w="1828800"/>
                <a:gridCol w="1371600"/>
                <a:gridCol w="1600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 / Feminin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copying nom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62"/>
          <p:cNvSpPr/>
          <p:nvPr/>
        </p:nvSpPr>
        <p:spPr>
          <a:xfrm>
            <a:off x="1409760" y="10382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3.2.2 Adject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63"/>
          <p:cNvSpPr/>
          <p:nvPr/>
        </p:nvSpPr>
        <p:spPr>
          <a:xfrm>
            <a:off x="176040" y="557208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Note:</a:t>
            </a:r>
            <a:r>
              <a:rPr b="0" lang="el-GR" sz="19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It is only the acc. plural masculine/feminine which is peculiar, in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opying the nom. when one might expect some contraction of –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  <a:ea typeface="Arial"/>
              </a:rPr>
              <a:t>εα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57120" y="1392120"/>
            <a:ext cx="82155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o decline a word such 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you needs to know four pieces of inform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masculine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neuter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genitive (or stem) for the masculine &amp; ne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feminine nominative singul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once we know the nom. sing.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eclension stem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we can deduce the rest of the declens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7B621232-B19C-44F2-AE9E-80C947D1C8A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07236ED3-FA46-403C-A252-4DC0A0CDD498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41200" y="1285920"/>
          <a:ext cx="8643960" cy="4892760"/>
        </p:xfrm>
        <a:graphic>
          <a:graphicData uri="http://schemas.openxmlformats.org/drawingml/2006/table">
            <a:tbl>
              <a:tblPr/>
              <a:tblGrid>
                <a:gridCol w="1330560"/>
                <a:gridCol w="1171440"/>
                <a:gridCol w="2192400"/>
                <a:gridCol w="2062080"/>
                <a:gridCol w="18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st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15920" y="1098720"/>
            <a:ext cx="91440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sing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 its own; masculine = person/man; feminine = woman;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neuter = thing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John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1.3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τα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 δι’ αὐτου ἐγενετ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l thing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came to be through hi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Mark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6.50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τε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 γαρ αὐτον εἰδ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Fo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eryon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aw hi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t can occur with a noun without an artic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Matt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7.17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 ὁ πιστευων ὁτι Ἰησους ἐστιν ὁ Χριστ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er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good tree produces good fruit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05EA6048-2F48-4347-BB75-278C00BB1A2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1C0F74E2-35BE-4D8B-8C47-8C8C332C703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7320" y="1214280"/>
            <a:ext cx="8772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 It can occur with a noun with the article, in which case it normally stands in the predicative positive (i.e. before the 'the'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 14.53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υνερχον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οἱ ἀρχιερει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chief priests ga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 It can occur with the article and particip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 John 5.1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ὁ πιστευων ὁτι Ἰησους ἐστιν 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Χρισ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ery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who believes that the Messiah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es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11:56Z</dcterms:created>
  <dc:creator>Sarah</dc:creator>
  <dc:description/>
  <dc:language>en-US</dc:language>
  <cp:lastModifiedBy>Sarah</cp:lastModifiedBy>
  <dcterms:modified xsi:type="dcterms:W3CDTF">2008-09-25T13:06:31Z</dcterms:modified>
  <cp:revision>23</cp:revision>
  <dc:subject/>
  <dc:title>Slide 1</dc:title>
</cp:coreProperties>
</file>