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29CE2-DB1B-47E3-A600-8D4D2305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0AF1C-B6EE-4D2E-AD70-9CB2F8795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E4EC7-EAA7-4884-B491-8422479A6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2C006-DDC0-494F-B1D5-065A3FA06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5CD4D-5DEA-4A79-A5C3-0E745092F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39FB1-76AE-4BC9-B1D3-7C461604D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C5C06-0905-4EB8-B4D4-50BD401E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C4F2F-9374-4D11-B06F-DB86C6102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EB3CB-46D3-4A08-8168-999D1EFCF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70AE4-8DF9-402C-8867-B2DCE7395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B2908-A06F-48AF-B2B0-3072D61FF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22629-6F19-4FC2-9447-DBF5B230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2B1CD-6D30-46C5-AE5F-46B2BE8AF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C7736-462C-42A2-82BB-C8A04370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44AC8-360E-4982-BB8A-24BEC924A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EE1E5-51B0-45FC-BC8E-A461417B4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A920E-1304-4B5C-8F45-5E770FBC3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540A8-74C5-47D5-9016-164E4216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8E7F-2C61-4339-9CD5-C882AA6D7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68BF-4681-4D32-82E7-4C5595D91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727E2-7187-4449-9344-F77C21954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6D78A-F347-40EE-8CEF-B5B5A9FF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3F7FC-DA13-48B7-99C6-3CEB4F76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3EDC-7686-4F68-AEBD-57A0061E2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08A7-D05B-4959-BD82-4B4AD855A293}"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A1BD-3D14-4F60-9FC4-1BBC6EB15E8E}"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  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6D40F1D-282F-437F-ADF7-7F259ED0702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E3BB1D30-FF99-4DF6-B644-AA54E6DB5C5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0C970D4-9C5C-43E1-87C7-AEA77A5C0F7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ξει πολλ</a:t>
            </a:r>
            <a:r>
              <a:rPr b="0" lang="en-GB" sz="2300" spc="-1" strike="noStrike">
                <a:solidFill>
                  <a:srgbClr val="ffffff"/>
                </a:solidFill>
                <a:latin typeface="Gentium"/>
              </a:rPr>
              <a:t>u</a:t>
            </a:r>
            <a:r>
              <a:rPr b="0" lang="el-GR" sz="2300" spc="-1" strike="noStrike">
                <a:solidFill>
                  <a:srgbClr val="ffffff"/>
                </a:solidFill>
                <a:latin typeface="Gentium"/>
              </a:rPr>
              <a:t>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2001507D-3A24-445E-BEAB-B400AC9EBD2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1760B1B-E202-4A4E-9E22-CB045CFEC00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5851202E-A146-4201-BC52-ADAF67825B2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ι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7206CE9-97FB-4D83-97B7-01B4CA517A0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E9F7711B-A223-4334-9533-69E6353EFC7C}"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2F9B9E81-5A25-432D-9549-F0AA42F7F335}"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EACDCAD-9AE6-4484-B347-716B7A9841D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3E768FC-880A-4793-946D-86FBF3443E6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ῖ</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ῖ</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5441A09-0FEC-46F8-97E2-FD877826CC3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CD95C16-B3AE-487E-9383-A1592B3FE8F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ω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9C321BA3-9951-4D7C-A49C-8A8DF271B55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DD1320E-1975-4A6F-96A1-60B9E549DA7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E6F423B-DF6B-4F8D-AF9E-A72C1A01F48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8-09-07T14:25:46Z</dcterms:modified>
  <cp:revision>52</cp:revision>
  <dc:subject/>
  <dc:title>Slide 1</dc:title>
</cp:coreProperties>
</file>