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76C-1227-4A45-BEA8-DCF45424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79F-DECE-4211-9480-F9EDE61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ABF-C730-41AE-A6FB-895246FB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B83-1321-4715-8890-026FF933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20F-4D17-4199-8A53-7FFAC628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2B86-6371-480F-9FBB-7A8E035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E8A3-CDC0-4731-94AE-F6E9DDD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0E23-311D-4809-A8A1-B3CD237B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E70-EB94-4365-9A4E-E5BDF9D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DF17-D8F1-4465-BDA8-DB33BB5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9F2D-61B1-410D-BEC3-2B24E8B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548-A0B0-4D63-B35C-154C005B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5E46-9448-4695-BE18-728B5B54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EE0-4A7C-468D-A456-EC615CE3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DF41-61FA-4997-88B2-73F4083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D5C-EC37-4836-95E0-9D61E970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6FB0-7235-4B05-8431-A62536EF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A53-DD11-44B0-8304-E2324754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EA7-24C6-43ED-B392-09B5CEE6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E24-7C0B-4D45-BA71-6BC5CC6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DF0-A1FD-4166-9875-9CCF731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212-471F-4A35-B10F-88EDBF0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82C-D40A-4D16-B4E3-8FAE9BC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9BB-4B31-4470-AC28-57C7C3C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EDA6-7836-453D-9FC4-507599CB0D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C51-2B95-4674-AD9C-DF58B68BD8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43A9F2A2-B7B8-409E-B674-285C61431EF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14418A2-40DF-4143-8099-B5A5004F4FA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4456AF0-CE01-44E3-83C8-1C81B454C7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0B18D12F-A240-4A90-810C-3C88AA81036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5176729-FAD1-4941-9709-08CD711E9C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4A4C3359-F138-4AA2-8E81-67D5A1C6FBE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C325DBA0-E455-40F0-B0E1-0F2CAD916E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0561515-DCE4-43EF-A823-8421710E9B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AA105FE-9302-44D2-834A-8E92BDA001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E5A6272E-B272-4534-BAA0-FF58566CDA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0120060-69D6-45C2-92B5-45386D0327F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? is it completed?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0EC20EA-EF9D-42E6-A10C-F3CCF576EE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0A831FFF-F657-4181-A818-40814F31AB3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BBD991D-2C73-4BDF-B603-C3FC7D591C2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0717F6D-6F9A-4CBA-A18D-3ADC8EFC3C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39B3CD7-F179-4DD7-87C2-06FE31CCF1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DE0D815-3881-4B25-A23A-6B0A149E65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824359D-D394-4297-985A-C716F26C20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63C2142-A558-4214-8224-89A8D93647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9-03-04T01:21:57Z</dcterms:modified>
  <cp:revision>62</cp:revision>
  <dc:subject/>
  <dc:title>Slide 1</dc:title>
</cp:coreProperties>
</file>