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F4A-C3A6-49FB-9A89-1B61C468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046-E857-477D-B555-E44D3F76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D94-767A-4FEF-99D4-C09C994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7ED-C4A4-41D2-A155-DC24B65F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3F5-B759-4FE6-B2D2-FCA33EF3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1C61-ED94-4752-8E84-10FD213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FCD5-6F1C-42A3-B104-6362926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B540-2700-4803-9480-BAEF8FE5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7804-D63C-4BBF-97DE-9EC35C34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0FF-D8B8-4E0B-B943-C857133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D87-6CE0-4E16-AA92-8034AC0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43A-2D0F-46DA-9451-90B3433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4AD5-01B4-44A3-B1BB-0840857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54DF-BD5C-4038-8819-646194B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AE3A-36FD-4041-82BB-68A5765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EDCA-0052-48A0-AB4D-E3F98FA8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3ED8-B918-4319-9DAA-9C8C9CCE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D1F-BB84-4857-87D8-3962CB47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B97-00BC-4693-8F26-17C3E217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A3B-FB24-4489-BBA3-9F48C603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90D-886B-4D01-96BA-6282CA32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C79-A2AF-46D1-ABA4-46F7AFB9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72E-6A1C-4E24-83FC-C43E5B5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530-F1D9-4F32-B6CB-CE9027E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2E6A-28F4-49D4-AAFD-F9DCFB4B94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61F-1C8E-4020-8C5E-69A6C656E0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7B5AADB-F2E4-4586-9620-ADB7A76DFA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991779C-4F62-4458-91A6-3D64BBAC6A9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C8D2C61-CE2D-4874-AD04-4CFBBD40852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B4674DA-4782-4266-8158-E9B4CBB70FA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ζ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A4A99454-2CD0-4FAE-B426-62040FF6660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57120" y="3506760"/>
            <a:ext cx="8286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Do you love the lo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A7198881-B074-48FB-A0D1-C65D0B7217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DC0670E-19E6-43FA-B364-915BB14439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8C8BE5C-4008-4F7D-9C46-D76250D3BD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ABEF79D-B216-40AE-8FA7-D00C85C179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097F30D-6889-4AF1-931D-26563FD3F92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4DF0E11-C219-4A8D-A175-83A01EC4554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31824B1-5B82-400B-8ABA-7F4FE17657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9E775DB-A4CD-4400-B506-0C6F964999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75AEBD2-CA1D-46A7-BCC9-84683A868E5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A0B02BC-2B40-4F72-AF54-79075C2C46B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ηρε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: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5E9C708-20AE-4DCB-BE5F-66A69F0B33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9-03-04T00:00:10Z</dcterms:modified>
  <cp:revision>61</cp:revision>
  <dc:subject/>
  <dc:title>Slide 1</dc:title>
</cp:coreProperties>
</file>