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CB7-8EBF-43F9-B581-B3D89105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024-C209-4022-9BC3-D8DF7D2A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8BF-CBEB-4BCF-867A-D93D01CF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62A-4929-4BDA-8D85-9476F71F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426F-9306-46F5-80DE-B20C4450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86DE-7BA6-4D0A-B72E-3E5811D2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93ED-4D73-482C-996B-412FA9B1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3FEE-0956-4B39-85BA-DC7513C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405B-3679-4E89-A92F-681631AC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AD51-1263-46BF-B958-1F0983B3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63BA-ABD9-493B-AC42-E3B3495F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8C7-D9C0-4C07-AF1A-BDB788A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448C-0252-4CBB-B787-4EBBE50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0121-8A45-4447-8E2B-1CC492B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FF3D-7565-4D86-A9FF-8C43D3F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1E07-7BE8-4A2F-8080-CBF4719D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E609-6970-404A-867E-C0FB1D60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350-D67D-4DB6-88F4-C316BD2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909-D71A-4F4F-87AD-70F0E2AA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445-FAB1-4D4A-AB01-2A2F57F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E43-33F7-4340-96ED-D9590EEE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197-2A53-44F5-9374-6A6FF3DD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21F-985B-466A-861A-5B16D54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F29-75F3-4525-8F80-591DE6DE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6164-9895-46EF-BA36-D798B2521D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EFEE-0359-46A4-A75A-BD1857A333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9456F88-603C-480F-9890-7B851439BDE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42108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ἁμαρτια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εκν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9F6214F3-EBDC-48FA-8115-76848141C7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86C8247F-CA7C-4B74-973F-ECB8B10CEF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0317F19-67CC-4A86-A41B-D48A012D9C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0C953552-CC63-4F55-943C-1082CCB6FFB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78F242C-F838-4770-A027-B5DFE6CA46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1955595-E33E-4646-8371-2E3D1A6DDB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931DE08-0109-49FD-AFF5-3FA23D73CD5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449440"/>
            <a:ext cx="9048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or more rarel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θεος λεγε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μετα τεκνω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και ποιει τον κοσμον λογ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 agent is a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ppen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.g.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F88FB1B4-8EAF-4529-A08D-D3B9C533D36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6622CBC3-3B1F-4F6D-9FB0-60F1BA51764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3F55950-A9FA-4DBD-BAB6-3924B94E135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ven though a compound verb may 'contain' a preposition, the correct preposition will still be found in the sentence used in the normal way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30F748D-53DF-4B13-ADB3-0D68395831D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ffe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430445BB-7445-4F94-BDB3-9A9D85AC95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=‘not’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9578B829-27BF-4292-BF00-5617D6C1CC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6794B692-B774-4F80-B1C4-92B4B50F223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A43FDDF-5D43-4632-84AC-D7356DD9163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83D27B4-945E-4323-8224-C187D84444B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CFF5D9D4-C0FB-41F9-9ECE-2EF17DC392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FDC6D87-5178-4FF3-BF95-BF530D158F8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41BFF6A-A470-4D27-9405-7B6BF19A3B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0E9D018D-1210-4252-BD8C-011CD02574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9-03-04T00:30:49Z</dcterms:modified>
  <cp:revision>57</cp:revision>
  <dc:subject/>
  <dc:title>Slide 1</dc:title>
</cp:coreProperties>
</file>