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7B0-8490-432A-87B1-5F499494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FC8-6340-4FD4-9029-F19B820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82F-E797-48F8-BA17-85D46D4A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D7E-700F-4CDA-890B-DBEC673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991C-47D6-4EE1-9603-3DCD940F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159C-4FF4-470E-BC1E-A19F942C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E67F-7DE7-46B8-879E-5963C06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3D5-DC46-44C0-A3D1-CB3940B2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EF92-FC20-4283-A155-7322E7A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C87-308E-4AE8-97F3-38C2B58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FA98-C96F-4499-B99D-3D3FC86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6FF-A302-4C66-9607-66C37464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7810-30B7-49A8-BE29-01CD372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F28B-32A5-490B-A638-AF7F8E3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25F5-8C64-4E78-B181-D4F64AEF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598-FB82-4CFE-9993-86F91EF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346-1A6F-40BC-9BDE-3C4A262F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4A2-9A07-410E-AFB1-D8AA3A65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177-9B14-48B7-902A-D815A883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962-7FAF-454E-857C-8299C20F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F75-EFA4-45A9-9A39-C6E262C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503-F37A-4B24-97C2-6097D36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DCE-C4A5-40F5-AE67-57EC622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46D-EE6C-400A-A55E-1BFE6610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DD8D-6705-44B0-B6BF-877771BDFE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FAAC-B638-4537-84E2-4A7282AE91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22C31CB-F755-4B3A-B4FD-CED0BE3605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71304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υ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ου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EAE14D6-01E5-473C-AD8E-3BDA4D3F67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E63E5D7-0CD9-407C-AE7C-3B1FF71DFC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D7B0110-5DD7-4F77-9DFD-EC94414A35E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ABA3B70F-9A49-4340-B20C-93A521BB43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AED5B96-5F79-48C7-A494-8DBF944332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8E8F92A-FA00-4285-BA9A-AA2A7502DF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F64277C-0D73-46A8-9ECE-9260733CDE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554200"/>
            <a:ext cx="90486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sun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μετα τεκνων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0F22FE7-8340-4B55-B14B-80C0B9D818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343A738-E81C-44BB-99F6-336C928292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D2321B16-4D51-4A19-A0CD-FA11C37B61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61D606C5-D2C5-4D75-8766-9957137BE1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6EB35EA-0A21-4032-B64E-1606622FAC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no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13004F0-61EE-419F-8098-4D5F60A166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B1DEB04-A9A3-4FE9-9826-AA32744F88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BC3DE13-DB61-45AE-95A4-9AA1A80E69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6E77763E-13F8-49B8-80BD-8222772EB23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2466372-9E9A-4631-8BF2-9AE747FC12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0518FFE-B8CD-41FD-8FCE-CB309C4FAA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304DF08-6987-407A-A638-D34F89F25A7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2CD6655-2537-43C6-B1BA-37857B1E7F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8-09-07T14:24:04Z</dcterms:modified>
  <cp:revision>47</cp:revision>
  <dc:subject/>
  <dc:title>Slide 1</dc:title>
</cp:coreProperties>
</file>