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C5A8-995E-468E-8FFC-13B37E09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B91A-1E33-4353-BA26-6DBF085C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5406-DF7F-4FB2-A762-DA604D89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E8C2-647E-4077-B822-DB5A6666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EE70-1605-4DF4-9B67-E3480E38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B7F0-3C73-47E9-9431-0E7D5B32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EC75-7600-4564-BA2F-5845FCE3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3131-DBB6-429B-B6F3-1D0B04DC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5EE7-482D-445F-BDA6-012EEB37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25D8-3FF6-43F0-A6B3-795F9292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7F6E-5CE0-4ED5-BA40-EC5C91D5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9882-8199-4275-BCCF-80F650FF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28C0-EC80-4FFB-861C-DD39F88E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E900-48FF-40EA-AF21-51403311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D15C-43D7-4A5E-9380-EB3F5CB9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8DA5-E9AB-4E43-B66F-31B582B0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7196-CE3E-4DFB-8C8A-E645C2A6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0321-E85F-475F-9FAE-252DA0C9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2289-F6A1-4E48-B0F9-3D5CFA4F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AFD1-85C4-42D5-9D62-5E908946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C677-A44A-4FE3-9631-82344967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700E-ECAE-4E0A-863E-3372D02A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63AD-ECDE-4075-A86E-E1DE5B69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E9D5-4220-4800-A036-17A3C696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6D73-777D-4E4C-AE72-A95A80CCE30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1360-856C-4DD9-B8ED-5EC1B9A79AF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D9380D3F-AF98-4C98-ABFA-01C9A86F818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11"/>
          <p:cNvSpPr/>
          <p:nvPr/>
        </p:nvSpPr>
        <p:spPr>
          <a:xfrm>
            <a:off x="571680" y="4419720"/>
            <a:ext cx="8001000" cy="10688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nitive – Possessor (</a:t>
            </a:r>
            <a:r>
              <a:rPr b="0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'of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ative – Indirect object (</a:t>
            </a:r>
            <a:r>
              <a:rPr b="0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'to' or 'for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71720" y="1538280"/>
          <a:ext cx="6922800" cy="2247840"/>
        </p:xfrm>
        <a:graphic>
          <a:graphicData uri="http://schemas.openxmlformats.org/drawingml/2006/table">
            <a:tbl>
              <a:tblPr/>
              <a:tblGrid>
                <a:gridCol w="1249200"/>
                <a:gridCol w="1568520"/>
                <a:gridCol w="1515960"/>
                <a:gridCol w="1424160"/>
                <a:gridCol w="1164960"/>
              </a:tblGrid>
              <a:tr h="484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ὁ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th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ς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word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81"/>
          <p:cNvSpPr/>
          <p:nvPr/>
        </p:nvSpPr>
        <p:spPr>
          <a:xfrm>
            <a:off x="1214280" y="2643120"/>
            <a:ext cx="6567480" cy="11912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rticle and noun must agree in gender, case and 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33D92D53-3D2F-4040-BADD-A7BE827A6B1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6AC5D0CE-6E57-4DDC-B88A-B9B842FC892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84"/>
          <p:cNvSpPr/>
          <p:nvPr/>
        </p:nvSpPr>
        <p:spPr>
          <a:xfrm>
            <a:off x="357120" y="10717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.3.4 Overview of Nouns and the 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81160" y="1617840"/>
          <a:ext cx="8648640" cy="3841560"/>
        </p:xfrm>
        <a:graphic>
          <a:graphicData uri="http://schemas.openxmlformats.org/drawingml/2006/table">
            <a:tbl>
              <a:tblPr/>
              <a:tblGrid>
                <a:gridCol w="1017360"/>
                <a:gridCol w="939960"/>
                <a:gridCol w="1017360"/>
                <a:gridCol w="1133640"/>
                <a:gridCol w="1133280"/>
                <a:gridCol w="1136880"/>
                <a:gridCol w="1135080"/>
                <a:gridCol w="1135080"/>
              </a:tblGrid>
              <a:tr h="3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c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u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c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u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c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u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ὁ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η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η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οἱ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ἱ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ις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377"/>
          <p:cNvSpPr/>
          <p:nvPr/>
        </p:nvSpPr>
        <p:spPr>
          <a:xfrm>
            <a:off x="361800" y="5564160"/>
            <a:ext cx="7925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rticle endings are the same as the noun except in masc. and fem. nom., and in the neuter (sing.) nom. and ac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258840" y="105876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3.5 Variant Feminine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CA3917EF-0A60-4903-B3AC-3E0B55E76FE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143000" y="1500120"/>
          <a:ext cx="7010280" cy="4235400"/>
        </p:xfrm>
        <a:graphic>
          <a:graphicData uri="http://schemas.openxmlformats.org/drawingml/2006/table">
            <a:tbl>
              <a:tblPr/>
              <a:tblGrid>
                <a:gridCol w="1103400"/>
                <a:gridCol w="903240"/>
                <a:gridCol w="1563480"/>
                <a:gridCol w="1459080"/>
                <a:gridCol w="198108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da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glor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beginn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α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α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α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α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α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η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ᾳ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ῃ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ῃ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α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α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α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α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ω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ω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ω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αι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αι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ι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264"/>
          <p:cNvSpPr/>
          <p:nvPr/>
        </p:nvSpPr>
        <p:spPr>
          <a:xfrm>
            <a:off x="1214280" y="5811840"/>
            <a:ext cx="77724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100" spc="-1" strike="noStrike">
                <a:solidFill>
                  <a:srgbClr val="ffffff"/>
                </a:solidFill>
                <a:latin typeface="Gentium"/>
              </a:rPr>
              <a:t>α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</a:rPr>
              <a:t>η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variations between sing. and p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owel or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</a:rPr>
              <a:t>ρ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before end, or s, x, 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te article pattern follows 3.3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357120" y="5740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785880" y="1214280"/>
          <a:ext cx="7510320" cy="2283120"/>
        </p:xfrm>
        <a:graphic>
          <a:graphicData uri="http://schemas.openxmlformats.org/drawingml/2006/table">
            <a:tbl>
              <a:tblPr/>
              <a:tblGrid>
                <a:gridCol w="1633320"/>
                <a:gridCol w="2122560"/>
                <a:gridCol w="1447920"/>
                <a:gridCol w="2306520"/>
              </a:tblGrid>
              <a:tr h="492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ocativ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st 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nomin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nomin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THE VOC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39E3F726-5F0D-4694-8AEC-194A28618A3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4"/>
          <p:cNvSpPr/>
          <p:nvPr/>
        </p:nvSpPr>
        <p:spPr>
          <a:xfrm>
            <a:off x="628560" y="3506760"/>
            <a:ext cx="78012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τρε βλεπω δαιμονιον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Peter, I see a demon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αρια φιλεις τον κυριον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ary! You love the lo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5"/>
          <p:cNvSpPr/>
          <p:nvPr/>
        </p:nvSpPr>
        <p:spPr>
          <a:xfrm>
            <a:off x="2428920" y="5214600"/>
            <a:ext cx="4343400" cy="10854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n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Kyrie Eleison (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υριε ἐλεησ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)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0B282A2A-00A4-47BD-843B-7E58CE7009D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1857240" y="23328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5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Ἰησου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8"/>
          <p:cNvSpPr/>
          <p:nvPr/>
        </p:nvSpPr>
        <p:spPr>
          <a:xfrm>
            <a:off x="214200" y="3214800"/>
            <a:ext cx="85726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ὀχλοι ζητουσιν τον Ἰησου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The crowds are seeking Jes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δουλος του Ἰησου λεγ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The slave of Jesus is speak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9"/>
          <p:cNvSpPr/>
          <p:nvPr/>
        </p:nvSpPr>
        <p:spPr>
          <a:xfrm>
            <a:off x="1857240" y="5221440"/>
            <a:ext cx="4876920" cy="10616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n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reek"/>
              </a:rPr>
              <a:t>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Ihsouj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the definite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847880" y="1168560"/>
          <a:ext cx="5653080" cy="1996920"/>
        </p:xfrm>
        <a:graphic>
          <a:graphicData uri="http://schemas.openxmlformats.org/drawingml/2006/table">
            <a:tbl>
              <a:tblPr/>
              <a:tblGrid>
                <a:gridCol w="1208160"/>
                <a:gridCol w="1344600"/>
                <a:gridCol w="1709640"/>
                <a:gridCol w="13906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Ἰησ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Ἰησου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Vocative is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Ἰησου</a:t>
                      </a: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Ἰησ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Ἰησ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96840" y="1214280"/>
          <a:ext cx="8939160" cy="4508640"/>
        </p:xfrm>
        <a:graphic>
          <a:graphicData uri="http://schemas.openxmlformats.org/drawingml/2006/table">
            <a:tbl>
              <a:tblPr/>
              <a:tblGrid>
                <a:gridCol w="798480"/>
                <a:gridCol w="825480"/>
                <a:gridCol w="1273320"/>
                <a:gridCol w="1233360"/>
                <a:gridCol w="1182600"/>
                <a:gridCol w="1208160"/>
                <a:gridCol w="1211400"/>
                <a:gridCol w="1206360"/>
              </a:tblGrid>
              <a:tr h="549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η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η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hi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h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i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α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α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i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i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i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ις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αις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ις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Box 2"/>
          <p:cNvSpPr/>
          <p:nvPr/>
        </p:nvSpPr>
        <p:spPr>
          <a:xfrm>
            <a:off x="1857240" y="23328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ὐ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7213E6B0-608D-4C42-907C-68EFDF994BE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70866030-E2D8-4BF7-8E13-4933492EAC5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1857240" y="23328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ὐ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85840" y="1247760"/>
            <a:ext cx="79246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ings of </a:t>
            </a:r>
            <a:r>
              <a:rPr b="0" lang="el-GR" sz="2100" spc="-1" strike="noStrike">
                <a:solidFill>
                  <a:srgbClr val="ffffff"/>
                </a:solidFill>
                <a:latin typeface="Gentium"/>
              </a:rPr>
              <a:t>αὐτο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- similarity to the article in neu. nom. and acc. sing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100" spc="-1" strike="noStrike">
                <a:solidFill>
                  <a:srgbClr val="ffffff"/>
                </a:solidFill>
                <a:latin typeface="Gentium"/>
              </a:rPr>
              <a:t>αὐτο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unnecessary in n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ossessive </a:t>
            </a:r>
            <a:r>
              <a:rPr b="0" lang="el-GR" sz="2100" spc="-1" strike="noStrike">
                <a:solidFill>
                  <a:srgbClr val="ffffff"/>
                </a:solidFill>
                <a:latin typeface="Gentium"/>
              </a:rPr>
              <a:t>αὐτο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uses definite article and 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714240" y="3382920"/>
            <a:ext cx="771552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αλουμε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αυτ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 - We are speaking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h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κυριο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αυτου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φιλει </a:t>
            </a:r>
            <a:r>
              <a:rPr b="1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αυτ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i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ster loves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i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εις αὐτο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Do you se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FF4FEADE-28C9-459D-8458-33EFCD4B946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542880" y="1406520"/>
            <a:ext cx="7772400" cy="45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0" lang="el-GR" sz="3000" spc="-1" strike="noStrike">
                <a:solidFill>
                  <a:srgbClr val="ffffff"/>
                </a:solidFill>
                <a:latin typeface="Gentium"/>
              </a:rPr>
              <a:t>ὁ ἀγγελος του θεου λεγει τον λογο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αγγελ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the angel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υ θεου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God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ν λογον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the word -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ccus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gel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because it is the subjec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d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gen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the poss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ord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cc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ntence = 'The angel of God speaks the word.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7023C4B1-860D-4957-AF97-A87ED1F2EE3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04880" y="1655640"/>
            <a:ext cx="7010280" cy="35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0" lang="el-GR" sz="3000" spc="-1" strike="noStrike">
                <a:solidFill>
                  <a:srgbClr val="ffffff"/>
                </a:solidFill>
                <a:latin typeface="Gentium"/>
              </a:rPr>
              <a:t>ὁ αγγελος λεγει τῳ δουλῳ</a:t>
            </a:r>
            <a:r>
              <a:rPr b="0" lang="en-GB" sz="30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αγγελος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the angel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ῳ δουλῳ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the slave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gel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because it is the subjec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ave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dat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the indirect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ntence = 'The angel speaks to the slave.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F688EE79-A18D-43BE-8FF4-8A21DDC9B9B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85840" y="1339920"/>
            <a:ext cx="110728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0" lang="el-GR" sz="3000" spc="-1" strike="noStrike">
                <a:solidFill>
                  <a:srgbClr val="ffffff"/>
                </a:solidFill>
                <a:latin typeface="Gentium"/>
              </a:rPr>
              <a:t>ὁ αγγελος λεγει τον λογον του θεου τῳ δουλ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αγγελο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the angel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ν λογον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the word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υ θεου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God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gen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ῳ δουλῳ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the slave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gel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because it is the subjec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ord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cc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th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d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gen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the possess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ave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dat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the indirect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ntence = 'The angel speaks the word of God to the slave.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576360" y="2025720"/>
            <a:ext cx="749592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ομεν του κυριου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We hear the L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ομεν τον λογον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e hear the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ευουσιν τῳ θεὡ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They believe in G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92827273-E191-46C1-BD6A-69372C13913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230040" y="87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SPECIAL USES OF THE GENITIV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D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7ED4FF82-34E1-41E8-BBD8-762D3F33143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500040" y="1523880"/>
            <a:ext cx="834408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Mark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13.3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οὐρανος και ἡ γη παρελευσοντα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The)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eave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d (the)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ear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will pass aw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80880" y="3198960"/>
            <a:ext cx="8382240" cy="26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3.3.1 The idea of gend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uns ending in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re masculine and decline lik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ογ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nouns ending in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η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r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re feminine and decline lik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ρχη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μερα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ξα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nouns ending in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re neuter and decline lik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ργ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39"/>
          <p:cNvSpPr/>
          <p:nvPr/>
        </p:nvSpPr>
        <p:spPr>
          <a:xfrm>
            <a:off x="374760" y="120024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3.2 The Feminine and Neuter Decl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57160" y="1763640"/>
          <a:ext cx="7429680" cy="4449960"/>
        </p:xfrm>
        <a:graphic>
          <a:graphicData uri="http://schemas.openxmlformats.org/drawingml/2006/table">
            <a:tbl>
              <a:tblPr/>
              <a:tblGrid>
                <a:gridCol w="1521000"/>
                <a:gridCol w="1374840"/>
                <a:gridCol w="2328840"/>
                <a:gridCol w="22050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d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d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beginn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work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υ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ῃ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ῳ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α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α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ω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ω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ι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ι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063F6AE0-3725-4CD8-97F6-54AE076BF4A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267EA89C-F67B-41AC-AB2B-53412FB9FFD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500040" y="1428840"/>
            <a:ext cx="7315200" cy="32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nom. and acc.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ο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ργ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re identic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is always true in the neu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is a special rule for neuter plural nou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normally take a singular ver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.e. 'children keep the law' i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α τεκνα τηρουσιν τον νομ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71680" y="4980960"/>
            <a:ext cx="8001000" cy="6019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Neuter Plural Nouns take a singular verb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66"/>
          <p:cNvSpPr/>
          <p:nvPr/>
        </p:nvSpPr>
        <p:spPr>
          <a:xfrm>
            <a:off x="347760" y="1143000"/>
            <a:ext cx="70102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3.3.3 The feminine and the neuter of the definite article; agree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15BE83BF-E48D-4313-85FE-8AF2763CC7E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138320" y="2214720"/>
          <a:ext cx="6648480" cy="3992400"/>
        </p:xfrm>
        <a:graphic>
          <a:graphicData uri="http://schemas.openxmlformats.org/drawingml/2006/table">
            <a:tbl>
              <a:tblPr/>
              <a:tblGrid>
                <a:gridCol w="1066680"/>
                <a:gridCol w="933480"/>
                <a:gridCol w="1477800"/>
                <a:gridCol w="1443240"/>
                <a:gridCol w="1727280"/>
              </a:tblGrid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ὁ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η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η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ο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10:23:27Z</dcterms:created>
  <dc:creator>Sarah</dc:creator>
  <dc:description/>
  <dc:language>en-US</dc:language>
  <cp:lastModifiedBy>Sarah</cp:lastModifiedBy>
  <dcterms:modified xsi:type="dcterms:W3CDTF">2008-08-26T14:12:26Z</dcterms:modified>
  <cp:revision>48</cp:revision>
  <dc:subject/>
  <dc:title>Slide 1</dc:title>
</cp:coreProperties>
</file>