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5BD-5158-4E56-BEAD-1C3F6CB1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990-1815-4AB5-9B71-04DB8184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1CE-60A2-449F-8B4B-C4509F85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D7A-F362-4C42-A260-BE744F68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AA8-5C05-4D34-935D-EEB3E578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37E-883A-457E-89BA-1D7AB7DE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90F-87AF-44D9-AF5A-D00EE332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CD3-7BCD-4D25-85F3-CACA240A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407-54AE-4661-8554-6C323FBD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0B1-CDE6-4C0B-8B43-FC0416F4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D2F-F03A-4856-BDB2-61E55068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A7A-6C25-49AC-A33C-4A3AC349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D831-8225-4AB2-B4AA-937DD3497A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E10952EF-027C-471B-A0DA-B679CFC8053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840" y="1500120"/>
            <a:ext cx="857232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ty' or ‘town’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king'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σιλε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ασι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3232080"/>
          <a:ext cx="734220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371600"/>
                <a:gridCol w="1014120"/>
                <a:gridCol w="1592280"/>
                <a:gridCol w="187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AFAFCFAC-68BE-4EF9-8D02-2734769710F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55640" y="1560600"/>
          <a:ext cx="5803920" cy="2468520"/>
        </p:xfrm>
        <a:graphic>
          <a:graphicData uri="http://schemas.openxmlformats.org/drawingml/2006/table">
            <a:tbl>
              <a:tblPr/>
              <a:tblGrid>
                <a:gridCol w="1005120"/>
                <a:gridCol w="1795320"/>
                <a:gridCol w="1687680"/>
                <a:gridCol w="131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1"/>
          <p:cNvSpPr/>
          <p:nvPr/>
        </p:nvSpPr>
        <p:spPr>
          <a:xfrm>
            <a:off x="1986120" y="4473720"/>
            <a:ext cx="5138640" cy="1473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e breathings -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ἑ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n)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nt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7AA0C95E-77E8-41BC-A985-E4195023988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14680" y="107172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'no one, nothing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80920" y="1598760"/>
          <a:ext cx="7358040" cy="2225520"/>
        </p:xfrm>
        <a:graphic>
          <a:graphicData uri="http://schemas.openxmlformats.org/drawingml/2006/table">
            <a:tbl>
              <a:tblPr/>
              <a:tblGrid>
                <a:gridCol w="1252800"/>
                <a:gridCol w="2235240"/>
                <a:gridCol w="2100240"/>
                <a:gridCol w="176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27040" y="4000680"/>
          <a:ext cx="62881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904760"/>
                <a:gridCol w="1791000"/>
                <a:gridCol w="152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56D8E1A6-91AE-4E40-8941-EB6CADE0545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2920" y="114300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, a sentence is either negative, or not; unlike in English, two negatives do not make a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3.32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δε της ἡμερας ἐκεινης ἠ της ὡρ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ι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ἰδε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e knows]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ἀγγελοι ἐν οὐρανῳ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υἱος, εἰ μη ὁ πατη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ut about that day or hou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 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knows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ei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s in heaven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on, but only th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60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κ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κριν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                                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Do you repl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76040" y="1500120"/>
            <a:ext cx="861084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two patterns are very similar – in particular having the distinctive gen. singular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nom. and acc. plurals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ι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The main difference between them is in the acc. singular 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r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nk of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ending is correct for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cl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is another pattern of words which have stems ending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However, there only word in this family which is at all common,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even that only occurs 20 times in the New Testament. Its endings are the same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τη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cept for the accusative singular: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ἰχθυ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ἰχθυος, ἰχθυ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ες, ἰχθυας, ἰχθυων, ἰχθ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40457049-2505-4DE3-BF9D-2E55D899BC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F2848AEC-D358-4566-9D3A-F75980D9A91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92080" y="1817640"/>
            <a:ext cx="7353360" cy="3324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n't worry too much about these nou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y are not particularly common,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d most of their forms are close enough to either the 1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or the 3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declension endings in the appropriate case and number, that you can normally guess them correctl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05040" y="112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3.2.1 Nou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28880" y="1765440"/>
          <a:ext cx="7099200" cy="4343400"/>
        </p:xfrm>
        <a:graphic>
          <a:graphicData uri="http://schemas.openxmlformats.org/drawingml/2006/table">
            <a:tbl>
              <a:tblPr/>
              <a:tblGrid>
                <a:gridCol w="1212840"/>
                <a:gridCol w="798480"/>
                <a:gridCol w="1174680"/>
                <a:gridCol w="1538280"/>
                <a:gridCol w="11736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of getting the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1D15AA20-F8D1-4F21-9DDA-97431935960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B6FEA34E-1B9D-45E7-BEAE-9543DD030AC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527120"/>
          <a:ext cx="8001000" cy="3916440"/>
        </p:xfrm>
        <a:graphic>
          <a:graphicData uri="http://schemas.openxmlformats.org/drawingml/2006/table">
            <a:tbl>
              <a:tblPr/>
              <a:tblGrid>
                <a:gridCol w="907920"/>
                <a:gridCol w="798480"/>
                <a:gridCol w="1494000"/>
                <a:gridCol w="1828800"/>
                <a:gridCol w="1371600"/>
                <a:gridCol w="1600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/ Feminin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ying 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62"/>
          <p:cNvSpPr/>
          <p:nvPr/>
        </p:nvSpPr>
        <p:spPr>
          <a:xfrm>
            <a:off x="1409760" y="10382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3.2.2 Adj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3"/>
          <p:cNvSpPr/>
          <p:nvPr/>
        </p:nvSpPr>
        <p:spPr>
          <a:xfrm>
            <a:off x="176040" y="557208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l-G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t is only the acc. plural masculine/feminine which is peculiar, in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pying the nom. when one might expect some contraction of –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εα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57120" y="1392120"/>
            <a:ext cx="82155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decline a word such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you needs to know four pieces of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neuter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genitive (or stem) for the masculine &amp;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feminine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once we know the nom. sing.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we can deduce the rest of the decl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8D883A79-6358-4E82-BDA2-A92220C2F6F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1ACA248D-AEA7-4B0C-9ADD-B48635571E1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41200" y="1285920"/>
          <a:ext cx="8643960" cy="4937040"/>
        </p:xfrm>
        <a:graphic>
          <a:graphicData uri="http://schemas.openxmlformats.org/drawingml/2006/table">
            <a:tbl>
              <a:tblPr/>
              <a:tblGrid>
                <a:gridCol w="1330560"/>
                <a:gridCol w="1171440"/>
                <a:gridCol w="2192400"/>
                <a:gridCol w="2062080"/>
                <a:gridCol w="18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0240" y="1098720"/>
            <a:ext cx="91440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its own; masculine = person/man; feminine = woman;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uter = th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John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τα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ι’ αὐτου ἐγενετ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All thing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came to be through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6.50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γαρ αὐτον εἰδ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veryon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t can occur with a noun without an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att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7.1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νδρον ἀγαθον καρπους καλους ποιε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ver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good tree produces good frui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A152FCB6-7B82-4E12-BDEC-517844A2D87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38C361A9-0979-4D03-883F-45F1E5020B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7320" y="1214280"/>
            <a:ext cx="8772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 It can occur with a noun with the article, in which case it normally stands in the predicative positive (i.e. before the 'the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5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υνερχον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α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ἱ ἀρχιερ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chief priests g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 It can occur with the article and partici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5.1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πιστευων ὁτι Ἰησους ἐστιν 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Χρισ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ry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ho believes that the Messiah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56Z</dcterms:created>
  <dc:creator>Sarah</dc:creator>
  <dc:description/>
  <dc:language>en-US</dc:language>
  <cp:lastModifiedBy>Sarah</cp:lastModifiedBy>
  <dcterms:modified xsi:type="dcterms:W3CDTF">2009-03-06T12:45:45Z</dcterms:modified>
  <cp:revision>26</cp:revision>
  <dc:subject/>
  <dc:title>Slide 1</dc:title>
</cp:coreProperties>
</file>