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F93-F6A5-4C56-B3EF-9E902594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9BC-C6BC-48B8-B614-4B15F95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077-1BB8-4C1D-AA33-9136F637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46D-C7E6-4119-B487-4EB24100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60F-D9E1-46A6-9FD8-E011FB7B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CBF-9CA2-4460-9E3D-CE8887CA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8A1-A084-4460-8836-E51E49E2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939-D683-417F-84AD-6D9E6D1A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5E0-25F0-49A7-8984-1AA2D0A8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7F5-3DD9-411A-BA95-2D1022A5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B65-316D-44C9-A695-FBFF480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73F-EC6E-460C-A23B-DED69B5E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B666-C4AE-4986-B1E5-81716BD59B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3" name="TextBox 5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8782E570-A23B-4673-A5B6-4291435E528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28760" y="2133720"/>
            <a:ext cx="842940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1.1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∙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στιν ὁ προφητης Ἰησ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saying: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proph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14.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ειν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ρ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κο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ρῳδ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a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ime Herod heard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905120" y="11732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2.3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3120" y="2000160"/>
            <a:ext cx="850104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ther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ne another) both decline like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3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ἄλλ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λοια ἠν μετ’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oats were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4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πρ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λλη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they were say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one an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6AA689FB-F506-437E-AB87-65EDA190C10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C8DFC852-EB78-4B44-88D6-C36F67DB85A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428920" y="1123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3.1 Pronou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7200" y="1790640"/>
          <a:ext cx="8786880" cy="3353040"/>
        </p:xfrm>
        <a:graphic>
          <a:graphicData uri="http://schemas.openxmlformats.org/drawingml/2006/table">
            <a:tbl>
              <a:tblPr/>
              <a:tblGrid>
                <a:gridCol w="900360"/>
                <a:gridCol w="1290600"/>
                <a:gridCol w="1461960"/>
                <a:gridCol w="1116000"/>
                <a:gridCol w="1031760"/>
                <a:gridCol w="939960"/>
                <a:gridCol w="1101600"/>
                <a:gridCol w="944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me, 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us, 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you, 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3"/>
          <p:cNvSpPr/>
          <p:nvPr/>
        </p:nvSpPr>
        <p:spPr>
          <a:xfrm>
            <a:off x="357120" y="5357880"/>
            <a:ext cx="8229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ο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self means 'we untie'. There is no need for a word for 'we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428760" y="1773360"/>
            <a:ext cx="82486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al. 5.2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Greek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γ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υλος 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ὑμ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ul te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2.2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σ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κ της ὡρας ταυτ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S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this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21.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αὐ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ῳ∙ Κυριε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ινωσκεις ὁτι 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he said … 'Do you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' … and he said to him, 'Lord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know that I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633F4186-A048-4815-83B6-F658C9B8B3A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59FE45A2-3AA5-44D8-A986-004C15A7682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52480" y="1752480"/>
            <a:ext cx="563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2 Reflexive Pronou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971800"/>
          <a:ext cx="6705360" cy="2011320"/>
        </p:xfrm>
        <a:graphic>
          <a:graphicData uri="http://schemas.openxmlformats.org/drawingml/2006/table">
            <a:tbl>
              <a:tblPr/>
              <a:tblGrid>
                <a:gridCol w="2347920"/>
                <a:gridCol w="43574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866960" y="142884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3 Possessive Adjec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2286000"/>
            <a:ext cx="77724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ommonly by usin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genitive of the personal pronouns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of me, of you, of us, of you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, in the singular you can use a special ad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928960" y="4786200"/>
          <a:ext cx="3090960" cy="1006560"/>
        </p:xfrm>
        <a:graphic>
          <a:graphicData uri="http://schemas.openxmlformats.org/drawingml/2006/table">
            <a:tbl>
              <a:tblPr/>
              <a:tblGrid>
                <a:gridCol w="2168640"/>
                <a:gridCol w="9223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4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F2D1E94E-1173-4347-AB34-FB594E12D40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CD226218-CC54-46B8-8E79-4AAEF41293C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00040" y="3500280"/>
            <a:ext cx="792972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0.2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ἐστε ἐκ των προβατων τω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 are not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heep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20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ὁ θε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rd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G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1357200"/>
            <a:ext cx="7138800" cy="18997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My words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υ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not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οι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Compare: 'his words'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ι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)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μ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need the arti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D79056E9-45B9-41D0-87EE-DA8605BD5C0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24160" y="159552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1 Timid words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71520" y="2814480"/>
            <a:ext cx="6572160" cy="2235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/ f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not come as the first wo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D7E2E5E-6C48-48A8-8EB9-D08A7B190AE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04920" y="2556000"/>
            <a:ext cx="86104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θεραπε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eal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hes. 2.2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ε ἡ δοξα ἡμων και ἡ χα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ou are our glory and joy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142720" y="2490840"/>
            <a:ext cx="1667160" cy="223920"/>
            <a:chOff x="2142720" y="2490840"/>
            <a:chExt cx="1667160" cy="223920"/>
          </a:xfrm>
        </p:grpSpPr>
        <p:sp>
          <p:nvSpPr>
            <p:cNvPr id="151" name="Line 5"/>
            <p:cNvSpPr/>
            <p:nvPr/>
          </p:nvSpPr>
          <p:spPr>
            <a:xfrm flipH="1">
              <a:off x="29761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 flipH="1">
              <a:off x="21427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21430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 flipV="1">
              <a:off x="38098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"/>
          <p:cNvSpPr/>
          <p:nvPr/>
        </p:nvSpPr>
        <p:spPr>
          <a:xfrm>
            <a:off x="304920" y="194616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1852A4B9-8183-4D19-8A9E-4878AC0997A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13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57200" y="214308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cede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order to express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7120" y="3000240"/>
            <a:ext cx="830592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ιζεσθε ἑαυτους εἰν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νεκρ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ῃ ἁμαρτιᾳ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ζωντα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m 6.1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onsider yourselves to be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 the on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dead to sin but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the other 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alive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786200" y="3670200"/>
            <a:ext cx="1643040" cy="214560"/>
            <a:chOff x="4786200" y="3670200"/>
            <a:chExt cx="1643040" cy="214560"/>
          </a:xfrm>
        </p:grpSpPr>
        <p:sp>
          <p:nvSpPr>
            <p:cNvPr id="162" name="Line 7"/>
            <p:cNvSpPr/>
            <p:nvPr/>
          </p:nvSpPr>
          <p:spPr>
            <a:xfrm flipH="1">
              <a:off x="560772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 flipH="1">
              <a:off x="478620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78620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 flipV="1">
              <a:off x="642924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1271160" y="4348080"/>
            <a:ext cx="1371960" cy="152640"/>
            <a:chOff x="1271160" y="4348080"/>
            <a:chExt cx="1371960" cy="152640"/>
          </a:xfrm>
        </p:grpSpPr>
        <p:sp>
          <p:nvSpPr>
            <p:cNvPr id="167" name="Line 12"/>
            <p:cNvSpPr/>
            <p:nvPr/>
          </p:nvSpPr>
          <p:spPr>
            <a:xfrm flipH="1">
              <a:off x="19569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 flipH="1">
              <a:off x="12711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12715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 flipV="1">
              <a:off x="26431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39760" y="1414440"/>
            <a:ext cx="864864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Cor. 1.12: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καστος ὑμων λεγει∙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μι Παυλου, ἐγω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’Απολλω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ηφα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Χρισ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Each of you says, 'I am Paul's, I am Apollos', I a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phas', I am Christ's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ts 14.4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ἠσαν συν τοις Ἰουδαιοις,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συ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τοις ἀποστολο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Jews 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ostles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A913F8D-CAB5-490F-B0B7-2AC1012490F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743200" y="10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1.1 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6200" y="2035080"/>
          <a:ext cx="7854840" cy="4108680"/>
        </p:xfrm>
        <a:graphic>
          <a:graphicData uri="http://schemas.openxmlformats.org/drawingml/2006/table">
            <a:tbl>
              <a:tblPr/>
              <a:tblGrid>
                <a:gridCol w="1166760"/>
                <a:gridCol w="1127160"/>
                <a:gridCol w="2012760"/>
                <a:gridCol w="1890720"/>
                <a:gridCol w="16574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02"/>
          <p:cNvSpPr/>
          <p:nvPr/>
        </p:nvSpPr>
        <p:spPr>
          <a:xfrm>
            <a:off x="928800" y="142884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A4FBA028-4F3A-4806-8C71-0DF45A5F67E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F0FFF967-1502-4FC0-93EA-8BAA372DDC3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81080" y="1214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3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3960" y="1857240"/>
            <a:ext cx="769608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weak ‘but’, where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α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presses 'but' more strongly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lso used just with the article (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point out that the subject has chang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6.37-38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ουσιν αὐτῳ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λεγει αὐτοις,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σους ἀρτους ἐχ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y said to him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e 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, 'How many loaves of brea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do you have?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2666880" y="1143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4.4 Use of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85840" y="1614600"/>
            <a:ext cx="878688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rmally means 'and', but can also be used to give emphasis, equivalent to 'also' or 'even'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often followed b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iving the meaning 'both … and'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2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ἐστιν ὁ υἱος του ἀνθρωπ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σαββα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 of man is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ver the Sabb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(ὡν) ἠρξατο ὁ Ἰησους ποιε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which) Jesus bega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d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e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1320F3CE-1F1B-479D-B631-9BE158EACA4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857160" y="1400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9720" y="1963800"/>
          <a:ext cx="7305480" cy="4108320"/>
        </p:xfrm>
        <a:graphic>
          <a:graphicData uri="http://schemas.openxmlformats.org/drawingml/2006/table">
            <a:tbl>
              <a:tblPr/>
              <a:tblGrid>
                <a:gridCol w="1104840"/>
                <a:gridCol w="1068480"/>
                <a:gridCol w="1904760"/>
                <a:gridCol w="1791000"/>
                <a:gridCol w="143640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DF7D0E5-4403-4B8C-8DEF-F627E66B1A5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7120" y="1179360"/>
            <a:ext cx="8572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ndings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re actually the same as f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ο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gins with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most of its forms; rough breathing in the nom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sc. and fem., sing. and plural, the same as in the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irst vowel fluctuates betwe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it matches the second vowel.  If the second vowel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the first vowel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but if i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it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28800" y="4238640"/>
            <a:ext cx="7277040" cy="2356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itially, what is important is simply to be able to recognise the forms of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Greek. This is relatively easy, but watch for the forms without th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0C5B5E8D-D8F3-47E0-BB21-2F31D6D8842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790640" y="194940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1.2 Us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00080" y="2635200"/>
            <a:ext cx="742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Use as pronou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ἐκειν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saw those (peop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εται 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e will begin these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A68ABAFA-AA2C-4BDB-A11B-562EF37A6B1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08154537-2E15-4BA7-8687-E052E4D446C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90720" y="1500120"/>
            <a:ext cx="716256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se as adject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article must always be used in addition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y are placed in the predicative word orde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English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br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is the broth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ine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θ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it is used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it comes before the articl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hole crowd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 ὁ ὀχ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ὁλος ὀχ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447920" y="1214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2.1 Further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3280" y="2168640"/>
            <a:ext cx="891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 be used as an adjectiv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jective meaning 'sam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rmal attributive position (between article and n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 adjective (himself, herself, itself, themsel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ing before the article (predicative position) 'for emphasis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E926376B-2A9B-4AEB-9EA0-FEEC00884EC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8B8D3B6-C130-4520-8DEB-4E6F2A2E572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14200" y="1643040"/>
            <a:ext cx="864396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am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μαθη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λε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sciples s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or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552760" y="116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3480" y="178128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reflexive pronoun (himself, herself, itself, themselves)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ines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 σωζε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ἑαυτ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sav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αὐτ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ὁ κυριος σωζει τον λα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aves the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4200480"/>
            <a:ext cx="6858000" cy="1959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You can tell whether 'himself' etc.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or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by deleting it. If the sentence's basic meaning is unaltered,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if not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E9F66663-F52B-4AFE-82EE-D42780FE8E2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3:19:25Z</dcterms:created>
  <dc:creator>Sarah</dc:creator>
  <dc:description/>
  <dc:language>en-US</dc:language>
  <cp:lastModifiedBy>Sarah</cp:lastModifiedBy>
  <dcterms:modified xsi:type="dcterms:W3CDTF">2009-03-04T13:01:32Z</dcterms:modified>
  <cp:revision>69</cp:revision>
  <dc:subject/>
  <dc:title>Slide 1</dc:title>
</cp:coreProperties>
</file>