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00C-27B6-4EE7-B10C-79A48CD2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1E6-23F2-4023-A2D2-A9BF72B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16C-2171-4B18-945F-ACB1F53A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D95-66AF-4E8D-AE4C-D723EB81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36A-3986-4433-9D65-4C559041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387-2058-40C9-9B25-28B962DF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CB8-51C8-414C-B798-3ED762A3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D63-22B5-4D8A-B28D-95A88F23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35C-5D1A-4333-BAC6-C7CCF5B3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B2E-5A79-4DE7-BDC7-86870CE5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750-0F37-49AF-B56F-D02013FB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42C-4170-4946-8A25-68710061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0AF3-2AC2-4564-9040-5E86FB5EA98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1866EE33-8FF3-4EEA-AD4E-968F85626C87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57120" y="1500120"/>
            <a:ext cx="83822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m. 8.9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εις δε οὐκ ἐστε ἐ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κ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λλα ἐ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νευμα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you are not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but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pir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tt. 16.1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εἰπεν αὐτῳ∙ Μακαριος εἶ, Σιμων Βαριωνα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ξ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ἱμ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ὐκ ἀπεκαλυψεν σοι ἀλλα’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πατηρ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said to him, 'You are blessed, Simon Bariona, becaus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l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id not reveal (this) to you, but m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th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cts 2.1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ὁ θεος∙ Ἐκχεῶ ἀπο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υ πνευματο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ου ἐπι πασα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κ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και προφητευσουσιν οἱ υἱοι ὑμων και αἱ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θυγατερε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d says, 'I will pour out from m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pir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on all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and you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ns and your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aught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will prophesy.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4444C73F-4D16-4F4A-A167-D94E05657494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1427040"/>
            <a:ext cx="8686800" cy="921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0" lang="en-GB" sz="2800" spc="-1" strike="noStrike">
                <a:solidFill>
                  <a:srgbClr val="000000"/>
                </a:solidFill>
                <a:latin typeface="Greek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s the indefinite pronoun - someone, any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is the interrogative pronoun - who? wha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1200" y="2643120"/>
          <a:ext cx="7505640" cy="3335400"/>
        </p:xfrm>
        <a:graphic>
          <a:graphicData uri="http://schemas.openxmlformats.org/drawingml/2006/table">
            <a:tbl>
              <a:tblPr/>
              <a:tblGrid>
                <a:gridCol w="1020600"/>
                <a:gridCol w="1725480"/>
                <a:gridCol w="1695600"/>
                <a:gridCol w="1731960"/>
                <a:gridCol w="133200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F3288072-41C1-498D-8EBD-4F3303F37AFC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43080" y="1274760"/>
            <a:ext cx="84582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se as Pronou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να θεωρ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om do you see?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βλεψα τι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saw some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o is coming?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ει τ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meone is liste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τίνων λεγ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at/Who are you speaking ab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se as Adjectiv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να μισθον ἐχε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at reward do you hav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τρατιωται τινες ἐρχονται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me soldiers are 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Ι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t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an also mean 'why?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 λεγ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y are you speaking ?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'what are you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aying'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C76EB06C-E633-4B26-8073-D9122D24F78E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5840" y="1428840"/>
            <a:ext cx="85010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Distinguishing between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 (someone) and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 (who?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Three ways: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context normally makes it very clear (and indeed there will be a question mark i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mean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omeone) cannot be the first word in a sentence, whil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who) frequently 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learn some relatively simply rules about the acc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cent on the first syllable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who?, what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 accent or an accent on the second syllable 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omeone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3F0F4C53-4C1B-42F6-B0D0-B7288BEA5CEB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1407960"/>
            <a:ext cx="792504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re are a few characteristic features of the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declens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masculine and feminine are identical; the neuter is simil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nominative singular form is irregular – it is not formed from the stem plus an ending, although all the other forms 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Because the nominative is irregula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for a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declension word you need to learn both the nominative and another form from which the stem can be deduced (the genitive is bes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no ending indicates that a word is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declension, as up to now words ending in -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have always declined lik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λογ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Indeed, the beauty of the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declension is its ability to cope with words whatever their nomina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0F89CF8D-91BD-4FBA-91C3-453B0F3743A9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1424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re as follow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10000" y="1928880"/>
          <a:ext cx="3924000" cy="2468520"/>
        </p:xfrm>
        <a:graphic>
          <a:graphicData uri="http://schemas.openxmlformats.org/drawingml/2006/table">
            <a:tbl>
              <a:tblPr/>
              <a:tblGrid>
                <a:gridCol w="1000080"/>
                <a:gridCol w="1724040"/>
                <a:gridCol w="1199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85"/>
          <p:cNvSpPr/>
          <p:nvPr/>
        </p:nvSpPr>
        <p:spPr>
          <a:xfrm>
            <a:off x="304920" y="4495680"/>
            <a:ext cx="853416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n the whole there is no connection between these endings and those of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eclension, although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enitive plur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ending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ω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the s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5717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atch out for the endings which are used differently in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eclension than in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8440" y="2857680"/>
          <a:ext cx="8515440" cy="2743200"/>
        </p:xfrm>
        <a:graphic>
          <a:graphicData uri="http://schemas.openxmlformats.org/drawingml/2006/table">
            <a:tbl>
              <a:tblPr/>
              <a:tblGrid>
                <a:gridCol w="684360"/>
                <a:gridCol w="3603600"/>
                <a:gridCol w="42274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. nom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 sing. (masc. or fem.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. nom. or acc. pl. (or nom. sing.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 pl. (masc. or fem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. acc. pl. (or gen. sing.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5ADDFEB1-C9DD-414C-9C29-7D6369654D2B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C48F106F-99D6-402E-98CB-A9B7134643E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42960" y="1447920"/>
            <a:ext cx="7643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or example, 'star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στηρ, ἀστερ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 and therefore its stem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στερ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nce it declines as follow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0520" y="3081240"/>
          <a:ext cx="5969160" cy="2468520"/>
        </p:xfrm>
        <a:graphic>
          <a:graphicData uri="http://schemas.openxmlformats.org/drawingml/2006/table">
            <a:tbl>
              <a:tblPr/>
              <a:tblGrid>
                <a:gridCol w="1135080"/>
                <a:gridCol w="2325600"/>
                <a:gridCol w="250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η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53D2A763-3ABC-4CAB-A692-74EAF4FD2C9E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6"/>
          <p:cNvSpPr/>
          <p:nvPr/>
        </p:nvSpPr>
        <p:spPr>
          <a:xfrm>
            <a:off x="1805040" y="12668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12.2.1 Note on the dative plu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6920" y="1839960"/>
          <a:ext cx="4734000" cy="1508040"/>
        </p:xfrm>
        <a:graphic>
          <a:graphicData uri="http://schemas.openxmlformats.org/drawingml/2006/table">
            <a:tbl>
              <a:tblPr/>
              <a:tblGrid>
                <a:gridCol w="1538280"/>
                <a:gridCol w="603360"/>
                <a:gridCol w="877680"/>
                <a:gridCol w="757440"/>
                <a:gridCol w="9572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60"/>
          <p:cNvSpPr/>
          <p:nvPr/>
        </p:nvSpPr>
        <p:spPr>
          <a:xfrm>
            <a:off x="495360" y="332280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'flesh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σαρ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σαρκ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and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σαρξ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'child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παι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παιδ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and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παι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0640" y="4714920"/>
          <a:ext cx="5562720" cy="503280"/>
        </p:xfrm>
        <a:graphic>
          <a:graphicData uri="http://schemas.openxmlformats.org/drawingml/2006/table">
            <a:tbl>
              <a:tblPr/>
              <a:tblGrid>
                <a:gridCol w="2781360"/>
                <a:gridCol w="2781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ν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84"/>
          <p:cNvSpPr/>
          <p:nvPr/>
        </p:nvSpPr>
        <p:spPr>
          <a:xfrm>
            <a:off x="490680" y="5143680"/>
            <a:ext cx="84391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'ruler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ἀρχω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ἀρχοντ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ἀρχου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9C0F034B-DF62-45B6-B250-AD61037FBCB9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60440" y="1714680"/>
          <a:ext cx="6421320" cy="1371600"/>
        </p:xfrm>
        <a:graphic>
          <a:graphicData uri="http://schemas.openxmlformats.org/drawingml/2006/table">
            <a:tbl>
              <a:tblPr/>
              <a:tblGrid>
                <a:gridCol w="1333440"/>
                <a:gridCol w="2664000"/>
                <a:gridCol w="24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follow the same slightly irregular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μητρο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ugh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υγα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υγ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857680" y="3214800"/>
          <a:ext cx="3641400" cy="2225520"/>
        </p:xfrm>
        <a:graphic>
          <a:graphicData uri="http://schemas.openxmlformats.org/drawingml/2006/table">
            <a:tbl>
              <a:tblPr/>
              <a:tblGrid>
                <a:gridCol w="866520"/>
                <a:gridCol w="1341360"/>
                <a:gridCol w="1433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15"/>
          <p:cNvSpPr/>
          <p:nvPr/>
        </p:nvSpPr>
        <p:spPr>
          <a:xfrm>
            <a:off x="361800" y="5380200"/>
            <a:ext cx="8420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he e is sometimes part of the stem, and sometimes not. Also the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  <a:ea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in the dative plural.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  <a:ea typeface="Arial"/>
              </a:rPr>
              <a:t>πατη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(alone) also has an irregular vocative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  <a:ea typeface="Arial"/>
              </a:rPr>
              <a:t>πατ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ε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  <a:ea typeface="Arial"/>
              </a:rPr>
              <a:t>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16"/>
          <p:cNvSpPr/>
          <p:nvPr/>
        </p:nvSpPr>
        <p:spPr>
          <a:xfrm>
            <a:off x="2571840" y="1138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12.2.2 The family grou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F1E69F6B-5F98-40A3-AA31-9104331D40F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NEUTER NOUNS WITH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57160" y="1163520"/>
          <a:ext cx="6296040" cy="2270160"/>
        </p:xfrm>
        <a:graphic>
          <a:graphicData uri="http://schemas.openxmlformats.org/drawingml/2006/table">
            <a:tbl>
              <a:tblPr/>
              <a:tblGrid>
                <a:gridCol w="973080"/>
                <a:gridCol w="2662560"/>
                <a:gridCol w="266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o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ι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 (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 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ι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95"/>
          <p:cNvSpPr/>
          <p:nvPr/>
        </p:nvSpPr>
        <p:spPr>
          <a:xfrm>
            <a:off x="2143080" y="350028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'body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μα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ματο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: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57160" y="4060800"/>
          <a:ext cx="5079960" cy="2317680"/>
        </p:xfrm>
        <a:graphic>
          <a:graphicData uri="http://schemas.openxmlformats.org/drawingml/2006/table">
            <a:tbl>
              <a:tblPr/>
              <a:tblGrid>
                <a:gridCol w="1220760"/>
                <a:gridCol w="1887480"/>
                <a:gridCol w="1971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σι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43000" y="1230480"/>
          <a:ext cx="6667560" cy="2987640"/>
        </p:xfrm>
        <a:graphic>
          <a:graphicData uri="http://schemas.openxmlformats.org/drawingml/2006/table">
            <a:tbl>
              <a:tblPr/>
              <a:tblGrid>
                <a:gridCol w="871560"/>
                <a:gridCol w="1506600"/>
                <a:gridCol w="1361880"/>
                <a:gridCol w="1509840"/>
                <a:gridCol w="1417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ν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164"/>
          <p:cNvSpPr/>
          <p:nvPr/>
        </p:nvSpPr>
        <p:spPr>
          <a:xfrm>
            <a:off x="173160" y="4411800"/>
            <a:ext cx="8786520" cy="1984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f a noun and an adjective qualifying it are from different families, their endings will differ even when they are agreeing in gender, case and numb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ἀγαθος ἐχει πλειον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ς φιλ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υ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 The good man has more frien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B06BF0B2-86C0-44B2-8DFC-5E86DB337769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ADJECTIVES WITH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8:45:46Z</dcterms:created>
  <dc:creator>Sarah</dc:creator>
  <dc:description/>
  <dc:language>en-US</dc:language>
  <cp:lastModifiedBy>Sarah</cp:lastModifiedBy>
  <dcterms:modified xsi:type="dcterms:W3CDTF">2008-09-19T11:28:02Z</dcterms:modified>
  <cp:revision>33</cp:revision>
  <dc:subject/>
  <dc:title>Slide 1</dc:title>
</cp:coreProperties>
</file>