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53F0-DAD9-4B5F-91A9-370D5DD3E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D931-5642-4113-A02E-AA5302A46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6D6A-1CBA-42C6-912D-BACF50D7A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A068-405D-40A2-B7B3-389298449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FAF1-1789-4CC4-AF19-A800A8E93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A4B5-D900-4C3B-8091-309E27438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00DA-3B14-4022-A3BA-CE98D5156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CF73-9599-4985-8CAB-85E9CDAF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0410-3DA9-4EE4-A070-9A9864932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1630-158B-4E31-A593-F266AFD0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B89E-B57F-42EA-BD4E-B2CC4760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76E8-EDCF-4DC9-9154-A9502DB3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0FDE8-AA60-48B8-AA7E-30E3040FEE6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Grammar </a:t>
            </a:r>
            <a:fld id="{71BB187F-7461-449C-8AD7-FA850086238B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: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76320" y="1138320"/>
            <a:ext cx="8991360" cy="50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uke 18.22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ἀκουσα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δε ὁ Ἰησους εἰπεν αὐτῳ∙ Ἐπι ἑν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σοι λειπει∙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having hea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Jesus said to him, 'One thing still remains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r you …'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when Jesus hea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this) he said to him, 'You still lack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ne thing …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uke 7.9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: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κουσας δε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ταυτα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ὁ Ἰησους ἐθαυμασεν αὐτ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n he heard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hese thing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Jesus was amazed at hi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Grammar </a:t>
            </a:r>
            <a:fld id="{1B227AC5-F9D2-4456-9BDC-FA2BF46128CC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-68400" y="271440"/>
            <a:ext cx="9283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DECLEN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000680" y="1143000"/>
          <a:ext cx="4786200" cy="2752560"/>
        </p:xfrm>
        <a:graphic>
          <a:graphicData uri="http://schemas.openxmlformats.org/drawingml/2006/table">
            <a:tbl>
              <a:tblPr/>
              <a:tblGrid>
                <a:gridCol w="714240"/>
                <a:gridCol w="714240"/>
                <a:gridCol w="1143000"/>
                <a:gridCol w="1143000"/>
                <a:gridCol w="10717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12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ντ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ντο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ντ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υσ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υσα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υση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υσ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ντο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ντ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12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ντε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ντα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ντ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υσι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υσα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υσα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υσ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υσαι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ντ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ντ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ντ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υσι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TextBox 11"/>
          <p:cNvSpPr/>
          <p:nvPr/>
        </p:nvSpPr>
        <p:spPr>
          <a:xfrm>
            <a:off x="330120" y="1901880"/>
            <a:ext cx="28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Gentium"/>
              </a:rPr>
              <a:t>λυ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2"/>
          <p:cNvSpPr/>
          <p:nvPr/>
        </p:nvSpPr>
        <p:spPr>
          <a:xfrm>
            <a:off x="1928880" y="1500120"/>
            <a:ext cx="1285920" cy="70344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s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λυω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3"/>
          <p:cNvSpPr/>
          <p:nvPr/>
        </p:nvSpPr>
        <p:spPr>
          <a:xfrm>
            <a:off x="928800" y="2786040"/>
            <a:ext cx="1285920" cy="70344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oris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λυσα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Straight Arrow Connector 15"/>
          <p:cNvCxnSpPr/>
          <p:nvPr/>
        </p:nvCxnSpPr>
        <p:spPr>
          <a:xfrm flipV="1">
            <a:off x="999720" y="1785240"/>
            <a:ext cx="857880" cy="214920"/>
          </a:xfrm>
          <a:prstGeom prst="straightConnector1">
            <a:avLst/>
          </a:prstGeom>
          <a:ln w="25560">
            <a:solidFill>
              <a:srgbClr val="e0b300"/>
            </a:solidFill>
            <a:miter/>
            <a:tailEnd len="med" type="arrow" w="med"/>
          </a:ln>
        </p:spPr>
      </p:cxnSp>
      <p:cxnSp>
        <p:nvCxnSpPr>
          <p:cNvPr id="122" name="Straight Arrow Connector 17"/>
          <p:cNvCxnSpPr/>
          <p:nvPr/>
        </p:nvCxnSpPr>
        <p:spPr>
          <a:xfrm>
            <a:off x="999720" y="2356920"/>
            <a:ext cx="429480" cy="358200"/>
          </a:xfrm>
          <a:prstGeom prst="straightConnector1">
            <a:avLst/>
          </a:prstGeom>
          <a:ln w="25560">
            <a:solidFill>
              <a:srgbClr val="e0b300"/>
            </a:solidFill>
            <a:miter/>
            <a:tailEnd len="med" type="arrow" w="med"/>
          </a:ln>
        </p:spPr>
      </p:cxnSp>
      <p:cxnSp>
        <p:nvCxnSpPr>
          <p:cNvPr id="123" name="Straight Arrow Connector 19"/>
          <p:cNvCxnSpPr/>
          <p:nvPr/>
        </p:nvCxnSpPr>
        <p:spPr>
          <a:xfrm>
            <a:off x="3286080" y="1714680"/>
            <a:ext cx="643320" cy="18000"/>
          </a:xfrm>
          <a:prstGeom prst="straightConnector1">
            <a:avLst/>
          </a:prstGeom>
          <a:ln w="25560">
            <a:solidFill>
              <a:srgbClr val="e0b300"/>
            </a:solidFill>
            <a:miter/>
            <a:tailEnd len="med" type="arrow" w="med"/>
          </a:ln>
        </p:spPr>
      </p:cxnSp>
      <p:cxnSp>
        <p:nvCxnSpPr>
          <p:cNvPr id="124" name="Straight Arrow Connector 26"/>
          <p:cNvCxnSpPr/>
          <p:nvPr/>
        </p:nvCxnSpPr>
        <p:spPr>
          <a:xfrm>
            <a:off x="2000160" y="3571920"/>
            <a:ext cx="357840" cy="286560"/>
          </a:xfrm>
          <a:prstGeom prst="straightConnector1">
            <a:avLst/>
          </a:prstGeom>
          <a:ln w="25560">
            <a:solidFill>
              <a:srgbClr val="e0b300"/>
            </a:solidFill>
            <a:miter/>
            <a:tailEnd len="med" type="arrow" w="med"/>
          </a:ln>
        </p:spPr>
      </p:cxnSp>
      <p:graphicFrame>
        <p:nvGraphicFramePr>
          <p:cNvPr id="125" name=""/>
          <p:cNvGraphicFramePr/>
          <p:nvPr/>
        </p:nvGraphicFramePr>
        <p:xfrm>
          <a:off x="285840" y="3929040"/>
          <a:ext cx="5214960" cy="2752920"/>
        </p:xfrm>
        <a:graphic>
          <a:graphicData uri="http://schemas.openxmlformats.org/drawingml/2006/table">
            <a:tbl>
              <a:tblPr/>
              <a:tblGrid>
                <a:gridCol w="777960"/>
                <a:gridCol w="779400"/>
                <a:gridCol w="1322280"/>
                <a:gridCol w="1168560"/>
                <a:gridCol w="11667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12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ντ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ντο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ντ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σ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σα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ση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σ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ντο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ντ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12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ντε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ντα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ντ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σι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σα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σα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σ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σαι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ντ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ντ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ντ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σι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Grammar </a:t>
            </a:r>
            <a:fld id="{2EB0CF82-E936-405C-A691-35451FBF5649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DECLEN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649680" y="1143000"/>
          <a:ext cx="5351400" cy="2752560"/>
        </p:xfrm>
        <a:graphic>
          <a:graphicData uri="http://schemas.openxmlformats.org/drawingml/2006/table">
            <a:tbl>
              <a:tblPr/>
              <a:tblGrid>
                <a:gridCol w="765000"/>
                <a:gridCol w="763920"/>
                <a:gridCol w="1376280"/>
                <a:gridCol w="1231920"/>
                <a:gridCol w="1214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12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ο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ο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ο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η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η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ο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ο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ο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12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ο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ου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οι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α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α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αι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οι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TextBox 4"/>
          <p:cNvSpPr/>
          <p:nvPr/>
        </p:nvSpPr>
        <p:spPr>
          <a:xfrm>
            <a:off x="71280" y="1860480"/>
            <a:ext cx="293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Gentium"/>
              </a:rPr>
              <a:t>ῥυομα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5"/>
          <p:cNvSpPr/>
          <p:nvPr/>
        </p:nvSpPr>
        <p:spPr>
          <a:xfrm>
            <a:off x="1571760" y="1500120"/>
            <a:ext cx="1319040" cy="70344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s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ῥυομενο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6"/>
          <p:cNvSpPr/>
          <p:nvPr/>
        </p:nvSpPr>
        <p:spPr>
          <a:xfrm>
            <a:off x="571680" y="2786040"/>
            <a:ext cx="1612800" cy="70344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oris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ῥυσαμενο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Straight Arrow Connector 7"/>
          <p:cNvCxnSpPr/>
          <p:nvPr/>
        </p:nvCxnSpPr>
        <p:spPr>
          <a:xfrm flipV="1">
            <a:off x="642600" y="1785240"/>
            <a:ext cx="857880" cy="214920"/>
          </a:xfrm>
          <a:prstGeom prst="straightConnector1">
            <a:avLst/>
          </a:prstGeom>
          <a:ln w="25560">
            <a:solidFill>
              <a:srgbClr val="e0b300"/>
            </a:solidFill>
            <a:miter/>
            <a:tailEnd len="med" type="arrow" w="med"/>
          </a:ln>
        </p:spPr>
      </p:cxnSp>
      <p:cxnSp>
        <p:nvCxnSpPr>
          <p:cNvPr id="133" name="Straight Arrow Connector 8"/>
          <p:cNvCxnSpPr/>
          <p:nvPr/>
        </p:nvCxnSpPr>
        <p:spPr>
          <a:xfrm>
            <a:off x="642600" y="2356920"/>
            <a:ext cx="429480" cy="358200"/>
          </a:xfrm>
          <a:prstGeom prst="straightConnector1">
            <a:avLst/>
          </a:prstGeom>
          <a:ln w="25560">
            <a:solidFill>
              <a:srgbClr val="e0b300"/>
            </a:solidFill>
            <a:miter/>
            <a:tailEnd len="med" type="arrow" w="med"/>
          </a:ln>
        </p:spPr>
      </p:cxnSp>
      <p:cxnSp>
        <p:nvCxnSpPr>
          <p:cNvPr id="134" name="Straight Arrow Connector 9"/>
          <p:cNvCxnSpPr/>
          <p:nvPr/>
        </p:nvCxnSpPr>
        <p:spPr>
          <a:xfrm>
            <a:off x="2928960" y="1714680"/>
            <a:ext cx="660600" cy="25920"/>
          </a:xfrm>
          <a:prstGeom prst="straightConnector1">
            <a:avLst/>
          </a:prstGeom>
          <a:ln w="25560">
            <a:solidFill>
              <a:srgbClr val="e0b300"/>
            </a:solidFill>
            <a:miter/>
            <a:tailEnd len="med" type="arrow" w="med"/>
          </a:ln>
        </p:spPr>
      </p:cxnSp>
      <p:cxnSp>
        <p:nvCxnSpPr>
          <p:cNvPr id="135" name="Straight Arrow Connector 10"/>
          <p:cNvCxnSpPr/>
          <p:nvPr/>
        </p:nvCxnSpPr>
        <p:spPr>
          <a:xfrm>
            <a:off x="1643040" y="3571920"/>
            <a:ext cx="357840" cy="286560"/>
          </a:xfrm>
          <a:prstGeom prst="straightConnector1">
            <a:avLst/>
          </a:prstGeom>
          <a:ln w="25560">
            <a:solidFill>
              <a:srgbClr val="e0b300"/>
            </a:solidFill>
            <a:miter/>
            <a:tailEnd len="med" type="arrow" w="med"/>
          </a:ln>
        </p:spPr>
      </p:cxnSp>
      <p:graphicFrame>
        <p:nvGraphicFramePr>
          <p:cNvPr id="136" name=""/>
          <p:cNvGraphicFramePr/>
          <p:nvPr/>
        </p:nvGraphicFramePr>
        <p:xfrm>
          <a:off x="285840" y="3962520"/>
          <a:ext cx="5786280" cy="275256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1468440"/>
                <a:gridCol w="1312560"/>
                <a:gridCol w="12780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12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ο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ο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ο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η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η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ο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ο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ο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12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ο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ου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οι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α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α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αι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οι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285840" y="1928880"/>
          <a:ext cx="8858160" cy="974520"/>
        </p:xfrm>
        <a:graphic>
          <a:graphicData uri="http://schemas.openxmlformats.org/drawingml/2006/table">
            <a:tbl>
              <a:tblPr/>
              <a:tblGrid>
                <a:gridCol w="3643200"/>
                <a:gridCol w="2786040"/>
                <a:gridCol w="2428920"/>
              </a:tblGrid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oden Translations:</a:t>
                      </a:r>
                      <a:r>
                        <a:rPr b="0" lang="en-GB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Participle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tying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 Participle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ing untied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1014480" y="3786120"/>
          <a:ext cx="7138800" cy="1158840"/>
        </p:xfrm>
        <a:graphic>
          <a:graphicData uri="http://schemas.openxmlformats.org/drawingml/2006/table">
            <a:tbl>
              <a:tblPr/>
              <a:tblGrid>
                <a:gridCol w="3886200"/>
                <a:gridCol w="32526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Participl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multaneous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 Participl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uenc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Grammar </a:t>
            </a:r>
            <a:fld id="{D589E38E-8D38-45E0-9C2F-48F3CB620F43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3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MEAN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Grammar </a:t>
            </a:r>
            <a:fld id="{CC6D81E5-C165-4275-9E43-915B156F0240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3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MEAN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642960" y="1428840"/>
            <a:ext cx="7858080" cy="159588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Hi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uccessive Aorist participles are often best translated by a number of main verbs in English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428760" y="3500280"/>
            <a:ext cx="8358120" cy="24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Mark 5.27-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κουσασα περι του Ἰησ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λθουσα ἐν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τῳ ὀχλῳ ὀπισθεν ἡψατα του ἱματιου αὐτου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When she heard about Jesus, she came up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ehind in the crowd and touched his cloak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Grammar </a:t>
            </a:r>
            <a:fld id="{ECE18A52-DBFD-4E44-813E-D8F994A72D68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 OTHER USES OF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2133720" y="1163520"/>
            <a:ext cx="48765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4.4.1 As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-642960" y="1609560"/>
            <a:ext cx="978696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hn 15.23: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ὁ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ἐμε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μισω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και τον πατερα μου μισε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he one who hates m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or whoever hates me), also hates my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hn 12.45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και ὁ θεωρων ἐμε θεωρει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τον πεμψαντα μ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one who sees me is seeing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he one who sent m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ts 10.44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ἐπεπεσεν το πνευμα το ἁγιον ἐπι παντας            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τους ἀκουοντας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τον λογ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holy spirit fell on all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hose who were listening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o the wor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Grammar </a:t>
            </a:r>
            <a:fld id="{B13D640E-7FED-46FE-A9EA-AE134E111115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 OTHER USES OF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500040" y="1109520"/>
            <a:ext cx="835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14.4.2 Casual, concessive and instrumental uses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44280" y="1785960"/>
            <a:ext cx="9144000" cy="46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ausal: Matt. 1.19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Ἰωσηφ δε ὁ ἀνηρ αὐτης, δικαιος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ὠ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..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─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ut Joseph her husband,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because he wa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righteous ..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ncessive: Rom. 1.21: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γνοντες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τον θεον οὐχ ὡς θεον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δοξασα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─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Although they knew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God, they did not glorify him as God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strumental: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 Tim. 4.16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τουτο γαρ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ποιω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και σεαυτον σωσεις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και τους ἀκουοντας σ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or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by doing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this (lit: doing this) you will save both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yourself and your hear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Grammar </a:t>
            </a:r>
            <a:fld id="{A4E1BE48-1EB3-42C0-AE96-80F63FA2EC8F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 OTHER USES OF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723960" y="1295280"/>
            <a:ext cx="7696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14.4.3 With Imperatives and Infinitives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42960" y="2357280"/>
            <a:ext cx="7696080" cy="27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rk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.7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οὐκ εἰμι ἱκανος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κυφας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λυσαι τον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ἱμαντα των ὑποδηματων αὐτ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 am not worthy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o stoop down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and untie the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rap of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is sandals (lit: having stooped down, to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untie)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Grammar </a:t>
            </a:r>
            <a:fld id="{F3E1B287-5840-42D2-AB06-FF97377A2C1B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: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762120" y="2286000"/>
            <a:ext cx="7619760" cy="94716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rticiples must agree with the noun they qualify in gender, case and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762120" y="1600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ke adjec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762120" y="379404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ke ver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762120" y="4521240"/>
            <a:ext cx="7619760" cy="94716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rticiples have a tense (Present or Aorist), and may have an obj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Grammar </a:t>
            </a:r>
            <a:fld id="{C9DD2679-EF14-4683-B218-510837A24E18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: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214200" y="1428840"/>
            <a:ext cx="8643960" cy="46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xample 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v. 7.2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και εἰδον ἀλλον ἀγγελον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ἀναβαινοντα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ἀπο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νατολης ἡλιου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ἐχοντα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σφραγιδα θεου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I saw another angel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ascending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from the rising of the sun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having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 seal from God 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εἰδο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s the main verb, containing in it the subject – 'I saw'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γγελο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s the object – an ange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λλο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s an adjective qualifying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γγελον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entence is enriched by two participles describing the objec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ἀναβαινοντα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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ἐχοντ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Grammar </a:t>
            </a:r>
            <a:fld id="{96AD4303-DA1F-4914-9FCE-50FB6BB25E0F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: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266760" y="1322280"/>
            <a:ext cx="8610480" cy="41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 4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 1.16: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παραγω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παρα την θαλασσαν ... εἰδεν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Σιμωνα και Ἀνδρεαν ...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ἀμφιβαλλοντα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ν τῃ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θαλασσῃ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While he was passing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longside the sea, he saw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imon and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drew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casting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nets) in the se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εἰδεν Σιμωνα και Ἀνδρεαν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he saw Simon and Andr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παραγω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s nominative singul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ἀμφιβαλλοντα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s accusative plur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Grammar </a:t>
            </a:r>
            <a:fld id="{EFB198F2-94E7-4FD8-B345-64CB2D190398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FORMA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1600200" y="12193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ur basic particip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46160" y="1785960"/>
          <a:ext cx="8877240" cy="1874880"/>
        </p:xfrm>
        <a:graphic>
          <a:graphicData uri="http://schemas.openxmlformats.org/drawingml/2006/table">
            <a:tbl>
              <a:tblPr/>
              <a:tblGrid>
                <a:gridCol w="1425600"/>
                <a:gridCol w="1236600"/>
                <a:gridCol w="1820880"/>
                <a:gridCol w="385560"/>
                <a:gridCol w="1843200"/>
                <a:gridCol w="21654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d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-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untying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ῥυ-ομεν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rescuing)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-σα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having untie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ῥυ-σαμεν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having rescued)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Text Box 57"/>
          <p:cNvSpPr/>
          <p:nvPr/>
        </p:nvSpPr>
        <p:spPr>
          <a:xfrm>
            <a:off x="500040" y="3732120"/>
            <a:ext cx="7848720" cy="25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 the Aorist there is no augment (there are never augments in the other mood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 the Aorist there is a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σ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an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α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oun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2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orist Participle uses the Present Participle endings (e.g.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βαλων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), as does the (Present) Participle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ἰμ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ὠν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– 'being'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3"/>
          <p:cNvSpPr/>
          <p:nvPr/>
        </p:nvSpPr>
        <p:spPr>
          <a:xfrm>
            <a:off x="669960" y="1319040"/>
            <a:ext cx="7791480" cy="132300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rticiples ending in -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ος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decline like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ἀγαθο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rticiples ending otherwise decline like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πας</a:t>
            </a:r>
            <a:r>
              <a:rPr b="0" lang="en-GB" sz="32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42920" y="2986200"/>
            <a:ext cx="8854920" cy="31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4.2.1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ῥυομενο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ῥυσαμενος</a:t>
            </a:r>
            <a:r>
              <a:rPr b="0" lang="en-GB" sz="32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se decline exactly as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γαθο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. Thu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ῥυομενου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Accusative masculine plural of the Present Participle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ῥυομα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ἀρξαμεναι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Dative feminine plural of the Aorist Participle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ἀρχομα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ἐρχομενα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Nom./Acc. neuter plural of the Present Participle of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ἐρχομα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Grammar </a:t>
            </a:r>
            <a:fld id="{C42EE64E-DA4B-4049-993A-ACCF21758590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DECLEN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Grammar </a:t>
            </a:r>
            <a:fld id="{7E1AEC5E-9611-46E5-AD0E-7BA5D719B81C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DECLEN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527040" y="1557360"/>
            <a:ext cx="807228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14.2.2 </a:t>
            </a:r>
            <a:r>
              <a:rPr b="1" lang="el-GR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ων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and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l-GR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σας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se follow the 3-1-3 pattern lik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πα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refore, to decline them, we need their three nominative singulars, and the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declension ste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ων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nom. sing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ω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ουσα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decl. stem -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οντ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σας</a:t>
            </a:r>
            <a:r>
              <a:rPr b="0" lang="en-GB" sz="2200" spc="-1" strike="noStrike">
                <a:solidFill>
                  <a:srgbClr val="ffffff"/>
                </a:solidFill>
                <a:latin typeface="Greek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nom. sing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σα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σασα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σα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decl. stem -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σαντ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-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Grammar </a:t>
            </a:r>
            <a:fld id="{E08896DA-8BF0-4D1E-882F-573C0DFEE6CE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DECLEN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76040" y="1351080"/>
          <a:ext cx="8786880" cy="4694040"/>
        </p:xfrm>
        <a:graphic>
          <a:graphicData uri="http://schemas.openxmlformats.org/drawingml/2006/table">
            <a:tbl>
              <a:tblPr/>
              <a:tblGrid>
                <a:gridCol w="798840"/>
                <a:gridCol w="1303200"/>
                <a:gridCol w="1328760"/>
                <a:gridCol w="1201680"/>
                <a:gridCol w="1393920"/>
                <a:gridCol w="1366920"/>
                <a:gridCol w="1393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(Active) Participle -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ων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 (Active) Participle -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ς</a:t>
                      </a: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u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min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u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min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ω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υσ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σ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ντ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υσα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ντ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σα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ντο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υση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ντο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ντο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ση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ντο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ντ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υσ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ντ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ντ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σ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ντ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ντε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υσα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ντ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ντε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σα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ντ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ντα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υσα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ντ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ντα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σα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ντ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ντω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υσω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ντω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ντω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σω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ντω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υσι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υσαι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υσι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σι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σαι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σι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Grammar </a:t>
            </a:r>
            <a:fld id="{524E245E-907D-4F90-B394-BA15E62DDAB5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DECLEN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214200" y="1214280"/>
            <a:ext cx="9001080" cy="19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σαν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- Nom./Acc. neuter singular of the Aorist Participle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γραφοντι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- Dative masc./neuter singular of the Present Participle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γραφ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λθοντε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- Nom. masculine plural of the (2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n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) Aorist Participle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ἐρχομα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οὐσιν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- Dative masc./neut. plural of the Present Participle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εἰμ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271440" y="3143160"/>
            <a:ext cx="8572680" cy="310896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There are two steps in forming a participle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Participle 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basic forms (essentially a verbal matter – about 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tense)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particular instance of that form (essentially an 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adjectival matter – about gender, case and 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number)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14:45:20Z</dcterms:created>
  <dc:creator>Sarah</dc:creator>
  <dc:description/>
  <dc:language>en-US</dc:language>
  <cp:lastModifiedBy>Sarah</cp:lastModifiedBy>
  <dcterms:modified xsi:type="dcterms:W3CDTF">2009-03-11T22:25:31Z</dcterms:modified>
  <cp:revision>70</cp:revision>
  <dc:subject/>
  <dc:title>Slide 1</dc:title>
</cp:coreProperties>
</file>