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52A-CF5E-4CF2-9AFF-221A7A87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AF5-41E1-4C7D-A67B-1410183E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C594-6D25-4248-995B-76A6D2D0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189-E6BB-43B0-BA10-E453B34E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C987-3BB6-4C49-B1F4-35674EF6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6F02-4B4C-4DEC-98B1-0AFC4483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FD7C-F0A0-408C-BF95-D3E3429C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5C1A-35E4-468D-9739-7A92E2DD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3FC4-77A2-4FD9-B39F-F7CA6E4A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DD7D-E17B-457F-B16B-FB1B6D98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1913-5220-40AD-9DA7-69F36A47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97C-FB97-41DE-81EC-03DA4E0C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B80F-4F8E-4B0F-9AC4-A880BCDD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86DF-78F1-4032-ABF0-349745FE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D36B-33C9-4EBC-964B-CA2015D0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5B1D-B9B8-431B-B0C1-F1533F37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657A-1AD8-4AFB-AF58-05A5A291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81AE-0950-483B-93D4-AE9946D0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780-31EF-4F8E-B6E9-098C07DC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08A-38D4-4130-8A95-1A9E51E6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71E-D77B-4D30-8094-F5166C28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DA82-0676-41F9-B5E4-62B9EE8D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C63-91D2-4A15-9CC9-CE361F7B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248F-F45C-45E1-B2C7-F7989FC0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3979-F5BF-411D-8FBD-C21EBFBBA7C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EEFD-A6DD-485B-98CF-A987789AB20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01680" y="1214280"/>
          <a:ext cx="8540640" cy="3840480"/>
        </p:xfrm>
        <a:graphic>
          <a:graphicData uri="http://schemas.openxmlformats.org/drawingml/2006/table">
            <a:tbl>
              <a:tblPr/>
              <a:tblGrid>
                <a:gridCol w="1841400"/>
                <a:gridCol w="3929040"/>
                <a:gridCol w="2770200"/>
              </a:tblGrid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d to Exp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 in 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ments and 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liste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idea of the verb in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ad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ing, he underst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certain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may 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10"/>
          <p:cNvSpPr/>
          <p:nvPr/>
        </p:nvSpPr>
        <p:spPr>
          <a:xfrm>
            <a:off x="1928880" y="5143680"/>
            <a:ext cx="4857840" cy="11073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gatio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Indicativ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her mood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DEA OF MOO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6185BE2B-8D16-4AE6-9760-067D0F56B1D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609480" y="1563840"/>
            <a:ext cx="7925040" cy="41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hilemon 4-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ὐχαριστω τῳ θεῳ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..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ω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σου την ἀγαπη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give thanks to God …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ear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your lov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cts 18.8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λοι των Κορινθιω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οντε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πιστευ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y of the Corinthian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ear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were belie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ο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e from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I hear) but are in th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ticip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oo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meaning 'hearing' (one is singular, one is plural). A participle works alongside a main verb adding a further layer of meaning: not just 'I give thanks' but 'hearing of your love', not just 'they were believing' but 'hearing'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57103303-DD10-4B55-B19D-949300EB70D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B5C723E1-B96E-4ED7-B744-06D34C1242B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47640" y="1828800"/>
            <a:ext cx="784872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must agree with the noun they qualify in gender, case, an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00280" y="3962520"/>
            <a:ext cx="754380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have tense (Present or Aorist), and may have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-41400" y="1209600"/>
            <a:ext cx="8804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4.1 The form of the parti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81280" y="1838160"/>
          <a:ext cx="5305320" cy="1951200"/>
        </p:xfrm>
        <a:graphic>
          <a:graphicData uri="http://schemas.openxmlformats.org/drawingml/2006/table">
            <a:tbl>
              <a:tblPr/>
              <a:tblGrid>
                <a:gridCol w="1203120"/>
                <a:gridCol w="2049480"/>
                <a:gridCol w="20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asculine Nominativ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75"/>
          <p:cNvSpPr/>
          <p:nvPr/>
        </p:nvSpPr>
        <p:spPr>
          <a:xfrm>
            <a:off x="214200" y="3786120"/>
            <a:ext cx="892980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in the Indicative and Imperative, the Aorist has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does not have an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lural participles both have endings in –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ντ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orist participles have an ‘a’ sound, the Present an ‘o’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s follow the normal ru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EE68E295-7828-43ED-A0FF-6267A2905F0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1143000" y="1371600"/>
            <a:ext cx="6858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4.2 The meaning of the parti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0440" y="2514600"/>
          <a:ext cx="8763120" cy="1401840"/>
        </p:xfrm>
        <a:graphic>
          <a:graphicData uri="http://schemas.openxmlformats.org/drawingml/2006/table">
            <a:tbl>
              <a:tblPr/>
              <a:tblGrid>
                <a:gridCol w="2259000"/>
                <a:gridCol w="6504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ultaneou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rocess – the action in the Participle is a process going on at the same time as the main verb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the action in the Participle occurred before the main verb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35"/>
          <p:cNvSpPr/>
          <p:nvPr/>
        </p:nvSpPr>
        <p:spPr>
          <a:xfrm>
            <a:off x="609480" y="4495680"/>
            <a:ext cx="7925040" cy="11692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 Participle = Simulta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orist Participle =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95841337-DBA7-4435-B019-264817F4A9B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357120" y="1525680"/>
            <a:ext cx="816768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4.18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ριπατ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ρα την θαλασσαν τη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Γαλιλαιας εἰδε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he saw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υο ἀδελφ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le he was walk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longside the Sea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alilee, he saw two broth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6:16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σ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but)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ρῳδης ἐλεγ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Herod hea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is he said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9D8C9D10-8B96-40C7-8F9D-7D7206BB108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1257480" y="1643040"/>
            <a:ext cx="6629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4.3 Participles with objec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42960" y="2928960"/>
            <a:ext cx="857232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Gentium"/>
                <a:ea typeface="Times New Roman"/>
              </a:rPr>
              <a:t>βλεψαν τον ὀχλον </a:t>
            </a:r>
            <a:r>
              <a:rPr b="0" lang="el-GR" sz="30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Ἰησους ἐκηρυξεν τον λογον</a:t>
            </a:r>
            <a:r>
              <a:rPr b="0" lang="en-GB" sz="30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When he saw the crowd, Jesus proclaimed the word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87A1979C-19DF-4CB5-8BED-3437FC564F0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traight Connector 22"/>
          <p:cNvSpPr/>
          <p:nvPr/>
        </p:nvSpPr>
        <p:spPr>
          <a:xfrm flipH="1">
            <a:off x="4852800" y="5000760"/>
            <a:ext cx="6120" cy="38412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0FE140CB-3F5E-4452-BC39-C7260D412A4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30280" y="1357200"/>
            <a:ext cx="8072280" cy="4786560"/>
          </a:xfrm>
          <a:prstGeom prst="rect">
            <a:avLst/>
          </a:prstGeom>
          <a:noFill/>
          <a:ln w="25560">
            <a:solidFill>
              <a:srgbClr val="fed1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857160" y="1357200"/>
            <a:ext cx="7402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nk of the participle starting off a new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ple Senten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lex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ame 5"/>
          <p:cNvSpPr/>
          <p:nvPr/>
        </p:nvSpPr>
        <p:spPr>
          <a:xfrm>
            <a:off x="1071720" y="342900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170000" y="34704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ame 7"/>
          <p:cNvSpPr/>
          <p:nvPr/>
        </p:nvSpPr>
        <p:spPr>
          <a:xfrm>
            <a:off x="1071720" y="442908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ame 8"/>
          <p:cNvSpPr/>
          <p:nvPr/>
        </p:nvSpPr>
        <p:spPr>
          <a:xfrm>
            <a:off x="1071720" y="5357880"/>
            <a:ext cx="2000160" cy="57132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1157400" y="44863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1187280" y="54021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"/>
          <p:cNvSpPr/>
          <p:nvPr/>
        </p:nvSpPr>
        <p:spPr>
          <a:xfrm flipH="1">
            <a:off x="2069640" y="4002120"/>
            <a:ext cx="1800" cy="42876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4"/>
          <p:cNvSpPr/>
          <p:nvPr/>
        </p:nvSpPr>
        <p:spPr>
          <a:xfrm flipH="1">
            <a:off x="2069640" y="5002200"/>
            <a:ext cx="1800" cy="357120"/>
          </a:xfrm>
          <a:prstGeom prst="line">
            <a:avLst/>
          </a:prstGeom>
          <a:ln w="25560">
            <a:solidFill>
              <a:srgbClr val="fed1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943440" y="3456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ame 16"/>
          <p:cNvSpPr/>
          <p:nvPr/>
        </p:nvSpPr>
        <p:spPr>
          <a:xfrm>
            <a:off x="3857760" y="342900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ame 17"/>
          <p:cNvSpPr/>
          <p:nvPr/>
        </p:nvSpPr>
        <p:spPr>
          <a:xfrm>
            <a:off x="3857760" y="442908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ame 18"/>
          <p:cNvSpPr/>
          <p:nvPr/>
        </p:nvSpPr>
        <p:spPr>
          <a:xfrm>
            <a:off x="3857760" y="5357880"/>
            <a:ext cx="2000160" cy="57132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9"/>
          <p:cNvSpPr/>
          <p:nvPr/>
        </p:nvSpPr>
        <p:spPr>
          <a:xfrm>
            <a:off x="3943440" y="44863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3959280" y="53848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21"/>
          <p:cNvSpPr/>
          <p:nvPr/>
        </p:nvSpPr>
        <p:spPr>
          <a:xfrm flipH="1">
            <a:off x="4857840" y="4000680"/>
            <a:ext cx="1440" cy="42840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6497640" y="3911760"/>
            <a:ext cx="1928880" cy="571320"/>
          </a:xfrm>
          <a:prstGeom prst="rect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7"/>
          <p:cNvSpPr/>
          <p:nvPr/>
        </p:nvSpPr>
        <p:spPr>
          <a:xfrm>
            <a:off x="6572160" y="3967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6500880" y="5000760"/>
            <a:ext cx="1928880" cy="571320"/>
          </a:xfrm>
          <a:prstGeom prst="rect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9"/>
          <p:cNvSpPr/>
          <p:nvPr/>
        </p:nvSpPr>
        <p:spPr>
          <a:xfrm>
            <a:off x="6572160" y="50385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30"/>
          <p:cNvSpPr/>
          <p:nvPr/>
        </p:nvSpPr>
        <p:spPr>
          <a:xfrm>
            <a:off x="5857920" y="3714840"/>
            <a:ext cx="639720" cy="48240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4"/>
          <p:cNvSpPr/>
          <p:nvPr/>
        </p:nvSpPr>
        <p:spPr>
          <a:xfrm>
            <a:off x="7462080" y="4483080"/>
            <a:ext cx="3240" cy="51768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EF5AC2F3-5DB6-4CCC-B935-133ADC664C2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PARTICIPLES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7000" y="1600200"/>
            <a:ext cx="91440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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14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σπειρ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ν λογον σπειρ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πειρων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sowing (Present masculine nom. sing.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πειρ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I s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σπειρ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the sowing one = the s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The sower is sowing the w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1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ese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σ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λο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σαντε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having heard (Aorist masculine nom. sing.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ντε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the having heard ones = those who he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These are the people who heard the w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142920" y="1143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500040" y="2093760"/>
            <a:ext cx="8072640" cy="24642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on't be afraid to introduce words like 'who' into translation of participles which are acting as nouns. The aim is to convey the meaning in good Engl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E0727CED-5623-4AFA-AD3C-43045F64B87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PARTICIPLES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A5BF1D1C-6A35-4DBC-A648-D4ECF5BC428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85840" y="1785960"/>
            <a:ext cx="8358120" cy="3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Acts 16.31: </a:t>
            </a:r>
            <a:r>
              <a:rPr b="0" lang="el-GR" sz="3200" spc="-1" strike="noStrike" u="sng">
                <a:solidFill>
                  <a:srgbClr val="ffffff"/>
                </a:solidFill>
                <a:uFillTx/>
                <a:latin typeface="Gentium"/>
              </a:rPr>
              <a:t>πιστευσον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 ἐπι τον κυριον Ἰησου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900" spc="-1" strike="noStrike" u="sng">
                <a:solidFill>
                  <a:srgbClr val="ffffff"/>
                </a:solidFill>
                <a:uFillTx/>
                <a:latin typeface="Arial"/>
              </a:rPr>
              <a:t>Believe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on the Lord Jesus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πιστευσον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is communicating a command (or exhortation).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πιστευω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is now in a different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moo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GB" sz="2900" spc="-1" strike="noStrike">
                <a:solidFill>
                  <a:srgbClr val="ffffff"/>
                </a:solidFill>
                <a:latin typeface="Arial"/>
              </a:rPr>
              <a:t>Imperative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990720" y="1185840"/>
            <a:ext cx="7162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2.1 The formation of 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330200" y="1785960"/>
          <a:ext cx="6527880" cy="1523880"/>
        </p:xfrm>
        <a:graphic>
          <a:graphicData uri="http://schemas.openxmlformats.org/drawingml/2006/table">
            <a:tbl>
              <a:tblPr/>
              <a:tblGrid>
                <a:gridCol w="3149640"/>
                <a:gridCol w="1743120"/>
                <a:gridCol w="163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59"/>
          <p:cNvSpPr/>
          <p:nvPr/>
        </p:nvSpPr>
        <p:spPr>
          <a:xfrm>
            <a:off x="723960" y="3440160"/>
            <a:ext cx="769608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ar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erson imper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imperatives do not have the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h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uffix, as in the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Present Imperative identical to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Present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s follow normal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78F12A4D-9DF7-4B68-BB6D-3BB7FEEBDF1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28"/>
          <p:cNvSpPr/>
          <p:nvPr/>
        </p:nvSpPr>
        <p:spPr>
          <a:xfrm>
            <a:off x="455760" y="1643040"/>
            <a:ext cx="8215200" cy="4126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's easy to mix up the Future Indicative and the Aorist Imperative (both have a 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 and no prefix). The endings are the k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       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6:2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σον ἐπι τον κυριον Ἰησου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ieve in the Lord Jesus! (Aorist Impera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       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27.4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σομεν ἐπ’ αὐ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ill believe in him. (Future Indica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DBA14D87-6440-4E3C-8956-3FD06F13C16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B039EAF0-D62A-41A2-A876-74FE4AC9C38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390680" y="1752480"/>
            <a:ext cx="6362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2.2 The difference between the Present and Aorist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0" y="3321000"/>
            <a:ext cx="4572000" cy="11692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 –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orist - Un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A222B4D3-278B-40C6-8BDA-4E3C8640C8A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71680" y="1357200"/>
            <a:ext cx="8001000" cy="17150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orist Imperative is more common than the Present Imperative – therefore take note when Present Imperative is us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8280" y="3429000"/>
            <a:ext cx="89298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σσετε το εὐαγγελι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- Preach (pl.) the good-news!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ntinually: Go on preaching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ψατε τα προβατ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 - Watch (pl.) the sheep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ε, σωσον τον λα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- Lord, save the people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57160" y="2244600"/>
            <a:ext cx="73868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6.1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α ἐχω ὑμ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λεγε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ave many thing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sa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equivalent of 'to say' in English. This is clearly closely related to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aning 'I say' – it is the same verb but now in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nfini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oo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843EC402-392F-4F36-BB1C-C8F879A91F3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F9902176-BD03-4E8C-B8E7-9166279C097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84480" y="1943280"/>
          <a:ext cx="4728960" cy="1020600"/>
        </p:xfrm>
        <a:graphic>
          <a:graphicData uri="http://schemas.openxmlformats.org/drawingml/2006/table">
            <a:tbl>
              <a:tblPr/>
              <a:tblGrid>
                <a:gridCol w="1506600"/>
                <a:gridCol w="1782720"/>
                <a:gridCol w="1439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46"/>
          <p:cNvSpPr/>
          <p:nvPr/>
        </p:nvSpPr>
        <p:spPr>
          <a:xfrm>
            <a:off x="533520" y="3525840"/>
            <a:ext cx="861048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Infinitive can be translated as ‘to…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in the Imperative, the Aorist Infinitive has a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uffix, but no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s follow the normal rules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ιλε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ιλησ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142920" y="1279440"/>
            <a:ext cx="935820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3.14-1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οιησεν δωδεκ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χ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ξουσια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κβαλλ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α δαιμονι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nd he made twelve …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hav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hority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throw ou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infinitives are Present, because the twelve will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inuously have authority and will repeatedly throw out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ησους θελ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σωσ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αὐτη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Jesus is will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save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nfinitive is Aorist because it does not point to a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inual a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368DD13E-72CD-44D1-A277-9053D5848E2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21:21:07Z</dcterms:created>
  <dc:creator>Sarah</dc:creator>
  <dc:description/>
  <dc:language>en-US</dc:language>
  <cp:lastModifiedBy>Sarah</cp:lastModifiedBy>
  <dcterms:modified xsi:type="dcterms:W3CDTF">2009-03-04T11:29:29Z</dcterms:modified>
  <cp:revision>59</cp:revision>
  <dc:subject/>
  <dc:title>Slide 1</dc:title>
</cp:coreProperties>
</file>