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7DE-B33A-4BA9-857F-E61BA374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9A3-3AB6-4776-9BDF-2112559D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31F-24D5-4C55-BE6D-715AEAFB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7AA-37E1-4EF5-8719-6FDDA5BA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817-EDDA-4331-8AFE-5E032F67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620-3541-4088-B6BE-38A5B2F6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678-4FDE-453F-8AE5-F4DC7D02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D33-8EFC-4864-BD8C-E9E17959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B81-5342-4E07-A28A-4961E704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123-1A98-47FC-8C49-66166718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FF7-CBBE-4D5D-A41F-45911F2B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802-779C-4FA7-AC69-78B09257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90B7-7D7F-46EB-94F9-0EA435A18A5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83" name="TextBox 5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7324744C-3E23-4626-A548-19AFAC3EE3B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28760" y="2133720"/>
            <a:ext cx="8429400" cy="26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21.11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∙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στιν ὁ προφητης Ἰησ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ere saying: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prophe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14.1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κειν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ρ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κουσ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ρῳδη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a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ime Herod heard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905120" y="117324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2.3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ς</a:t>
            </a:r>
            <a:r>
              <a:rPr b="1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ηλος</a:t>
            </a:r>
            <a:r>
              <a:rPr b="1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03120" y="2000160"/>
            <a:ext cx="850104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ς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other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ηλος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one another) both decline like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3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ἄλλ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λοια ἠν μετ’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oats were with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4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 πρ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λληλ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And they were say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one ano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01E027D6-2501-4DB5-B214-2E4E15CC89F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CFA30901-C85D-4A88-9718-8E010BF265A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428920" y="1123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.3.1 Pronoun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7200" y="1790640"/>
          <a:ext cx="8786880" cy="3353040"/>
        </p:xfrm>
        <a:graphic>
          <a:graphicData uri="http://schemas.openxmlformats.org/drawingml/2006/table">
            <a:tbl>
              <a:tblPr/>
              <a:tblGrid>
                <a:gridCol w="900360"/>
                <a:gridCol w="1290600"/>
                <a:gridCol w="1460520"/>
                <a:gridCol w="1117440"/>
                <a:gridCol w="1031760"/>
                <a:gridCol w="939960"/>
                <a:gridCol w="1100160"/>
                <a:gridCol w="946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υ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μ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me, 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us, 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you, 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273"/>
          <p:cNvSpPr/>
          <p:nvPr/>
        </p:nvSpPr>
        <p:spPr>
          <a:xfrm>
            <a:off x="357120" y="5357880"/>
            <a:ext cx="8229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ο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self means 'we untie'. There is no need for a word for 'we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428760" y="1773360"/>
            <a:ext cx="824868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al. 5.2: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Greek"/>
                <a:ea typeface="Times New Roman"/>
              </a:rPr>
              <a:t>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γ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αυλος λε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ὑμ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aul tel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2.2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σ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κ της ὡρας ταυτη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Sa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from this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21.1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ει αὐτ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ι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..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λεγ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ῳ∙ Κυριε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γινωσκεις ὁτι φιλ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he said … 'Do  you lo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?' … and he said to him, 'Lor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know that I lo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1BECE20D-DBF0-495D-85FF-D688D9117E2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6D5DA3CC-7B62-4BB5-BD5B-84FFCE419E9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752480" y="1752480"/>
            <a:ext cx="5639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3.2 Reflexive Pronoun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971800"/>
          <a:ext cx="6705360" cy="2011320"/>
        </p:xfrm>
        <a:graphic>
          <a:graphicData uri="http://schemas.openxmlformats.org/drawingml/2006/table">
            <a:tbl>
              <a:tblPr/>
              <a:tblGrid>
                <a:gridCol w="2347920"/>
                <a:gridCol w="43574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s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αυ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s like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ὐ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f (sing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εαυ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s like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ὐ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el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 use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αυ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ves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 use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αυ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866960" y="1428840"/>
            <a:ext cx="541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3.3 Possessive Adjectiv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" y="2286000"/>
            <a:ext cx="77724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commonly by using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genitive of the personal pronouns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of me, of you, of us, of you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, in the singular you can use a special ad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928960" y="4786200"/>
          <a:ext cx="3090960" cy="1006560"/>
        </p:xfrm>
        <a:graphic>
          <a:graphicData uri="http://schemas.openxmlformats.org/drawingml/2006/table">
            <a:tbl>
              <a:tblPr/>
              <a:tblGrid>
                <a:gridCol w="2168640"/>
                <a:gridCol w="9223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(sing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Box 4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285221A0-A1CF-48AC-94BE-68FE9A22913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4CE45519-B14D-448A-8976-719D5A95085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00040" y="3500280"/>
            <a:ext cx="792972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0.2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 ἐστε ἐκ των προβατων τω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ou are not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heep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20.2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κυρ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ὁ θε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ord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G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90720" y="1357200"/>
            <a:ext cx="7138800" cy="18997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My words'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λογου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not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ογοι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Compare: 'his words'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λογοι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)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μ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l need the arti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4A9D8A03-CE18-4F7C-A759-35F47D98655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324160" y="1595520"/>
            <a:ext cx="4495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1 Timid words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71520" y="2814480"/>
            <a:ext cx="6572160" cy="22356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α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n the one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α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cause / f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not come as the first wo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75553BD9-E8F2-482C-8DAF-A7AD715ABA2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04920" y="2556000"/>
            <a:ext cx="861048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3.10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λου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α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θεραπευσ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eale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Thes. 2.2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ει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α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στε ἡ δοξα ἡμων και ἡ χαρ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you are our glory and joy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2142720" y="2490840"/>
            <a:ext cx="1667160" cy="223920"/>
            <a:chOff x="2142720" y="2490840"/>
            <a:chExt cx="1667160" cy="223920"/>
          </a:xfrm>
        </p:grpSpPr>
        <p:sp>
          <p:nvSpPr>
            <p:cNvPr id="151" name="Line 5"/>
            <p:cNvSpPr/>
            <p:nvPr/>
          </p:nvSpPr>
          <p:spPr>
            <a:xfrm flipH="1">
              <a:off x="2976120" y="2490840"/>
              <a:ext cx="8334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"/>
            <p:cNvSpPr/>
            <p:nvPr/>
          </p:nvSpPr>
          <p:spPr>
            <a:xfrm flipH="1">
              <a:off x="2142720" y="2490840"/>
              <a:ext cx="8334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2143080" y="2490840"/>
              <a:ext cx="0" cy="22392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 flipV="1">
              <a:off x="3809880" y="2490840"/>
              <a:ext cx="0" cy="22392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9"/>
          <p:cNvSpPr/>
          <p:nvPr/>
        </p:nvSpPr>
        <p:spPr>
          <a:xfrm>
            <a:off x="304920" y="1946160"/>
            <a:ext cx="32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79866A06-9A23-45F3-AEFD-86CCA40F8FC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86000" y="1357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57200" y="2143080"/>
            <a:ext cx="762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cede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order to express contr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57120" y="3000240"/>
            <a:ext cx="830592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ογιζεσθε ἑαυτους εἰν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νεκρου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ῃ ἁμαρτιᾳ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ζωντα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Rom 6.11) – consider yourselves to be (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 the on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dead to sin but (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the other h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alive t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d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4786200" y="3670200"/>
            <a:ext cx="1643040" cy="214560"/>
            <a:chOff x="4786200" y="3670200"/>
            <a:chExt cx="1643040" cy="214560"/>
          </a:xfrm>
        </p:grpSpPr>
        <p:sp>
          <p:nvSpPr>
            <p:cNvPr id="162" name="Line 7"/>
            <p:cNvSpPr/>
            <p:nvPr/>
          </p:nvSpPr>
          <p:spPr>
            <a:xfrm flipH="1">
              <a:off x="5607720" y="3670200"/>
              <a:ext cx="82152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"/>
            <p:cNvSpPr/>
            <p:nvPr/>
          </p:nvSpPr>
          <p:spPr>
            <a:xfrm flipH="1">
              <a:off x="4786200" y="3670200"/>
              <a:ext cx="82152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786200" y="3670200"/>
              <a:ext cx="0" cy="21456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 flipV="1">
              <a:off x="6429240" y="3670200"/>
              <a:ext cx="0" cy="21456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1271160" y="4348080"/>
            <a:ext cx="1371960" cy="152640"/>
            <a:chOff x="1271160" y="4348080"/>
            <a:chExt cx="1371960" cy="152640"/>
          </a:xfrm>
        </p:grpSpPr>
        <p:sp>
          <p:nvSpPr>
            <p:cNvPr id="167" name="Line 12"/>
            <p:cNvSpPr/>
            <p:nvPr/>
          </p:nvSpPr>
          <p:spPr>
            <a:xfrm flipH="1">
              <a:off x="1956960" y="4348080"/>
              <a:ext cx="6858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 flipH="1">
              <a:off x="1271160" y="4348080"/>
              <a:ext cx="6858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1271520" y="4348080"/>
              <a:ext cx="0" cy="15264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 flipV="1">
              <a:off x="2643120" y="4348080"/>
              <a:ext cx="0" cy="15264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39760" y="1414440"/>
            <a:ext cx="8648640" cy="43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Cor. 1.12: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καστος ὑμων λεγει∙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μι Παυλου, ἐγω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’Απολλω,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ηφα,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Χρισ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Each of you says, 'I am Paul's, I am Apollos', I a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phas', I am Christ's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cts 14.4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.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ἠσαν συν τοις Ἰουδαιοις,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συ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τοις ἀποστολο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ere with the Jews b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ere with th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ostles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D72C4233-8248-4716-B5AA-82489CB7078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743200" y="10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.1.1 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46200" y="2035080"/>
          <a:ext cx="7854840" cy="4108680"/>
        </p:xfrm>
        <a:graphic>
          <a:graphicData uri="http://schemas.openxmlformats.org/drawingml/2006/table">
            <a:tbl>
              <a:tblPr/>
              <a:tblGrid>
                <a:gridCol w="1166760"/>
                <a:gridCol w="1127160"/>
                <a:gridCol w="2012760"/>
                <a:gridCol w="1890720"/>
                <a:gridCol w="165744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κειν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202"/>
          <p:cNvSpPr/>
          <p:nvPr/>
        </p:nvSpPr>
        <p:spPr>
          <a:xfrm>
            <a:off x="928800" y="1428840"/>
            <a:ext cx="160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921BC267-0E90-44B5-A516-9394A059863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EEAE7790-BF5B-4E49-B47B-383583B7B6C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981080" y="12142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3 Use of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23960" y="1857240"/>
            <a:ext cx="769608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 weak ‘but’, wherea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α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presses 'but' more strongly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lso used just with the article (e.g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point out that the subject has change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6.38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ουσιν αὐτῳ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δε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ει αὐτοις,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σους ἀρτους ἐχ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They said to him ..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e sa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o them, 'How many loaves of brea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do you have?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2666880" y="11430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.4.4 Use of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και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85840" y="1643040"/>
            <a:ext cx="878688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rmally means 'and‘, but can also be used to give emphasis, equivalent to 'also' or 'even‘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τε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often followed by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iving the meaning 'both … and'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2.2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 ἐστιν ὁ υἱος του ἀνθρωπου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σαββα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on of man is lo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v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ver the Sabb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(ὡν) ἠρξατο ὁ Ἰησους ποιε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ιδασκ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which) Jesus bega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do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tea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841F3992-61B9-413C-9ACA-E371F870571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857160" y="1400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9720" y="1963800"/>
          <a:ext cx="7305480" cy="4108320"/>
        </p:xfrm>
        <a:graphic>
          <a:graphicData uri="http://schemas.openxmlformats.org/drawingml/2006/table">
            <a:tbl>
              <a:tblPr/>
              <a:tblGrid>
                <a:gridCol w="1104840"/>
                <a:gridCol w="1068480"/>
                <a:gridCol w="1904760"/>
                <a:gridCol w="1791000"/>
                <a:gridCol w="1436400"/>
              </a:tblGrid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38FDC1CE-0011-4B47-B653-04869882C27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57120" y="1179360"/>
            <a:ext cx="857268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ndings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re actually the same as f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ινο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gins with a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most of its forms; rough breathing in the nom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sc. and fem., sing. and plural, the same as in the 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irst vowel fluctuates betwee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 it matches the second vowel.  If the second vowel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, the first vowel i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but if it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, it i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28800" y="4238640"/>
            <a:ext cx="7277040" cy="23565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itially, what is important is simply to be able to recognise the forms of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Greek. This is relatively easy, but watch for the forms without th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τ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46DB425F-8642-46F7-96CC-132A32EC655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790640" y="194940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9.1.2 Us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000080" y="2635200"/>
            <a:ext cx="7429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Use as pronou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βλεψα ἐκειν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saw those (peopl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ξεται ταυτ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He will begin these th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4020E19E-A19E-4FF0-9D1E-487A64C350B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890A7DEC-FB26-4664-8F14-A895A23E1FB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90720" y="1500120"/>
            <a:ext cx="7162560" cy="45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Use as adjectiv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article must always be used in addition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i) They are placed in the predicative word order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English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br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reek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δελφος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is the broth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λ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lines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θ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it is used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it comes before the articl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whole crowd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λος ὁ ὀχλ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ὁλος ὀχλ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447920" y="1214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9.2.1 Further use of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33280" y="2168640"/>
            <a:ext cx="891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 be used as an adjectiv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jective meaning 'sam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rmal attributive position (between article and no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 adjective (himself, herself, itself, themsel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ing before the article (predicative position) 'for emphasis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F312E614-1DA9-4CF0-A035-24162EDDF11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F67CB487-A5FE-46EC-9874-0A1F3B711CB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14200" y="1643040"/>
            <a:ext cx="864396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am speak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μαθητ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λε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isciples s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υριος σωζει τον λα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or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ves th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κυριος σωζει τον λα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Lo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ves the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552760" y="1163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.2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αυ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3480" y="1781280"/>
            <a:ext cx="91440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αυ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th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erson reflexive pronoun (himself, herself, itself, themselves) 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αυ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eclines exactly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 σωζε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ἑαυτ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- The Lord save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αὐτο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 σωζει τον λα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- The Lor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aves the peo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4200480"/>
            <a:ext cx="6858000" cy="1959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You can tell whether 'himself' etc.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flex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or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by deleting it. If the sentence's basic meaning is unaltered, it wa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, if not it wa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flex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3531F219-9FC6-4212-90CB-F3E521215FD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3:19:25Z</dcterms:created>
  <dc:creator>Sarah</dc:creator>
  <dc:description/>
  <dc:language>en-US</dc:language>
  <cp:lastModifiedBy>Sarah</cp:lastModifiedBy>
  <dcterms:modified xsi:type="dcterms:W3CDTF">2008-09-08T11:33:36Z</dcterms:modified>
  <cp:revision>64</cp:revision>
  <dc:subject/>
  <dc:title>Slide 1</dc:title>
</cp:coreProperties>
</file>