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30E-3010-484D-8D1F-4D53AC6E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AEB-C96A-4CB9-A023-149619BC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CD1-3D7F-42D8-BF26-2F6479E4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66D-9A08-4B1B-A846-0B459A8F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85C2-C02F-4740-ABA2-2550345F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F81C-6AB2-4AA9-803B-CB15CE9A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2478-91BF-406F-B17A-419DC44B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2B11-6DB3-4F4C-87CC-D8A7BC80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7B2F-DC65-4D54-922C-01698CEF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752D-3636-49CD-9913-95597652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9D69-DD2D-447B-B3D9-5CD0890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C87-5AEF-43F5-B1B1-28D94B52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D26A-A52C-43E5-9C7A-7BB97BB4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D31A-F201-42B1-AF85-84E74BE2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0A65-21AA-4328-BF3B-6F28FB50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6242-F72E-4575-8D6E-CA2BE106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834B-0CC2-4FEA-8318-09EC14C9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8C6-83C1-4BCE-8223-7DC80EA8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5F2-F0D1-4F91-AD44-A06E673E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1BA-AB0A-46B1-BB49-1AD94DC3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603-07AA-4AD9-8742-483EA584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CAA-565E-47DA-A995-298D0616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10E-B1B9-494B-AE5D-0D2D7D50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FB5-30B0-450D-B397-88A2130F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A332-A9E0-4665-8622-FA6EE414A1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F282-93D0-4F6D-919A-6C21893B26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87" name=""/>
          <p:cNvGraphicFramePr/>
          <p:nvPr/>
        </p:nvGraphicFramePr>
        <p:xfrm>
          <a:off x="155520" y="1357200"/>
          <a:ext cx="8832960" cy="4373640"/>
        </p:xfrm>
        <a:graphic>
          <a:graphicData uri="http://schemas.openxmlformats.org/drawingml/2006/table">
            <a:tbl>
              <a:tblPr/>
              <a:tblGrid>
                <a:gridCol w="1951200"/>
                <a:gridCol w="1293840"/>
                <a:gridCol w="3041640"/>
                <a:gridCol w="2546280"/>
              </a:tblGrid>
              <a:tr h="45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ma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5EB32332-90A4-419C-8F19-13FE8D08D08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62400" y="15001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3 Forming a Sen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28760" y="2071800"/>
            <a:ext cx="8715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τε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plural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ς βλεπει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A slave sees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- Slaves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laves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86080" y="1641600"/>
            <a:ext cx="617220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erbs agree with their subject in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57120" y="3251160"/>
            <a:ext cx="8286840" cy="268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three steps to trans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Work out the cases of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Work out why the different words have the cases the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Translate the sentence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14200" y="2428920"/>
            <a:ext cx="878688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rd)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δουλου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lave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A lord has slaves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143000" y="171468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928800" y="221472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  <a:ea typeface="Arial"/>
              </a:rPr>
              <a:t>κυριος ἐχει δουλ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460520"/>
          <a:ext cx="5977080" cy="2271600"/>
        </p:xfrm>
        <a:graphic>
          <a:graphicData uri="http://schemas.openxmlformats.org/drawingml/2006/table">
            <a:tbl>
              <a:tblPr/>
              <a:tblGrid>
                <a:gridCol w="1992600"/>
                <a:gridCol w="1992240"/>
                <a:gridCol w="199224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42920" y="4000680"/>
            <a:ext cx="1035828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πει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ν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ingular)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ι βλεπουσιν.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νθρωπος βλεπει τους αγγελου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l-GR" sz="10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erson se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214200" y="1658880"/>
            <a:ext cx="878688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special uses of the definite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αυι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David (not 'the Davi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bstrac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ανθρωπ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the person’, also ‘humanity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νομ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law’ (as a concept), also ‘the law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o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ather than ‘a god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θε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PECIAL USES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2" name="Rectangle 4"/>
          <p:cNvSpPr/>
          <p:nvPr/>
        </p:nvSpPr>
        <p:spPr>
          <a:xfrm>
            <a:off x="928800" y="2013120"/>
            <a:ext cx="70722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 or Plural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: he, she, or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: two possibilities –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Verdana"/>
              </a:rPr>
              <a:t>is always used before a vowel and at the end of a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FF7E87EF-F946-4BBF-A08D-54603368FC1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.1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343080" y="4626000"/>
            <a:ext cx="8458200" cy="10076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e Greek word often means more than one English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71720" y="1785960"/>
          <a:ext cx="6765840" cy="1879560"/>
        </p:xfrm>
        <a:graphic>
          <a:graphicData uri="http://schemas.openxmlformats.org/drawingml/2006/table">
            <a:tbl>
              <a:tblPr/>
              <a:tblGrid>
                <a:gridCol w="761760"/>
                <a:gridCol w="1024200"/>
                <a:gridCol w="1593720"/>
                <a:gridCol w="1003320"/>
                <a:gridCol w="1023840"/>
                <a:gridCol w="1359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AA9BF308-248F-41F9-B77C-271A5905500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pSp>
        <p:nvGrpSpPr>
          <p:cNvPr id="103" name="Group 28"/>
          <p:cNvGrpSpPr/>
          <p:nvPr/>
        </p:nvGrpSpPr>
        <p:grpSpPr>
          <a:xfrm>
            <a:off x="228600" y="1709640"/>
            <a:ext cx="8686080" cy="2362320"/>
            <a:chOff x="228600" y="1709640"/>
            <a:chExt cx="8686080" cy="2362320"/>
          </a:xfrm>
        </p:grpSpPr>
        <p:sp>
          <p:nvSpPr>
            <p:cNvPr id="104" name="Rectangle 4"/>
            <p:cNvSpPr/>
            <p:nvPr/>
          </p:nvSpPr>
          <p:spPr>
            <a:xfrm>
              <a:off x="228600" y="1709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1757880" y="1709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604760" y="1709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6144840" y="1709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28600" y="2087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1757880" y="2087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4604760" y="2087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6144840" y="2087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228600" y="2465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1757880" y="2465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4604760" y="2465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6144840" y="2465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28600" y="2843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1757880" y="2843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604760" y="2843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6144840" y="2843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228600" y="3221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1757880" y="3221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4604760" y="3221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6144840" y="3221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228600" y="3599640"/>
              <a:ext cx="15292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1757880" y="3599640"/>
              <a:ext cx="28468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4604760" y="3599640"/>
              <a:ext cx="153972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6144840" y="3599640"/>
              <a:ext cx="27698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3"/>
          <p:cNvSpPr/>
          <p:nvPr/>
        </p:nvSpPr>
        <p:spPr>
          <a:xfrm>
            <a:off x="142920" y="4514760"/>
            <a:ext cx="8658360" cy="10994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ce you know the Present of </a:t>
            </a:r>
            <a:r>
              <a:rPr b="0" lang="el-GR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you know the Present of almost every Greek verb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4611600" y="24685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βλεπε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91672416-58D0-4479-8476-A386CD1673F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34" name="Text Box 4"/>
          <p:cNvSpPr/>
          <p:nvPr/>
        </p:nvSpPr>
        <p:spPr>
          <a:xfrm>
            <a:off x="857160" y="1428840"/>
            <a:ext cx="7358040" cy="194040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reek grammar is very regul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ut with many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minor adjus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hen certain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letters comb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4"/>
          <p:cNvSpPr/>
          <p:nvPr/>
        </p:nvSpPr>
        <p:spPr>
          <a:xfrm>
            <a:off x="71280" y="4214880"/>
            <a:ext cx="914400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: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ops out before long vowel or dipht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D352D5C2-F00B-44E6-BD9A-2F991554D6D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140" name=""/>
          <p:cNvGraphicFramePr/>
          <p:nvPr/>
        </p:nvGraphicFramePr>
        <p:xfrm>
          <a:off x="166680" y="1576440"/>
          <a:ext cx="8763120" cy="4281480"/>
        </p:xfrm>
        <a:graphic>
          <a:graphicData uri="http://schemas.openxmlformats.org/drawingml/2006/table">
            <a:tbl>
              <a:tblPr/>
              <a:tblGrid>
                <a:gridCol w="2679840"/>
                <a:gridCol w="1807920"/>
                <a:gridCol w="4275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ocess of getting th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ov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AFD87468-4363-4B60-B3B5-807445589F3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285840" y="2000160"/>
            <a:ext cx="8420040" cy="23198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always listed in vocabularies or dictionaries in their uncontracted form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though this form will never be found in Greek (since it would have contracted into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4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F2619E8E-8E98-4ED4-9FC4-34903AE54F7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785880" y="428760"/>
            <a:ext cx="66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6E4F4669-C332-4CAC-86E0-AD09301E233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62040" y="2768760"/>
          <a:ext cx="6172200" cy="218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76"/>
          <p:cNvSpPr/>
          <p:nvPr/>
        </p:nvSpPr>
        <p:spPr>
          <a:xfrm>
            <a:off x="1523880" y="18543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1 The forms of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071720" y="200016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2 The Meaning of the Nominative and Accusative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00160" y="3429000"/>
            <a:ext cx="51436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ominative –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cusative –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0:50:58Z</dcterms:created>
  <dc:creator>Sarah</dc:creator>
  <dc:description/>
  <dc:language>en-US</dc:language>
  <cp:lastModifiedBy>Sarah</cp:lastModifiedBy>
  <dcterms:modified xsi:type="dcterms:W3CDTF">2008-08-25T11:50:21Z</dcterms:modified>
  <cp:revision>53</cp:revision>
  <dc:subject/>
  <dc:title>Slide 1</dc:title>
</cp:coreProperties>
</file>