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4E77-A123-4B36-B220-88348B48D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F816-FF42-47B0-B5A2-BEE8E781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920E-81C7-4773-9810-F06E0C1EA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F6D3-743D-4188-BFD7-3E3A8B06D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BA33-31BD-4AAD-A38F-905EC8EE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8FF8-9ED2-4226-BE00-06F465C0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03CD-978B-4DDF-A348-73872998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4C7E-254B-4875-A6E7-2024B552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2E9E-1E65-495E-9A0B-6A1C6660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061A-72A5-4405-A295-F166C6C0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E5FE-C01E-4939-998F-0BE8C323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594F-7A19-42FE-A940-E593C10F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C0CA-E819-4759-8728-414D3799BBB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Grammar </a:t>
            </a:r>
            <a:fld id="{D56A544C-CF5A-4F6E-9604-D6DB1B0382D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1 THE ESSENCE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3</a:t>
            </a:r>
            <a:r>
              <a:rPr b="0" lang="en-GB" sz="29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57120" y="1500120"/>
            <a:ext cx="8382240" cy="43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om. 8.9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ὑμεις δε οὐκ ἐστε ἐ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αρκι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ἀλλα ἐ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νευματ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are not i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fles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i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spiri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tt. 16.17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Ἰησους εἰπεν αὐτῳ∙ Μακαριος εἶ, Σιμων Βαριωνα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τι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αρξ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και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ἱμα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οὐκ ἀπεκαλυψεν σοι ἀλλα’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 πατηρ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μου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esus said to him, 'You are blessed, Simon Bariona, becaus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fles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bloo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did not reveal (this) to you, but my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fathe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2.17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λεγει ὁ θεος∙ Ἐκχεῶ ἀπο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ου πνευματος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μου ἐπι πασαν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αρκα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, και προφητευσουσιν οἱ υἱοι ὑμων και αἱ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θυγατερες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ὑμω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od says, 'I will pour out from my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spiri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on all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fles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and you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ns and your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daughter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will prophesy.'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Grammar </a:t>
            </a:r>
            <a:fld id="{0C54C5A1-97D9-4565-8CB7-9218BF2CCF5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24444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2.5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τις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τί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228600" y="1427040"/>
            <a:ext cx="8686800" cy="9219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τις</a:t>
            </a:r>
            <a:r>
              <a:rPr b="0" lang="en-GB" sz="2800" spc="-1" strike="noStrike">
                <a:solidFill>
                  <a:srgbClr val="000000"/>
                </a:solidFill>
                <a:latin typeface="Greek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s the indefinite pronoun - someone, an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τίς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is the interrogative pronoun - who? wha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81200" y="2643120"/>
          <a:ext cx="7505640" cy="3335400"/>
        </p:xfrm>
        <a:graphic>
          <a:graphicData uri="http://schemas.openxmlformats.org/drawingml/2006/table">
            <a:tbl>
              <a:tblPr/>
              <a:tblGrid>
                <a:gridCol w="1020600"/>
                <a:gridCol w="1725480"/>
                <a:gridCol w="1695600"/>
                <a:gridCol w="1731960"/>
                <a:gridCol w="1332000"/>
              </a:tblGrid>
              <a:tr h="48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Feminin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Feminin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ε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σ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σ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Grammar </a:t>
            </a:r>
            <a:fld id="{CCD35F82-9466-4F74-90AA-FB9846F3663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24444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2.5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τις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τί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43080" y="1274760"/>
            <a:ext cx="8458200" cy="47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Use as Pronoun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τίνα θεωρει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om do you see? 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βλεψα τινα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saw some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τίς ἐρχετ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o is coming?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ει τι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one is liste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περι τίνων λεγει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at/Who are you speaking abou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Use as Adjectiv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τίνα μισθον ἐχετ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</a:t>
            </a:r>
            <a:r>
              <a:rPr b="0" lang="en-GB" sz="20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at reward do you ha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στρατιωται τινες ἐρχονται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.</a:t>
            </a:r>
            <a:r>
              <a:rPr b="0" lang="en-GB" sz="20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soldiers are co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ffffff"/>
                </a:solidFill>
                <a:uFillTx/>
                <a:latin typeface="Arial"/>
              </a:rPr>
              <a:t>Ι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t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can also mean 'why?‘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τί λεγει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y are you speaking ? (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'what are you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aying?'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Grammar </a:t>
            </a:r>
            <a:fld id="{2761FA09-6ADD-438D-A2B0-31DD49C7DD4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24444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2.5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τις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τί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85840" y="1428840"/>
            <a:ext cx="85010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Arial"/>
              </a:rPr>
              <a:t>Distinguishing between </a:t>
            </a:r>
            <a:r>
              <a:rPr b="1" lang="el-GR" sz="2700" spc="-1" strike="noStrike">
                <a:solidFill>
                  <a:srgbClr val="ffffff"/>
                </a:solidFill>
                <a:latin typeface="Gentium"/>
              </a:rPr>
              <a:t>τις</a:t>
            </a:r>
            <a:r>
              <a:rPr b="1" lang="en-GB" sz="2500" spc="-1" strike="noStrike">
                <a:solidFill>
                  <a:srgbClr val="ffffff"/>
                </a:solidFill>
                <a:latin typeface="Arial"/>
              </a:rPr>
              <a:t> (someone) and </a:t>
            </a:r>
            <a:r>
              <a:rPr b="1" lang="el-GR" sz="2700" spc="-1" strike="noStrike">
                <a:solidFill>
                  <a:srgbClr val="ffffff"/>
                </a:solidFill>
                <a:latin typeface="Gentium"/>
              </a:rPr>
              <a:t>τίς</a:t>
            </a:r>
            <a:r>
              <a:rPr b="1" lang="en-GB" sz="2500" spc="-1" strike="noStrike">
                <a:solidFill>
                  <a:srgbClr val="ffffff"/>
                </a:solidFill>
                <a:latin typeface="Arial"/>
              </a:rPr>
              <a:t> (who?)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Arial"/>
              </a:rPr>
              <a:t>Three ways: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 context normally makes it very clear (and indeed there will be a question mark i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τί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is mean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τι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(someone) cannot be the first word in a sentence, whil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τί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(who) frequently 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You can learn some relatively simply rules about the acc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ent on the first syllable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ί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who?, what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accent or an accent on the second syllable 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ι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someone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Grammar </a:t>
            </a:r>
            <a:fld id="{EF5DE3A3-A64E-4881-AED4-1AA2830765E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4120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1 THE ESSENCE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3</a:t>
            </a:r>
            <a:r>
              <a:rPr b="0" lang="en-GB" sz="29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609480" y="1407960"/>
            <a:ext cx="7925040" cy="48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re are a few characteristic features of the 3</a:t>
            </a:r>
            <a:r>
              <a:rPr b="0" lang="en-GB" sz="2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declens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masculine and feminine are identical; the neuter is simila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nominative singular form is irregular – it is not formed from the stem plus an ending, although all the other forms a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ecause the nominative is irregula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- for a 3</a:t>
            </a:r>
            <a:r>
              <a:rPr b="0" lang="en-GB" sz="2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declension word you need to learn both the nominative and another form from which the stem can be deduced (the genitive is bes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- no ending indicates that a word is 3</a:t>
            </a:r>
            <a:r>
              <a:rPr b="0" lang="en-GB" sz="2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declension, as up to now words ending in -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ο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have always declined like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λογο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Indeed, the beauty of the 3</a:t>
            </a:r>
            <a:r>
              <a:rPr b="0" lang="en-GB" sz="2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declension is its ability to cope with words whatever their nominativ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Grammar </a:t>
            </a:r>
            <a:fld id="{AFFA0A13-7109-408F-8A9E-17F2822E09C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2  MASCULINE AND FEMININE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714240" y="1295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ending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re as follow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610000" y="1928880"/>
          <a:ext cx="3924000" cy="2468520"/>
        </p:xfrm>
        <a:graphic>
          <a:graphicData uri="http://schemas.openxmlformats.org/drawingml/2006/table">
            <a:tbl>
              <a:tblPr/>
              <a:tblGrid>
                <a:gridCol w="1000080"/>
                <a:gridCol w="1724040"/>
                <a:gridCol w="1199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o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 Box 85"/>
          <p:cNvSpPr/>
          <p:nvPr/>
        </p:nvSpPr>
        <p:spPr>
          <a:xfrm>
            <a:off x="304920" y="4495680"/>
            <a:ext cx="853416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 the whole there is no connection between these endings and those of the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/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declension, although th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genitive plur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ending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ω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304920" y="157176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out for the endings which are used differently in th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declension than in the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/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98440" y="2857680"/>
          <a:ext cx="8515440" cy="2743200"/>
        </p:xfrm>
        <a:graphic>
          <a:graphicData uri="http://schemas.openxmlformats.org/drawingml/2006/table">
            <a:tbl>
              <a:tblPr/>
              <a:tblGrid>
                <a:gridCol w="682560"/>
                <a:gridCol w="3605400"/>
                <a:gridCol w="422748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ecle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ecle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 s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. nom. s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7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 sing. (masc. or fem.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. nom. or acc. pl. (or nom. sing. of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 pl. (masc. or fem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. acc. pl. (or gen. sing. of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Grammar </a:t>
            </a:r>
            <a:fld id="{E99EEAF3-8336-4D60-9BC1-E89FF5E52B3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2  MASCULINE AND FEMININE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Grammar </a:t>
            </a:r>
            <a:fld id="{B9D916EC-5ED3-456B-A7BA-70387B6F2E6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2  MASCULINE AND FEMININE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42960" y="1447920"/>
            <a:ext cx="7643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example, 'star' i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στηρ, ἀστερο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 and therefore its stem i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στερ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nce it declines as follow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460520" y="3081240"/>
          <a:ext cx="5969160" cy="2468520"/>
        </p:xfrm>
        <a:graphic>
          <a:graphicData uri="http://schemas.openxmlformats.org/drawingml/2006/table">
            <a:tbl>
              <a:tblPr/>
              <a:tblGrid>
                <a:gridCol w="1135080"/>
                <a:gridCol w="2325600"/>
                <a:gridCol w="2508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στηρ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στερε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στερ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στερ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στερ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στερ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στερ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στερ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Grammar </a:t>
            </a:r>
            <a:fld id="{AFB29E6A-3518-4ECC-B2DC-1507FB6CBBD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2  MASCULINE AND FEMININE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6"/>
          <p:cNvSpPr/>
          <p:nvPr/>
        </p:nvSpPr>
        <p:spPr>
          <a:xfrm>
            <a:off x="1805040" y="126684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2.2.1 Note on the dative plu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66920" y="1839960"/>
          <a:ext cx="4734000" cy="1508040"/>
        </p:xfrm>
        <a:graphic>
          <a:graphicData uri="http://schemas.openxmlformats.org/drawingml/2006/table">
            <a:tbl>
              <a:tblPr/>
              <a:tblGrid>
                <a:gridCol w="1538280"/>
                <a:gridCol w="603360"/>
                <a:gridCol w="877680"/>
                <a:gridCol w="757440"/>
                <a:gridCol w="95724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ψ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χ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ξ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 Box 160"/>
          <p:cNvSpPr/>
          <p:nvPr/>
        </p:nvSpPr>
        <p:spPr>
          <a:xfrm>
            <a:off x="495360" y="3322800"/>
            <a:ext cx="8153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'flesh' is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σαρξ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σαρκο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nd so the dative plural is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σαρξι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'child' is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παι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παιδο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nd so the dative plural is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παισι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790640" y="4714920"/>
          <a:ext cx="5562720" cy="503280"/>
        </p:xfrm>
        <a:graphic>
          <a:graphicData uri="http://schemas.openxmlformats.org/drawingml/2006/table">
            <a:tbl>
              <a:tblPr/>
              <a:tblGrid>
                <a:gridCol w="2781360"/>
                <a:gridCol w="27813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ντ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σι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ντ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υσι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Text Box 184"/>
          <p:cNvSpPr/>
          <p:nvPr/>
        </p:nvSpPr>
        <p:spPr>
          <a:xfrm>
            <a:off x="490680" y="5143680"/>
            <a:ext cx="84391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'ruler' is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ἀρχω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ἀρχοντο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so the dative plural is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ἀρχουσι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Grammar </a:t>
            </a:r>
            <a:fld id="{A18ED740-E792-4B05-BBD7-4AEDFC575EC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2  MASCULINE AND FEMININE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360440" y="1714680"/>
          <a:ext cx="6421320" cy="1371600"/>
        </p:xfrm>
        <a:graphic>
          <a:graphicData uri="http://schemas.openxmlformats.org/drawingml/2006/table">
            <a:tbl>
              <a:tblPr/>
              <a:tblGrid>
                <a:gridCol w="1333440"/>
                <a:gridCol w="2664000"/>
                <a:gridCol w="24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ηρ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ρ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follow the same slightly irregular patt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τηρ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μητρο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ugh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υγατηρ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υγατρ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857680" y="3214800"/>
          <a:ext cx="3641400" cy="2225520"/>
        </p:xfrm>
        <a:graphic>
          <a:graphicData uri="http://schemas.openxmlformats.org/drawingml/2006/table">
            <a:tbl>
              <a:tblPr/>
              <a:tblGrid>
                <a:gridCol w="866520"/>
                <a:gridCol w="1341360"/>
                <a:gridCol w="1433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η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ρ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ρ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ρ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ρ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ρ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ρ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ρ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115"/>
          <p:cNvSpPr/>
          <p:nvPr/>
        </p:nvSpPr>
        <p:spPr>
          <a:xfrm>
            <a:off x="361800" y="5380200"/>
            <a:ext cx="8420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</a:rPr>
              <a:t>ε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s sometimes part of the stem, and sometimes not. Also the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α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 the dative plural.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πατηρ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alone) also has an irregular vocative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πατ</a:t>
            </a:r>
            <a:r>
              <a:rPr b="0" lang="el-GR" sz="2200" spc="-1" strike="noStrike" u="sng">
                <a:solidFill>
                  <a:srgbClr val="ffffff"/>
                </a:solidFill>
                <a:uFillTx/>
                <a:latin typeface="Gentium"/>
              </a:rPr>
              <a:t>ε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ρ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6"/>
          <p:cNvSpPr/>
          <p:nvPr/>
        </p:nvSpPr>
        <p:spPr>
          <a:xfrm>
            <a:off x="2571840" y="1138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2.2.2 The family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Grammar </a:t>
            </a:r>
            <a:fld id="{EB2D6265-AD22-45F7-AEF0-B167964BE20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2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NEUTER NOUNS WITH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857160" y="1163520"/>
          <a:ext cx="6296040" cy="2270160"/>
        </p:xfrm>
        <a:graphic>
          <a:graphicData uri="http://schemas.openxmlformats.org/drawingml/2006/table">
            <a:tbl>
              <a:tblPr/>
              <a:tblGrid>
                <a:gridCol w="973080"/>
                <a:gridCol w="2662560"/>
                <a:gridCol w="26604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o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-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cal to No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cal to No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-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ο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-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ω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-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-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ιν</a:t>
                      </a: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(</a:t>
                      </a: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-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ι</a:t>
                      </a: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ext Box 95"/>
          <p:cNvSpPr/>
          <p:nvPr/>
        </p:nvSpPr>
        <p:spPr>
          <a:xfrm>
            <a:off x="2143080" y="3500280"/>
            <a:ext cx="457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'body' is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σωμα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σωματος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: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57160" y="4060800"/>
          <a:ext cx="5079960" cy="2316240"/>
        </p:xfrm>
        <a:graphic>
          <a:graphicData uri="http://schemas.openxmlformats.org/drawingml/2006/table">
            <a:tbl>
              <a:tblPr/>
              <a:tblGrid>
                <a:gridCol w="1220760"/>
                <a:gridCol w="1887480"/>
                <a:gridCol w="19717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ωμα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ωματα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ωμα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ωματα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ωματο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ωματω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ωματ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ωμασι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143000" y="1230480"/>
          <a:ext cx="6667560" cy="2987640"/>
        </p:xfrm>
        <a:graphic>
          <a:graphicData uri="http://schemas.openxmlformats.org/drawingml/2006/table">
            <a:tbl>
              <a:tblPr/>
              <a:tblGrid>
                <a:gridCol w="871560"/>
                <a:gridCol w="1506600"/>
                <a:gridCol w="1361880"/>
                <a:gridCol w="1511280"/>
                <a:gridCol w="1416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Text Box 164"/>
          <p:cNvSpPr/>
          <p:nvPr/>
        </p:nvSpPr>
        <p:spPr>
          <a:xfrm>
            <a:off x="173160" y="4411800"/>
            <a:ext cx="8786520" cy="19843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i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a noun and an adjective qualifying it are from different families, their endings will differ even when they are agreeing in gender, case and numb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ἀγαθος ἐχει πλειον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ς φιλ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υ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The good man has more frien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Grammar </a:t>
            </a:r>
            <a:fld id="{CFC8024D-A626-4509-8C6A-AB143A80296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2.4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ADJECTIVES WITH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8:45:46Z</dcterms:created>
  <dc:creator>Sarah</dc:creator>
  <dc:description/>
  <dc:language>en-US</dc:language>
  <cp:lastModifiedBy>Sarah</cp:lastModifiedBy>
  <dcterms:modified xsi:type="dcterms:W3CDTF">2009-03-06T12:36:50Z</dcterms:modified>
  <cp:revision>36</cp:revision>
  <dc:subject/>
  <dc:title>Slide 1</dc:title>
</cp:coreProperties>
</file>