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3F4-9288-4445-BDFD-A1DF65B6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F39-489A-48D4-91BD-B63BC769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55E-6614-4AA8-B5E7-19CD532D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B40-05B2-4C32-977C-E0F15A3D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5D1-B34D-4D0C-AFF3-1AE7F815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87C-0596-4EB7-B088-D7DB45D4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84A-D35D-404C-A226-12F9EA55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C79-70AB-4E90-8B16-B37FF1BD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C9E-D1EC-4006-9914-C40F86FB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922-06F8-4464-A409-A526A1C5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146-6873-4529-8CC1-FD72490F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014-A3D7-46EF-8D01-C58EEDF1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FBC3-C312-416F-8FDB-D5491B73F23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Footer Placeholder 2"/>
          <p:cNvSpPr/>
          <p:nvPr/>
        </p:nvSpPr>
        <p:spPr>
          <a:xfrm>
            <a:off x="30718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0CC91378-F33C-4BC1-AD67-CA83FA501DC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95360" y="1333440"/>
            <a:ext cx="815328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m. 16.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σπασασθε Ἐπαινετον τον ἀγαπητον μου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στι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ἀπαρχη της Ἀσιας εἰς Χρισ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eet my beloved Epaenetos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h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a beginning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f Asia for Chr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7.2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 ἐστι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ρι οὑ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γεγραπ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is (the one)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concerning whom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t is writte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6.46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 δε με καλειτε∙ κυριε κυριε, και οὐ ποιετε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ἁ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λεγ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do you call me, 'Lord, Lord', and do not 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ha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 sa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98280" y="1373040"/>
            <a:ext cx="891540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urther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·         Often the relative clause will come in the middle of the complex sentence, not neatly at the end. English also does this, but not as often as in Gr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α τεκνα ἁ ἐδιδασκον κραζ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hildren whom I was teaching are crying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·         If the antecedent should be part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will often be omit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υἱος οὑς θελει ζῳοποι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υἱος ζῳοποιε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υ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ὑς θελ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on makes alive those whom he wishes (John 5.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599553D8-34F2-4B53-ACA5-E9D931BFE8B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762120" y="1447920"/>
            <a:ext cx="76197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reek will often put the relative clause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ἁ βλεπω φιλω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=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ἁ βλεπ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like the things which I see = I like what I s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9680" y="3357720"/>
            <a:ext cx="91440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6.2: 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θεωρουν τα σημεια ἁ ἐποι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ere seeing the signs which he wa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9.1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α οὐν ὁν θελει ἐλε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then, he has mercy on whom he wis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147CEE24-157F-4E5B-8149-5A5E571C8DD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57320" y="1511280"/>
          <a:ext cx="8829360" cy="1158840"/>
        </p:xfrm>
        <a:graphic>
          <a:graphicData uri="http://schemas.openxmlformats.org/drawingml/2006/table">
            <a:tbl>
              <a:tblPr/>
              <a:tblGrid>
                <a:gridCol w="6283080"/>
                <a:gridCol w="254628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question expecting the answer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no' –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... ;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yes' –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... ;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8"/>
          <p:cNvSpPr/>
          <p:nvPr/>
        </p:nvSpPr>
        <p:spPr>
          <a:xfrm>
            <a:off x="1447920" y="3048120"/>
            <a:ext cx="62481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 6.6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 και ὑμεις θελετε ὑπαγε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don't also wish to go away, do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rely you don't also want to go a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7.2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χ οὑτος ἐστιν ὁν ζητο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is whom they are seeking isn't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rely this is the one they are af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C9AF63D6-A65A-4802-B384-9F975283422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LANTED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04920" y="1295280"/>
            <a:ext cx="8534160" cy="28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is difficult to find any logical reason behind the use in slanted questions of these two forms of 'not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e question words, they will normally come first in the sentence, which is rare when they occur simply as the negative (and there will also always be a question mark of cour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also sometimes used instead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χ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stead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4920" y="4267080"/>
            <a:ext cx="85341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4.22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ἐλεγον, Οὐκι υἱος ἐστιν Ἰωσηφ 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y were saying, 'Isn't this Joseph's son?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 8:22: 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 οὐν οἱ Ἰουδαιοι, Μητι ἀποκτενε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[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kill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αυ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the Jews were saying, 'He isn't going to kill himself, is he?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75E9F1AC-E6C3-4BA9-9103-054E2FFAD8D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LANTED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30DE022B-C357-434B-8F59-805FA33A6D5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STATEM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19040" y="1785960"/>
            <a:ext cx="83059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said,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 am the Chr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Direc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sai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at he was the Chr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Indirect stat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rect statements also occur after other '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verbs of saying or think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 (such as feeling, believing, knowing, learning, fearing etc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thought that he was the Chr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748B99DA-AF19-4C1D-8E85-EE054025299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52600" y="1217520"/>
            <a:ext cx="80388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Stat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are expressed in four different ways in Gree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ord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used to introduce the direct stat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thus 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equivalent to the opening inverted comma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articiple of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added immediately before the 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tement (again, the Participle is then equivalent to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pening inverted commas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ἐκηρυσσεν λεγων∙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Mark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−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he used to proclaim (saying), ‘He is coming …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th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i.e. 1 and 2 combin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hing marks out the beginning of the direct stat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3ADF0264-1D24-4C79-9331-A54313E7BE5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71680" y="3124080"/>
            <a:ext cx="8001000" cy="25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rect Stat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rect statements are expressed in Greek by the wor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eaning 'that'), and so are quite straight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ωρω ὁτι προφητης εἶ σ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John 4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 that you are a proph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95360" y="1676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hing marks out the end of a direct statement in Greek. Thus it is hard to be certain where direct speech finishes (e.g. in John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495360" y="2928960"/>
            <a:ext cx="8153280" cy="31111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not be confused by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re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ifferent meanings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To introduce direct statements (= open quotation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To introduce indirect statements (= 'that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 a word meaning 'becaus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866960" y="1500120"/>
            <a:ext cx="541008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eek uses the tense of the original words or thou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58FB0DB6-24F4-4C80-8538-72FAFCB0671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1F1155AC-5991-4D2A-944A-B348F8A00C6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409760" y="2362320"/>
            <a:ext cx="6324480" cy="1818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ime 'how long'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ccus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ime 'during'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geni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ime 'at'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d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609480" y="1219320"/>
            <a:ext cx="792504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υο ἡμερ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ας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means time 'how long', expressed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English by 'for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'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or two day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y listen to the Lord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ης ἡμερ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ας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en. 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ans time 'during', expressed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glish by 'during' or 'by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'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uring the 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y listen to the Lord.' or '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y listen to the Lord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A95CE545-018F-42F5-AE8C-A2195012478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523880" y="2365200"/>
            <a:ext cx="6096240" cy="977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The relative pronoun links together two basic sentenc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43080" y="3500280"/>
            <a:ext cx="84582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wo basic sentence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. The lord sent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he messen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he messeng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aw the se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ne complex senten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 The lord sent the messenger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ho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a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s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42960" y="1371600"/>
            <a:ext cx="6058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0.1.1 Understanding rel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2305BAB0-3C55-45CF-8CD4-9DECFDBB75C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40BFE450-A00F-4922-9B86-4FFC42E45A1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19040" y="1828800"/>
            <a:ext cx="8305920" cy="38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ῃ ἡμερ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ᾳ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at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ans time 'at which', expressed in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glish by 'on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'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On the 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y listen to the Lord.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 Sometimes, although no preposition is needed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used as well as the dative (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 τῃ ἡμερᾳ βλεπουσ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. This makes no difference to the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0F86BA7A-8DEB-4BDD-9986-0C4EB0A6929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71680" y="1357200"/>
            <a:ext cx="8001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ne complex senten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  They are keeping the law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hic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e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each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wo basic sentence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. They are keeping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he law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. He teache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he law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5920" y="3476520"/>
            <a:ext cx="8929800" cy="24987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antecedent will come in the first sent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relative will be in the second sent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replacing the anteceden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English the antecedent normally immediately precedes the relativ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90440" y="1098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.1.2 Formation of the relative in Gr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52560" y="1660680"/>
          <a:ext cx="7119720" cy="4054320"/>
        </p:xfrm>
        <a:graphic>
          <a:graphicData uri="http://schemas.openxmlformats.org/drawingml/2006/table">
            <a:tbl>
              <a:tblPr/>
              <a:tblGrid>
                <a:gridCol w="892080"/>
                <a:gridCol w="835200"/>
                <a:gridCol w="892080"/>
                <a:gridCol w="1027080"/>
                <a:gridCol w="758880"/>
                <a:gridCol w="1130400"/>
                <a:gridCol w="658800"/>
                <a:gridCol w="925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ἣ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ἡ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ην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η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ῃ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ᾡ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ῳ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ο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ἳ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α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ι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64960" y="5796000"/>
          <a:ext cx="8614080" cy="533520"/>
        </p:xfrm>
        <a:graphic>
          <a:graphicData uri="http://schemas.openxmlformats.org/drawingml/2006/table">
            <a:tbl>
              <a:tblPr/>
              <a:tblGrid>
                <a:gridCol w="866880"/>
                <a:gridCol w="546120"/>
                <a:gridCol w="2438280"/>
                <a:gridCol w="668520"/>
                <a:gridCol w="409428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ve pronou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e article for compa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80E2B819-2038-4725-8066-E03575C5ACD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000080" y="1643040"/>
            <a:ext cx="7062840" cy="4026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very short word with a rough breathing is almost certain to be part of the relative pronou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place the rough breathing by a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τ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nd you will have the corresponding part of the article which you should be able to recogn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72EFEB6B-2B92-4287-8FA2-F527DDDCC72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1135080" y="1549440"/>
            <a:ext cx="68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0.1.3 Using the relative in Greek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66720" y="2540160"/>
            <a:ext cx="7810560" cy="17838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relativ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Numb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Gend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gree with the antece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s determined within its own sentence, by the normal rules (e.g. it is the object, governed by a preposition etc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809720" y="4902120"/>
            <a:ext cx="55245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relative pronoun links together two basic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F5FC7105-8F02-48BA-91F5-CC8DA31D75B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329161DE-D8B3-4B58-8866-DCDEF5F5BB6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90440" y="1214280"/>
            <a:ext cx="8596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·         The lord sent the messenge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aw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tecedent: the messe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ntence: who (the messenger) saw the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ntecedent is masculine singular; 'who' is the subject of its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should be masculine, singular, nominative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κυριος ἐπεμψεν τον ἀγγελ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βλεψεν την θαλασσ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33200" y="1454040"/>
            <a:ext cx="901080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·         They are keeping the law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e tea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tecedent: th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ntence: he teaches which (the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ntecedent is masculine singular; 'which' is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 its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should be masculine singular, accusative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ηρουσιν τον νομ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ιδασκ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158FADE4-A638-447D-AE0C-49A449555B7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862453B3-C222-41E3-BAF6-4DCFD44C7B8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03040" y="1585800"/>
            <a:ext cx="83584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·         That is the synagogu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to whi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y are c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tecedent: the synag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ntence: they are coming into which (the synago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ntecedent is feminine singular; 'who' is governed by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therefore must be accusative. Relative should be feminine, singular, accusative =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η ἐστιν ἡ συναγωγη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ἰς ἡ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ρχον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10:59Z</dcterms:created>
  <dc:creator>Sarah</dc:creator>
  <dc:description/>
  <dc:language>en-US</dc:language>
  <cp:lastModifiedBy>Sarah</cp:lastModifiedBy>
  <dcterms:modified xsi:type="dcterms:W3CDTF">2009-03-06T10:33:32Z</dcterms:modified>
  <cp:revision>47</cp:revision>
  <dc:subject/>
  <dc:title>Slide 1</dc:title>
</cp:coreProperties>
</file>