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55CA-C850-43B2-BFBC-33FA008C97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466-120D-4EAD-AB9E-F3591D904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C0C-8FEA-440F-8B5A-121233B9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9F7-BFAB-447F-987B-EFDAF221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834-075E-4AA6-B844-D45E1EB0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831-50B5-43C3-AC3C-A79761F0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FB9-39F4-4532-BDA1-00232587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CD2-F2A3-4D8E-969A-98404AA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14E-A5AF-4AFE-8B0F-1AFC4C5A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978-826F-4A6B-BE7E-A61828C5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567-CB56-4769-91B4-CBC51500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F99-C7CE-45F7-82C7-70708A8A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954-4A17-4C58-9A31-ECD6C3C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7E4-73A2-4A3B-BC32-24B758F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9E7-B030-4893-8607-5552A5AC552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1DB16021-9B0A-45D8-A1BA-4DF6FE906FB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85880" y="1247760"/>
            <a:ext cx="75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20.1.1 The basic conditional sent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4200" y="2133720"/>
          <a:ext cx="9072720" cy="2295360"/>
        </p:xfrm>
        <a:graphic>
          <a:graphicData uri="http://schemas.openxmlformats.org/drawingml/2006/table">
            <a:tbl>
              <a:tblPr/>
              <a:tblGrid>
                <a:gridCol w="1621080"/>
                <a:gridCol w="3736800"/>
                <a:gridCol w="3714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asi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'if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dosi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'then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18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 δε πνευματι ἀγ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κ ἐστε ὑπο νομ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you are led by the spir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 under l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54"/>
          <p:cNvSpPr/>
          <p:nvPr/>
        </p:nvSpPr>
        <p:spPr>
          <a:xfrm>
            <a:off x="228600" y="4276800"/>
            <a:ext cx="8986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you like Greek (then) you are wis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t is true that you like Greek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t is automatically true that you are 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D5A2641C-B266-4A6E-A2F8-079D5A9FBF9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8075160" y="36972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oup 46" descr=""/>
          <p:cNvPicPr/>
          <p:nvPr/>
        </p:nvPicPr>
        <p:blipFill>
          <a:blip r:embed="rId1"/>
          <a:stretch/>
        </p:blipFill>
        <p:spPr>
          <a:xfrm>
            <a:off x="895320" y="1901880"/>
            <a:ext cx="7456680" cy="4406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4"/>
          <p:cNvSpPr/>
          <p:nvPr/>
        </p:nvSpPr>
        <p:spPr>
          <a:xfrm>
            <a:off x="214200" y="11430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14.17: 'Evening having happened, he comes with the twelve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1"/>
          <p:cNvSpPr/>
          <p:nvPr/>
        </p:nvSpPr>
        <p:spPr>
          <a:xfrm>
            <a:off x="3338640" y="1785960"/>
            <a:ext cx="1440" cy="439884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E1392036-A26A-4C00-A1D5-AF8128D1B0C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85680" y="1984320"/>
            <a:ext cx="7162920" cy="3378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itive absolutes normally occur at the beginning of sentences – so if the first word in a sentence is in the genitive, 'think genitive absolut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ery often genitive absolutes give some 'background information', such as the time or circumstances at which something happ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02C9F471-00C3-4957-9FF7-8ADCD12D22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2920" y="1157400"/>
            <a:ext cx="900108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6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ὀντος του Πετρου κατω ἐν τῃ αὐλ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εται μια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 παιδισκ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Peter was below in the H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one of the servant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rls of the high priest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6.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σθιοντων αὐ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∙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λεγω ὑμ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they were ea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Jesus said, 'Amen I say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. 5.1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 δε οὐκ ἐλλογει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ὀντος νο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 is not count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there is no la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C9AF1C46-C272-4D5C-8255-7E9980E33BC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3880" y="1928880"/>
          <a:ext cx="8404200" cy="3475080"/>
        </p:xfrm>
        <a:graphic>
          <a:graphicData uri="http://schemas.openxmlformats.org/drawingml/2006/table">
            <a:tbl>
              <a:tblPr/>
              <a:tblGrid>
                <a:gridCol w="2235240"/>
                <a:gridCol w="2683080"/>
                <a:gridCol w="348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phrastic Constru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25A06D20-527E-45A9-8928-5A2FBEDF01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2000" y="1173240"/>
            <a:ext cx="9553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σα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μαθηται Ἰωαννου και οἱ Φαρισαιο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νηστευο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sciples of John and the Phari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ere f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h. 2.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χαριτ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στε σεσῳσ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grac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ou have been sa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John 12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να ἡ χαρα ἡμ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ληρωμενη ᾐ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rder that our jo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ght be comple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Note: here the periphrastic uses the present subjunctiv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371C663B-A00E-40CE-9653-F8D258DC1B5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3840" y="1596960"/>
          <a:ext cx="8867880" cy="4118040"/>
        </p:xfrm>
        <a:graphic>
          <a:graphicData uri="http://schemas.openxmlformats.org/drawingml/2006/table">
            <a:tbl>
              <a:tblPr/>
              <a:tblGrid>
                <a:gridCol w="2662200"/>
                <a:gridCol w="2714760"/>
                <a:gridCol w="1643040"/>
                <a:gridCol w="1847880"/>
              </a:tblGrid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r, more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lative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st, most/very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ive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l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/very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DD8269DE-292C-4637-A86D-7F96F85D6E2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520" y="2185920"/>
          <a:ext cx="9752040" cy="3017880"/>
        </p:xfrm>
        <a:graphic>
          <a:graphicData uri="http://schemas.openxmlformats.org/drawingml/2006/table">
            <a:tbl>
              <a:tblPr/>
              <a:tblGrid>
                <a:gridCol w="1214640"/>
                <a:gridCol w="1000080"/>
                <a:gridCol w="642960"/>
                <a:gridCol w="1785960"/>
                <a:gridCol w="1314360"/>
                <a:gridCol w="231840"/>
                <a:gridCol w="1411200"/>
                <a:gridCol w="1371600"/>
                <a:gridCol w="77940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s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εισ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κ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ει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γ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ιζ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κ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κρο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e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χισ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Text Box 267"/>
          <p:cNvSpPr/>
          <p:nvPr/>
        </p:nvSpPr>
        <p:spPr>
          <a:xfrm>
            <a:off x="685800" y="1428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n Irregular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"/>
          <p:cNvCxnSpPr/>
          <p:nvPr/>
        </p:nvCxnSpPr>
        <p:spPr>
          <a:xfrm>
            <a:off x="2443320" y="294336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5" name="Straight Arrow Connector 8"/>
          <p:cNvCxnSpPr/>
          <p:nvPr/>
        </p:nvCxnSpPr>
        <p:spPr>
          <a:xfrm>
            <a:off x="2443320" y="348624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6" name="Straight Arrow Connector 9"/>
          <p:cNvCxnSpPr/>
          <p:nvPr/>
        </p:nvCxnSpPr>
        <p:spPr>
          <a:xfrm>
            <a:off x="2443320" y="397152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7" name="Straight Arrow Connector 10"/>
          <p:cNvCxnSpPr/>
          <p:nvPr/>
        </p:nvCxnSpPr>
        <p:spPr>
          <a:xfrm>
            <a:off x="2457360" y="445788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/>
          <p:nvPr/>
        </p:nvCxnSpPr>
        <p:spPr>
          <a:xfrm>
            <a:off x="2443320" y="495576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AB6310B1-16E3-4362-A1EC-0103B2333F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371600"/>
          <a:ext cx="8501040" cy="2057400"/>
        </p:xfrm>
        <a:graphic>
          <a:graphicData uri="http://schemas.openxmlformats.org/drawingml/2006/table">
            <a:tbl>
              <a:tblPr/>
              <a:tblGrid>
                <a:gridCol w="1300680"/>
                <a:gridCol w="499680"/>
                <a:gridCol w="331560"/>
                <a:gridCol w="216000"/>
                <a:gridCol w="607680"/>
                <a:gridCol w="1478520"/>
                <a:gridCol w="1284840"/>
                <a:gridCol w="428040"/>
                <a:gridCol w="1405440"/>
                <a:gridCol w="948600"/>
              </a:tblGrid>
              <a:tr h="50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used 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λ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λι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96"/>
          <p:cNvSpPr/>
          <p:nvPr/>
        </p:nvSpPr>
        <p:spPr>
          <a:xfrm>
            <a:off x="243000" y="3714840"/>
            <a:ext cx="86868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 learned in module 12.4 that comparison is expressed in Greek either (i) by a genitive, or (ii) by the use of the word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the second noun in the same case as the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μαλλ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'more' (qualifying a verb), whil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the adjective 'more' (qualifying a no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uperlative was gradually falling out of use, and often the comparative was used in its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"/>
          <p:cNvCxnSpPr/>
          <p:nvPr/>
        </p:nvCxnSpPr>
        <p:spPr>
          <a:xfrm>
            <a:off x="2700360" y="211464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4" name="Straight Arrow Connector 6"/>
          <p:cNvCxnSpPr/>
          <p:nvPr/>
        </p:nvCxnSpPr>
        <p:spPr>
          <a:xfrm>
            <a:off x="2700360" y="268560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5" name="Straight Arrow Connector 7"/>
          <p:cNvCxnSpPr/>
          <p:nvPr/>
        </p:nvCxnSpPr>
        <p:spPr>
          <a:xfrm>
            <a:off x="2700360" y="318456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5929200" y="268560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C0DFF676-9276-4960-9AC9-EBD8834418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71520" y="2233440"/>
            <a:ext cx="8400960" cy="2311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helpful to remember that word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adverbs. You should now understand how the form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μοι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which you learnt earlier, have been formed from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ος, ὁμοι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001DC97B-F167-4B9B-81CB-9422B1CC30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171440"/>
          <a:ext cx="8143560" cy="1524240"/>
        </p:xfrm>
        <a:graphic>
          <a:graphicData uri="http://schemas.openxmlformats.org/drawingml/2006/table">
            <a:tbl>
              <a:tblPr/>
              <a:tblGrid>
                <a:gridCol w="4174920"/>
                <a:gridCol w="396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ξι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a worthy m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ωτ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the first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all m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ὀντω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­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29"/>
          <p:cNvSpPr/>
          <p:nvPr/>
        </p:nvSpPr>
        <p:spPr>
          <a:xfrm>
            <a:off x="338040" y="29224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214200" y="2957400"/>
            <a:ext cx="9144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.32: 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φερον προς αὐτον παντας τους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κακ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ἐχοντας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bringing to him all those who were s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lit: the ones 'hav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adl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5.23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ων ὁτι Το θυγατριον μου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χατ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ἐχε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ing, 'My daughter is dying' (lit: ha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inall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Cor. 7.40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μακαριωτερα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δε ἐστιν ἐα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οὑτ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μειν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ore bless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f she remains as she is (lit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DF0B3259-D987-48BD-B94D-474C67E540F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0200" y="1176480"/>
            <a:ext cx="7743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20.1.2 Two variations on the basic conditi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" y="1814400"/>
            <a:ext cx="8996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) Indefinite Conditions (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Greek will us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 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+ Indicative in the pro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'If you like Greek, you will learn it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sometimes,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 is used to highlight that the protasis is indefinite because it addresses a generic situation, without a particular occasion being in m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‘If someone enjoys rules and patterns, they like Greek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1A061776-832C-4FFE-AA54-11A028EB1FF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44440" y="2761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OPT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4200" y="1214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ptative is used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For w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For indirect questions (i.e. questions within reported speech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42920" y="2928960"/>
            <a:ext cx="8858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ans 6.1-2: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μενωμεν τῃ ἁμαρτιᾳ, ἱνα ἡ χαρις πλεονα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γενοι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hould we remain in sin in order that grace abounds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y no mea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.3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ενοιτο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οι κατα το ῥημα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y it b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me according to you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CF7D6B0B-79E1-4CE1-B64B-661EE6D2BA4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4280" y="4000680"/>
            <a:ext cx="6715440" cy="1723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nglish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ntrary to fact condit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marked out by 'would' in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podosi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0440" y="1214280"/>
            <a:ext cx="8953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'Contrary to Fact' conditions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apodo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Greek will put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apodosis; it is still the case t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protasis is tru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apodosis follows. However, the writer believes that the protasis is NOT tr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‘If you had liked Greek, you would have learnt i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487E6BEB-4B4F-4231-A92B-018C2B1BC66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0120" y="1157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.1.3 The form of conditionals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785960"/>
          <a:ext cx="8199360" cy="1768320"/>
        </p:xfrm>
        <a:graphic>
          <a:graphicData uri="http://schemas.openxmlformats.org/drawingml/2006/table">
            <a:tbl>
              <a:tblPr/>
              <a:tblGrid>
                <a:gridCol w="3460680"/>
                <a:gridCol w="2352960"/>
                <a:gridCol w="23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 Condi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finite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αν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Subjun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Contrary to Fact'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0"/>
          <p:cNvSpPr/>
          <p:nvPr/>
        </p:nvSpPr>
        <p:spPr>
          <a:xfrm>
            <a:off x="152280" y="3857760"/>
            <a:ext cx="8839440" cy="2273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tasis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 + Indicative = If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+ Subjunctive = If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(future/generalised/hypothetical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odosis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= Would (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rotasis seen as untrue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D744DC87-EF48-427D-A3A3-93536CB28F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1274760"/>
            <a:ext cx="87156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Basic Conditions (Fulfille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al. 3.29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ε ὑμεις Χριστου, ἀρα του Ἀβρααμ σπερμα ἐστε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you are Christ's, then you are Abraham's offspr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1 Cor. 8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 τις ἀγαπᾳ τον θεον, οὑτος ἐγνωσται ὑπ’ αὐτο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someone loves God, he is known by hi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ke 23.3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υ εἶ ὁ βασιλευς των Ἰουδαιων, σωσον σεαυτ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you are the king of Israel, save yourself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ke 11.19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ε ἐγω ἐν Βεελζεβουλ ἐκβαλλω τα δαιμονια, οἱ υἱοι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ὑμων ἐν τίνι ἐκβαλλουσι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I cast out demons by Beelzeboul, by whom do your sons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ast them ou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58EE1D2F-31E2-4FA9-AC67-23EE711CFB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14200" y="1184400"/>
            <a:ext cx="8858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definit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9.21: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ἁψωμ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ου ἱματιου αὐτου, σωθησ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ly I touch his cloak, I will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14.14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ἰτησητε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ε ἐν τῳ ὀνοματι μου, ἐγω ποιησ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ask me for anything in my name, I will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. 14.14: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α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προσευχω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λωσσ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νευμα μ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if I pray in a tongue, my spirit pr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John 2.15: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γαπ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κοσμον, οὐκ ἐστιν ἡ ἀγαπη του πατρ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someone loves the world, the love of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ther is not in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9FB2C03E-B086-4A75-BB10-F55FD68932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7120" y="1440000"/>
            <a:ext cx="85010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Unfulfilled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John 5.46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αρ ἐπιστευετε Μωϋσει, ἐπιστευετε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ἐμοι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you believe Moses, you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believe 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1 Cor. 2.8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αρ ἐγνωσαν, οὐκ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τον κυριον της δοξης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σταυρωσα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they had known, they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not have crucified the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ord of glo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b. 8.4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μεν οὐν ἠν ἐπι γης, οὐδ’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ἠν ἱερε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he were on earth, he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not even be a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rie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220500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ὀψιας γενομεν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εται μετα των δωδεκ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it was ev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 comes (came) with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lit: 'evening having happene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00C32C79-17D0-4B64-803A-55DAE8D274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03230992-FC5F-42C3-A71A-422E437DB1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494720" y="183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5118120" y="1968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831560" y="2225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278320" y="3054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925160" y="3313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98960" y="4138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136480" y="49212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440480" y="2563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7403400" y="282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7561440" y="3651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7249320" y="3909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7376400" y="473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1"/>
          <p:cNvSpPr/>
          <p:nvPr/>
        </p:nvSpPr>
        <p:spPr>
          <a:xfrm>
            <a:off x="3011400" y="3962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944080" y="4221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132000" y="5049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2550600" y="530064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3017880" y="613260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oup 65" descr=""/>
          <p:cNvPicPr/>
          <p:nvPr/>
        </p:nvPicPr>
        <p:blipFill>
          <a:blip r:embed="rId1"/>
          <a:stretch/>
        </p:blipFill>
        <p:spPr>
          <a:xfrm>
            <a:off x="1401840" y="1908000"/>
            <a:ext cx="6315120" cy="470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42920" y="1141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While he was passing along the sea, he saw Simon and Andrew casting (nets) in the sea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27:07Z</dcterms:created>
  <dc:creator>Sarah</dc:creator>
  <dc:description/>
  <dc:language>en-US</dc:language>
  <cp:lastModifiedBy>Sarah</cp:lastModifiedBy>
  <dcterms:modified xsi:type="dcterms:W3CDTF">2009-03-23T17:29:26Z</dcterms:modified>
  <cp:revision>44</cp:revision>
  <dc:subject/>
  <dc:title>Slide 1</dc:title>
</cp:coreProperties>
</file>