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297B-BC12-48DA-BBFC-73EB37D39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BCD8-16EC-45A8-95AB-3E8A0C34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A687-A3E8-4A37-A8F5-CD0B82B00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FCF9-1D58-4D5D-AC3A-AF8B3078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2664-9648-4BAC-AC28-140863AB8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194D-267A-494B-92D2-2001FB5C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78F3-5638-4431-9F24-85DD2769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143C-CF77-42BF-8821-D778B94C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77F4-7612-4B9F-8958-0C181268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73BB-B189-4420-82D4-040EFF76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9E92-0358-40A6-9E56-F6C66828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300B-1D89-45E9-AB97-46C0F962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F8EC-C3E6-418F-A277-376C5821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86E3-2228-44A1-BB42-D149DE9F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617A-A961-4EF7-94D8-BCA0295A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BC4F-5B75-40A9-B9F6-B65B88CF5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70A9-40D0-4E8C-B8A7-103CDE09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D282-DAF7-4722-A8A8-AAC3044D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8441-D1FF-42BD-8226-742E2F6D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5867-EB67-4219-B903-9E6E6937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3C64-FE6E-4E45-AF05-FA89865E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5CDD-94B7-4F24-B2C4-6333B91C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51AE-CA55-4FDE-A922-34E5B52A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DAB6-96C5-444A-9CCC-7AC1FDC0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E86F-DAC5-4305-B65D-BE014264924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6F0D-B8A9-435A-99A6-0B733C6F694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301680" y="1214280"/>
          <a:ext cx="8540640" cy="3840480"/>
        </p:xfrm>
        <a:graphic>
          <a:graphicData uri="http://schemas.openxmlformats.org/drawingml/2006/table">
            <a:tbl>
              <a:tblPr/>
              <a:tblGrid>
                <a:gridCol w="1841400"/>
                <a:gridCol w="3929040"/>
                <a:gridCol w="2770200"/>
              </a:tblGrid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d to Exp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 in Engl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ements and 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liste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a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en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idea of the verb in gen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li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al adj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ening, he underst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un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certain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may li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110"/>
          <p:cNvSpPr/>
          <p:nvPr/>
        </p:nvSpPr>
        <p:spPr>
          <a:xfrm>
            <a:off x="1928880" y="5143680"/>
            <a:ext cx="4857840" cy="11073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gation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Indicativ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ὐ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ther mood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η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DEA OF MOO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EAD3E128-915F-4D68-B0AD-B0DD9047302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609480" y="1563840"/>
            <a:ext cx="7925040" cy="41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hilem. 4-5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εὐχαριστω τῳ θεῳ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..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κουων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σου την ἀγαπη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give thanks to God …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hearin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f your lov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cts 18.8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πολλοι των Κορινθιω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κουοντες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πιστευ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ny of the Corinthian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hearin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were believ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κουω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κουοντε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e from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I hear) but are in th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articip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oo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meaning 'hearing' (one is singular, one is plural). A participle works alongside a main verb adding a further layer of meaning: not just 'I give thanks' but 'hearing of your love', not just 'they were believing' but 'hearing'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EA687FA0-927E-4512-91EA-5F9A9D84569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BE5366D5-EC9F-46B5-9B0A-60ECB2FF381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47640" y="1828800"/>
            <a:ext cx="784872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iciples must agree with the noun they qualify in gender, case, and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800280" y="3962520"/>
            <a:ext cx="754380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iciples have Tense (Present or Aorist), and may have an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-41400" y="1209600"/>
            <a:ext cx="88045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7.4.1 The form of the particip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781280" y="1838160"/>
          <a:ext cx="5305320" cy="1951200"/>
        </p:xfrm>
        <a:graphic>
          <a:graphicData uri="http://schemas.openxmlformats.org/drawingml/2006/table">
            <a:tbl>
              <a:tblPr/>
              <a:tblGrid>
                <a:gridCol w="1203120"/>
                <a:gridCol w="2049480"/>
                <a:gridCol w="20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asculine Nominativ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 Box 75"/>
          <p:cNvSpPr/>
          <p:nvPr/>
        </p:nvSpPr>
        <p:spPr>
          <a:xfrm>
            <a:off x="214200" y="3786120"/>
            <a:ext cx="8929800" cy="27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s in the Indicative and Imperative, the Aorist has an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does not have an au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plural participles both have endings in –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ντ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Aorist participles have an ‘a’ sound, the Present an ‘o’ s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verbs follow the normal rul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F571984E-BCDA-471B-8E14-19C9762ADD0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1143000" y="1371600"/>
            <a:ext cx="6858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7.4.2 The meaning of the particip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90440" y="2514600"/>
          <a:ext cx="8763120" cy="1401840"/>
        </p:xfrm>
        <a:graphic>
          <a:graphicData uri="http://schemas.openxmlformats.org/drawingml/2006/table">
            <a:tbl>
              <a:tblPr/>
              <a:tblGrid>
                <a:gridCol w="2259000"/>
                <a:gridCol w="6504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ultaneous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rocess – the action in the Participle is a process going on at the same time as the main verb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– the action in the Participle occurred before the main verb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 Box 35"/>
          <p:cNvSpPr/>
          <p:nvPr/>
        </p:nvSpPr>
        <p:spPr>
          <a:xfrm>
            <a:off x="609480" y="4495680"/>
            <a:ext cx="7925040" cy="11692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sent Participle = Simultane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orist Participle =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D785B847-EAAF-4B12-B0FC-19683B6A3F6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357120" y="1525680"/>
            <a:ext cx="816768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4.18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εριπατ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παρα την θαλασσαν της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Γαλιλαιας εἰδεν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he saw)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δυο ἀδελφ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ile he was walk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longside the Sea of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alilee, he saw two broth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6:16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κουσ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but)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ὁ Ηερῳδης ἐλεγ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…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en Herod hea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is he said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18343E9F-66BA-4AAC-9918-4A541FD9D87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1257480" y="1643040"/>
            <a:ext cx="6629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7.4.3 Participles with objec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42960" y="2928960"/>
            <a:ext cx="857232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ffff"/>
                </a:solidFill>
                <a:latin typeface="Gentium"/>
                <a:ea typeface="Times New Roman"/>
              </a:rPr>
              <a:t>βλεψαν τον ὀχλον </a:t>
            </a:r>
            <a:r>
              <a:rPr b="0" lang="el-GR" sz="30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 Ἰησους ἐκηρυξεν τον λογον</a:t>
            </a:r>
            <a:r>
              <a:rPr b="0" lang="en-GB" sz="30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 When he saw the crowd, Jesus proclaimed the word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09F38FF7-6194-4ED1-B558-C3D07CB9B04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traight Connector 22"/>
          <p:cNvSpPr/>
          <p:nvPr/>
        </p:nvSpPr>
        <p:spPr>
          <a:xfrm flipH="1">
            <a:off x="4852800" y="5000760"/>
            <a:ext cx="6120" cy="384120"/>
          </a:xfrm>
          <a:prstGeom prst="line">
            <a:avLst/>
          </a:prstGeom>
          <a:ln w="25560">
            <a:solidFill>
              <a:srgbClr val="fed1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56F3F64F-BFAE-4DF6-B212-63038D1204F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530280" y="1357200"/>
            <a:ext cx="8072280" cy="4786560"/>
          </a:xfrm>
          <a:prstGeom prst="rect">
            <a:avLst/>
          </a:prstGeom>
          <a:noFill/>
          <a:ln w="25560">
            <a:solidFill>
              <a:srgbClr val="fed1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857160" y="1357200"/>
            <a:ext cx="74026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nk of the participle starting off a new bran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mple Sentenc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lex Sen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ame 5"/>
          <p:cNvSpPr/>
          <p:nvPr/>
        </p:nvSpPr>
        <p:spPr>
          <a:xfrm>
            <a:off x="1071720" y="3429000"/>
            <a:ext cx="2000160" cy="571680"/>
          </a:xfrm>
          <a:prstGeom prst="pie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1170000" y="34704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ame 7"/>
          <p:cNvSpPr/>
          <p:nvPr/>
        </p:nvSpPr>
        <p:spPr>
          <a:xfrm>
            <a:off x="1071720" y="4429080"/>
            <a:ext cx="2000160" cy="571680"/>
          </a:xfrm>
          <a:prstGeom prst="pie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ame 8"/>
          <p:cNvSpPr/>
          <p:nvPr/>
        </p:nvSpPr>
        <p:spPr>
          <a:xfrm>
            <a:off x="1071720" y="5357880"/>
            <a:ext cx="2000160" cy="571320"/>
          </a:xfrm>
          <a:prstGeom prst="pie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9"/>
          <p:cNvSpPr/>
          <p:nvPr/>
        </p:nvSpPr>
        <p:spPr>
          <a:xfrm>
            <a:off x="1157400" y="448632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in 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1187280" y="54021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12"/>
          <p:cNvSpPr/>
          <p:nvPr/>
        </p:nvSpPr>
        <p:spPr>
          <a:xfrm flipH="1">
            <a:off x="2069640" y="4002120"/>
            <a:ext cx="1800" cy="428760"/>
          </a:xfrm>
          <a:prstGeom prst="line">
            <a:avLst/>
          </a:prstGeom>
          <a:ln w="25560">
            <a:solidFill>
              <a:srgbClr val="fed1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4"/>
          <p:cNvSpPr/>
          <p:nvPr/>
        </p:nvSpPr>
        <p:spPr>
          <a:xfrm flipH="1">
            <a:off x="2069640" y="5002200"/>
            <a:ext cx="1800" cy="357120"/>
          </a:xfrm>
          <a:prstGeom prst="line">
            <a:avLst/>
          </a:prstGeom>
          <a:ln w="25560">
            <a:solidFill>
              <a:srgbClr val="fed1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5"/>
          <p:cNvSpPr/>
          <p:nvPr/>
        </p:nvSpPr>
        <p:spPr>
          <a:xfrm>
            <a:off x="3943440" y="34560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ame 16"/>
          <p:cNvSpPr/>
          <p:nvPr/>
        </p:nvSpPr>
        <p:spPr>
          <a:xfrm>
            <a:off x="3857760" y="3429000"/>
            <a:ext cx="2000160" cy="571680"/>
          </a:xfrm>
          <a:prstGeom prst="pie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ame 17"/>
          <p:cNvSpPr/>
          <p:nvPr/>
        </p:nvSpPr>
        <p:spPr>
          <a:xfrm>
            <a:off x="3857760" y="4429080"/>
            <a:ext cx="2000160" cy="571680"/>
          </a:xfrm>
          <a:prstGeom prst="pie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ame 18"/>
          <p:cNvSpPr/>
          <p:nvPr/>
        </p:nvSpPr>
        <p:spPr>
          <a:xfrm>
            <a:off x="3857760" y="5357880"/>
            <a:ext cx="2000160" cy="571320"/>
          </a:xfrm>
          <a:prstGeom prst="pie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9"/>
          <p:cNvSpPr/>
          <p:nvPr/>
        </p:nvSpPr>
        <p:spPr>
          <a:xfrm>
            <a:off x="3943440" y="448632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in 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0"/>
          <p:cNvSpPr/>
          <p:nvPr/>
        </p:nvSpPr>
        <p:spPr>
          <a:xfrm>
            <a:off x="3959280" y="53848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21"/>
          <p:cNvSpPr/>
          <p:nvPr/>
        </p:nvSpPr>
        <p:spPr>
          <a:xfrm flipH="1">
            <a:off x="4857840" y="4000680"/>
            <a:ext cx="1440" cy="428400"/>
          </a:xfrm>
          <a:prstGeom prst="line">
            <a:avLst/>
          </a:prstGeom>
          <a:ln w="25560">
            <a:solidFill>
              <a:srgbClr val="fed1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5"/>
          <p:cNvSpPr/>
          <p:nvPr/>
        </p:nvSpPr>
        <p:spPr>
          <a:xfrm>
            <a:off x="6497640" y="3911760"/>
            <a:ext cx="1928880" cy="571320"/>
          </a:xfrm>
          <a:prstGeom prst="rect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7"/>
          <p:cNvSpPr/>
          <p:nvPr/>
        </p:nvSpPr>
        <p:spPr>
          <a:xfrm>
            <a:off x="6572160" y="39672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8"/>
          <p:cNvSpPr/>
          <p:nvPr/>
        </p:nvSpPr>
        <p:spPr>
          <a:xfrm>
            <a:off x="6500880" y="5000760"/>
            <a:ext cx="1928880" cy="571320"/>
          </a:xfrm>
          <a:prstGeom prst="rect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9"/>
          <p:cNvSpPr/>
          <p:nvPr/>
        </p:nvSpPr>
        <p:spPr>
          <a:xfrm>
            <a:off x="6572160" y="50385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30"/>
          <p:cNvSpPr/>
          <p:nvPr/>
        </p:nvSpPr>
        <p:spPr>
          <a:xfrm>
            <a:off x="5857920" y="3714840"/>
            <a:ext cx="639720" cy="482400"/>
          </a:xfrm>
          <a:prstGeom prst="line">
            <a:avLst/>
          </a:prstGeom>
          <a:ln w="25560">
            <a:solidFill>
              <a:srgbClr val="fed1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4"/>
          <p:cNvSpPr/>
          <p:nvPr/>
        </p:nvSpPr>
        <p:spPr>
          <a:xfrm flipH="1">
            <a:off x="7429680" y="4483080"/>
            <a:ext cx="31680" cy="473040"/>
          </a:xfrm>
          <a:prstGeom prst="line">
            <a:avLst/>
          </a:prstGeom>
          <a:ln w="25560">
            <a:solidFill>
              <a:srgbClr val="fed1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220510CB-90EB-4CBB-AFC2-2584CF4F4CD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 PARTICIPLES AS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7000" y="1600200"/>
            <a:ext cx="914400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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4.14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 σπειρ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ον λογον σπειρ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σπειρων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sowing (Present masculine nom. sing.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πειρ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I s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σπειρω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the sowing one = the s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ntence = The sower is sowing the wo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4.18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ὑτο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these)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σι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ον λογ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κουσαντε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σαντε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having heard (Aorist masculine nom. sing.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κου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ἱ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σαντες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the having heard ones = those who he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ntence = These are the people who heard the wo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142920" y="11430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3"/>
          <p:cNvSpPr/>
          <p:nvPr/>
        </p:nvSpPr>
        <p:spPr>
          <a:xfrm>
            <a:off x="500040" y="2093760"/>
            <a:ext cx="8072640" cy="24642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on't be afraid to introduce words like 'who' into translation of participles which are acting as nouns. The aim is to convey the meaning in good Englis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36C8D675-8D8E-41FC-ACBB-702A4AAF73D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 PARTICIPLES AS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D22BB244-5A41-4F65-AA02-0515E2ED81C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85840" y="1785960"/>
            <a:ext cx="8358120" cy="38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Acts 16.31: </a:t>
            </a:r>
            <a:r>
              <a:rPr b="0" lang="el-GR" sz="3200" spc="-1" strike="noStrike" u="sng">
                <a:solidFill>
                  <a:srgbClr val="ffffff"/>
                </a:solidFill>
                <a:uFillTx/>
                <a:latin typeface="Gentium"/>
              </a:rPr>
              <a:t>πιστευσον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 ἐπι τον κυριον Ἰησου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900" spc="-1" strike="noStrike" u="sng">
                <a:solidFill>
                  <a:srgbClr val="ffffff"/>
                </a:solidFill>
                <a:uFillTx/>
                <a:latin typeface="Arial"/>
              </a:rPr>
              <a:t>Believe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on the Lord Jesus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πιστευσον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is communicating a command (or exhortation).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πιστευω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is now in a different </a:t>
            </a:r>
            <a:r>
              <a:rPr b="0" i="1" lang="en-GB" sz="2900" spc="-1" strike="noStrike">
                <a:solidFill>
                  <a:srgbClr val="ffffff"/>
                </a:solidFill>
                <a:latin typeface="Arial"/>
              </a:rPr>
              <a:t>mood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GB" sz="2900" spc="-1" strike="noStrike">
                <a:solidFill>
                  <a:srgbClr val="ffffff"/>
                </a:solidFill>
                <a:latin typeface="Arial"/>
              </a:rPr>
              <a:t>Imperative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990720" y="1185840"/>
            <a:ext cx="7162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7.2.1 The formation of 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330200" y="1785960"/>
          <a:ext cx="6527880" cy="1523880"/>
        </p:xfrm>
        <a:graphic>
          <a:graphicData uri="http://schemas.openxmlformats.org/drawingml/2006/table">
            <a:tbl>
              <a:tblPr/>
              <a:tblGrid>
                <a:gridCol w="3149640"/>
                <a:gridCol w="1743120"/>
                <a:gridCol w="163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59"/>
          <p:cNvSpPr/>
          <p:nvPr/>
        </p:nvSpPr>
        <p:spPr>
          <a:xfrm>
            <a:off x="723960" y="3440160"/>
            <a:ext cx="7696080" cy="29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amed 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erson imper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orist imperatives do not have the au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orist ha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uffix, as in the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. Present Imperative identical to 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. Present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verbs follow normal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CDBA1424-CBF7-474F-8B8E-2D8170ACFB1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028"/>
          <p:cNvSpPr/>
          <p:nvPr/>
        </p:nvSpPr>
        <p:spPr>
          <a:xfrm>
            <a:off x="455760" y="1643040"/>
            <a:ext cx="8215200" cy="41263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's easy to mix up the Future Indicative and the Aorist Imperative (both have a s suffix and no prefix). The endings are the k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         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s 16:2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ευσον ἐπι τον κυριον Ἰησου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ieve in the Lord Jesus! (Aorist Imperativ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         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27.42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ευσομεν ἐπ’ αὐτ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will believe in him. (Future Indicativ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5B4D7844-7436-48E8-B6EC-51CBAEB5E20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0C081422-9428-4353-BC04-3675488D157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390680" y="1752480"/>
            <a:ext cx="6362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7.2.2 The difference between the Present and Aorist Imper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286000" y="3321000"/>
            <a:ext cx="4572000" cy="11692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sent –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orist - Un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0B9CAC05-59D2-4298-8382-7FFE3286A80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571680" y="1357200"/>
            <a:ext cx="8001000" cy="17150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orist Imperative is more common than the Present Imperative – therefore take note when Present Imperative is use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98280" y="3429000"/>
            <a:ext cx="892980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ηρυσσετε το εὐαγγελι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- Preach (pl.) the good-news!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continually: Go on preaching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ψατε τα προβατα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 - Watch (pl.) the sheep! (defaul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υριε, σωσον τον λα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- Lord, save the people! (defaul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857160" y="2244600"/>
            <a:ext cx="738684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16.12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λλα ἐχω ὑμι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λεγει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have many things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sa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yo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εγει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the equivalent of 'to say' in English. This is clearly closely related to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legw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aning 'I say' – it is the same verb but now in th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Infinit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moo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NFINI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2F131A35-4DFE-4022-B9C0-43D1610533C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9326D747-B1E4-4A3F-8FD0-BE70342F5C7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NFINI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184480" y="1943280"/>
          <a:ext cx="4728960" cy="1020600"/>
        </p:xfrm>
        <a:graphic>
          <a:graphicData uri="http://schemas.openxmlformats.org/drawingml/2006/table">
            <a:tbl>
              <a:tblPr/>
              <a:tblGrid>
                <a:gridCol w="1506600"/>
                <a:gridCol w="1782720"/>
                <a:gridCol w="14396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ι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 Box 46"/>
          <p:cNvSpPr/>
          <p:nvPr/>
        </p:nvSpPr>
        <p:spPr>
          <a:xfrm>
            <a:off x="533520" y="3525840"/>
            <a:ext cx="8610480" cy="18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Infinitive can be translated as ‘to…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s in the Imperative, the Aorist Infinitive has a s suffix, but no au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ew verbs follow the normal rules: filein, filhsa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142920" y="1279440"/>
            <a:ext cx="935820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3.14-15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οιησεν δωδεκ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...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ἐχει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ἐξουσια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ἐκβαλλει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τα δαιμονια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And he made twelve …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hav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thority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throw ou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dem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se infinitives are Present, because the twelve will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inuously have authority and will repeatedly throw out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m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Ἰησους θελε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σωσαι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αὐτη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Jesus is willing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save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Infinitive is Aorist because it does not point to a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inual a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6ED67AC2-EBEA-4A55-9624-03C16822E2D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NFINI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21:21:07Z</dcterms:created>
  <dc:creator>Sarah</dc:creator>
  <dc:description/>
  <dc:language>en-US</dc:language>
  <cp:lastModifiedBy>Sarah</cp:lastModifiedBy>
  <dcterms:modified xsi:type="dcterms:W3CDTF">2008-09-07T14:29:35Z</dcterms:modified>
  <cp:revision>49</cp:revision>
  <dc:subject/>
  <dc:title>Slide 1</dc:title>
</cp:coreProperties>
</file>