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14E-65E7-4D3B-B02C-495052E4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7F1-036D-4A55-A3E2-9CCBF8A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950-B9CA-441B-95EE-EED678BC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BE2-7136-4793-9F5C-C0C5A336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6C5-643A-4471-A1EB-81B2E88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F06-E983-4928-B941-443E1001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368-4ECA-40AC-952E-F28F705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986-FDFD-4158-89B6-CC6F11E7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9CB-C9D0-496C-ADC2-D80ED00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B24-653D-4579-A7B9-FB16C76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ECD-416E-4F0A-91FD-4CCA96C3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5C5-263E-435F-B92D-941291D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408C-2468-41F1-AB68-30983355735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F0D7F6A7-3576-44F4-A49F-307ED1D0107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16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s a beginni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7.2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(the one)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rning who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6.46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ζῳοποιει αὐτους οὑς θελε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D198D67E-B2DD-44C0-9575-48101DFEA02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hn 6.2: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om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9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F9CDA0A3-F49D-4223-826F-27049DADBFF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6.6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7.2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89472C17-8A7D-4A78-9FED-385A4E28664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difficult to find any logical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re question words, they will normally come first word in the sentence which is rare when they occur simply the negative (and there will also be a question mar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4.2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they were saying, 'Isn't this Joseph's son?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[to kill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7ECBF755-77E6-41F7-AC65-5DC19ADAFC4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0303BC19-8D12-475C-A67A-187452F268A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am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at he was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erbs of saying or thin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435DC721-1531-4B6C-AA18-4CBA1989F07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wor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thus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articiple of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pening inverted comma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Mark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−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he used to proclaim (saying), 'he is coming …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oth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th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εγ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438F2633-6BB4-4C3F-9BD9-FDD5A170973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ωρω ὁτι προφητης εἶ σ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fferent meaning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9D0D46CB-7576-46D8-8021-D5688797AD3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E567B983-2A74-4DCB-9C6C-C21F8549CD2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how long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during'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eni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at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For two day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en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During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o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B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A515D921-C5B5-4E4F-8400-252CAB154E8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 The lord s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messeng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8F72F5C1-9C53-44BA-8735-41FD499EE02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1119495-88E7-40EF-92C5-279E579CE1C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On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ACAEB3F1-7E9B-4AC7-B750-2256843F245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ic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he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 They are keeping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2. He teache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4B956CDA-25D8-4332-BB86-48631A40B36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94BDB1F3-8A7F-424A-A113-BB08ACF5A34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Gend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s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34208DD3-E49D-41CF-84A0-09391483F2C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681983FD-1697-41C3-8CF4-BBC85936609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0F8386D3-98C9-4D70-9B96-3557C2ECFD1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C62F876A-48AF-4F9F-9CD6-52A0DF5BDDA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to 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8-09-10T20:36:37Z</dcterms:modified>
  <cp:revision>36</cp:revision>
  <dc:subject/>
  <dc:title>Slide 1</dc:title>
</cp:coreProperties>
</file>