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4E6-2ADC-48DD-95EB-B153BFEF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BC6-644A-4278-92E7-0B7B663B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64E-A1D7-4169-90D5-D998F38D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C1C-0D9B-4195-BE90-22BC5021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0A5-31FD-4EBD-B1F4-C2BFFFED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AFB-95EA-4FB7-9827-9064D91E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AC1-7CEB-48BA-A2AF-06B585B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06B-83C5-40C1-A43B-F78952BF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626-1C5E-41ED-96BC-34EAE9E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0F1-A58B-41DB-A69C-A440B19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1F6-5792-4129-9E30-C1D37929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FF5-49E4-418D-AB08-FA5A6AC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5AD-B2D0-47B7-AE36-913D5218EF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89E216A-515A-490D-AF07-758E21532C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46200" y="1486080"/>
          <a:ext cx="6008760" cy="1006200"/>
        </p:xfrm>
        <a:graphic>
          <a:graphicData uri="http://schemas.openxmlformats.org/drawingml/2006/table">
            <a:tbl>
              <a:tblPr/>
              <a:tblGrid>
                <a:gridCol w="3606840"/>
                <a:gridCol w="24019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υνα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am able (t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ει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l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θ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s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ἰδ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I kn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4"/>
          <p:cNvSpPr/>
          <p:nvPr/>
        </p:nvSpPr>
        <p:spPr>
          <a:xfrm>
            <a:off x="0" y="32148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state arising from pas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erfect 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t:      Past state arising from action in further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luperfect e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F8B87E87-1224-4FCE-9559-BC2795FDEBB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57120" y="1714680"/>
            <a:ext cx="82296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ξεστ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irregular and is normally followed by a dative. For example: Matt 14.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ξεστ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σο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ἐχειν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'It is not lawfu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or 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o have her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translat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t is often sensible to rephrase 'it is necessary' (which one hardly ever says in English) to some form of 'must'. (N.B. there is no word in Greek for 'must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used inste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286000" y="110484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2 Result Cla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1714680"/>
            <a:ext cx="670536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ὡστε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Infinitive =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2920" y="2401920"/>
            <a:ext cx="88009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hew 15.30-1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θεραπευσεν αὐτους∙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τον ὀχλον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θαυμασαι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nd he healed them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crow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rk 15.5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δε Ἰησους οὐκετι οὐδεν ἀπεκριθη,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 θαυμαζει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ν Πιλατον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But Jesus answered nothing further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 tha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ilat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 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EBBEB05-59E8-43B0-9E61-383BAE56EA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057400" y="114300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3 Purpos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85840" y="1643040"/>
            <a:ext cx="8572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e 14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ἠλθεν κυρι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ρισιν κατα παν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the Lord is coming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exec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lit: do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gment against 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ὠσ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τ’ αὐτου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ποστελλ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υρυσσ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made (the) twel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(for them) to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m and so that he might send them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pre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uthorit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cast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E760FD37-6894-4BD3-B34A-EE4E7AD69A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1B3EBC8A-52A4-4681-B41B-AD17D90713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828800" y="1300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4 Articular Infini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1760" y="2017800"/>
          <a:ext cx="9028080" cy="914400"/>
        </p:xfrm>
        <a:graphic>
          <a:graphicData uri="http://schemas.openxmlformats.org/drawingml/2006/table">
            <a:tbl>
              <a:tblPr/>
              <a:tblGrid>
                <a:gridCol w="2384280"/>
                <a:gridCol w="525600"/>
                <a:gridCol w="611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ju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κριν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judg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ἐσθι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ea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28760" y="3286080"/>
          <a:ext cx="8196120" cy="2286000"/>
        </p:xfrm>
        <a:graphic>
          <a:graphicData uri="http://schemas.openxmlformats.org/drawingml/2006/table">
            <a:tbl>
              <a:tblPr/>
              <a:tblGrid>
                <a:gridCol w="3340080"/>
                <a:gridCol w="485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acc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 view to / aiming at / leading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ing / whi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3E8B30C9-A578-4F53-B86D-AB11A13301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19040" y="1357200"/>
            <a:ext cx="81536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as. 4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χετ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α το μη αἰτεισθαι ὑμ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do not h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cause you do not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on account of the fact of you not 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tt. 26.3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μετα δε το ἐγερθηναι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αξω ὑμας εἰς την Γαλιλαι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fter I have been ra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 will go head of you into Galil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after the activity of me being rai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D278F179-C102-457A-85D4-BDF9A6CB2C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332000"/>
            <a:ext cx="872496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ρακαλων ἡμας ἐπι πασῃ τῃ θλιψει ἡμ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ς τ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υνασθ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ἡμ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αρακαλειν τους ἐν πασῃ θλιψ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encouraging us in all our suffer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o that we might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ble 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courage those who are in any suffering. (lit: with a view to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ctivity of us being 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l. 2.12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 του γαρ ἐλθειν τιν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πο Ἰακωβου μετα των ἐθνω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ησθι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before some people cam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James, he used to e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the Gentiles. (lit: before the fact of some people 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γενετ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ν τῳ σπειρε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 μεν ἐπεσεν παρα την ὁ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 he sow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me fell alongside the path. (lit: in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ity of sowing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7C35CB4C-B3F7-43BA-AD70-08E393DE3C9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500120"/>
            <a:ext cx="65534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erson Imperatives = 'Let …'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8280" y="2822400"/>
          <a:ext cx="8929800" cy="1951200"/>
        </p:xfrm>
        <a:graphic>
          <a:graphicData uri="http://schemas.openxmlformats.org/drawingml/2006/table">
            <a:tbl>
              <a:tblPr/>
              <a:tblGrid>
                <a:gridCol w="928800"/>
                <a:gridCol w="1428840"/>
                <a:gridCol w="1571400"/>
                <a:gridCol w="1643400"/>
                <a:gridCol w="1714320"/>
                <a:gridCol w="16430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43080" y="1204920"/>
            <a:ext cx="8429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are very distinctiv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σ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andard distinctive features are visibl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Active and Middl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Aorist Pas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7120" y="3271680"/>
            <a:ext cx="835812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23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τις ἐχει ὠτα ἀκουειν ἀκουετ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f someone has ears to hear, he should h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6.1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οὐν βασιλευετω ἡ ἁμαρτια ἐν τῳ θνη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ων σω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refore sin should not reign in your mortal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FADE1CD-2E10-4C22-8D3F-C456CC33D8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7A362FD-87BF-49E3-8128-718D9A8A70F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760" y="1571760"/>
          <a:ext cx="8610480" cy="4114800"/>
        </p:xfrm>
        <a:graphic>
          <a:graphicData uri="http://schemas.openxmlformats.org/drawingml/2006/table">
            <a:tbl>
              <a:tblPr/>
              <a:tblGrid>
                <a:gridCol w="2162160"/>
                <a:gridCol w="1023840"/>
                <a:gridCol w="623880"/>
                <a:gridCol w="3106800"/>
                <a:gridCol w="1693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593F604-6F24-4DDE-BE53-BEDF91FAD8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7200" y="1289160"/>
          <a:ext cx="8739360" cy="4800600"/>
        </p:xfrm>
        <a:graphic>
          <a:graphicData uri="http://schemas.openxmlformats.org/drawingml/2006/table">
            <a:tbl>
              <a:tblPr/>
              <a:tblGrid>
                <a:gridCol w="1598760"/>
                <a:gridCol w="1401840"/>
                <a:gridCol w="500040"/>
                <a:gridCol w="3357360"/>
                <a:gridCol w="1881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Middle/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Μ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8489B07-3E0B-4B3C-AFB9-D397C499D3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280" y="1181160"/>
            <a:ext cx="548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ναμαι, καθημαι, κει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200" y="1886040"/>
          <a:ext cx="8894880" cy="4114800"/>
        </p:xfrm>
        <a:graphic>
          <a:graphicData uri="http://schemas.openxmlformats.org/drawingml/2006/table">
            <a:tbl>
              <a:tblPr/>
              <a:tblGrid>
                <a:gridCol w="1487520"/>
                <a:gridCol w="1500480"/>
                <a:gridCol w="1271520"/>
                <a:gridCol w="1612800"/>
                <a:gridCol w="1623960"/>
                <a:gridCol w="139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1FAFA7F3-EB31-4CBC-A1A7-FF4403407D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2813040"/>
          <a:ext cx="9205920" cy="3322800"/>
        </p:xfrm>
        <a:graphic>
          <a:graphicData uri="http://schemas.openxmlformats.org/drawingml/2006/table">
            <a:tbl>
              <a:tblPr/>
              <a:tblGrid>
                <a:gridCol w="1478160"/>
                <a:gridCol w="1220760"/>
                <a:gridCol w="4125960"/>
                <a:gridCol w="238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ls you that, for examp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Im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λομ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Act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Aorist Activ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d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ding points out that it has a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fect Participl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ηθησομεθ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57120" y="1297080"/>
          <a:ext cx="8429760" cy="115884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7960"/>
                <a:gridCol w="1403640"/>
                <a:gridCol w="1455480"/>
                <a:gridCol w="13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15E1EE61-8DA0-4891-B55F-C8ABBD4830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2920" y="1214280"/>
            <a:ext cx="97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time distinctions: future, present,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'aspects'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 – the action i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defined – the action is considered in itself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out reference to continuation o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d – the action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nses function differently in the different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s – time and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s – relative time (relative to the main ve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moods – aspect on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A4CD3C93-97DF-445D-B076-FB8C59D0BD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440" y="1230480"/>
          <a:ext cx="8763120" cy="3127320"/>
        </p:xfrm>
        <a:graphic>
          <a:graphicData uri="http://schemas.openxmlformats.org/drawingml/2006/table">
            <a:tbl>
              <a:tblPr/>
              <a:tblGrid>
                <a:gridCol w="1430280"/>
                <a:gridCol w="1231920"/>
                <a:gridCol w="495360"/>
                <a:gridCol w="1666800"/>
                <a:gridCol w="1994040"/>
                <a:gridCol w="19447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(or Un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223"/>
          <p:cNvSpPr/>
          <p:nvPr/>
        </p:nvSpPr>
        <p:spPr>
          <a:xfrm>
            <a:off x="142920" y="4387680"/>
            <a:ext cx="87868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ultaneous/sequence is very similar to process/un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dicative can be dominated by aspect, (e.g. Romans 3.23: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παντες γαρ ἡματον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but normally time (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longsid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) is very import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ugment marks out past time – hence it occurs in the Imperfect and Aorist in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1246A1C-0066-4ACD-B4C6-41B487D554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52560" y="2057400"/>
          <a:ext cx="7238880" cy="3521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43"/>
          <p:cNvSpPr/>
          <p:nvPr/>
        </p:nvSpPr>
        <p:spPr>
          <a:xfrm>
            <a:off x="762120" y="137160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ἰδ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A99D1DD2-7B17-46C4-8D1D-CB1E3A0CDC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4120" y="1531800"/>
            <a:ext cx="8358120" cy="1917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of the form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easily confused with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 see).  Remember that augments are lost i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7240" y="3840120"/>
          <a:ext cx="7715520" cy="1874880"/>
        </p:xfrm>
        <a:graphic>
          <a:graphicData uri="http://schemas.openxmlformats.org/drawingml/2006/table">
            <a:tbl>
              <a:tblPr/>
              <a:tblGrid>
                <a:gridCol w="2598840"/>
                <a:gridCol w="1758960"/>
                <a:gridCol w="1643040"/>
                <a:gridCol w="1714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 – 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ᾐ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3CE76C2-159D-4841-8D86-368C6800DC3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1474920"/>
            <a:ext cx="89298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s. 2.1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να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 πιστις σωσαι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save him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ὁ κυριος τῳ κυριῳ μου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θ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δεξιων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said to my lor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my right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8.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κ ἐστιν ὡδε, ἠγερθη γαρ καθως εἰπεν∙ δευ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ετε τον τοπον ὁ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is not here, for he has been raised just as he said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e see the place whe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l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FD285D66-94DE-4C64-BF2A-40FB2314675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2920" y="1177920"/>
            <a:ext cx="877248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4.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ὐθεως ἐγενομην ἐν πνευματι, και ἰδου θρονο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ῳ οὐρανῳ, και ἐπι τον θρον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καθημεν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mmediately I was in the spirit, and behold a thron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ly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in heaven, and on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sitt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n the thro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3 John 1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και ἡμεις δε μαρτυρουμεν, και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οἰδα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ἡ μαρτυρια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ἡμων ἀληθης ἐστ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We also testify, an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you know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our testimony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r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2 Cor. 4.1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δο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ὁ ἐγειρας τνο κυριον Ἰησουν και ἡμας συ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Ἰησου ἐγερεῖ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Know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one who raised the Lord Jesus will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ise us also with Jes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2585BCB1-EAE6-4EDD-A405-C3EE4A66C9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71600" y="164304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1  After certain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680" y="2849400"/>
          <a:ext cx="9001080" cy="1508400"/>
        </p:xfrm>
        <a:graphic>
          <a:graphicData uri="http://schemas.openxmlformats.org/drawingml/2006/table">
            <a:tbl>
              <a:tblPr/>
              <a:tblGrid>
                <a:gridCol w="1379520"/>
                <a:gridCol w="3121200"/>
                <a:gridCol w="1233360"/>
                <a:gridCol w="3267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(was)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law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intend / am about (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A7DE8D0B-51E4-4B3E-9D45-9F690258D7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2920" y="1143000"/>
            <a:ext cx="87868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1.19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ραψον οὐν ἁ εἰδες και ἁ εἰσιν και ἁ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μελλει γενεσθ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τα ταυ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fore write what you see and what is and what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bout to happe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fter these thing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al. 4.21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εγετε μοι, οἱ ὑπο νομ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θελοντες εἰν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, τον νομον οὐκ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κουετε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ll me, you who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sh to b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under the law, don't you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isten to the law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1 Cor. 10.23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ντα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ξεστ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ἀλλ’ οὐ παντα οἰκοδομε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erything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is permitt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ut not everything builds up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638360" y="1928880"/>
            <a:ext cx="58672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'subject of an Infinitive' goes in the 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4200" y="121428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epart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ἀγγελ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ελ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8280" y="3143160"/>
            <a:ext cx="90014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8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υἱ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ἀνθρωπου πολλα πα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must suffer greatly (lit: it is necessar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to suffer great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. 16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φους εἰναι εἰς το ἀγα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be wise towards the good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66E18D8-E352-490A-8A26-824D77A3EA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42:24Z</dcterms:created>
  <dc:creator>Sarah</dc:creator>
  <dc:description/>
  <dc:language>en-US</dc:language>
  <cp:lastModifiedBy>Sarah</cp:lastModifiedBy>
  <dcterms:modified xsi:type="dcterms:W3CDTF">2009-03-20T14:12:24Z</dcterms:modified>
  <cp:revision>52</cp:revision>
  <dc:subject/>
  <dc:title>Slide 1</dc:title>
</cp:coreProperties>
</file>