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8731-45EB-470A-B4DA-ADAA239332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7ED0-86EA-496E-A6AF-F3958FAAB0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75C0-FC19-4751-A704-749AC001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603-8D4F-4DFC-B849-048A2A9D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E2F-9F96-4EB9-B171-CC984978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4BD1-3273-482D-9A44-AAF67269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F35B-92E6-42AD-BE69-030D85B0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2A26-17AC-4823-ADB5-B4D9074A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B68F-276A-4723-8423-D4209F7D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2F2D-0FA8-43B1-A55A-4F2C9281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9CB7-D16E-46F1-8F84-BEEE6260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B014-5E2C-4FF6-A928-37B806B6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7BF-CA74-45EF-AE19-B4E2137A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CC4-C82D-43E0-BDB9-D1E48EC8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0429-B214-4A9E-8A5D-D2534CCD398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7618B713-9B00-4229-8B52-0D2FCB9F18F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: THE PASSIVE AND THE VO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42920" y="1233360"/>
            <a:ext cx="885816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Rom. 11.26: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οὑτως πας Ἰσραηλ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ωθησεται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and thus all Israel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will be saved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Luke 2:4: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εβη δε και Ἰωσηφ ἀπο της Γαλιλαιας ... εἰς πολιν Δαυιδ ἡτις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αλειται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Βηθλεεμ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Joseph also went up from Galilee to (the) city of David which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is called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Bethlehem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Matt. 3.10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ν οὐν δενδρον μη ποιουν καρπον καλον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κκοπτεται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εἰς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πυρ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βαλλεται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Therefore every tree not producing good fruit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is cut down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i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thrown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into a fir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Rom. 5.1: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ικαιωθεντες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ὐν ἐκ πιστεως εἰρηνην ἐχομεν προς τον θεον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Therefore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having been justified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through faith we have peace toward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God …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458640" y="1271520"/>
            <a:ext cx="8215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5.5.2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The Passive in the Future and the Aoris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643120" y="1959120"/>
          <a:ext cx="3695760" cy="1508040"/>
        </p:xfrm>
        <a:graphic>
          <a:graphicData uri="http://schemas.openxmlformats.org/drawingml/2006/table">
            <a:tbl>
              <a:tblPr/>
              <a:tblGrid>
                <a:gridCol w="1484280"/>
                <a:gridCol w="1165320"/>
                <a:gridCol w="10461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ffffff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ffffff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36"/>
          <p:cNvSpPr/>
          <p:nvPr/>
        </p:nvSpPr>
        <p:spPr>
          <a:xfrm>
            <a:off x="-214200" y="3575160"/>
            <a:ext cx="94294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χθησομα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Future Passive Indicativ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ω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I will be 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ἠχθην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Aorist Passive Indicativ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ω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I was l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λαληθει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– Aorist Passive Participl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λαλε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– Having been spok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βαπτισθηναι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Aorist Passive Infinitiv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βαπτιζ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To be baptis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785880" y="137160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5.5.3 Irregular Future and Aorist Pass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20880" y="2286000"/>
          <a:ext cx="7305480" cy="3475080"/>
        </p:xfrm>
        <a:graphic>
          <a:graphicData uri="http://schemas.openxmlformats.org/drawingml/2006/table">
            <a:tbl>
              <a:tblPr/>
              <a:tblGrid>
                <a:gridCol w="2435040"/>
                <a:gridCol w="2435400"/>
                <a:gridCol w="2435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κου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κουσ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λη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ερ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λη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ωζ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ω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ak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μβα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ημφθ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49320" y="1184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rregular Future and Aorist Passiv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continu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57160" y="1806480"/>
          <a:ext cx="7286760" cy="4480200"/>
        </p:xfrm>
        <a:graphic>
          <a:graphicData uri="http://schemas.openxmlformats.org/drawingml/2006/table">
            <a:tbl>
              <a:tblPr/>
              <a:tblGrid>
                <a:gridCol w="1557360"/>
                <a:gridCol w="2470320"/>
                <a:gridCol w="325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στ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σταλ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r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ραφ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ραφ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π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παρ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u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τρεφ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τραφ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αι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αν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γ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ρρεθ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i="1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ρρηθ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ρα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ὠφ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ε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νεχ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433520" y="2057400"/>
          <a:ext cx="6281640" cy="2706840"/>
        </p:xfrm>
        <a:graphic>
          <a:graphicData uri="http://schemas.openxmlformats.org/drawingml/2006/table">
            <a:tbl>
              <a:tblPr/>
              <a:tblGrid>
                <a:gridCol w="1569960"/>
                <a:gridCol w="1571760"/>
                <a:gridCol w="1569960"/>
                <a:gridCol w="1569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 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on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01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 Want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9960" y="1500120"/>
          <a:ext cx="8344080" cy="4095720"/>
        </p:xfrm>
        <a:graphic>
          <a:graphicData uri="http://schemas.openxmlformats.org/drawingml/2006/table">
            <a:tbl>
              <a:tblPr/>
              <a:tblGrid>
                <a:gridCol w="1386000"/>
                <a:gridCol w="1319040"/>
                <a:gridCol w="2610000"/>
                <a:gridCol w="302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on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 on the page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ctive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236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or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ssive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r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unusually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e special meaning of the Middle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ctive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r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te unusually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t is actually in the Passive with Passive meaning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30320" y="1862280"/>
            <a:ext cx="7072200" cy="35690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 often helps to be clear about why you find something confus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r many students it is because the Middle seems to be Ac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 mea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but very close to the Pass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 end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 is confusingly in the middle!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14400" y="1281240"/>
            <a:ext cx="7315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5.6.1 Special uses of the Middl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6040" y="1989000"/>
            <a:ext cx="882504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) A small number of verbs still use the three voices with different mean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δυε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Active) - He puts (clothes) on (someone e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δυε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(Middle) – He puts (clothes) on him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δυε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(Passive) – It is pu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b) Some writers (particularly the author of Luke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Acts) frequently use the Middle as a stylistic device, imitating classical Greek which was thought at the time to be of greater literary quality (this is called 'archaising'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14200" y="1162080"/>
            <a:ext cx="871560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φυλασσω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ive – I guard; Middle – I am on my gu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2:8 –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ποιμενες ἠσαν ἐν τῃ χωρᾳ τῃ αὐτῃ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φυλασσο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Active)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φυλακας της νυκτος ἐπι την ποιμνην αὐτ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And in that region there were shepherds …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keeping w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v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ir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lock by 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12:1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εν δε προς αὐτου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∙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ρατε κα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φυλασσεσθ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Middle)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πο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σης πλεονεξι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And he said to them, 'Look out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e on your gua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gainst all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inds of greed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1.1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ν μεν πρωτον λογο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ποιησαμη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ερι παντ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I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mad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 first account concerning all the things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73200" y="2217600"/>
            <a:ext cx="7786440" cy="2703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e aware of these special uses; but remember, the vast majority of the time when you see a Middle, it is a deponent verb conveying an Active meaning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8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ASSIVE DEPON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5680" y="2000160"/>
          <a:ext cx="8929800" cy="3108240"/>
        </p:xfrm>
        <a:graphic>
          <a:graphicData uri="http://schemas.openxmlformats.org/drawingml/2006/table">
            <a:tbl>
              <a:tblPr/>
              <a:tblGrid>
                <a:gridCol w="1204920"/>
                <a:gridCol w="1808280"/>
                <a:gridCol w="1103400"/>
                <a:gridCol w="1977840"/>
                <a:gridCol w="1212840"/>
                <a:gridCol w="16225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ουλ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ουλησ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ουλη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f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οβε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οβηθησ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οβη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ns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ριν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ρινε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κρι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ρευ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ρευσο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ορευ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ρευθησο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371600" y="2600280"/>
            <a:ext cx="640080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Active: 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Jesus heals the lep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Passive: 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The leper is healed.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11E4EB7C-3431-4599-8658-499BDB353E3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1 THE IDEA OF THE PASS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D34D17F1-E7F6-4FD8-AC84-0CC713923B2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2 VO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14200" y="2868480"/>
            <a:ext cx="1500480" cy="19378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ddle Pa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3500280" y="2509920"/>
            <a:ext cx="1785960" cy="2669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Moo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0"/>
          <p:cNvSpPr/>
          <p:nvPr/>
        </p:nvSpPr>
        <p:spPr>
          <a:xfrm flipV="1">
            <a:off x="3499560" y="3839760"/>
            <a:ext cx="1785960" cy="1800"/>
          </a:xfrm>
          <a:prstGeom prst="line">
            <a:avLst/>
          </a:prstGeom>
          <a:ln w="25560">
            <a:solidFill>
              <a:srgbClr val="e0b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6643800" y="1986120"/>
            <a:ext cx="2286000" cy="3400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Ten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5"/>
          <p:cNvSpPr/>
          <p:nvPr/>
        </p:nvSpPr>
        <p:spPr>
          <a:xfrm>
            <a:off x="6643800" y="4429080"/>
            <a:ext cx="2286000" cy="1800"/>
          </a:xfrm>
          <a:prstGeom prst="line">
            <a:avLst/>
          </a:prstGeom>
          <a:ln w="25560">
            <a:solidFill>
              <a:srgbClr val="e0b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22"/>
          <p:cNvCxnSpPr>
            <a:stCxn id="96" idx="3"/>
            <a:endCxn id="97" idx="1"/>
          </p:cNvCxnSpPr>
          <p:nvPr/>
        </p:nvCxnSpPr>
        <p:spPr>
          <a:xfrm>
            <a:off x="1714680" y="3836520"/>
            <a:ext cx="1786320" cy="1188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02" name="Straight Arrow Connector 24"/>
          <p:cNvCxnSpPr/>
          <p:nvPr/>
        </p:nvCxnSpPr>
        <p:spPr>
          <a:xfrm>
            <a:off x="5285880" y="2857680"/>
            <a:ext cx="1358280" cy="21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03" name="Straight Arrow Connector 27"/>
          <p:cNvCxnSpPr/>
          <p:nvPr/>
        </p:nvCxnSpPr>
        <p:spPr>
          <a:xfrm>
            <a:off x="5285880" y="4785840"/>
            <a:ext cx="1358280" cy="25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sp>
        <p:nvSpPr>
          <p:cNvPr id="104" name="TextBox 28"/>
          <p:cNvSpPr/>
          <p:nvPr/>
        </p:nvSpPr>
        <p:spPr>
          <a:xfrm>
            <a:off x="5286240" y="250020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9"/>
          <p:cNvSpPr/>
          <p:nvPr/>
        </p:nvSpPr>
        <p:spPr>
          <a:xfrm>
            <a:off x="5286240" y="4429080"/>
            <a:ext cx="128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m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0"/>
          <p:cNvSpPr/>
          <p:nvPr/>
        </p:nvSpPr>
        <p:spPr>
          <a:xfrm>
            <a:off x="1785960" y="3186000"/>
            <a:ext cx="1643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ach of the voices, there are the same range of m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0AB0FE24-D41D-4D60-9451-7A6E5F94D97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7360" y="1357200"/>
          <a:ext cx="8883720" cy="4572000"/>
        </p:xfrm>
        <a:graphic>
          <a:graphicData uri="http://schemas.openxmlformats.org/drawingml/2006/table">
            <a:tbl>
              <a:tblPr/>
              <a:tblGrid>
                <a:gridCol w="1471680"/>
                <a:gridCol w="1200240"/>
                <a:gridCol w="1195200"/>
                <a:gridCol w="1424160"/>
                <a:gridCol w="1096920"/>
                <a:gridCol w="1171440"/>
                <a:gridCol w="132408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Mood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  θ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λυ  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 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43000" y="1220760"/>
            <a:ext cx="854388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pattern in the Active and in the Middle is the sa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ῥυομα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s used as the exemplar in the Middle rather than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the Middle is normally used only for the deponent verb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the Passive, the pattern of 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ugments is the same as in the Active – the Imperfect and Aorist Indicative has an aug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Aorist Passive is marked out by a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θ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ffi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Future Passive is marked out by a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θη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ffix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Future Indicative is easily confused with the Aorist in the other Moods in the Active and Middle (both have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ffixes but no augmen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382F858C-EE2B-4331-9809-1220B7286FB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6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4 THE MEANING OF THE PASS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1360" y="1752480"/>
          <a:ext cx="8801280" cy="3962520"/>
        </p:xfrm>
        <a:graphic>
          <a:graphicData uri="http://schemas.openxmlformats.org/drawingml/2006/table">
            <a:tbl>
              <a:tblPr/>
              <a:tblGrid>
                <a:gridCol w="1441440"/>
                <a:gridCol w="1492200"/>
                <a:gridCol w="757440"/>
                <a:gridCol w="511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being untied, you are being untied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be untied, you will be untied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being untied, you were being untied, 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untied, you were untied, 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-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 untied! (continuously/repeated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-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 untied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-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be untied (continuously/repeated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-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b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ing untied (simultaneou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been untied (sequenc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7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33520" y="1285920"/>
            <a:ext cx="3809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assiv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57120" y="2025720"/>
          <a:ext cx="8396280" cy="3475080"/>
        </p:xfrm>
        <a:graphic>
          <a:graphicData uri="http://schemas.openxmlformats.org/drawingml/2006/table">
            <a:tbl>
              <a:tblPr/>
              <a:tblGrid>
                <a:gridCol w="1643040"/>
                <a:gridCol w="1446480"/>
                <a:gridCol w="1971360"/>
                <a:gridCol w="1708200"/>
                <a:gridCol w="1627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ε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ε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ον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ν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25360" y="2516040"/>
          <a:ext cx="6858000" cy="2468880"/>
        </p:xfrm>
        <a:graphic>
          <a:graphicData uri="http://schemas.openxmlformats.org/drawingml/2006/table">
            <a:tbl>
              <a:tblPr/>
              <a:tblGrid>
                <a:gridCol w="1859040"/>
                <a:gridCol w="1465200"/>
                <a:gridCol w="1866960"/>
                <a:gridCol w="1666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5760">
                      <a:solidFill>
                        <a:srgbClr val="ffcc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σθ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ν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123"/>
          <p:cNvSpPr/>
          <p:nvPr/>
        </p:nvSpPr>
        <p:spPr>
          <a:xfrm>
            <a:off x="714240" y="1571760"/>
            <a:ext cx="4543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ther mood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assiv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612800" y="1557360"/>
            <a:ext cx="59054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5.5.1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The Passive in the Present and Imperfec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14200" y="3133800"/>
            <a:ext cx="864396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ετ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ular Present Indicative Middl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ῥυομ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ετ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ular Present Indicative Passive 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4:05:35Z</dcterms:created>
  <dc:creator>Sarah</dc:creator>
  <dc:description/>
  <dc:language>en-US</dc:language>
  <cp:lastModifiedBy>Sarah</cp:lastModifiedBy>
  <dcterms:modified xsi:type="dcterms:W3CDTF">2009-03-11T22:46:50Z</dcterms:modified>
  <cp:revision>49</cp:revision>
  <dc:subject/>
  <dc:title>Slide 1</dc:title>
</cp:coreProperties>
</file>