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461-7DB0-41AA-A757-A3273B5E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A65-5430-43BE-BA17-50E6DA83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58A-F301-4F74-B03E-86C496CB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644-8CCA-4044-A208-14AF6F36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8DA0-973F-4E62-AF4E-89DEE518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B6FB-F5F1-4A30-8AE4-5983C4C3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8EDF-76E0-468A-A064-2EDF081E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C58A-6818-4E1F-830A-66A462D2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2B4D-E519-4D6F-85AB-2EB415EC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B520-108E-4C09-9A8F-B6ABFD74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6B01-CAD0-4400-9499-D74ACED9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91E-7F6D-4DFA-9716-C725F4D0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ED28-D51F-47A1-9FED-140E2F7E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D908-6942-4307-89DE-C1CF9D5C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E4FC-C2D7-4520-AFA0-25414F3B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968E-8374-4984-961B-10447339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28E6-452E-4EE9-A559-73D73126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1CF-5762-4E21-91F5-2C2E3775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235-7306-4AAB-B10E-D48377A7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6D4-3667-4C8C-BF65-D1A2BDF6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4EB-311F-44A5-A895-F598B050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0B6-A227-466A-BDD7-265E4A8F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DA3-1D58-4E38-9103-95EADA32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C30-9CB2-4C33-A7B5-7A436D71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14CA-0DBD-48EE-9EDE-178B052EC97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792A-A7E0-446C-9F83-51A99AB38C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87" name=""/>
          <p:cNvGraphicFramePr/>
          <p:nvPr/>
        </p:nvGraphicFramePr>
        <p:xfrm>
          <a:off x="155520" y="1357200"/>
          <a:ext cx="8832960" cy="4373640"/>
        </p:xfrm>
        <a:graphic>
          <a:graphicData uri="http://schemas.openxmlformats.org/drawingml/2006/table">
            <a:tbl>
              <a:tblPr/>
              <a:tblGrid>
                <a:gridCol w="1951200"/>
                <a:gridCol w="1293840"/>
                <a:gridCol w="3041640"/>
                <a:gridCol w="2546280"/>
              </a:tblGrid>
              <a:tr h="45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ma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3CBBA8CD-3274-48B5-AF74-B86CB4756A0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662400" y="15001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3 Forming a Sen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28760" y="2071800"/>
            <a:ext cx="8715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γγελου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τε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plural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ς βλεπει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A slave sees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 βλεπουσιν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- Slaves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 βλεπουσιν αγγελου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Slaves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486080" y="1641600"/>
            <a:ext cx="617220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erbs agree with their subject in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57120" y="3251160"/>
            <a:ext cx="8286840" cy="26845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three steps to trans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Work out the cases of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Work out why the different words have the cases they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Translate the sentence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14200" y="2428920"/>
            <a:ext cx="878688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rd)</a:t>
            </a: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δουλου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slave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ουλο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A lord has slaves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143000" y="171468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928800" y="221472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l-GR" sz="2800" spc="-1" strike="noStrike">
                <a:solidFill>
                  <a:srgbClr val="ffffff"/>
                </a:solidFill>
                <a:latin typeface="Gentium"/>
                <a:ea typeface="Arial"/>
              </a:rPr>
              <a:t>κυριος ἐχει δουλ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460520"/>
          <a:ext cx="5977080" cy="2271600"/>
        </p:xfrm>
        <a:graphic>
          <a:graphicData uri="http://schemas.openxmlformats.org/drawingml/2006/table">
            <a:tbl>
              <a:tblPr/>
              <a:tblGrid>
                <a:gridCol w="1992600"/>
                <a:gridCol w="1992240"/>
                <a:gridCol w="199224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42920" y="4000680"/>
            <a:ext cx="1035828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βλεπει 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αγγελον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ingular) se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αγγελοι βλεπουσιν.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s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νθρωπος βλεπει τους αγγελου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 </a:t>
            </a:r>
            <a:r>
              <a:rPr b="0" lang="el-GR" sz="1000" spc="-1" strike="noStrike">
                <a:solidFill>
                  <a:srgbClr val="ffffff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erson see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214200" y="1658880"/>
            <a:ext cx="878688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special uses of the definite 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Δαυιδ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David (not 'the David'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bstract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ανθρωπ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‘the person’, also ‘humanity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νομ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‘law’ (as a concept), also ‘the law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o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ather than ‘a god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θε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PECIAL USES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2" name="Rectangle 4"/>
          <p:cNvSpPr/>
          <p:nvPr/>
        </p:nvSpPr>
        <p:spPr>
          <a:xfrm>
            <a:off x="928800" y="2013120"/>
            <a:ext cx="70722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 or Plural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: he, she, or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: two possibilities –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Verdana"/>
              </a:rPr>
              <a:t>is always used before a vowel and at the end of a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A3943B54-9592-4BEB-AD37-1968BA8BF69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.1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343080" y="4626000"/>
            <a:ext cx="8458200" cy="10076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ne Greek word often means more than one English w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71720" y="1785960"/>
          <a:ext cx="6765840" cy="1879560"/>
        </p:xfrm>
        <a:graphic>
          <a:graphicData uri="http://schemas.openxmlformats.org/drawingml/2006/table">
            <a:tbl>
              <a:tblPr/>
              <a:tblGrid>
                <a:gridCol w="761760"/>
                <a:gridCol w="1024200"/>
                <a:gridCol w="1593720"/>
                <a:gridCol w="1003320"/>
                <a:gridCol w="1023840"/>
                <a:gridCol w="1359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με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2C0424E8-05EA-4B78-9934-8D0F4169C9E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pSp>
        <p:nvGrpSpPr>
          <p:cNvPr id="103" name="Group 28"/>
          <p:cNvGrpSpPr/>
          <p:nvPr/>
        </p:nvGrpSpPr>
        <p:grpSpPr>
          <a:xfrm>
            <a:off x="228600" y="1709640"/>
            <a:ext cx="8686080" cy="2362320"/>
            <a:chOff x="228600" y="1709640"/>
            <a:chExt cx="8686080" cy="2362320"/>
          </a:xfrm>
        </p:grpSpPr>
        <p:sp>
          <p:nvSpPr>
            <p:cNvPr id="104" name="Rectangle 4"/>
            <p:cNvSpPr/>
            <p:nvPr/>
          </p:nvSpPr>
          <p:spPr>
            <a:xfrm>
              <a:off x="228600" y="1709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1757880" y="1709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 am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4604760" y="1709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6144840" y="1709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 am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228600" y="2087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1757880" y="2087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sing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4604760" y="2087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6144840" y="2087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sing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228600" y="2465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1757880" y="2465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e, she or it is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4604760" y="2465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6144840" y="2465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e, she or it is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28600" y="2843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1757880" y="2843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604760" y="2843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6144840" y="2843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228600" y="3221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1757880" y="3221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pl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4604760" y="3221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6144840" y="3221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pl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228600" y="3599640"/>
              <a:ext cx="15292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1757880" y="3599640"/>
              <a:ext cx="28468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hey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4604760" y="3599640"/>
              <a:ext cx="153972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6144840" y="3599640"/>
              <a:ext cx="276984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hey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3"/>
          <p:cNvSpPr/>
          <p:nvPr/>
        </p:nvSpPr>
        <p:spPr>
          <a:xfrm>
            <a:off x="142920" y="4514760"/>
            <a:ext cx="8658360" cy="10994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nce you know the Present of </a:t>
            </a:r>
            <a:r>
              <a:rPr b="0" lang="el-GR" sz="36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r>
              <a:rPr b="0" lang="en-GB" sz="36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you know the Present of almost every Greek verb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>
            <a:off x="4611600" y="24685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βλεπε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6D91B3F1-1BAC-4B3F-923C-E79747D7E73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34" name="Text Box 4"/>
          <p:cNvSpPr/>
          <p:nvPr/>
        </p:nvSpPr>
        <p:spPr>
          <a:xfrm>
            <a:off x="857160" y="1428840"/>
            <a:ext cx="7358040" cy="194040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Greek grammar is very regul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ut with many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minor adjust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hen certain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letters comb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4"/>
          <p:cNvSpPr/>
          <p:nvPr/>
        </p:nvSpPr>
        <p:spPr>
          <a:xfrm>
            <a:off x="71280" y="4214880"/>
            <a:ext cx="914400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s: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ops out before long vowel or dipht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013149B3-D7FE-4AF0-8D32-ED56F67E7CE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140" name=""/>
          <p:cNvGraphicFramePr/>
          <p:nvPr/>
        </p:nvGraphicFramePr>
        <p:xfrm>
          <a:off x="166680" y="1576440"/>
          <a:ext cx="8763120" cy="4281480"/>
        </p:xfrm>
        <a:graphic>
          <a:graphicData uri="http://schemas.openxmlformats.org/drawingml/2006/table">
            <a:tbl>
              <a:tblPr/>
              <a:tblGrid>
                <a:gridCol w="2679840"/>
                <a:gridCol w="1807920"/>
                <a:gridCol w="42753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ocess of getting the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lov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is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i="1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60C1E203-2910-4284-A03F-113A468E968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285840" y="2000160"/>
            <a:ext cx="8420040" cy="23198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ω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s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always listed in vocabularies or dictionaries in their uncontracted form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though this form will never be found in Greek (since it would have contracted into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4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6D7C731D-59A0-407B-8B48-4274B0AA08F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785880" y="428760"/>
            <a:ext cx="664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FAE87E55-9BB7-4514-8692-B80CF7211A5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62040" y="2768760"/>
          <a:ext cx="6172200" cy="2184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n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76"/>
          <p:cNvSpPr/>
          <p:nvPr/>
        </p:nvSpPr>
        <p:spPr>
          <a:xfrm>
            <a:off x="1523880" y="18543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1 The forms of </a:t>
            </a: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λογ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071720" y="200016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2 The Meaning of the Nominative and Accusative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000160" y="3429000"/>
            <a:ext cx="514368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ominative –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cusative –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0:50:58Z</dcterms:created>
  <dc:creator>Sarah</dc:creator>
  <dc:description/>
  <dc:language>en-US</dc:language>
  <cp:lastModifiedBy>Sarah</cp:lastModifiedBy>
  <dcterms:modified xsi:type="dcterms:W3CDTF">2008-08-25T11:50:21Z</dcterms:modified>
  <cp:revision>53</cp:revision>
  <dc:subject/>
  <dc:title>Slide 1</dc:title>
</cp:coreProperties>
</file>