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0D0-3822-4CDE-8B06-CC8A15EA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15D-1A92-4A4F-A99C-AC409F5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B08-D1B9-4DD9-B077-149C26F9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D09-CF27-4AC1-ABF5-5B074DD4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C2A-0095-4E0E-A19A-7F1DA0EA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367-71AE-4AE1-85B7-9652EA85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EA3-4B51-40F5-8D8A-F3672C9C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100-C675-4563-8410-9040EF6C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4B6-F73C-4D14-924F-47B0457F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F6A-BCBB-4690-A15A-54C2CDE2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56D-1E72-4D7A-8F16-467F109D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CB7-71BA-44DC-9D58-A8910BC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B8EF-B614-4B97-9FDF-4CC9AA103C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3363AFB0-39E9-4204-977A-8F0EE158F13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: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2920" y="1143000"/>
            <a:ext cx="876312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θω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εγραπτ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ν τῳ Ἠσαϊᾳ τῳ προφητῃ∙ Ἰδ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στελλ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a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 is writt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Isaiah the prophet, 'Look! I a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ding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9.3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εἰπεν∙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ετελεστ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said, 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 i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inish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5.1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μη πιστευων τῳ θεῳ ψευστη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οιη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ν, ὁτι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ιστευ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την μαρτυριαν ἡ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ματυρη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θεος περι του υἱου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does not believe in Go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s ma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ar, becaus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has not belie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testimony whic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s testifi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oncerning his 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C9E3004C-17C9-4675-A889-B44571DB6B9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6760" y="1785960"/>
            <a:ext cx="8610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f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state arising from event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I have broken the window' – past event, but it is sti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uperfec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st state arising from event in the remot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I had broken the window' – past event, created a state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the state is now past (it was broken for a time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now is fixed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67A8D875-0540-4F0B-AAA8-4A0B44607EC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4080" y="1146240"/>
            <a:ext cx="882972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irect statements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But he said th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had not destroy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law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k uses the original tense of the words of the thought/spe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ε εἰπεν ὁτι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καταλελυ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mporal cl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he had co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he spoke to the people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k would normally translate this by a Participle, 'having come, he spoke to the people‘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λθ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εἰπεν τῳ λα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τε ἠλθ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εν τῳ λα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14240" y="13190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rm of the Pluperfec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7360" y="2143080"/>
          <a:ext cx="8358120" cy="3722760"/>
        </p:xfrm>
        <a:graphic>
          <a:graphicData uri="http://schemas.openxmlformats.org/drawingml/2006/table">
            <a:tbl>
              <a:tblPr/>
              <a:tblGrid>
                <a:gridCol w="2214720"/>
                <a:gridCol w="3074760"/>
                <a:gridCol w="3068640"/>
              </a:tblGrid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and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F9C3541D-E04F-49E5-8CD3-7F87F6E89C7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CC4765A6-B6EE-40FB-8AF6-6B575150C9C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5840" y="1714680"/>
          <a:ext cx="8572320" cy="3840120"/>
        </p:xfrm>
        <a:graphic>
          <a:graphicData uri="http://schemas.openxmlformats.org/drawingml/2006/table">
            <a:tbl>
              <a:tblPr/>
              <a:tblGrid>
                <a:gridCol w="1685880"/>
                <a:gridCol w="1684440"/>
                <a:gridCol w="1768320"/>
                <a:gridCol w="3433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nd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80C0CB82-E8AE-4CF6-A002-5654F6CA629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2840" y="1655640"/>
          <a:ext cx="8518320" cy="3978360"/>
        </p:xfrm>
        <a:graphic>
          <a:graphicData uri="http://schemas.openxmlformats.org/drawingml/2006/table">
            <a:tbl>
              <a:tblPr/>
              <a:tblGrid>
                <a:gridCol w="1703160"/>
                <a:gridCol w="1627200"/>
                <a:gridCol w="1781280"/>
                <a:gridCol w="1703520"/>
                <a:gridCol w="1703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σ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σθ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ντ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μεν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9CA65524-26B1-4360-B50C-A05D4520AFF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68280"/>
            <a:ext cx="868680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istinguishing mark of the Perfect, in all forms, i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duplic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erfect Active also has a characteristic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erfect Indicative Active endings are similar to those in the Aor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iddle and the Passive share the same forms in the Perfect (as they also do in the Present and Imperfec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erfect Middle and Passive endings are similar to the Present Middle and Passive endings, but they lack any initial vowel (e.g.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τ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ν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μεν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ines lik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ith nominative singular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ω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υι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and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ension ste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οτ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-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get Perfects in all of the other moods, where they convey a sense of completion (e.g. Perfect Infinitive Activ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εν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Passiv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σθ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However these are very r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D1F02D61-B416-43FE-ABCD-C824A5DE201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171880" y="157176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2.1 Reduplica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62120" y="2895480"/>
            <a:ext cx="7467480" cy="1810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duplication - Perfect - in all m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gmentation – Imperfect and Aorist - only in the Indic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876D54E9-1882-4BD9-96F3-CE20D41D46F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137160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2.2 Stem Chang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0680" y="2286000"/>
            <a:ext cx="81532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sence of consonants next to the stem in the perfect causes complication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are straight forward -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urns into a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verbs are complicated - the final letter of the stem shifts within defined groups to whateve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nds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κ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γ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χ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σσ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π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φ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 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τ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,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θ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ζ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2BAC80E8-4755-456B-A99C-5E33E058DCD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76240" y="128124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3.1 Participl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0200" y="1851120"/>
            <a:ext cx="8763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6.3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γαλλιασα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ιστευκω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rejoiced … becaus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had become a believ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he had believed and still believed in Go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5.1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ακαριοι ο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διωγμεν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essed are thos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 have been persecut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.e. th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secut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214280" y="1967040"/>
            <a:ext cx="65534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1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 πιστις σου σεσωκεν σ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Mark 5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2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ἀνεγνω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Mark 12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3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αλεσεν αὐτ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Mark 1.2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90720" y="4724280"/>
            <a:ext cx="716256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the meaning of the ten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their rough English equival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CD3EA9CA-87B5-4A7A-97DC-C70486C20D4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7360" y="128124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3.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Difference between the Perfect and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86D1826E-760E-4273-8C82-4990548479D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6000" y="1866960"/>
          <a:ext cx="8686800" cy="3419280"/>
        </p:xfrm>
        <a:graphic>
          <a:graphicData uri="http://schemas.openxmlformats.org/drawingml/2006/table">
            <a:tbl>
              <a:tblPr/>
              <a:tblGrid>
                <a:gridCol w="2670120"/>
                <a:gridCol w="4105080"/>
                <a:gridCol w="1911600"/>
              </a:tblGrid>
              <a:tr h="1267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ate resulting from past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has eaten i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in in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has eaten many apples over the last year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in 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ate 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55:53Z</dcterms:created>
  <dc:creator>Sarah</dc:creator>
  <dc:description/>
  <dc:language>en-US</dc:language>
  <cp:lastModifiedBy>Sarah</cp:lastModifiedBy>
  <dcterms:modified xsi:type="dcterms:W3CDTF">2009-03-11T22:54:15Z</dcterms:modified>
  <cp:revision>28</cp:revision>
  <dc:subject/>
  <dc:title>Slide 1</dc:title>
</cp:coreProperties>
</file>