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43FA-0B18-4E7C-BBC6-61368357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2A7-0DFD-4B7F-978C-3176A9AE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734F-9D73-4F17-B907-9BE3CC36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4DD-DA59-404C-8733-C1F8A20A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AC3-090A-4F28-B47F-D17407E8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FDA-0EC7-414E-A631-6AA7248E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4D8-24CF-46E7-9A58-CEFC3178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C85-F806-4D07-9475-76190639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1A8-386A-48EE-AF04-85C3BBE0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EFE-EBF6-4C35-A8D1-4DD55BE0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348C-BA93-4E51-B7DC-548666F6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AE0-F1BE-4A39-9A9A-08172AFD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026A-9052-4CF6-A9E9-51D40EFE8C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37FE3B30-9266-43AE-A5DA-5037A0FBE13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31800" y="1643040"/>
            <a:ext cx="7839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27.6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θηκ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αὐτο ἐν τῳ καινῳ αὐ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νημει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plac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in his new to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20.3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καριον ἐστιν μαλλ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διδον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ἠ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more blesse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g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an to rece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. 3.20: 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δου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ἑστηκ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πι την θυραν και κρου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hold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 st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t the door and kn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FD719FF2-122E-4426-A3FB-A58D4E0BD9D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61800" y="1428840"/>
            <a:ext cx="84204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ms marked † conjugate identically to the corresponding par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ce the Perfect Active is used for a Present intransitive meaning, the Pluperfect Active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ἱστηκ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†) is used for an Imperfect intransitive mea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στημ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s both a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, watch the forms of the participles (and the other moods) - 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στ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Present Participle)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τησ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 -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Participle – transitive)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τ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no suffix -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Participle – intransitiv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B9622BFC-31CB-4347-AD5D-C549656C8CB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68120" y="1128600"/>
            <a:ext cx="896148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iti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9.36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ι λαβων παιδιον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ἐστησεν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αὐτο ἐν μεσῳ αὐτω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taking a child 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ood hi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their mid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25.33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ι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στησει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τα μεν προβατα ἐκ δεξιων αὐτου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 will st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or 'put') the sheep on his right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transi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20.32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ι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στας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ὁ Ἰησους ἐφωνησαν αὐτους και εἰπεν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Jesu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tood sti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lit: 'having stood') and called them and said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 Cor. 1.24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συνεργοι ἐσμεν της χαρας ὑμων∙ τῃ γαρ πιστει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ἑστηκατε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are fellow-workers of your joy, becaus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you st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the fai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70FE29E0-4461-4630-9FF2-D7A9C9E05B5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714680" y="1316160"/>
            <a:ext cx="5715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9.1.4 The pattern of ending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6160" y="2643120"/>
          <a:ext cx="8858160" cy="3140280"/>
        </p:xfrm>
        <a:graphic>
          <a:graphicData uri="http://schemas.openxmlformats.org/drawingml/2006/table">
            <a:tbl>
              <a:tblPr/>
              <a:tblGrid>
                <a:gridCol w="1584360"/>
                <a:gridCol w="1455480"/>
                <a:gridCol w="1536840"/>
                <a:gridCol w="1477800"/>
                <a:gridCol w="1428840"/>
                <a:gridCol w="137484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η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ῃ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ῃ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ῳ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η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ω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ω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η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α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α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ω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ω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189"/>
          <p:cNvSpPr/>
          <p:nvPr/>
        </p:nvSpPr>
        <p:spPr>
          <a:xfrm>
            <a:off x="2362320" y="1928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 Ac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05FF7F65-4996-47C0-8DC1-98AC59C125E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528720" y="12859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 Ac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7320" y="2057400"/>
          <a:ext cx="8915400" cy="3139920"/>
        </p:xfrm>
        <a:graphic>
          <a:graphicData uri="http://schemas.openxmlformats.org/drawingml/2006/table">
            <a:tbl>
              <a:tblPr/>
              <a:tblGrid>
                <a:gridCol w="1557360"/>
                <a:gridCol w="1571400"/>
                <a:gridCol w="1571760"/>
                <a:gridCol w="1191960"/>
                <a:gridCol w="1251000"/>
                <a:gridCol w="177192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ν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ν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ν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ις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–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σα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;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m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ντ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m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ντ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τω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τω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τω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υ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σ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m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ντ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0623A4E0-147D-438D-84BC-C8036DA0C66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43080" y="1500120"/>
            <a:ext cx="845820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Aorist Act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ica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θηκ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ησα, ἐδωκ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njugate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rly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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στημ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lso has intransi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η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endings a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υθη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As in the Present but using the Verbal stem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missing the initial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, δ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, except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ative which ar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ς, στηθι, δ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infinitive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ιναι, στηναι, δουν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42360" y="3981600"/>
            <a:ext cx="8458200" cy="1440"/>
          </a:xfrm>
          <a:prstGeom prst="line">
            <a:avLst/>
          </a:prstGeom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756DD321-D9CE-478C-92F1-769BC758BDA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371600" y="1122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9.1.5 Other similar verb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28520" y="1684440"/>
            <a:ext cx="8801280" cy="48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ἱη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literally 'send' but only found in compounds such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φιη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forgive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υνιη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understand) – This follows that same pattern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ιθη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ith the Present ste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ἱε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Verbal ste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Verbs in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υ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such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κνυ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I show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λυ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destroy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ῥηγνυ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break) – These hav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 endings in the Present Tense (with 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owel dominating), but then use an altered stem for the other tenses along with the normal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dings  (see the principal parts for the detail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φημι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(I  say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- This only appears in the following Indicative Active forms: Present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η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 say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ησ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he says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ασ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they say; Imperfect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φ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he s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εἰμι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(I am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If you look back at the Present of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will see that it has some similarities with the Present of th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B22473C8-9935-4FB8-A0F6-4A2E2DB37C8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42920" y="1214280"/>
            <a:ext cx="8858160" cy="53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5.21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ς δυναται ἁμαρτιας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ἀφειναι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εἰ μη μονος ὁ θε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is abl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o forgiv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s except God al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. 2.4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λλα ἐχω κατα σου ὁτι την ἀγαπην σου την πρωτη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ἀφηκε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t I have (this) against you that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you abandon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your firs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4.7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φη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αὐτῳ ὁ Ἰησους∙ Παλιν γεγραπτ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ai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him, 'Again it is written …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as. 2.18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δειξο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μοι την πιστιν σου χωρις των ἐργων, καγω σο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δειξω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ων ἐργων μου την πιστ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ho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e your faith without works,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 will sho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you m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aith through my wo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5F9DD6E9-4B9E-4C04-9F50-B917F8A2CB9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81160" y="2233440"/>
            <a:ext cx="6781680" cy="2297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sent and Imperf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ractions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ther Te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hort vowel leng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38ADD799-4FD8-4E18-A221-FACE16442B7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0840" y="1865160"/>
          <a:ext cx="8840880" cy="3292560"/>
        </p:xfrm>
        <a:graphic>
          <a:graphicData uri="http://schemas.openxmlformats.org/drawingml/2006/table">
            <a:tbl>
              <a:tblPr/>
              <a:tblGrid>
                <a:gridCol w="1523880"/>
                <a:gridCol w="2210040"/>
                <a:gridCol w="2280960"/>
                <a:gridCol w="282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o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μα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onou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ηρο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fulfi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hthong or long drops ou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ᾳ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tens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C298BA6B-C827-443B-A79C-9A550816AE9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80880" y="1643040"/>
            <a:ext cx="830592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esent infinitives of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erbs behave as if the Infinitive ending is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ot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henc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μα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ρου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 Imperfect Active Indicative of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erbs the 'optional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 was not used. Thus the ending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giving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ιλει, ἐτιμα, ἐπληρου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few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erbs keep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e other tenses e.g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εσ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50B7A599-48A8-4F61-BA65-7A7BD7786D5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838080" y="14158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9.1.1 Characteristics of </a:t>
            </a:r>
            <a:r>
              <a:rPr b="1" lang="en-GB" sz="3200" spc="-1" strike="noStrike">
                <a:solidFill>
                  <a:srgbClr val="ffffff"/>
                </a:solidFill>
                <a:latin typeface="Gentium"/>
              </a:rPr>
              <a:t>–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μι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85840" y="2581200"/>
          <a:ext cx="8529480" cy="2770200"/>
        </p:xfrm>
        <a:graphic>
          <a:graphicData uri="http://schemas.openxmlformats.org/drawingml/2006/table">
            <a:tbl>
              <a:tblPr/>
              <a:tblGrid>
                <a:gridCol w="1357200"/>
                <a:gridCol w="2428920"/>
                <a:gridCol w="2028960"/>
                <a:gridCol w="2714400"/>
              </a:tblGrid>
              <a:tr h="1267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hree 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erb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S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or Present &amp; Imperfec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η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pl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g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use to 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BF1CF5C9-9748-4912-9CB1-AED0DB7F5F5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85880" y="1187280"/>
            <a:ext cx="548640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ιλε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 He was l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φιλημ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 I have been l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τιμ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 She was hono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μᾳ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 You are hono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714680" y="4143240"/>
            <a:ext cx="59292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μησ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 I will hon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ρο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t is fulf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ρου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It is being fulf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πληρω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It has been fulfi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2F3F952F-2AFD-410A-B4DB-F65967E92A6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42920" y="1285920"/>
            <a:ext cx="892980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Thes. 2.1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ρωτω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δε ὑμας, ἀδελφοι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e as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you, brothe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ph. 6.2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τιμ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ον πατερα σου και την μητερ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onou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your father and m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al. 2:20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ζ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δε οὐκετι ἐγω,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ζ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δε ἐν ἐμοι Χριστος∙ ὃ δε νυ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ζ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 σαρκι, ἐν πιστ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ζ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ῃ του υἱου του θεου 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ἀγαπησαντο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με και παραδοντος ἑαυτον ὑπερ ἐμου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t is no longe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who l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but Chris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v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n me. Wha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w l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n flesh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l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by faith in the son of Go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o lo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lit: 'the one having loved') me and handed himself over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or 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B9C65B51-5919-4CCE-916F-447354BE3A7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14200" y="1428840"/>
            <a:ext cx="8715600" cy="47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12.16-1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μετιμησ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αὐτοις ἱνα μη φανερον αὐτο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ησωσιν, ἱν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πληρωθ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ο ῥηθεν δια Ἠσαϊου 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φητου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rebuk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m so that they would not make hi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, in order that what was spoken through Isaiah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phe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ight be fulfill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Tim. 3.1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φανερωθη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ν σαρκι, ἐδικαιωθη ἐ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νευματ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o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as reveal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flesh, justified in spirit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FCCAD3E7-757A-488C-8470-4DAE1CF2758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14200" y="1214280"/>
            <a:ext cx="892980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esent stem is formed from the Verbal stem by a form of redupl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first consonant is repeated (or an 'h' sound for those beginning with vowels 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 together with 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 the difference between this and proper reduplication (for the Perfect) which uses 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ow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85800" y="4761000"/>
            <a:ext cx="7772400" cy="1114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-</a:t>
            </a:r>
            <a:r>
              <a:rPr b="0" lang="el-GR" sz="3500" spc="-1" strike="noStrike">
                <a:solidFill>
                  <a:srgbClr val="ffffff"/>
                </a:solidFill>
                <a:latin typeface="Gentium"/>
              </a:rPr>
              <a:t>μι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verbs the Present stem is longer than the Verbal 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8E21B268-52EE-4597-9CC6-F75E5044C5B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8280" y="117648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9.1.2 Parsing -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μι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verbs – the survival guid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2360" y="1801800"/>
          <a:ext cx="8534520" cy="4602240"/>
        </p:xfrm>
        <a:graphic>
          <a:graphicData uri="http://schemas.openxmlformats.org/drawingml/2006/table">
            <a:tbl>
              <a:tblPr/>
              <a:tblGrid>
                <a:gridCol w="4516560"/>
                <a:gridCol w="40179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stem + au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 +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Indicative (or 1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Other Mood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 + augment +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 + au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 Other Mo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 +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 (+augment in Indicativ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 +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η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Pass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plicated Verbal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40D45733-3513-4BB9-9901-387725E64BA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41360" y="1428840"/>
            <a:ext cx="82296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διδωμ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τιθημ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oth use a 1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in the Indicative, and a 2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in the Other Moods. Thus, Verbal stem plu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must be the Future Indicative (since there is no 1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Other Moods). For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ἱστημ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here there is a 1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in the Other Moods, the Future Indicative has to be distinguished by its endings, which are always the same as the Future Indica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reduplication in the Perfect is proper reduplication with an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δεδ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τεθε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ἑστα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E4EC78BA-CAD7-44A2-8940-19C5E406939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1550880"/>
          <a:ext cx="8839440" cy="4822920"/>
        </p:xfrm>
        <a:graphic>
          <a:graphicData uri="http://schemas.openxmlformats.org/drawingml/2006/table">
            <a:tbl>
              <a:tblPr/>
              <a:tblGrid>
                <a:gridCol w="1368720"/>
                <a:gridCol w="2365200"/>
                <a:gridCol w="457200"/>
                <a:gridCol w="2563920"/>
                <a:gridCol w="331560"/>
                <a:gridCol w="1752840"/>
              </a:tblGrid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ιθετε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you pla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θηκε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al stem +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2nd Aorist Indic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plac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ιθεναι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o place (Infinitiv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ειναι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al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2nd Aorist other Mo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o place (Infinitiv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εδοτ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redupl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erfe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it has been giv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ἱστας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tanding (Participl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τας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al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2nd Aorist other Mo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aving stood (Participl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ωσετε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al stem +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Future Indic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you will g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στησεν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al stem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 ε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+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1st Aorist Indic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e st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195"/>
          <p:cNvSpPr/>
          <p:nvPr/>
        </p:nvSpPr>
        <p:spPr>
          <a:xfrm>
            <a:off x="152280" y="113364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82FAD847-2B2E-40EE-95EF-F3F4D1CE5DF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47600" y="1157400"/>
            <a:ext cx="885348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ohn 2.10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λεγει αὐτῳ∙ Πας ἀνθρωπος πρωτον τον καλον οἰνο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τιθησι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d he said to him, 'Every person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puts (out)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he fine wine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irst …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tt. 12.18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θησω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το πνευμα μου ἐπ’ αὐ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 will pla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my spirit on hi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ohn 19.19: 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ραψεν δε και τιτλον ὁ Πιλατος κα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θηκε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πι του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ταυρ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ilate also wrote a notice and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place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it) on the cro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 Tim. 1.11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 ὃ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τεθη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γω κηρυξ και ἀποστολος και διδασκαλ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 which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 was appointe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 herald, and apostle and teach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3F9DDE7B-C0E2-4813-BBAB-D32D450F758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30320" y="1235160"/>
            <a:ext cx="89154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ph. 1.22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ι αὐτον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ἐδωκεν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κεφαλην ὑπερ παντα τῃ ἐκκλησιᾳ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 gav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him as head (or 'made him head') over all thing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hur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4.11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λεγεν αὐτοις∙ Ὑμιν το μυστηριον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δεδοται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της βασιλειας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ου θε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said to them, 'The secret of the kingdom of God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as been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giv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you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20.18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ι ὁ υἱος του ἀνθρωπου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παραδοθησεται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τοις ἀρχιερευσιν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 son of ma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ll be handed ov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the chief prie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 Pet. 3.15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θως και ὁ ἀγαπητος ἡμων ἀδελφος Παυλος κατα την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δοθεισαν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αὐτῳ σοφιαν ἐγραψεν ὑμ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ust as our beloved brother Paul also wrote to you according t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isdom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giv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295992F2-C61A-4C10-A6EE-8E5364A1EB3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47640" y="11080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9.1.3 The meaning of 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ἱστημι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360" y="1758960"/>
          <a:ext cx="8758440" cy="4486320"/>
        </p:xfrm>
        <a:graphic>
          <a:graphicData uri="http://schemas.openxmlformats.org/drawingml/2006/table">
            <a:tbl>
              <a:tblPr/>
              <a:tblGrid>
                <a:gridCol w="819000"/>
                <a:gridCol w="904320"/>
                <a:gridCol w="216000"/>
                <a:gridCol w="2443680"/>
                <a:gridCol w="2738520"/>
                <a:gridCol w="16369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f you want .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n use .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itive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use to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ἱστη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cause to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τησ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used to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στησ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ransitiv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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ἑστηκ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τησο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t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 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στη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σταθη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22:23:23Z</dcterms:created>
  <dc:creator>Sarah</dc:creator>
  <dc:description/>
  <dc:language>en-US</dc:language>
  <cp:lastModifiedBy>Sarah</cp:lastModifiedBy>
  <dcterms:modified xsi:type="dcterms:W3CDTF">2009-03-23T17:15:09Z</dcterms:modified>
  <cp:revision>67</cp:revision>
  <dc:subject/>
  <dc:title>Slide 1</dc:title>
</cp:coreProperties>
</file>