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7DCE-3AE9-4CF7-A0C7-E25A6929F1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33E7-6D5C-4AD9-AD5D-A3791A4413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180-14C1-417C-AA77-5A4B3E7E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20DA-5068-4BA4-918E-CCE41652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358-DE38-40BF-9040-0100AD18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C55-4AA4-4041-A1B0-EACD0B72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FE4F-40DF-45A3-BFFC-0D052838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E4F2-5FFE-47AE-B88E-F074A6B4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4F3E-3EC0-48DB-A04A-8ED0F06B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EDA5-4A75-494D-AA95-91883C57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7B8E-FDAC-42D7-9FE8-3420B5E4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B862-A8FC-48E1-8AA6-EA9156D8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9385-8D39-4053-8C7E-C60C87C2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606-513D-488C-A925-A162E9EE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8F40-7E2A-440D-9F9D-2E3DDF16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D614-D5F0-4DDB-A30A-EB8E46BC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6B6A-98BE-4115-9F31-C683CF4E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65CB-2E71-45DD-BB1E-61C750B5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0CAA-7768-4D96-9E31-039AAAE0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35E6-F56A-4248-B2F8-7509E80A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D512A-2D82-44B3-8E85-F7F28AB7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F4DD3-4514-43A7-8492-BA354077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BA5C8-C9D2-4F33-BB52-0668AB78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59336-14F9-422C-8D45-F3714FEB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1F77-0300-4D17-9DA0-AA5B60AD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42E4C-54D7-4946-BC81-9D56E586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A19CC-F658-4C79-AA09-1CBF4084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2D805-0641-49FB-BBF5-157CCD91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70B5D-5BDA-40CA-A460-8EFA76F0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7FD0C-ADBF-4A64-9E75-3794F15C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BE2B3-6E37-43F0-ABB3-A2A895EC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9ECCF-48A6-42B7-AF38-3AC37101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658BA-8DC0-42DE-965C-0A154EE2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0358F-0F82-490B-A104-8AB7AC61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DAD46-BD00-46B6-A343-7792169C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CE9-450A-40C2-94C2-FFDEC8DB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B3B62-B297-4BB9-9DA1-F5D61F98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9677C-FD4A-42B1-B36D-8A8E645F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A9E79-0847-47DE-AB5C-95888010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3CE29-E305-40E7-8DC0-022C6CD2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69D6A-DFDA-47FA-A63C-09475CCA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6CBE9-F685-46DC-A234-EDFAA5A7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541F8-60E9-45AF-93A3-A21F031D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F0FEC-3873-4266-AD90-D5CFB612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D8690-54FA-4189-8876-C1B7833F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7135-432C-4479-AF0A-4DAD5BFB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722-76E2-4366-BE54-D9B50F91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070-1CA8-4710-A595-F2C8A860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F1E-0DB7-49CB-9C5C-AFDF35FE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FA46-20FE-42D4-A76E-75666DB6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e0b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8F5B-1EF6-4BE6-AEA9-3D31F1A6504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FE81-F743-4305-A10D-401A0BAC29A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e0b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-487440" y="247680"/>
            <a:ext cx="8988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pSp>
        <p:nvGrpSpPr>
          <p:cNvPr id="49" name="Group 1990"/>
          <p:cNvGrpSpPr/>
          <p:nvPr/>
        </p:nvGrpSpPr>
        <p:grpSpPr>
          <a:xfrm>
            <a:off x="71280" y="1209600"/>
            <a:ext cx="8991720" cy="4219560"/>
            <a:chOff x="71280" y="1209600"/>
            <a:chExt cx="8991720" cy="4219560"/>
          </a:xfrm>
        </p:grpSpPr>
        <p:sp>
          <p:nvSpPr>
            <p:cNvPr id="50" name=""/>
            <p:cNvSpPr/>
            <p:nvPr/>
          </p:nvSpPr>
          <p:spPr>
            <a:xfrm>
              <a:off x="71280" y="1209600"/>
              <a:ext cx="2210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Greek Let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1320" y="1209600"/>
              <a:ext cx="26668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Call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48200" y="1209600"/>
              <a:ext cx="13017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Writt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49960" y="1209600"/>
              <a:ext cx="17557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Sou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05680" y="1209600"/>
              <a:ext cx="10573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No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280" y="1646280"/>
              <a:ext cx="1143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Norm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14280" y="1646280"/>
              <a:ext cx="1067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Capi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1320" y="1646280"/>
              <a:ext cx="13716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In Engl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52920" y="1646280"/>
              <a:ext cx="12952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In Gre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48200" y="1646280"/>
              <a:ext cx="13017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Arial"/>
                </a:rPr>
                <a:t>Ι</a:t>
              </a: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n Engl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9960" y="1646280"/>
              <a:ext cx="17557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005680" y="1646280"/>
              <a:ext cx="1057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280" y="2124000"/>
              <a:ext cx="11430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14280" y="2124000"/>
              <a:ext cx="106704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81320" y="2124000"/>
              <a:ext cx="13716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Alph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52920" y="2124000"/>
              <a:ext cx="12952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ἀλφ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48200" y="2124000"/>
              <a:ext cx="130176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49960" y="2124000"/>
              <a:ext cx="17557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a as in 'hat'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05680" y="2124000"/>
              <a:ext cx="10573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280" y="2595600"/>
              <a:ext cx="11430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14280" y="2595600"/>
              <a:ext cx="10670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1320" y="2595600"/>
              <a:ext cx="13716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B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52920" y="2595600"/>
              <a:ext cx="12952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Βητ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48200" y="2595600"/>
              <a:ext cx="13017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49960" y="2595600"/>
              <a:ext cx="17557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as English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05680" y="2595600"/>
              <a:ext cx="10573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280" y="3065400"/>
              <a:ext cx="11430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14280" y="3065400"/>
              <a:ext cx="10670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1320" y="3065400"/>
              <a:ext cx="13716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Gam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52920" y="3065400"/>
              <a:ext cx="12952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γαμμ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48200" y="3065400"/>
              <a:ext cx="13017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49960" y="3065400"/>
              <a:ext cx="17557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hard g as in 'get'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05680" y="3065400"/>
              <a:ext cx="10573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280" y="3795840"/>
              <a:ext cx="11430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14280" y="3795840"/>
              <a:ext cx="10670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81320" y="3795840"/>
              <a:ext cx="13716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Del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52920" y="3795840"/>
              <a:ext cx="12952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δελτ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48200" y="3795840"/>
              <a:ext cx="13017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49960" y="3795840"/>
              <a:ext cx="17557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as English 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05680" y="3795840"/>
              <a:ext cx="1057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280" y="4257720"/>
              <a:ext cx="1143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4280" y="4257720"/>
              <a:ext cx="10670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1320" y="4257720"/>
              <a:ext cx="1371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Epsil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52920" y="425772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ἐψιλο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48200" y="4257720"/>
              <a:ext cx="13017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49960" y="4257720"/>
              <a:ext cx="1755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short e as in 'met'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5680" y="4257720"/>
              <a:ext cx="1057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280" y="4959360"/>
              <a:ext cx="11430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14280" y="4959360"/>
              <a:ext cx="10670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81320" y="4959360"/>
              <a:ext cx="13716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Z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52920" y="4959360"/>
              <a:ext cx="12952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ζητ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8200" y="4959360"/>
              <a:ext cx="13017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49960" y="4959360"/>
              <a:ext cx="17557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as English 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5680" y="4959360"/>
              <a:ext cx="10573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4280" y="1646280"/>
              <a:ext cx="0" cy="378288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1320" y="1209600"/>
              <a:ext cx="0" cy="421956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2920" y="1646280"/>
              <a:ext cx="0" cy="378288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8200" y="1209600"/>
              <a:ext cx="0" cy="421956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49960" y="1209600"/>
              <a:ext cx="0" cy="421956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05680" y="1209600"/>
              <a:ext cx="0" cy="421956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280" y="1646280"/>
              <a:ext cx="899172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280" y="2124000"/>
              <a:ext cx="899172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280" y="1209600"/>
              <a:ext cx="0" cy="421956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063000" y="1209600"/>
              <a:ext cx="0" cy="421956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280" y="1209600"/>
              <a:ext cx="899172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280" y="5429160"/>
              <a:ext cx="899172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0"/>
          <p:cNvSpPr/>
          <p:nvPr/>
        </p:nvSpPr>
        <p:spPr>
          <a:xfrm>
            <a:off x="214200" y="5443560"/>
            <a:ext cx="50720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998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re are seven vowels in Greek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γγ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(gg) is pronounced as 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182"/>
          <p:cNvGrpSpPr/>
          <p:nvPr/>
        </p:nvGrpSpPr>
        <p:grpSpPr>
          <a:xfrm>
            <a:off x="5676840" y="5500800"/>
            <a:ext cx="2895840" cy="1189080"/>
            <a:chOff x="5676840" y="5500800"/>
            <a:chExt cx="2895840" cy="1189080"/>
          </a:xfrm>
        </p:grpSpPr>
        <p:sp>
          <p:nvSpPr>
            <p:cNvPr id="118" name=""/>
            <p:cNvSpPr/>
            <p:nvPr/>
          </p:nvSpPr>
          <p:spPr>
            <a:xfrm>
              <a:off x="5676840" y="5500800"/>
              <a:ext cx="838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15280" y="5500800"/>
              <a:ext cx="5331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48440" y="5500800"/>
              <a:ext cx="457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05640" y="5500800"/>
              <a:ext cx="3049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10560" y="5500800"/>
              <a:ext cx="380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91440" y="5500800"/>
              <a:ext cx="3812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76840" y="5897520"/>
              <a:ext cx="838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Sh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15280" y="5897520"/>
              <a:ext cx="533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48440" y="5897520"/>
              <a:ext cx="4572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05640" y="5897520"/>
              <a:ext cx="30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10560" y="5897520"/>
              <a:ext cx="3808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91440" y="5897520"/>
              <a:ext cx="3812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76840" y="6292800"/>
              <a:ext cx="83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Lo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15280" y="6292800"/>
              <a:ext cx="5331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48440" y="6292800"/>
              <a:ext cx="457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05640" y="6292800"/>
              <a:ext cx="304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10560" y="6292800"/>
              <a:ext cx="380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91440" y="6292800"/>
              <a:ext cx="381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1528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4844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0564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1056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9144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76840" y="5897520"/>
              <a:ext cx="289584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76840" y="6292800"/>
              <a:ext cx="83844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7684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7268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76840" y="5500800"/>
              <a:ext cx="289584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76840" y="6689880"/>
              <a:ext cx="289584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E16D-951A-47F1-BEE8-6F883B4BEC3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E5DB-CC65-4110-B0D2-C82DBA2BCCE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e0b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-487440" y="247680"/>
            <a:ext cx="8988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8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e0b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e0b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"/>
          <p:cNvSpPr/>
          <p:nvPr/>
        </p:nvSpPr>
        <p:spPr>
          <a:xfrm>
            <a:off x="-487440" y="247680"/>
            <a:ext cx="8988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aphicFrame>
        <p:nvGraphicFramePr>
          <p:cNvPr id="316" name=""/>
          <p:cNvGraphicFramePr/>
          <p:nvPr/>
        </p:nvGraphicFramePr>
        <p:xfrm>
          <a:off x="71280" y="1209600"/>
          <a:ext cx="8991720" cy="4219560"/>
        </p:xfrm>
        <a:graphic>
          <a:graphicData uri="http://schemas.openxmlformats.org/drawingml/2006/table">
            <a:tbl>
              <a:tblPr/>
              <a:tblGrid>
                <a:gridCol w="1143000"/>
                <a:gridCol w="1067040"/>
                <a:gridCol w="1371600"/>
                <a:gridCol w="1295280"/>
                <a:gridCol w="1301760"/>
                <a:gridCol w="1755720"/>
                <a:gridCol w="1057320"/>
              </a:tblGrid>
              <a:tr h="436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Ι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p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λφ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as in 'ha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Βη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m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γαμμ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 g as in 'ge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ελ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si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ψιλ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 e as in 'me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ζη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Rectangle 5"/>
          <p:cNvSpPr/>
          <p:nvPr/>
        </p:nvSpPr>
        <p:spPr>
          <a:xfrm>
            <a:off x="214200" y="5443560"/>
            <a:ext cx="50720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998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re are seven vowels in Greek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γγ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(gg) is pronounced as 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000680" y="5500800"/>
          <a:ext cx="2895480" cy="118908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457200"/>
                <a:gridCol w="304560"/>
                <a:gridCol w="381240"/>
                <a:gridCol w="380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Slide Number Placeholder 8"/>
          <p:cNvSpPr/>
          <p:nvPr/>
        </p:nvSpPr>
        <p:spPr>
          <a:xfrm>
            <a:off x="7010280" y="6286680"/>
            <a:ext cx="19908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33A4-2E34-4DB6-B4D5-20581048E60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1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42920" y="1467000"/>
          <a:ext cx="8839080" cy="2819160"/>
        </p:xfrm>
        <a:graphic>
          <a:graphicData uri="http://schemas.openxmlformats.org/drawingml/2006/table">
            <a:tbl>
              <a:tblPr/>
              <a:tblGrid>
                <a:gridCol w="2313000"/>
                <a:gridCol w="2477880"/>
                <a:gridCol w="4048200"/>
              </a:tblGrid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Equiva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d 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.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n the lin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of sent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</a:t>
                      </a: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or break within a sente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 baseline="40000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.</a:t>
                      </a: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bove the lin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 and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 break within a sente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;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Rectangle 2"/>
          <p:cNvSpPr/>
          <p:nvPr/>
        </p:nvSpPr>
        <p:spPr>
          <a:xfrm>
            <a:off x="428760" y="4572000"/>
            <a:ext cx="77151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nal vowel of a word normally dropped (replaced with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if next word begins with vow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α ἐγω                ἀλλ’ ἐγ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 PUNCTU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74" name="Right Arrow 6"/>
          <p:cNvSpPr/>
          <p:nvPr/>
        </p:nvSpPr>
        <p:spPr>
          <a:xfrm>
            <a:off x="3824280" y="593568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54719EE9-77DF-4E6D-85AA-6E498BB5850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81000" y="1143000"/>
          <a:ext cx="8991720" cy="3895560"/>
        </p:xfrm>
        <a:graphic>
          <a:graphicData uri="http://schemas.openxmlformats.org/drawingml/2006/table">
            <a:tbl>
              <a:tblPr/>
              <a:tblGrid>
                <a:gridCol w="1143000"/>
                <a:gridCol w="1066680"/>
                <a:gridCol w="1371600"/>
                <a:gridCol w="1295640"/>
                <a:gridCol w="1301760"/>
                <a:gridCol w="1755720"/>
                <a:gridCol w="10573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Ι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ἠ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ng e as in 'ob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y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θη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ἰω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s in 'hi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p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ππ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mb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αμβδ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24" name="Rectangle 5"/>
          <p:cNvSpPr/>
          <p:nvPr/>
        </p:nvSpPr>
        <p:spPr>
          <a:xfrm>
            <a:off x="285840" y="5084640"/>
            <a:ext cx="91440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re are seven vowels in Greek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Pronunciation of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varies - some say 'b</a:t>
            </a:r>
            <a:r>
              <a:rPr b="0" lang="en-GB" sz="1700" spc="-1" strike="noStrike" u="sng">
                <a:solidFill>
                  <a:srgbClr val="ffffff"/>
                </a:solidFill>
                <a:uFillTx/>
                <a:latin typeface="Arial"/>
              </a:rPr>
              <a:t>ea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r' or 'hon</a:t>
            </a:r>
            <a:r>
              <a:rPr b="0" lang="en-GB" sz="1700" spc="-1" strike="noStrike" u="sng">
                <a:solidFill>
                  <a:srgbClr val="ffffff"/>
                </a:solidFill>
                <a:uFillTx/>
                <a:latin typeface="Arial"/>
              </a:rPr>
              <a:t>ey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'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Gentium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ι</a:t>
            </a:r>
            <a:r>
              <a:rPr b="0" lang="en-GB" sz="1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can sometimes behave as a consonant when it begins a wor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re is a difference in sound between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κ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(k) and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χ</a:t>
            </a:r>
            <a:r>
              <a:rPr b="0" lang="el-G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(kh).</a:t>
            </a:r>
            <a:r>
              <a:rPr b="0" lang="el-GR" sz="1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8"/>
          <p:cNvSpPr/>
          <p:nvPr/>
        </p:nvSpPr>
        <p:spPr>
          <a:xfrm>
            <a:off x="7000920" y="6278400"/>
            <a:ext cx="204480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2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81000" y="1170000"/>
          <a:ext cx="8991720" cy="3616200"/>
        </p:xfrm>
        <a:graphic>
          <a:graphicData uri="http://schemas.openxmlformats.org/drawingml/2006/table">
            <a:tbl>
              <a:tblPr/>
              <a:tblGrid>
                <a:gridCol w="1143000"/>
                <a:gridCol w="1066680"/>
                <a:gridCol w="1371600"/>
                <a:gridCol w="1295640"/>
                <a:gridCol w="1301760"/>
                <a:gridCol w="1755720"/>
                <a:gridCol w="10573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ic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ὀμικρ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 o as in 'n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 or r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or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γμ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30" name="Rectangle 253"/>
          <p:cNvSpPr/>
          <p:nvPr/>
        </p:nvSpPr>
        <p:spPr>
          <a:xfrm>
            <a:off x="104760" y="4824360"/>
            <a:ext cx="86104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re are seven vowels in Gre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SzPct val="114000"/>
              <a:buFont typeface="Gentium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ν</a:t>
            </a:r>
            <a:r>
              <a:rPr b="0" lang="el-G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looks like an English v but is an n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ῥ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should really be ‘aspirated’ (i.e. pronounced 'rh'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ρ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looks like an English p but is an r (the Greek p is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π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Sigma is</a:t>
            </a:r>
            <a:r>
              <a:rPr b="0" lang="en-GB" sz="1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1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normally, but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ς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if it is the last letter in a wor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6"/>
          <p:cNvSpPr/>
          <p:nvPr/>
        </p:nvSpPr>
        <p:spPr>
          <a:xfrm>
            <a:off x="7000920" y="6286680"/>
            <a:ext cx="20001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C8C89F55-7F64-4293-A55D-78CA68EFED3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81000" y="1143000"/>
          <a:ext cx="8991720" cy="3830760"/>
        </p:xfrm>
        <a:graphic>
          <a:graphicData uri="http://schemas.openxmlformats.org/drawingml/2006/table">
            <a:tbl>
              <a:tblPr/>
              <a:tblGrid>
                <a:gridCol w="1143000"/>
                <a:gridCol w="1066680"/>
                <a:gridCol w="1371600"/>
                <a:gridCol w="1295640"/>
                <a:gridCol w="1301760"/>
                <a:gridCol w="1755720"/>
                <a:gridCol w="10573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si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ὐψιλ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 or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 or k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 as in lo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ψ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in li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ὠμεγ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ng o as in 't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35" name="TextBox 4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214200" y="5159520"/>
            <a:ext cx="864396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re are seven vowels in Gre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re is a difference in sound between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κ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χ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υ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has become a y in English words derived from Gre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B22B1FB2-CA02-4A69-96B6-56D95AF434B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41" name="Rectangle 5"/>
          <p:cNvSpPr/>
          <p:nvPr/>
        </p:nvSpPr>
        <p:spPr>
          <a:xfrm>
            <a:off x="428760" y="4541760"/>
            <a:ext cx="742932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63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β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δ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ζ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θ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λ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ξ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stretch above the line (and the central stroke of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φ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ψ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in many people's handwriting). Contrary to English,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κ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τ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do no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25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β</a:t>
            </a:r>
            <a:r>
              <a:rPr b="0" lang="en-GB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γ, ζ, η, μ, ξ, ρ, ς, φ, χ</a:t>
            </a:r>
            <a:r>
              <a:rPr b="0" lang="el-GR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,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 ψ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have 'tails' which stretch below the li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285840" y="2179800"/>
            <a:ext cx="8572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200" spc="-1" strike="noStrike">
                <a:solidFill>
                  <a:srgbClr val="ffffff"/>
                </a:solidFill>
                <a:latin typeface="Gentium"/>
              </a:rPr>
              <a:t>αβγδεζηθικλμνξοπρσςτυφχψω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8"/>
          <p:cNvSpPr/>
          <p:nvPr/>
        </p:nvSpPr>
        <p:spPr>
          <a:xfrm>
            <a:off x="357120" y="2513160"/>
            <a:ext cx="821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10"/>
          <p:cNvSpPr/>
          <p:nvPr/>
        </p:nvSpPr>
        <p:spPr>
          <a:xfrm>
            <a:off x="357120" y="2844720"/>
            <a:ext cx="8215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0D5F6A8F-1654-410A-9639-3F254F2E604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6"/>
          <p:cNvSpPr/>
          <p:nvPr/>
        </p:nvSpPr>
        <p:spPr>
          <a:xfrm>
            <a:off x="1143000" y="3143160"/>
            <a:ext cx="6572160" cy="10000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49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REATH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324000" y="1319040"/>
          <a:ext cx="8534160" cy="1324080"/>
        </p:xfrm>
        <a:graphic>
          <a:graphicData uri="http://schemas.openxmlformats.org/drawingml/2006/table">
            <a:tbl>
              <a:tblPr/>
              <a:tblGrid>
                <a:gridCol w="2286000"/>
                <a:gridCol w="1752480"/>
                <a:gridCol w="1295280"/>
                <a:gridCol w="32004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 Brea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‘</a:t>
                      </a: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γιο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agios - holy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ooth Brea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γελο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ngelos - ang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Rectangle 5"/>
          <p:cNvSpPr/>
          <p:nvPr/>
        </p:nvSpPr>
        <p:spPr>
          <a:xfrm>
            <a:off x="1143000" y="3286080"/>
            <a:ext cx="6500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ry Greek vowel 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at the beginning of a word must have a brea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57120" y="4214880"/>
            <a:ext cx="81439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reathings are written on top -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ἀ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ἁ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ἐ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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ἑ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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ἠ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ἡ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ἰ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ἱ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ὀ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ὁ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ὐ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ὑ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ὠ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ὡ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mooth breathings are not optional just because they are not pronou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ρ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the first letter, it also must carry a rough breathing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ῥ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C76BD4DE-F961-4C22-929B-D15E69E75D0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56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PITAL LETT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4"/>
          <p:cNvSpPr/>
          <p:nvPr/>
        </p:nvSpPr>
        <p:spPr>
          <a:xfrm>
            <a:off x="428760" y="2357280"/>
            <a:ext cx="83581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200" spc="-1" strike="noStrike">
                <a:solidFill>
                  <a:srgbClr val="ffffff"/>
                </a:solidFill>
                <a:latin typeface="Gentium"/>
              </a:rPr>
              <a:t>Η, Ρ, Υ, Χ </a:t>
            </a:r>
            <a:r>
              <a:rPr b="0" lang="en-GB" sz="5200" spc="-1" strike="noStrike">
                <a:solidFill>
                  <a:srgbClr val="ffffff"/>
                </a:solidFill>
                <a:latin typeface="Arial"/>
              </a:rPr>
              <a:t>vs. English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200" spc="-1" strike="noStrike">
                <a:solidFill>
                  <a:srgbClr val="ffffff"/>
                </a:solidFill>
                <a:latin typeface="Gentium"/>
              </a:rPr>
              <a:t>Γ, Δ, Μ, Ξ, Σ, Ω </a:t>
            </a:r>
            <a:r>
              <a:rPr b="0" lang="en-GB" sz="5200" spc="-1" strike="noStrike">
                <a:solidFill>
                  <a:srgbClr val="ffffff"/>
                </a:solidFill>
                <a:latin typeface="Arial"/>
              </a:rPr>
              <a:t>vs. lower cas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04D4005E-5A51-4FC3-967D-6C2460C2F8A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4 DIPHTHONGS AND IOTA SUB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aphicFrame>
        <p:nvGraphicFramePr>
          <p:cNvPr id="362" name=""/>
          <p:cNvGraphicFramePr/>
          <p:nvPr/>
        </p:nvGraphicFramePr>
        <p:xfrm>
          <a:off x="1071720" y="1876320"/>
          <a:ext cx="7035480" cy="4052880"/>
        </p:xfrm>
        <a:graphic>
          <a:graphicData uri="http://schemas.openxmlformats.org/drawingml/2006/table">
            <a:tbl>
              <a:tblPr/>
              <a:tblGrid>
                <a:gridCol w="1049040"/>
                <a:gridCol w="5986440"/>
              </a:tblGrid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ai' as in Th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i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d, or the English word 'eye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ei' as in v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i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, or the 'ay' in s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i as in 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i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υ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ui' as in q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ui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au' as in s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u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kraut, or the 'ow' in h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ou' as in s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u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, or the 'oo' in 'h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o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υ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/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eu' as in f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, or the English word 'you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s - the iota subscript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-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ῃ ῳ ᾳ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F998BBAD-BCF6-44EC-BBFC-8D6C0B25347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3"/>
          <p:cNvSpPr/>
          <p:nvPr/>
        </p:nvSpPr>
        <p:spPr>
          <a:xfrm>
            <a:off x="981000" y="2593800"/>
            <a:ext cx="7162920" cy="1677960"/>
          </a:xfrm>
          <a:prstGeom prst="rect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f"/>
                </a:solidFill>
                <a:latin typeface="Gentium"/>
              </a:rPr>
              <a:t>Breathings – Essentia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f"/>
                </a:solidFill>
                <a:latin typeface="Gentium"/>
              </a:rPr>
              <a:t>Accents – Unimportan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67" name="TextBox 4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ACCENTS AND STRE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D54D0DF1-91D7-4E81-A161-58F8B087FC8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5:43:53Z</dcterms:created>
  <dc:creator>Sarah</dc:creator>
  <dc:description/>
  <dc:language>en-US</dc:language>
  <cp:lastModifiedBy>Sarah</cp:lastModifiedBy>
  <dcterms:modified xsi:type="dcterms:W3CDTF">2009-03-02T22:22:50Z</dcterms:modified>
  <cp:revision>66</cp:revision>
  <dc:subject/>
  <dc:title>Slide 1</dc:title>
</cp:coreProperties>
</file>