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6D3-18BB-4B57-9D36-3056864D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2A5-14A8-4A09-91B3-0D8CEA8B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271-5E77-4F6F-B175-25D0A766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F6E-EC9F-4BFF-B216-DF6215DB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A0F-F0FA-48A9-9491-318A6197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1F7-DE2F-45AB-9593-69B63B0D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884-6E77-460C-9B94-63BF5D0F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734-E989-40F6-A30B-055817D5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06C-567B-4390-A7A9-57250509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F76-57EF-49A7-ABAC-9ABEC0CD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9D4-9527-4A63-A39E-2FF8FDC6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A17-84F4-404B-819D-1B422A7C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417E-E5AB-462A-8D6E-AABF15D20A3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1B8AC199-C595-4574-9E85-CF9A2DFDE46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320" y="1138320"/>
            <a:ext cx="899136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18.22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 ὁ Ἰησους εἰπεν αὐτῳ∙ Ἐπι ἑ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ι λειπει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ving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Jesus said to him, 'One thing still remain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you …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Jesus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is) he said to him, 'You still lack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thing 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7.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: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ς δ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αυ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ἐθαυμασεν αὐ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ea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se th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Jesus was amazed at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35AA7C71-859C-444E-9565-489FC1231C3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000680" y="1143000"/>
          <a:ext cx="4786200" cy="275256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1143000"/>
                <a:gridCol w="1143000"/>
                <a:gridCol w="1071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11"/>
          <p:cNvSpPr/>
          <p:nvPr/>
        </p:nvSpPr>
        <p:spPr>
          <a:xfrm>
            <a:off x="330120" y="1901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λυ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928880" y="1500120"/>
            <a:ext cx="128592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υ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928800" y="2786040"/>
            <a:ext cx="128592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υσ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5"/>
          <p:cNvCxnSpPr/>
          <p:nvPr/>
        </p:nvCxnSpPr>
        <p:spPr>
          <a:xfrm flipV="1">
            <a:off x="999720" y="1785240"/>
            <a:ext cx="857880" cy="214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2" name="Straight Arrow Connector 17"/>
          <p:cNvCxnSpPr/>
          <p:nvPr/>
        </p:nvCxnSpPr>
        <p:spPr>
          <a:xfrm>
            <a:off x="999720" y="2356920"/>
            <a:ext cx="429480" cy="3582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3" name="Straight Arrow Connector 19"/>
          <p:cNvCxnSpPr/>
          <p:nvPr/>
        </p:nvCxnSpPr>
        <p:spPr>
          <a:xfrm>
            <a:off x="3286080" y="1714680"/>
            <a:ext cx="643320" cy="180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4" name="Straight Arrow Connector 26"/>
          <p:cNvCxnSpPr/>
          <p:nvPr/>
        </p:nvCxnSpPr>
        <p:spPr>
          <a:xfrm>
            <a:off x="2000160" y="3571920"/>
            <a:ext cx="357840" cy="2865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graphicFrame>
        <p:nvGraphicFramePr>
          <p:cNvPr id="125" name=""/>
          <p:cNvGraphicFramePr/>
          <p:nvPr/>
        </p:nvGraphicFramePr>
        <p:xfrm>
          <a:off x="285840" y="3929040"/>
          <a:ext cx="5214960" cy="2752920"/>
        </p:xfrm>
        <a:graphic>
          <a:graphicData uri="http://schemas.openxmlformats.org/drawingml/2006/table">
            <a:tbl>
              <a:tblPr/>
              <a:tblGrid>
                <a:gridCol w="777960"/>
                <a:gridCol w="779400"/>
                <a:gridCol w="1322280"/>
                <a:gridCol w="1168560"/>
                <a:gridCol w="1166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22C4B1BE-AB9F-41F3-B5EB-0D628471402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649680" y="1143000"/>
          <a:ext cx="5351400" cy="2752560"/>
        </p:xfrm>
        <a:graphic>
          <a:graphicData uri="http://schemas.openxmlformats.org/drawingml/2006/table">
            <a:tbl>
              <a:tblPr/>
              <a:tblGrid>
                <a:gridCol w="765000"/>
                <a:gridCol w="763920"/>
                <a:gridCol w="1376280"/>
                <a:gridCol w="1231920"/>
                <a:gridCol w="121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4"/>
          <p:cNvSpPr/>
          <p:nvPr/>
        </p:nvSpPr>
        <p:spPr>
          <a:xfrm>
            <a:off x="71280" y="1860480"/>
            <a:ext cx="29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ῥυομ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571760" y="1500120"/>
            <a:ext cx="131904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ῥυο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680" y="2786040"/>
            <a:ext cx="161280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ῥυσα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7"/>
          <p:cNvCxnSpPr/>
          <p:nvPr/>
        </p:nvCxnSpPr>
        <p:spPr>
          <a:xfrm flipV="1">
            <a:off x="642600" y="1785240"/>
            <a:ext cx="857880" cy="214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3" name="Straight Arrow Connector 8"/>
          <p:cNvCxnSpPr/>
          <p:nvPr/>
        </p:nvCxnSpPr>
        <p:spPr>
          <a:xfrm>
            <a:off x="642600" y="2356920"/>
            <a:ext cx="429480" cy="3582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4" name="Straight Arrow Connector 9"/>
          <p:cNvCxnSpPr/>
          <p:nvPr/>
        </p:nvCxnSpPr>
        <p:spPr>
          <a:xfrm>
            <a:off x="2928960" y="1714680"/>
            <a:ext cx="660600" cy="25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5" name="Straight Arrow Connector 10"/>
          <p:cNvCxnSpPr/>
          <p:nvPr/>
        </p:nvCxnSpPr>
        <p:spPr>
          <a:xfrm>
            <a:off x="1643040" y="3571920"/>
            <a:ext cx="357840" cy="2865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graphicFrame>
        <p:nvGraphicFramePr>
          <p:cNvPr id="136" name=""/>
          <p:cNvGraphicFramePr/>
          <p:nvPr/>
        </p:nvGraphicFramePr>
        <p:xfrm>
          <a:off x="285840" y="3962520"/>
          <a:ext cx="5786280" cy="275256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1468440"/>
                <a:gridCol w="1312560"/>
                <a:gridCol w="127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85840" y="1928880"/>
          <a:ext cx="8858160" cy="974520"/>
        </p:xfrm>
        <a:graphic>
          <a:graphicData uri="http://schemas.openxmlformats.org/drawingml/2006/table">
            <a:tbl>
              <a:tblPr/>
              <a:tblGrid>
                <a:gridCol w="3643200"/>
                <a:gridCol w="2786040"/>
                <a:gridCol w="242892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oden Translations:</a:t>
                      </a: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ying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untie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014480" y="3786120"/>
          <a:ext cx="7138800" cy="1158840"/>
        </p:xfrm>
        <a:graphic>
          <a:graphicData uri="http://schemas.openxmlformats.org/drawingml/2006/table">
            <a:tbl>
              <a:tblPr/>
              <a:tblGrid>
                <a:gridCol w="3886200"/>
                <a:gridCol w="3252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8332168F-EC4E-4644-9C86-92DE9F5B365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BED8AE90-9D2F-486E-8495-DE5CD3456BB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42960" y="1428840"/>
            <a:ext cx="7858080" cy="1595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ccessive Aorist participles are often best translated by a number of main verbs in English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28760" y="3500280"/>
            <a:ext cx="83581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Mark 5.27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σα περι του Ἰη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θουσα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ῳ ὀχλῳ ὀπισθεν ἡψατα του ἱματιου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en she heard about Jesus, she came up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hind in the crowd and touched his cloak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4FA0A664-F168-4BF0-B70C-8C0CF3F77EC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33720" y="116352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4.4.1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-642960" y="1609560"/>
            <a:ext cx="97869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5.23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μ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ισ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τον πατερα μου μισ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one who hates 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r whoever hates me), als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tes my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2.4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ὁ θεωρων ἐμε θεωρ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 πεμψαντα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es me is see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one who sent 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0.44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πεπεσεν το πνευμα το ἁγιον ἐπι παντας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υς ἀκουοντ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spirit fell on a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ose who were liste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he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071EA9E0-5F01-4FDA-8C3D-1ACB1D9550A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00040" y="110952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4.2 Casual, concessive and instrumental us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280" y="1785960"/>
            <a:ext cx="914400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usal: Matt. 1.19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Ἰωσηφ δε ὁ ἀνηρ αὐτης, δικα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ὠ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Joseph her husband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 he w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ighteous ..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cessive: Rom. 1.21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νοντε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θεον οὐχ ὡς θε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δοχα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though they knew Go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they did not glorify him as God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trumental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Tim. 4.1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υτο γα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οι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σεαυτον σωσει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τους ἀκουοντας 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y do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his (lit: doing this) you will save bot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rself and your hear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B74927BE-BAF6-4379-9518-D85D43B0ECB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23960" y="1295280"/>
            <a:ext cx="7696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4.3 With Imperatives and Infinitiv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2960" y="2357280"/>
            <a:ext cx="769608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εἰμι ἱκαν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υφ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λυσαι τ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ἱματα των ὑποδηματων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worth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o stoop dow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untie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p of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s sandals (lit: having stooped down, to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tie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5E25BF33-4E69-4C17-9662-CF7201BD647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2120" y="2286000"/>
            <a:ext cx="76197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must agree with the noun they qualify in gender, case and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621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2120" y="37940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62120" y="4521240"/>
            <a:ext cx="76197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have a tense (Present or Aorist), and may have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397937AD-B55E-4F6A-BE07-803E6D00B0B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6880" y="1254240"/>
            <a:ext cx="8458200" cy="52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. 7.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εἰδον ἀλλον ἀγγελ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ο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ατολης ἡλιου ἐχοντα σφραγιδα θε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I saw another ange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scend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rom the rising of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u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v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 seal from God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main verb, containing in it the subject – 'I saw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γελ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object – an ang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an adjective enriched by two partici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χον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670EA98A-8C7B-4713-949F-16A85ACC314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66760" y="1322280"/>
            <a:ext cx="86104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16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αρα την θαλασσαν ... Εἰδε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ιμωνα και Ἀνδρεαν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 τῃ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θαλασσ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he was pass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ongside the sea, he saw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rew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as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nets) in the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εν Σιμωνα και Ἀνδρεα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he saw Simon and Andr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7FAED242-33D6-4393-A704-40DDAF87D54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60020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ur basic partici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160" y="1785960"/>
          <a:ext cx="8877240" cy="1874880"/>
        </p:xfrm>
        <a:graphic>
          <a:graphicData uri="http://schemas.openxmlformats.org/drawingml/2006/table">
            <a:tbl>
              <a:tblPr/>
              <a:tblGrid>
                <a:gridCol w="1425600"/>
                <a:gridCol w="1236600"/>
                <a:gridCol w="1820880"/>
                <a:gridCol w="385560"/>
                <a:gridCol w="1843200"/>
                <a:gridCol w="2165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nty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-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scuing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-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ving unti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-σα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ving rescued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57"/>
          <p:cNvSpPr/>
          <p:nvPr/>
        </p:nvSpPr>
        <p:spPr>
          <a:xfrm>
            <a:off x="500040" y="3732120"/>
            <a:ext cx="78487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Aorist there is no augment (there are never augments in the other moo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Aorist there is a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orist Participle uses the Present Participle endings (e.g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ω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, as does the (Present)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ὠ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'being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669960" y="1319040"/>
            <a:ext cx="7791480" cy="1323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ending in -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ο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ecline lik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γαθ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ending otherwise decline lik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2920" y="2986200"/>
            <a:ext cx="885492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4.2.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ε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σαμενος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decline exactly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αθ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. Th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εν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ccusative masculine plural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ξαμενα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Dative feminine plural of the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ε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Nom./Acc. neuter plural of the Present Participle o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CA17960D-83AC-495B-AA87-D251577E322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19501F81-BC0D-4F90-A0F6-8ADB61B9475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27040" y="1557360"/>
            <a:ext cx="8072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2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ollow the 3-1-3 pattern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fore, to decline them, we need their three nominative singulars, and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υ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EE12F5E2-F384-46B4-84BB-981E2F81A10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6040" y="1351080"/>
          <a:ext cx="8786880" cy="4694040"/>
        </p:xfrm>
        <a:graphic>
          <a:graphicData uri="http://schemas.openxmlformats.org/drawingml/2006/table">
            <a:tbl>
              <a:tblPr/>
              <a:tblGrid>
                <a:gridCol w="798840"/>
                <a:gridCol w="1303200"/>
                <a:gridCol w="1328760"/>
                <a:gridCol w="1201680"/>
                <a:gridCol w="1393920"/>
                <a:gridCol w="1366920"/>
                <a:gridCol w="139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(Active) Participle -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(Active) Participle -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ς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123FAFCE-7987-47E7-980F-B44AD3200BD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4200" y="1214280"/>
            <a:ext cx="90010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Nom./Acc. neuter singular of the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γραφοντ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ative masc./neuter singular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γραφ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θ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Nom. masculine plural of the (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σι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ative masc./neut. plural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71440" y="3143160"/>
            <a:ext cx="8572680" cy="3108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 are two steps in forming a participle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articiple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basic forms (essentially a verbal matter – about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ns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articular instance of that form (essentially an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djectival matter – about gender, case and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number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45:20Z</dcterms:created>
  <dc:creator>Sarah</dc:creator>
  <dc:description/>
  <dc:language>en-US</dc:language>
  <cp:lastModifiedBy>Sarah</cp:lastModifiedBy>
  <dcterms:modified xsi:type="dcterms:W3CDTF">2008-09-30T16:36:37Z</dcterms:modified>
  <cp:revision>60</cp:revision>
  <dc:subject/>
  <dc:title>Slide 1</dc:title>
</cp:coreProperties>
</file>