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A3E-DD04-40D9-B6DA-78C7498C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822-A469-46C5-AA75-47718B23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582-7807-4502-9BDF-212D4092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592-8D89-4D0F-80D7-092797B1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6DF3-15CD-4CDD-9D81-5EB346F2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520-C9AB-4DCF-9645-78ADA9B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A28-170C-4E66-81C8-AFA72F01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3A20-2FC9-4C8B-B66D-7788F7C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AF2-7524-4E68-94FF-BE96898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0213-332E-43B5-A08E-0E7F50BB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D41-EEF0-47CB-90F3-CBF5075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228-AF79-4767-AD55-96EFA242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4DF3-DB1E-438C-8644-57FD05B1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C6AD-163E-43DA-9476-4C1069D8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AE7-C4C8-47B0-BBB0-93891F7B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2C6F-FE6D-4A32-9BAE-7D9D22B2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5589-3DDE-467C-B9AB-1BDC045B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328-A1DC-4989-A24D-D42B30A6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0B9-95CE-4878-A267-4EE2CDA7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357-7A1B-4D20-BA45-72769673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2C0-7CD5-43E6-BA56-273A773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975-FD9C-44BC-9EFF-90ED375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2CF-4C3F-486E-B117-630B9B49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D4A-C351-498A-94D0-39393A28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982A-1346-4CA7-86D9-05C7CD1559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710-FFA6-4D9A-8380-599732274C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B8AB318-8F74-461C-9957-A63703CC918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ετε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ον θε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ED246DEE-0EBF-40FB-BF78-A2EC595C3C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8D5CF95-6444-4DBB-83A3-09D5C70720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A58DCF1-D925-4DFF-BCE5-BEA67E3CDD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8585B941-0816-4A03-8C49-BB654C83F5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D71475E-F5A3-4299-8329-386740E0C47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1C947DE5-9EB8-4C46-B9D4-F14B64F420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62AE14A-FC9F-404E-A4B4-AB6E3ED4CBB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χ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 being augmented to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80506E2-5EF3-45C1-9CBE-C1C50D85AB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843E0796-572E-45BA-BFAC-949EA08FEE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4BF0B4D-C910-43DF-A2F1-ACF61354B28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e nature of the action – was it a process, is it completed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7403170-D7CA-4231-B090-7B02FE20BA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85782DEF-35D4-4BAB-919C-EF23911D0F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97180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171440"/>
                <a:gridCol w="68580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81799A2-338E-4E84-A88E-9355D50C988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6D54EF9-D49D-4949-AB44-2683E081CF2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AC42AD5F-A464-4B2E-AA65-B5EAD3614B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C0698A1-97A9-412B-815A-25E0B8FE50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able n in Imperfect and Aorist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F1BB4AE-73AE-402A-B01A-5A43BC3575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965F142-E438-4BDF-88C4-7D471552805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8-09-07T14:27:48Z</dcterms:modified>
  <cp:revision>55</cp:revision>
  <dc:subject/>
  <dc:title>Slide 1</dc:title>
</cp:coreProperties>
</file>