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C56-0E90-406F-B28B-7BDE4440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FC3-F617-45A0-B091-2D63D6FF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F80-CE87-4BEC-BB05-FA362643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89F-2BCF-4269-B573-C5694B08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667-CF79-49D8-96A2-442CB20F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9E1-3210-4E96-9ED9-7D4EC11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6C2-AE8E-467C-936E-C328AB58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C5F-2C64-4C92-B897-554FDBBD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723-2E12-49F7-B46F-2298589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07B-073C-4592-8F81-D2719B57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B91-F961-4385-8A42-CA38F69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842-6C52-459E-A547-49A614A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9024-FE50-4E82-95F9-362C822CA5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A8C1A695-515E-468E-B9E2-C2754CFF72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1285920"/>
            <a:ext cx="865332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2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υτα γραφ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 μη ἁμαρτη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 writing these things to you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 that you may no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Pet. 3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ριστος ἁπαξ περι ἁματιων ἐπαθε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ὑμ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ροσαγαγ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once for all suffered for sins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to br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to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1.27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 ἀν ἐσθι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ἀρτον ἠ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ν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 ποτηριον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ea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bread 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rink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up of the Lord.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46200" y="3564000"/>
          <a:ext cx="7840440" cy="1508040"/>
        </p:xfrm>
        <a:graphic>
          <a:graphicData uri="http://schemas.openxmlformats.org/drawingml/2006/table">
            <a:tbl>
              <a:tblPr/>
              <a:tblGrid>
                <a:gridCol w="933480"/>
                <a:gridCol w="350640"/>
                <a:gridCol w="1081080"/>
                <a:gridCol w="3537000"/>
                <a:gridCol w="351000"/>
                <a:gridCol w="158724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α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85"/>
          <p:cNvSpPr/>
          <p:nvPr/>
        </p:nvSpPr>
        <p:spPr>
          <a:xfrm>
            <a:off x="2019240" y="1508040"/>
            <a:ext cx="5105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1 Indefinit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1333440" y="2398680"/>
            <a:ext cx="647712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+ Subjunctive = indefini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A6CA96B3-C35A-47C3-A916-FD12419087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B2561111-3D04-424C-8E41-B5EDE4691C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360" y="1357200"/>
            <a:ext cx="92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ς ἀν ποιησ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θελημα του θεου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d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will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6.6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ροσευχ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ever you pr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4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ι οἱ ἀκολουθουντες τῳ ἀρνιῳ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ἀ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ὑπαγ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se ones follow the lamb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he g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CD173956-3649-4BE4-B470-CA07900F1D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14200" y="157176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</a:t>
            </a:r>
            <a:r>
              <a:rPr b="0" lang="en-GB" sz="28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used in plac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indefinite strictly, even when there is no ‘ever’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 6.6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ὁταν προσευχῃ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whenever 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y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μενετε ἑως ἀν ἐξελθητε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remai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l ever you lea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866960" y="117648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2 Purpos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52480" y="1833480"/>
            <a:ext cx="563904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Subjunctive =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2666880"/>
            <a:ext cx="8858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.5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ραν οὐν λιθου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βαλω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ἐπ’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y took ston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they might thr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them) 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 7.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κρινετε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μη κριθητε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Do not judge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you might not be judg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hil. 1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τουτο προσευχομαι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ἡ ἀγαπη 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ερισσευ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I pray th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your lov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y overfl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595C149-E102-4DA6-8740-F818A17C8C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FB755CA8-B305-4C30-BBE9-AAC1521447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7040" y="1631880"/>
          <a:ext cx="8699760" cy="3969000"/>
        </p:xfrm>
        <a:graphic>
          <a:graphicData uri="http://schemas.openxmlformats.org/drawingml/2006/table">
            <a:tbl>
              <a:tblPr/>
              <a:tblGrid>
                <a:gridCol w="2217600"/>
                <a:gridCol w="216000"/>
                <a:gridCol w="2426040"/>
                <a:gridCol w="1797120"/>
                <a:gridCol w="191520"/>
                <a:gridCol w="1851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of thes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ν οὐν λιθου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να βαλω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’ αὐτ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be translated by any of the following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fore they took st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m) at hi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0DF00CF-7FDE-4BE8-A929-2041374C56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1400" y="3500280"/>
            <a:ext cx="6691320" cy="2174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looked at the two most common uses of the Subjunctive. Notice that each has a 'flag word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ich alerts you to the fact that a Subjunctive is on the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1428840"/>
            <a:ext cx="88390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 is a more unusual alternativ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69B3A904-AA32-43B0-B8A4-CB3D4424D1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04840"/>
            <a:ext cx="8229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3 Exhortations (Hortatory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486080" y="1797120"/>
            <a:ext cx="617220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lural Subjunctive = 'let us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768240" y="2544840"/>
            <a:ext cx="97581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4.35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ελθωμ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εἰς το περ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go to the other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4.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α οὐν τα της εἰρηνη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ωκωμ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refor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purs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 things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b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0.22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ροσερχωμεθ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μετα ἀληθινης καρδιας ἐν πληροφορι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approa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th a true heart in full assurance of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6253837D-BBED-482F-88A0-0A215C9AC0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17648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4 Deliberation (Deliberative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9480" y="1816200"/>
            <a:ext cx="79250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erson Subjunctive = delib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4200" y="2473200"/>
            <a:ext cx="85582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3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ω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at the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d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1.3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ί ἐ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– And what mo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6.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ἁμαρτησ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ὁτι οὐκ ἐσμεν ὑπο νομο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α ὑπο χαρ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hen?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because we are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under law but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gra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4285426A-D12B-4A91-AAC2-2F1E59949D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76520" y="121932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5 Prohibitio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8080" y="2133720"/>
            <a:ext cx="746784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replaces Aorist Imperative in prohib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3786120"/>
          <a:ext cx="6622920" cy="1920960"/>
        </p:xfrm>
        <a:graphic>
          <a:graphicData uri="http://schemas.openxmlformats.org/drawingml/2006/table">
            <a:tbl>
              <a:tblPr/>
              <a:tblGrid>
                <a:gridCol w="1392120"/>
                <a:gridCol w="1471680"/>
                <a:gridCol w="37591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au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244440" y="12636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1.4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νεγκ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μας εἰς πειρασ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 to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0.6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π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ῃ καρδιᾳ σου∙ τίς ἀναβησεται εἰ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οὐραν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s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your heart, 'Who will go up to heave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0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υς τους δωδεκα ἀπεστειλεν ὁ Ἰησους ..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ν∙ Εἰς ὁδον ἐθν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ἀπελθ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πολ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αμαριτ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λθη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ent out these twelve … saying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go o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 of the Gentile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en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city of the Samarians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B139AC81-4EF8-4BCA-B050-1700A44772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433599F-1F97-4D58-B534-C518B27563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7120" y="1657440"/>
            <a:ext cx="840096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ἐαν εἰσελθ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ς οἰκιαν, ἐκει μενετ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you en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house, sta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tus 3.1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εμψ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ρτεμαν προς σε ἠ Τυχικον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πουδασον ἐλθειν προς με εἰς Νικοπολ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(ever) I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temas to you, or Tychicus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 effort to come to me at Nicopo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3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αὐτοις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λλαχ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he said to them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t us g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lsewhere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7D2E6A77-6948-4DB8-9178-98D846C00F6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76240" y="111924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6 Emphatic Negative Futur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62040" y="1749600"/>
            <a:ext cx="601992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Aorist Subjunctive = emphatic negativ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2871720"/>
            <a:ext cx="9144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3.3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λεγω ὑμιν 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παρελθ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γενεα αὑτ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ruly I tell to you that this gener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(definitely) not pass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3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ἐρχομενον προς ἐμ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ἐκβαλ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ξ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comes to m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(definitely) not drive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6.3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αὐτῳ ὁ Πετρος∙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ὑ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παρν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said to him, '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never den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FAC96621-7F77-4A1D-A0D1-E0F7F8E542C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61800" y="1428840"/>
            <a:ext cx="8496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2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λθουσα εἰπεν τῃ μητρι αὐτης∙ Τ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ἰτησω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she had gone out, she said to her mother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Wha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ask (for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0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ἀποβαλ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ὐν την παρρησιαν 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o not thr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way you boldnes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8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ηθησεται Βαβυλων ἡ μεγαλη πολις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οὐ μη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ὑρε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bylon the great city will be thrown down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ver be fo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9929B114-258A-4005-89DF-0F430D741E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IDEA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14240" y="211284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ubjunctive is the fifth and final Mood which occurs in all three vo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, middle, or pa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88A38425-C577-411A-82A9-05F8D8CB08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01840" y="2327400"/>
            <a:ext cx="6324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ove any 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lace the Indicative endings with the Subjunctive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C8DBE825-05F5-4DB3-A8E8-621F7CDBF13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2840" y="1455840"/>
            <a:ext cx="850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1 Present Active, Aorist Active, Aorist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2714760"/>
          <a:ext cx="8580240" cy="1828800"/>
        </p:xfrm>
        <a:graphic>
          <a:graphicData uri="http://schemas.openxmlformats.org/drawingml/2006/table">
            <a:tbl>
              <a:tblPr/>
              <a:tblGrid>
                <a:gridCol w="2428920"/>
                <a:gridCol w="615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, λυῃς, λυῃ, λυωμεν, λυητε, λυ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ω, λυσῃς, λυσῃ, λυσωμεν, λυσητε, λυσ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, βαλῃς, βαλῃ, βαλωμεν, βαλητε, βαλ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ω, λυθῃς, λυθῃ, λυθωμεν, λυθητε, λυθ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3"/>
          <p:cNvSpPr/>
          <p:nvPr/>
        </p:nvSpPr>
        <p:spPr>
          <a:xfrm>
            <a:off x="0" y="1461960"/>
            <a:ext cx="9061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2 Present Middle, Present Passive, Aorist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3160" y="2389320"/>
          <a:ext cx="8785080" cy="3047760"/>
        </p:xfrm>
        <a:graphic>
          <a:graphicData uri="http://schemas.openxmlformats.org/drawingml/2006/table">
            <a:tbl>
              <a:tblPr/>
              <a:tblGrid>
                <a:gridCol w="1404720"/>
                <a:gridCol w="738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ωμαι, ῥυῃ, ῥυηται, ῥυωμεθα, ῥυησθε, ῥυωντα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μαι, λυῃ, λυηται, λυωμεθα, λυησθε, λυ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ωμαι, ῥυσῃ, ῥυσηται, ῥυσωμεθα, ῥυσησθε, ῥυσ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ενωμαι, γενῃ, γενηται, γενωμεθα, γενησθε, γεν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BF69965-E645-4F27-A45A-0CB76C3854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2095854F-FDBA-47D5-ADD8-56BD07EBD8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303120" y="1614600"/>
            <a:ext cx="85010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easy in the Subjunctive – the endings always begin with a long vowel, s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always be absor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us, the Present Active Subjunct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ῃς, φιλῃ, φιλωμεν, φιλητε, φιλ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the same endings – its Present Subjunctive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09760" y="2604960"/>
            <a:ext cx="6324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Subjunctive –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– Defa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6E0A488E-915E-44AB-A30B-90759DBD04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3:35:06Z</dcterms:created>
  <dc:creator>Sarah</dc:creator>
  <dc:description/>
  <dc:language>en-US</dc:language>
  <cp:lastModifiedBy>Sarah</cp:lastModifiedBy>
  <dcterms:modified xsi:type="dcterms:W3CDTF">2009-03-18T15:47:25Z</dcterms:modified>
  <cp:revision>48</cp:revision>
  <dc:subject/>
  <dc:title>Slide 1</dc:title>
</cp:coreProperties>
</file>