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88E-73D7-4CDE-A872-92147E32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E08-1DD3-4780-A9B0-FF58257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48D-8F1F-4544-8016-64717772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24D-C9C4-4A54-A663-9170D0B8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95B-E963-4BDE-8A8D-FBACA7AF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42E-5B6F-48B9-8C95-7755750F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BCC-3A9D-4281-9A2B-6261B69E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D88-8547-4260-B036-85D64D66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6C4-E3E1-4ACC-8359-52289D0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FD2-9446-4520-9311-B8AF8A7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8B0-2C07-4E8A-828A-1D5D886F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462-B733-4CAC-928C-087CB4AE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347-6093-4083-8D36-3CF2253BB6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417680"/>
            <a:ext cx="70725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ν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τ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υ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κει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ν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ὑτ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286080" y="2255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286080" y="2747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uter 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286080" y="3244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286080" y="37288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86080" y="4259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28608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3286080" y="52894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3286080" y="580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4444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422360"/>
            <a:ext cx="707220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 ἠν ὁ τοπ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κρα τα προβατα του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λος ὁ ὀχλος ἠκου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 ἐκειναις ταις                            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βολαις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προφ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υφλοι εἰσιν οὑτοι οἱ μαθη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as th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7338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eep of these peopl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29240" y="373068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hole crowd wa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29240" y="427356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is speaking in th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33920" y="528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prophets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811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disciples a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85840" y="1143000"/>
            <a:ext cx="6072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νουνται ἑαυτου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ω ἐκεινον μαθητ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ει ταυτα τα προβα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ιδασκεν ἀλλαις παραβολ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ῃ αὐτῃ ἡμερᾳ ἡ Μαρια ἐβλεψε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αυτα ὁ ὀχλος ἐλαλ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ηλ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denying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that dis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2912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gathering thes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929120" y="37321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used to teach in other 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929120" y="44593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e same day Mary s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929120" y="55720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these things the crowd were saying to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101600" y="271440"/>
            <a:ext cx="6929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85840" y="1143000"/>
            <a:ext cx="60721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 ὁ Ἰησους προσηυχε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ηρετης ἠν τουτου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praying to the same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himself deni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began to listen after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demons were e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29120" y="15415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himself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29120" y="2268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servant of this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929120" y="2890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ομεθα τῳ αὐτῳ θε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929120" y="34894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 ὁ Πετρος ἠρνησατο το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ησου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929120" y="43988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 τουτο ἠρξαντο ἀκου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 just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κουον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929120" y="531324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α τα δαιμονια (ἠ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νηρ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42920" y="1143000"/>
            <a:ext cx="70722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νομος σου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σωζει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ις ἐπιστευσαμεν ἀλλα σ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 ἠκουσ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 σωσεις σεαυτον ἀλλ’ ἐγω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λους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your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proclaim your (pl.) d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643280" y="197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law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643280" y="2486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save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629240" y="297180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believed, but you did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629240" y="401328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save yourself, bu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ll save)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633920" y="498636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ωσον σεαυτ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629240" y="5516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ω τα ἐργα ὑμ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57120" y="1428840"/>
            <a:ext cx="385776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ἐπιστευσαν, οἱ γαρ μαθηται εὐηγγελιζ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μεν θεος ἐπεμψεν τους προφητας, τυφλος δε ὁ λαο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φιλει και τους πονηρ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believed because (for) the disciples were proclaiming the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643280" y="343548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sent the prophets, but the people were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57680" y="50385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God love even (the) evil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57120" y="1428840"/>
            <a:ext cx="38577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ωσηφ λεγει αὐτῳ. ὁ δε οὐκ ἀκου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μεν προσερχονται, οἱ δε ὑπαγουσιν εἰς τους οἰκους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will seek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643280" y="21607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 is speaking to him, but he (the other one) will not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643280" y="343548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re approaching, others are departing for their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657680" y="5011560"/>
            <a:ext cx="41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ησομεν οὐν τον κυρι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1:37:17Z</dcterms:created>
  <dc:creator>Sarah</dc:creator>
  <dc:description/>
  <dc:language>en-US</dc:language>
  <cp:lastModifiedBy>Sarah</cp:lastModifiedBy>
  <dcterms:modified xsi:type="dcterms:W3CDTF">2009-08-09T10:48:38Z</dcterms:modified>
  <cp:revision>39</cp:revision>
  <dc:subject/>
  <dc:title>Slide 1</dc:title>
</cp:coreProperties>
</file>