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1830-D652-49A1-B561-938978DA8B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C835-544E-440F-B8C1-50C003D127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320-C41C-4C48-8272-DDE158D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A22-D797-4909-B3B2-2727879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D1A-C10E-4EC3-8DB8-279874D5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AD1-B8E8-4979-A70A-55444337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E5E-20A3-426A-BB8D-2BEAC04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118-D08B-4341-8D50-866B4F8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4CA-D750-47E1-8667-1D8DAF2C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34E-CF82-4A43-85AA-C51ED0E3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1D6-161F-4D68-8995-BFC97E1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D02-5AB6-4D73-B59E-097770F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437-BFB7-4C92-9ABB-DAF5DD0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A92-3B82-445A-B1B5-616D907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CA45-44C4-428B-9526-ACDD4B73BD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-142920" y="170820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αθημενο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κει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86040" y="22496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Presen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86040" y="2851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/Neuter Dative Pl., Present Middle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86040" y="4086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786040" y="46926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Imperfect Middl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46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-142920" y="157176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ἰδ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ᾐ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δ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786040" y="211284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 Present Active Indica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786040" y="2714760"/>
            <a:ext cx="607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Imperfect Active Indica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03680" y="3322800"/>
            <a:ext cx="50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fini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800440" y="3959280"/>
            <a:ext cx="42861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Sing., Aorist Active Particip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803680" y="5200560"/>
            <a:ext cx="5572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Sing., Present Active Particip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14200" y="1357200"/>
            <a:ext cx="4572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αὐτον γαμειν μ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διδασκαλον διδασκ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ηλθεν ὡστε αὐτου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υνασθε ἐσθιειν ἀρτον ἐν τῳ ἱερ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ω την σοφιαν ὡστε ἀκουε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υ διδασκαλου μ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112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him to marry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26193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acher must t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786200" y="3119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approached so they depa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00600" y="41259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you able to eat bread in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03840" y="5157720"/>
            <a:ext cx="38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love wisdom so I listen to my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0" y="1292400"/>
            <a:ext cx="421488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δυναμεθα λεγει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δεναι τον θε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 το προσευχεσθαι ἐξηλθ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ης συναγωγ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χηρα ἠν πτωχη ὡστε μη ἐχε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ὁτι δει αὐτην ἀποθαν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ἰδατε τας ἐπαγγελιας τα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νι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313160" y="197640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ere able to speak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313160" y="24321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know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313160" y="28605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praying I/they left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313160" y="37720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dow was poor so she did not have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327560" y="467352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/they saw that it was necessary for her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330800" y="55548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know the eternal promi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0"/>
          <p:cNvSpPr/>
          <p:nvPr/>
        </p:nvSpPr>
        <p:spPr>
          <a:xfrm>
            <a:off x="4586400" y="58514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σε δουλευειν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σε εἰναι δουλο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280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214200" y="1184400"/>
            <a:ext cx="485784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ες προς το προσκυνησ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θε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μαθηται ἐφυγον ὡστε τους                                            στρατιωτας μη εὑρειν μηδε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know h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sitting down they gave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o amazed that the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hipp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ust be a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572000" y="187488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come to worship (with the aim of worshipping)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572000" y="276552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ciples fled so the soldiers found no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586400" y="40654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ᾐδεις αὐτ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586400" y="4527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 του καθησθαι εὐχαριστησα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586400" y="49737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οὑτως) ἐθαυμαζον ὡστε προσκυνησαι αὐτ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14200" y="1285920"/>
            <a:ext cx="421488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λεγετω τῳ πονηρ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ετω ἡ βασιλεια 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την βασιλειαν ἐλθε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κυνωμ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κυνειτωσαν τῳ θε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 δαιμονια ἐκβληθη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790800" y="204300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should not speak to the evil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00520" y="254808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your kingdom come!/ May your kingdom c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13120" y="3557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kingdom must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3760" y="405756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13120" y="45752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hould worship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3803760" y="507204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mons should be cast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8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4200" y="1285920"/>
            <a:ext cx="42148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ρ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λλα εἰληφαμ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κουσα το ῥηθ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ωσεις τον ἐσχηκοτα δαιμονι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ρχιερεις εἰληφασιν τα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ραφ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ἀνεῳγμενον οὐραν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572000" y="2043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taken (aw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572000" y="25272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received many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572000" y="30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eard what w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572000" y="355752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you save the man who has a dem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572000" y="45752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ef priests have taken the scrip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558000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heaven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14:35Z</dcterms:created>
  <dc:creator>Sarah</dc:creator>
  <dc:description/>
  <dc:language>en-US</dc:language>
  <cp:lastModifiedBy>Sarah</cp:lastModifiedBy>
  <dcterms:modified xsi:type="dcterms:W3CDTF">2009-08-15T18:23:44Z</dcterms:modified>
  <cp:revision>20</cp:revision>
  <dc:subject/>
  <dc:title>Slide 1</dc:title>
</cp:coreProperties>
</file>