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FDD2-9C89-4B2F-9C82-96A419C97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66A8-FDF7-4FB0-AD78-8D766B921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09A6-D8EA-4D67-ABCF-B08F212A8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A14C-8B8F-44DE-A74A-E75BC926E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C99A7-6CD5-4CD6-A9F5-0625AE5AB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3ECDF-2493-40B8-A1E7-8A2152C7D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5399D-C175-46F8-9600-CBB908D3F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9526E-FEEF-480A-B367-3D9D9DB53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78B4C-AC64-4F0A-BB73-D9172B783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7840D-17ED-4330-8EFC-51C1989EE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66F9B-6CAF-47D6-9D97-0652F045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CFCC-DC0B-4897-BF91-C1584E6E8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7FC7E-2F69-471A-BE7D-484B5F4B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7E45D-2684-46D4-B6C5-13154C28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29D8A-A4FC-4CE2-B48F-75243CBD4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CEB38-34F4-49A5-895C-81F9A4D2E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64464-3CE9-41FB-8039-510458863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5155-E097-40B8-B3DA-5826832D3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E92F-72B3-4855-AE09-C4F6E90D9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EC36-E4D1-4414-8EAC-2970567A5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C99C-2F52-44B4-B025-71C59611F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81A7-FC0A-432D-98F5-13DBDE32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F89A-E923-4BE2-B7EE-093C52B5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4A8B-0C10-49C2-B495-9EFB57D3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1AC7B-FEBF-4B69-B173-A702DACECB5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BDA10-88DC-463F-96AD-84FD3CCE6DC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3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DISTINGUISHING THE TEN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Practice </a:t>
            </a:r>
            <a:fld id="{40B7B324-DE5F-41BB-8397-ADD45F7AB053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5"/>
          <p:cNvSpPr/>
          <p:nvPr/>
        </p:nvSpPr>
        <p:spPr>
          <a:xfrm>
            <a:off x="428760" y="1357200"/>
            <a:ext cx="521496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ich tenses are the following i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κουσ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-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ομε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βλεπ - 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πιστευσ - ατ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διδασκ - εν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λυσ - ουσι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γ - 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4429080" y="225900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4429080" y="286848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er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8"/>
          <p:cNvSpPr/>
          <p:nvPr/>
        </p:nvSpPr>
        <p:spPr>
          <a:xfrm>
            <a:off x="4429080" y="349740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or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9"/>
          <p:cNvSpPr/>
          <p:nvPr/>
        </p:nvSpPr>
        <p:spPr>
          <a:xfrm>
            <a:off x="4429080" y="410688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er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0"/>
          <p:cNvSpPr/>
          <p:nvPr/>
        </p:nvSpPr>
        <p:spPr>
          <a:xfrm>
            <a:off x="4429080" y="470844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1"/>
          <p:cNvSpPr/>
          <p:nvPr/>
        </p:nvSpPr>
        <p:spPr>
          <a:xfrm>
            <a:off x="4429080" y="523224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1"/>
          <p:cNvSpPr/>
          <p:nvPr/>
        </p:nvSpPr>
        <p:spPr>
          <a:xfrm>
            <a:off x="24444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8 TENSES IN THE 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εω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Practice </a:t>
            </a:r>
            <a:fld id="{1302BD74-45A0-4B01-99D2-2AD1E71B1D62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3"/>
          <p:cNvSpPr/>
          <p:nvPr/>
        </p:nvSpPr>
        <p:spPr>
          <a:xfrm>
            <a:off x="285840" y="1357200"/>
            <a:ext cx="6715080" cy="48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ποιησα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φιλησε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ροσεκυνουμε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αἰτησουσι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τηρησε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ζητου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ὐχαριστησατ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ᾠκοδομησαν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4"/>
          <p:cNvSpPr/>
          <p:nvPr/>
        </p:nvSpPr>
        <p:spPr>
          <a:xfrm>
            <a:off x="5106960" y="217008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d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5"/>
          <p:cNvSpPr/>
          <p:nvPr/>
        </p:nvSpPr>
        <p:spPr>
          <a:xfrm>
            <a:off x="5102280" y="266544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he will l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6"/>
          <p:cNvSpPr/>
          <p:nvPr/>
        </p:nvSpPr>
        <p:spPr>
          <a:xfrm>
            <a:off x="5102280" y="3184560"/>
            <a:ext cx="325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were worshi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7"/>
          <p:cNvSpPr/>
          <p:nvPr/>
        </p:nvSpPr>
        <p:spPr>
          <a:xfrm>
            <a:off x="5099040" y="369396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will 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8"/>
          <p:cNvSpPr/>
          <p:nvPr/>
        </p:nvSpPr>
        <p:spPr>
          <a:xfrm>
            <a:off x="5099040" y="418464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 k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9"/>
          <p:cNvSpPr/>
          <p:nvPr/>
        </p:nvSpPr>
        <p:spPr>
          <a:xfrm>
            <a:off x="5099040" y="4700520"/>
            <a:ext cx="31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/they were see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0"/>
          <p:cNvSpPr/>
          <p:nvPr/>
        </p:nvSpPr>
        <p:spPr>
          <a:xfrm>
            <a:off x="5102280" y="5207040"/>
            <a:ext cx="282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u gave th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1"/>
          <p:cNvSpPr/>
          <p:nvPr/>
        </p:nvSpPr>
        <p:spPr>
          <a:xfrm>
            <a:off x="5102280" y="571500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bui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MEANING OF THE TEN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Practice </a:t>
            </a:r>
            <a:fld id="{D6C66AA1-7E9C-4D98-AB4F-F2722BC62AA6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428760" y="1417680"/>
            <a:ext cx="7643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ich Greek tenses are correct for the following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will s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were hea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he used to e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u are throw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s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4"/>
          <p:cNvSpPr/>
          <p:nvPr/>
        </p:nvSpPr>
        <p:spPr>
          <a:xfrm>
            <a:off x="4429080" y="225900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4429080" y="281304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er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4429080" y="334656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er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4429080" y="390204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8"/>
          <p:cNvSpPr/>
          <p:nvPr/>
        </p:nvSpPr>
        <p:spPr>
          <a:xfrm>
            <a:off x="4429080" y="444960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or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9"/>
          <p:cNvSpPr/>
          <p:nvPr/>
        </p:nvSpPr>
        <p:spPr>
          <a:xfrm>
            <a:off x="4429080" y="501336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MEANING OF THE TEN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Practice </a:t>
            </a:r>
            <a:fld id="{D9D629D4-8E80-41B5-B857-6650BB2F9A66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428760" y="1357200"/>
            <a:ext cx="521496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κουσ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αμβαν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πεμπ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βαπτιζον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πιστευσ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χ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4429080" y="227160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will h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4429080" y="288144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t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4429080" y="351144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was se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4429080" y="410220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was bapti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"/>
          <p:cNvSpPr/>
          <p:nvPr/>
        </p:nvSpPr>
        <p:spPr>
          <a:xfrm>
            <a:off x="4429080" y="473724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belie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9"/>
          <p:cNvSpPr/>
          <p:nvPr/>
        </p:nvSpPr>
        <p:spPr>
          <a:xfrm>
            <a:off x="4429080" y="536904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1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4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ENDIN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Practice </a:t>
            </a:r>
            <a:fld id="{74BE9FC2-A4AF-4B9D-85D8-A0979EE9D52A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500040" y="1228680"/>
            <a:ext cx="485784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κβαλλομε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λυσαμε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κουσετ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κβαλλει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πιστευσα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πολυσουσι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e are wri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y will belie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(pl.) were t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4560840" y="2043000"/>
            <a:ext cx="24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e were throw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4557600" y="2511360"/>
            <a:ext cx="24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e unt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4557600" y="2970360"/>
            <a:ext cx="24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(pl.) will h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7"/>
          <p:cNvSpPr/>
          <p:nvPr/>
        </p:nvSpPr>
        <p:spPr>
          <a:xfrm>
            <a:off x="4557600" y="3432240"/>
            <a:ext cx="33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(sing.) are throwing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8"/>
          <p:cNvSpPr/>
          <p:nvPr/>
        </p:nvSpPr>
        <p:spPr>
          <a:xfrm>
            <a:off x="4557600" y="3875040"/>
            <a:ext cx="24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y belie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9"/>
          <p:cNvSpPr/>
          <p:nvPr/>
        </p:nvSpPr>
        <p:spPr>
          <a:xfrm>
            <a:off x="4557600" y="4327560"/>
            <a:ext cx="24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y will set f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0"/>
          <p:cNvSpPr/>
          <p:nvPr/>
        </p:nvSpPr>
        <p:spPr>
          <a:xfrm>
            <a:off x="4560840" y="475920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γραφομε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4554360" y="521820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ιστευσουσι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2"/>
          <p:cNvSpPr/>
          <p:nvPr/>
        </p:nvSpPr>
        <p:spPr>
          <a:xfrm>
            <a:off x="4557600" y="568152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λαμβανετ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1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Practice </a:t>
            </a:r>
            <a:fld id="{D115074F-D09F-4BF9-9574-261018B812E3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357120" y="1357200"/>
            <a:ext cx="5214960" cy="50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διδασκεν τον ὀχλ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θεος ἀκουσει αὐτου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ἱ ἁγιοι ἐχουσιν τον νομ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υσομεν το πλοι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ια τον λογον ἐπιστευσατ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4"/>
          <p:cNvSpPr/>
          <p:nvPr/>
        </p:nvSpPr>
        <p:spPr>
          <a:xfrm>
            <a:off x="4714920" y="2259000"/>
            <a:ext cx="44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he was teaching the crow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"/>
          <p:cNvSpPr/>
          <p:nvPr/>
        </p:nvSpPr>
        <p:spPr>
          <a:xfrm>
            <a:off x="4714920" y="288144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od will hear h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4714920" y="349740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holy ones have the la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4714920" y="408924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will untie the bo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8"/>
          <p:cNvSpPr/>
          <p:nvPr/>
        </p:nvSpPr>
        <p:spPr>
          <a:xfrm>
            <a:off x="4714920" y="4737240"/>
            <a:ext cx="44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d you believe because of the wor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9"/>
          <p:cNvSpPr/>
          <p:nvPr/>
        </p:nvSpPr>
        <p:spPr>
          <a:xfrm>
            <a:off x="4714920" y="5494320"/>
            <a:ext cx="428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/they were speaking about the kingd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407520" y="5322960"/>
            <a:ext cx="38901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λεγον περι της βασιλεια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1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Practice </a:t>
            </a:r>
            <a:fld id="{8140F9BC-5897-4A92-9FB1-3EBBFA0E5B8C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"/>
          <p:cNvSpPr/>
          <p:nvPr/>
        </p:nvSpPr>
        <p:spPr>
          <a:xfrm>
            <a:off x="214200" y="1190520"/>
            <a:ext cx="4357800" cy="59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ως ἀπολυσεις αὐτη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ἱ ἀδελφοι οὐκ ἐπιστευσα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used to take the bo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believed the G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good master will set free the sla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used to speak but now I will lis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4714920" y="2098800"/>
            <a:ext cx="44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will you divorce h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5"/>
          <p:cNvSpPr/>
          <p:nvPr/>
        </p:nvSpPr>
        <p:spPr>
          <a:xfrm>
            <a:off x="4714920" y="2703600"/>
            <a:ext cx="42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brothers did not belie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6"/>
          <p:cNvSpPr/>
          <p:nvPr/>
        </p:nvSpPr>
        <p:spPr>
          <a:xfrm>
            <a:off x="4714920" y="3259080"/>
            <a:ext cx="4286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λαμβανομεν το πλοιο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1"/>
          <p:cNvSpPr/>
          <p:nvPr/>
        </p:nvSpPr>
        <p:spPr>
          <a:xfrm>
            <a:off x="4714920" y="3786120"/>
            <a:ext cx="4286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πιστευσαν τῳ θεῳ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2"/>
          <p:cNvSpPr/>
          <p:nvPr/>
        </p:nvSpPr>
        <p:spPr>
          <a:xfrm>
            <a:off x="4714920" y="4379760"/>
            <a:ext cx="428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ἀγαθος κυριος ἀπολυσει τους δουλου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3"/>
          <p:cNvSpPr/>
          <p:nvPr/>
        </p:nvSpPr>
        <p:spPr>
          <a:xfrm>
            <a:off x="4714920" y="5459400"/>
            <a:ext cx="4286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λεγον ἀλλα νυν ἀκουσω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Box 1"/>
          <p:cNvSpPr/>
          <p:nvPr/>
        </p:nvSpPr>
        <p:spPr>
          <a:xfrm>
            <a:off x="71280" y="29988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OINTS TO NOTE ABOUT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ἐ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PREFIX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Practice </a:t>
            </a:r>
            <a:fld id="{D3078F50-1B97-4495-8F0F-66484B50500A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3"/>
          <p:cNvSpPr/>
          <p:nvPr/>
        </p:nvSpPr>
        <p:spPr>
          <a:xfrm>
            <a:off x="285840" y="1357200"/>
            <a:ext cx="6715080" cy="48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ut these verbs into the Imperfect (1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ingul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γ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ὑπαγ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λεπ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ναβλεπ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αραλαμβαν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ποκαλυπτ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νοιγ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ιδασκω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4"/>
          <p:cNvSpPr/>
          <p:nvPr/>
        </p:nvSpPr>
        <p:spPr>
          <a:xfrm>
            <a:off x="5106960" y="2170080"/>
            <a:ext cx="2000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ἠγ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5"/>
          <p:cNvSpPr/>
          <p:nvPr/>
        </p:nvSpPr>
        <p:spPr>
          <a:xfrm>
            <a:off x="5102280" y="2665440"/>
            <a:ext cx="2000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ὑπηγ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5102280" y="3184560"/>
            <a:ext cx="2000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βλεπ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7"/>
          <p:cNvSpPr/>
          <p:nvPr/>
        </p:nvSpPr>
        <p:spPr>
          <a:xfrm>
            <a:off x="5099040" y="3693960"/>
            <a:ext cx="2000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νεβλεπ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8"/>
          <p:cNvSpPr/>
          <p:nvPr/>
        </p:nvSpPr>
        <p:spPr>
          <a:xfrm>
            <a:off x="5099040" y="4184640"/>
            <a:ext cx="2714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αρελαμβαν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9"/>
          <p:cNvSpPr/>
          <p:nvPr/>
        </p:nvSpPr>
        <p:spPr>
          <a:xfrm>
            <a:off x="5099040" y="4700520"/>
            <a:ext cx="3143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πεκαλυπτ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0"/>
          <p:cNvSpPr/>
          <p:nvPr/>
        </p:nvSpPr>
        <p:spPr>
          <a:xfrm>
            <a:off x="5102280" y="5207040"/>
            <a:ext cx="2000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ἠνοιγ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1"/>
          <p:cNvSpPr/>
          <p:nvPr/>
        </p:nvSpPr>
        <p:spPr>
          <a:xfrm>
            <a:off x="5102280" y="5715000"/>
            <a:ext cx="2000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διδασκ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1"/>
          <p:cNvSpPr/>
          <p:nvPr/>
        </p:nvSpPr>
        <p:spPr>
          <a:xfrm>
            <a:off x="-112680" y="24120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OINTS TO NOTE ABOUT THE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σ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SUFFI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Practice </a:t>
            </a:r>
            <a:fld id="{768ED292-4715-4CB8-A7E6-28C7D3D0F6F7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3"/>
          <p:cNvSpPr/>
          <p:nvPr/>
        </p:nvSpPr>
        <p:spPr>
          <a:xfrm>
            <a:off x="285840" y="1357200"/>
            <a:ext cx="6715080" cy="48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ut these verbs into the Aorist (1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ingul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απτιζ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εμπ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κου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πολυ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ηρυσσ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ναβλεπ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ποκαλυπτ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οξαζω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4"/>
          <p:cNvSpPr/>
          <p:nvPr/>
        </p:nvSpPr>
        <p:spPr>
          <a:xfrm>
            <a:off x="5106960" y="2170080"/>
            <a:ext cx="2000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βαπτισ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5"/>
          <p:cNvSpPr/>
          <p:nvPr/>
        </p:nvSpPr>
        <p:spPr>
          <a:xfrm>
            <a:off x="5102280" y="2665440"/>
            <a:ext cx="2000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πεμψ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6"/>
          <p:cNvSpPr/>
          <p:nvPr/>
        </p:nvSpPr>
        <p:spPr>
          <a:xfrm>
            <a:off x="5102280" y="3184560"/>
            <a:ext cx="2000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ἠκουσ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7"/>
          <p:cNvSpPr/>
          <p:nvPr/>
        </p:nvSpPr>
        <p:spPr>
          <a:xfrm>
            <a:off x="5099040" y="3693960"/>
            <a:ext cx="2000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πελυσ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8"/>
          <p:cNvSpPr/>
          <p:nvPr/>
        </p:nvSpPr>
        <p:spPr>
          <a:xfrm>
            <a:off x="5099040" y="4184640"/>
            <a:ext cx="2714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κηρυξ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9"/>
          <p:cNvSpPr/>
          <p:nvPr/>
        </p:nvSpPr>
        <p:spPr>
          <a:xfrm>
            <a:off x="5099040" y="4700520"/>
            <a:ext cx="3143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νεβλεψ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0"/>
          <p:cNvSpPr/>
          <p:nvPr/>
        </p:nvSpPr>
        <p:spPr>
          <a:xfrm>
            <a:off x="5102280" y="5207040"/>
            <a:ext cx="2000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πεκαλυψ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1"/>
          <p:cNvSpPr/>
          <p:nvPr/>
        </p:nvSpPr>
        <p:spPr>
          <a:xfrm>
            <a:off x="5102280" y="5715000"/>
            <a:ext cx="2000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δοξασ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Box 1"/>
          <p:cNvSpPr/>
          <p:nvPr/>
        </p:nvSpPr>
        <p:spPr>
          <a:xfrm>
            <a:off x="244440" y="712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DEALING WITH THE PREFIX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SUFFIX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Practice </a:t>
            </a:r>
            <a:fld id="{3CB9897C-F337-459A-AFE8-DB790B04A73D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3"/>
          <p:cNvSpPr/>
          <p:nvPr/>
        </p:nvSpPr>
        <p:spPr>
          <a:xfrm>
            <a:off x="285840" y="1357200"/>
            <a:ext cx="6715080" cy="48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tense are the following i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κραζε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διωξ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λεψετ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γραψα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ἰχομε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νεβλεπετ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εισομε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κηρυξεν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4"/>
          <p:cNvSpPr/>
          <p:nvPr/>
        </p:nvSpPr>
        <p:spPr>
          <a:xfrm>
            <a:off x="5106960" y="217008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er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5"/>
          <p:cNvSpPr/>
          <p:nvPr/>
        </p:nvSpPr>
        <p:spPr>
          <a:xfrm>
            <a:off x="5102280" y="266544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or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6"/>
          <p:cNvSpPr/>
          <p:nvPr/>
        </p:nvSpPr>
        <p:spPr>
          <a:xfrm>
            <a:off x="5102280" y="318456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7"/>
          <p:cNvSpPr/>
          <p:nvPr/>
        </p:nvSpPr>
        <p:spPr>
          <a:xfrm>
            <a:off x="5099040" y="369396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or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8"/>
          <p:cNvSpPr/>
          <p:nvPr/>
        </p:nvSpPr>
        <p:spPr>
          <a:xfrm>
            <a:off x="5099040" y="418464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er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9"/>
          <p:cNvSpPr/>
          <p:nvPr/>
        </p:nvSpPr>
        <p:spPr>
          <a:xfrm>
            <a:off x="5099040" y="4700520"/>
            <a:ext cx="31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er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0"/>
          <p:cNvSpPr/>
          <p:nvPr/>
        </p:nvSpPr>
        <p:spPr>
          <a:xfrm>
            <a:off x="5102280" y="520704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1"/>
          <p:cNvSpPr/>
          <p:nvPr/>
        </p:nvSpPr>
        <p:spPr>
          <a:xfrm>
            <a:off x="5102280" y="571500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or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13:21:07Z</dcterms:created>
  <dc:creator>Sarah</dc:creator>
  <dc:description/>
  <dc:language>en-US</dc:language>
  <cp:lastModifiedBy>Sarah</cp:lastModifiedBy>
  <dcterms:modified xsi:type="dcterms:W3CDTF">2009-07-11T20:13:22Z</dcterms:modified>
  <cp:revision>53</cp:revision>
  <dc:subject/>
  <dc:title>Slide 1</dc:title>
</cp:coreProperties>
</file>