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712-A079-4023-A949-752CA777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425-E252-41A1-91FF-B3EC29C4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052-8D63-4294-A08A-F2E40989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939-EB22-4BF5-AD8F-8D93D2A6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6F3F-73C4-4250-8DA3-7BBFC5DF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F5A8-114C-450C-8C22-7EA3F455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5DAF-A4FE-4052-A28F-A4B018F2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43D2-7820-4FE8-A52E-B8A26539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AF75-A95E-4EF1-9B32-7EC631A2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1232-CAC7-4A4B-8050-20578236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9081-4F55-4498-85AE-9FF21928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D26-7241-4B65-BA9E-1DE7781F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D1C8-1BD5-46D2-96C5-C177090B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4A63-133D-4E6C-81D1-6DA27A1D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2CA7-E9B7-417C-8171-2A8C3572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29CF-EA5D-4B5E-9964-C3C35BC1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8345-B566-4598-8A4E-C636B273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2BFF-355E-48C7-9393-A230F271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1DD-4E41-4FC1-BA9C-E7BF7D98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E23-5C18-4B20-B479-B9D02D2B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068-BFB6-4DA2-A06E-B75DA290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4B8-77A6-4144-BF14-25AF7A37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CDD-CD4F-4150-AA77-271E9CE9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7FA-CEDD-45D5-AA4E-9073A6DD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9B10-A5BB-4D1C-85E8-231E528ADB3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9089-BA0E-41A3-B7F2-12A3F5E7572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3A15-8FBB-4AD0-A969-C1626112D32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138C-6E1C-4DFF-B93E-A5B86805FD7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Rectangle 4"/>
          <p:cNvSpPr/>
          <p:nvPr/>
        </p:nvSpPr>
        <p:spPr>
          <a:xfrm>
            <a:off x="1285920" y="15001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rite out the Greek alphabet in order and the English equivalents of each lett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1160" y="2711520"/>
          <a:ext cx="6786360" cy="642960"/>
        </p:xfrm>
        <a:graphic>
          <a:graphicData uri="http://schemas.openxmlformats.org/drawingml/2006/table">
            <a:tbl>
              <a:tblPr/>
              <a:tblGrid>
                <a:gridCol w="565200"/>
                <a:gridCol w="565200"/>
                <a:gridCol w="564840"/>
                <a:gridCol w="567000"/>
                <a:gridCol w="577800"/>
                <a:gridCol w="552240"/>
                <a:gridCol w="565200"/>
                <a:gridCol w="567000"/>
                <a:gridCol w="564840"/>
                <a:gridCol w="565200"/>
                <a:gridCol w="565200"/>
                <a:gridCol w="56664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β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δ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ζ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λ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μ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176480" y="4356000"/>
          <a:ext cx="6753240" cy="795600"/>
        </p:xfrm>
        <a:graphic>
          <a:graphicData uri="http://schemas.openxmlformats.org/drawingml/2006/table">
            <a:tbl>
              <a:tblPr/>
              <a:tblGrid>
                <a:gridCol w="561960"/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</a:tblGrid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π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χ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ψ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181160" y="3357720"/>
          <a:ext cx="6786360" cy="642960"/>
        </p:xfrm>
        <a:graphic>
          <a:graphicData uri="http://schemas.openxmlformats.org/drawingml/2006/table">
            <a:tbl>
              <a:tblPr/>
              <a:tblGrid>
                <a:gridCol w="565200"/>
                <a:gridCol w="565200"/>
                <a:gridCol w="564840"/>
                <a:gridCol w="567000"/>
                <a:gridCol w="577800"/>
                <a:gridCol w="552240"/>
                <a:gridCol w="565200"/>
                <a:gridCol w="567000"/>
                <a:gridCol w="564840"/>
                <a:gridCol w="565200"/>
                <a:gridCol w="565200"/>
                <a:gridCol w="56664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ē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176480" y="5143680"/>
          <a:ext cx="6753240" cy="914400"/>
        </p:xfrm>
        <a:graphic>
          <a:graphicData uri="http://schemas.openxmlformats.org/drawingml/2006/table">
            <a:tbl>
              <a:tblPr/>
              <a:tblGrid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  <a:gridCol w="561960"/>
                <a:gridCol w="563400"/>
                <a:gridCol w="561960"/>
                <a:gridCol w="563760"/>
                <a:gridCol w="561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ō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Box 11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Practice </a:t>
            </a:r>
            <a:fld id="{A11EC18F-B084-4859-A23A-37AC3710187C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Rectangle 4"/>
          <p:cNvSpPr/>
          <p:nvPr/>
        </p:nvSpPr>
        <p:spPr>
          <a:xfrm>
            <a:off x="357120" y="14288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Write out the English alphabet and give the Greek (small) letter equivalent to each one as far as possible (ignore q, v and w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85920" y="3273480"/>
          <a:ext cx="6095880" cy="50328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285920" y="3821040"/>
          <a:ext cx="6095880" cy="503280"/>
        </p:xfrm>
        <a:graphic>
          <a:graphicData uri="http://schemas.openxmlformats.org/drawingml/2006/table">
            <a:tbl>
              <a:tblPr/>
              <a:tblGrid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β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δ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‘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λ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μ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92400" y="4670280"/>
          <a:ext cx="6095880" cy="503280"/>
        </p:xfrm>
        <a:graphic>
          <a:graphicData uri="http://schemas.openxmlformats.org/drawingml/2006/table">
            <a:tbl>
              <a:tblPr/>
              <a:tblGrid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297080" y="5238720"/>
          <a:ext cx="6095880" cy="503280"/>
        </p:xfrm>
        <a:graphic>
          <a:graphicData uri="http://schemas.openxmlformats.org/drawingml/2006/table">
            <a:tbl>
              <a:tblPr/>
              <a:tblGrid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  <a:gridCol w="468360"/>
                <a:gridCol w="469800"/>
                <a:gridCol w="468360"/>
                <a:gridCol w="469800"/>
                <a:gridCol w="468360"/>
                <a:gridCol w="468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π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τ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Lucida Sans Unicode"/>
                        </a:rPr>
                        <a:t>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ζ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Box 9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Practice </a:t>
            </a:r>
            <a:fld id="{99E1053C-07A6-49E1-A000-179A2CC278C3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760320" y="1249200"/>
            <a:ext cx="770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rite the sound of the following Greek words in English lett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TextBox 6"/>
          <p:cNvSpPr/>
          <p:nvPr/>
        </p:nvSpPr>
        <p:spPr>
          <a:xfrm>
            <a:off x="1262160" y="2079720"/>
            <a:ext cx="263988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πτισμ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ρον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οσμ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γ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ικρ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υστηριον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βολη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λυτικ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αββατο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3902040" y="2141640"/>
            <a:ext cx="3516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baptisma-bapt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914640" y="2627280"/>
            <a:ext cx="282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thronos- thro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14640" y="3090960"/>
            <a:ext cx="4430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kosmos- cosmos, worl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3902040" y="3554280"/>
            <a:ext cx="3735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megas- gre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3902040" y="4043520"/>
            <a:ext cx="282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mikros- smal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3902040" y="4506840"/>
            <a:ext cx="5214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mustērion </a:t>
            </a:r>
            <a:r>
              <a:rPr b="0" i="1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 mysterion– myster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917160" y="5010120"/>
            <a:ext cx="3039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parabolē– parabl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3909600" y="5499000"/>
            <a:ext cx="55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paralutikos </a:t>
            </a:r>
            <a:r>
              <a:rPr b="0" i="1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 paralytikos–paralytic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894120" y="5996160"/>
            <a:ext cx="5105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sabbaton- sabbath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Practice </a:t>
            </a:r>
            <a:fld id="{938328DB-7E73-4AEA-A0EE-19BA7EF2D1D5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77760" y="1158840"/>
            <a:ext cx="913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he following are real Greek words written in English letters. Write them in Greek (small) letters, and have a guess at their mean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446120" y="2230560"/>
            <a:ext cx="2095560" cy="42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blasphēmē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kardi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logiko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mētē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atē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neumatiko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phētē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y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hōnē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-193680" y="193680"/>
            <a:ext cx="8477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TextBox 8"/>
          <p:cNvSpPr/>
          <p:nvPr/>
        </p:nvSpPr>
        <p:spPr>
          <a:xfrm>
            <a:off x="4199040" y="213840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βλασφημη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blasphem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4199040" y="2602080"/>
            <a:ext cx="378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k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αρδια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he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4211640" y="3081240"/>
            <a:ext cx="397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λογικος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rational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spiritu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4199040" y="3541680"/>
            <a:ext cx="399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μητηρ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mo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4211640" y="4030560"/>
            <a:ext cx="440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ατηρ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fa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4211640" y="4510080"/>
            <a:ext cx="490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νευματικος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spiritu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4211640" y="4989600"/>
            <a:ext cx="340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ροφητης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ph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6"/>
          <p:cNvSpPr/>
          <p:nvPr/>
        </p:nvSpPr>
        <p:spPr>
          <a:xfrm>
            <a:off x="4211640" y="5460840"/>
            <a:ext cx="292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πυρ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f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4199040" y="5927760"/>
            <a:ext cx="324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φωνη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vo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Practice </a:t>
            </a:r>
            <a:fld id="{58AAFFE1-1AFB-4551-ABC8-3EAFF1459CE6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TextBox 6"/>
          <p:cNvSpPr/>
          <p:nvPr/>
        </p:nvSpPr>
        <p:spPr>
          <a:xfrm>
            <a:off x="1906560" y="166680"/>
            <a:ext cx="4660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2 BREATHING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927000" y="1327320"/>
            <a:ext cx="734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 which of these Greek words is there a error in the breath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2227320" y="1919160"/>
            <a:ext cx="230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χ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ἐ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ευ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4405320" y="2254320"/>
            <a:ext cx="3063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            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eft Arrow 13"/>
          <p:cNvSpPr/>
          <p:nvPr/>
        </p:nvSpPr>
        <p:spPr>
          <a:xfrm>
            <a:off x="4133880" y="2325600"/>
            <a:ext cx="682560" cy="366840"/>
          </a:xfrm>
          <a:prstGeom prst="leftArrow">
            <a:avLst>
              <a:gd name="adj1" fmla="val 50000"/>
              <a:gd name="adj2" fmla="val 4998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eft Arrow 16"/>
          <p:cNvSpPr/>
          <p:nvPr/>
        </p:nvSpPr>
        <p:spPr>
          <a:xfrm>
            <a:off x="4165560" y="4791240"/>
            <a:ext cx="682560" cy="366480"/>
          </a:xfrm>
          <a:prstGeom prst="leftArrow">
            <a:avLst>
              <a:gd name="adj1" fmla="val 50000"/>
              <a:gd name="adj2" fmla="val 5003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5640480" y="4700520"/>
            <a:ext cx="1558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eft Arrow 18"/>
          <p:cNvSpPr/>
          <p:nvPr/>
        </p:nvSpPr>
        <p:spPr>
          <a:xfrm>
            <a:off x="4133880" y="3147840"/>
            <a:ext cx="682560" cy="366840"/>
          </a:xfrm>
          <a:prstGeom prst="leftArrow">
            <a:avLst>
              <a:gd name="adj1" fmla="val 50000"/>
              <a:gd name="adj2" fmla="val 4998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5614920" y="3070080"/>
            <a:ext cx="1559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Practice </a:t>
            </a:r>
            <a:fld id="{3C3B826A-61EC-4AA2-ABF5-56C4C73556C8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309600" y="5808600"/>
            <a:ext cx="86281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* Note: When a Greek word containing the diphth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Arial"/>
              </a:rPr>
              <a:t>αι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Arial"/>
              </a:rPr>
              <a:t>’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is transliterated into English the 'ai' is normally represented by 'ae'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TextBox 4"/>
          <p:cNvSpPr/>
          <p:nvPr/>
        </p:nvSpPr>
        <p:spPr>
          <a:xfrm>
            <a:off x="2022480" y="166680"/>
            <a:ext cx="4829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3 CAPITAL LETTER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1751040" y="1712880"/>
            <a:ext cx="231948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υλ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ρι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βραα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‘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Ιωσηφ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ιμω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ρῳδη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ερουσαλη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σα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1276200"/>
            <a:ext cx="51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rite these names in English lett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4854600" y="1763640"/>
            <a:ext cx="24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Paulos (Paul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4854600" y="2254320"/>
            <a:ext cx="248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Maria (Mar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4854600" y="2730600"/>
            <a:ext cx="319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Abraam (Abraha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906800" y="3219480"/>
            <a:ext cx="19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Josep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4881600" y="3695760"/>
            <a:ext cx="243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Sim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4869000" y="4159080"/>
            <a:ext cx="3176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Heroides (Hero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919760" y="4667400"/>
            <a:ext cx="2279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Jerusal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5"/>
          <p:cNvSpPr/>
          <p:nvPr/>
        </p:nvSpPr>
        <p:spPr>
          <a:xfrm>
            <a:off x="4894200" y="5149800"/>
            <a:ext cx="2355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Caesar*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Practice </a:t>
            </a:r>
            <a:fld id="{84D74B9A-9A1C-4FCE-BE9A-5654759A282F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Box 3"/>
          <p:cNvSpPr/>
          <p:nvPr/>
        </p:nvSpPr>
        <p:spPr>
          <a:xfrm>
            <a:off x="385920" y="219240"/>
            <a:ext cx="937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4 DIPHTHONGS AND IOTA SUBSCRIP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903600" y="1327320"/>
            <a:ext cx="49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rite these names in Greek letters</a:t>
            </a:r>
            <a:r>
              <a:rPr b="0" lang="en-GB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874800" y="1906560"/>
            <a:ext cx="374796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Barnabas (Barnaba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Petros  (Pet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Philippos (Philip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Pilatos (Pilat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Timotheos (Timoth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Joudaea (Jude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Satanas (Sata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Pharisaios (Pharise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5357880" y="204804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ρναβ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5010120" y="3052800"/>
            <a:ext cx="24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5319720" y="370692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λατ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5332320" y="314640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ιππ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5345280" y="259560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τρ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5322960" y="428940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μοθε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5322960" y="4846680"/>
            <a:ext cx="2352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ουδαι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5322960" y="5394240"/>
            <a:ext cx="2354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ατανα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5305320" y="5924520"/>
            <a:ext cx="235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αρισαι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Practice </a:t>
            </a:r>
            <a:fld id="{AC1C9E82-1D40-4897-B37B-F7C010A4B772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360360" y="1403280"/>
            <a:ext cx="84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ich of the following words has a smooth breath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1868400" y="231840"/>
            <a:ext cx="6678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5 ACCENT AND STR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6" name="TextBox 5"/>
          <p:cNvSpPr/>
          <p:nvPr/>
        </p:nvSpPr>
        <p:spPr>
          <a:xfrm>
            <a:off x="2216160" y="2189160"/>
            <a:ext cx="290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άλλ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ἄγ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υρίσκ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ἅγι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</a:t>
            </a:r>
            <a:r>
              <a:rPr b="0" lang="en-GB" sz="2700" spc="-1" strike="noStrike">
                <a:solidFill>
                  <a:srgbClr val="000000"/>
                </a:solidFill>
                <a:latin typeface="Greek"/>
              </a:rPr>
              <a:t>î</a:t>
            </a:r>
            <a:r>
              <a:rPr b="0" lang="el-GR" sz="2700" spc="-1" strike="noStrike">
                <a:solidFill>
                  <a:srgbClr val="000000"/>
                </a:solidFill>
                <a:latin typeface="Greek"/>
              </a:rPr>
              <a:t>τ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eft Arrow 7"/>
          <p:cNvSpPr/>
          <p:nvPr/>
        </p:nvSpPr>
        <p:spPr>
          <a:xfrm>
            <a:off x="4286160" y="3395520"/>
            <a:ext cx="682560" cy="366840"/>
          </a:xfrm>
          <a:prstGeom prst="leftArrow">
            <a:avLst>
              <a:gd name="adj1" fmla="val 50000"/>
              <a:gd name="adj2" fmla="val 4998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eft Arrow 8"/>
          <p:cNvSpPr/>
          <p:nvPr/>
        </p:nvSpPr>
        <p:spPr>
          <a:xfrm>
            <a:off x="4305240" y="5869080"/>
            <a:ext cx="682560" cy="366480"/>
          </a:xfrm>
          <a:prstGeom prst="leftArrow">
            <a:avLst>
              <a:gd name="adj1" fmla="val 50000"/>
              <a:gd name="adj2" fmla="val 5003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Practice </a:t>
            </a:r>
            <a:fld id="{3D8EA011-8AB7-408C-BAC0-4F9F15837D03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986760" y="151920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ich are question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2679840" y="231840"/>
            <a:ext cx="6680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.6 PUNCTUATION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4" name="TextBox 5"/>
          <p:cNvSpPr/>
          <p:nvPr/>
        </p:nvSpPr>
        <p:spPr>
          <a:xfrm>
            <a:off x="2292480" y="2125800"/>
            <a:ext cx="293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ει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χω∙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ουσι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λλ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ε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eft Arrow 6"/>
          <p:cNvSpPr/>
          <p:nvPr/>
        </p:nvSpPr>
        <p:spPr>
          <a:xfrm>
            <a:off x="4630680" y="2533680"/>
            <a:ext cx="681120" cy="366840"/>
          </a:xfrm>
          <a:prstGeom prst="leftArrow">
            <a:avLst>
              <a:gd name="adj1" fmla="val 50000"/>
              <a:gd name="adj2" fmla="val 4988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eft Arrow 7"/>
          <p:cNvSpPr/>
          <p:nvPr/>
        </p:nvSpPr>
        <p:spPr>
          <a:xfrm>
            <a:off x="4616280" y="5016600"/>
            <a:ext cx="682920" cy="366480"/>
          </a:xfrm>
          <a:prstGeom prst="leftArrow">
            <a:avLst>
              <a:gd name="adj1" fmla="val 50000"/>
              <a:gd name="adj2" fmla="val 5006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6"/>
          <p:cNvSpPr/>
          <p:nvPr/>
        </p:nvSpPr>
        <p:spPr>
          <a:xfrm>
            <a:off x="6867360" y="6305400"/>
            <a:ext cx="200376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Practice </a:t>
            </a:r>
            <a:fld id="{EF2401E3-27B5-410E-BD8D-F5A01209CE7A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9:51:08Z</dcterms:created>
  <dc:creator>Sarah</dc:creator>
  <dc:description/>
  <dc:language>en-US</dc:language>
  <cp:lastModifiedBy>Sarah</cp:lastModifiedBy>
  <dcterms:modified xsi:type="dcterms:W3CDTF">2009-07-11T17:00:51Z</dcterms:modified>
  <cp:revision>72</cp:revision>
  <dc:subject/>
  <dc:title>Slide 1</dc:title>
</cp:coreProperties>
</file>