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5F6-17B7-4363-8400-154DE686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232-B881-4FDA-8AC2-D1E87F4F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F276-670F-41FA-8023-0F73C4B7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72C-DA1C-45B9-B551-79EBAA78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7C88-C412-4FE9-B836-DB8E492F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BDC-57FB-4979-AAE4-2552F1D9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891C-76F1-4B5F-8844-F04C176D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F795-ED92-4FBD-AFB2-EA42D0FF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946-9E0C-4726-92A9-71240766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D0E6-F2DF-4674-B6FF-129BA92A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7ED9-0B54-42CB-AE72-90A62804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3090-72E9-4D7D-A6D2-A5E0AEBD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9D10-1EC3-43B7-99BB-9A242E1DD2C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Practice 1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71280" y="73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00040" y="1424160"/>
            <a:ext cx="792972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σωτηρ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ἀρχο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λπιδ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μητερ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νυκ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σαρκ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χερ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Σιμων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3800520" y="224964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3786120" y="32558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3786120" y="3770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3786120" y="426708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3786120" y="47894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3786120" y="528624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3786120" y="579744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Practice 2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71280" y="73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14200" y="1285920"/>
            <a:ext cx="492948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in the form indic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νηρ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i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γυνη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υς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usative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χειρ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usa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αρξ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ive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χαρις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itive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θυγατηρ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mina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ἰων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ive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143680" y="200016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νδρ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143680" y="251784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γυναιξ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143680" y="302724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δ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143680" y="354168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χειρ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143680" y="404496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αρκ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143680" y="45385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χαρι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5143680" y="505764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θυγατερ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5143680" y="555768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ἰωσι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Practice 3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71280" y="73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3 NEUTER NOUN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785880" y="1928880"/>
            <a:ext cx="7572240" cy="34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νευματ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ληματ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ῥημα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νομα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572000" y="26956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572000" y="319716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572000" y="369576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inative/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4572000" y="42116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Practice 4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71280" y="730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3 NEUTER NOUN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500040" y="1643040"/>
            <a:ext cx="47149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in the form ind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ἱμα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νευμα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i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ωμα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νομα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usative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5429160" y="2730600"/>
            <a:ext cx="200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ἱμ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5429160" y="3236760"/>
            <a:ext cx="200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νευμα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5429160" y="3751200"/>
            <a:ext cx="200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ωμα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5429160" y="4292640"/>
            <a:ext cx="200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νομα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Practice 5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85840" y="1571760"/>
            <a:ext cx="542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σωτηρ ἐστιν ὁ Ἰησου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ὁ υἱος του πατρος ἐφυγ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ἐχω ἀγαθην μητερ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εἰδον τους πατερας αὐτ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βαπτιζει ὑδατ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οἱ ἀνδρες ἐχηλθ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714920" y="23162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Jesus the savio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4714920" y="28432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ather’s son f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4714920" y="334332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ve a good m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4714920" y="385776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saw their fa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4714920" y="435780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baptizes with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4714920" y="48578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en l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Practice 6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285840" y="1571760"/>
            <a:ext cx="421488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ὁ Χριστος ἀπεθανεν ὑπερ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ἀνδρων και γυναικ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ποιετε το θελημα του θε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 loves two wo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spirit does not like 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le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 have big f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y saw the l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4714920" y="231624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rist died on behalf of men and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4714920" y="334332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the will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4714920" y="38163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φιλει δυο γυναικα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4714920" y="4319640"/>
            <a:ext cx="39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 πνευμα οὐ φιλει την σαρκ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4714920" y="53118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χω μεγαλους ποδα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4714920" y="582444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δον το φω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Practic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244440" y="71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4 ADJECTIVE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285840" y="1571760"/>
            <a:ext cx="4714920" cy="32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πλειονες στρατιωται ἐρχον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ἐχεις μειζονα κεφαλην μο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ὁ Ἰησους εἰχεν πλειονας μαθητας ἠ Ἰωαννη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προφητης εἰμι μειζονος ἱερο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5000760" y="23162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soldiers are co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5000760" y="28432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have a bigger head than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000760" y="334332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Jesus have more disciples than Joh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4997520" y="432756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a prophet of a greater t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285840" y="1187280"/>
            <a:ext cx="542916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τίς ἐρχετ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θελω ἀρτον τιν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τί φιλειτε τον Χριστ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Arial"/>
              </a:rPr>
              <a:t>;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περι τίνων εἰπε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πατερες τινες εἰσιν πονηρο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τίνα ζητειτε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y are you (s.) pray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whom did you (pl.) spe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me prophets are cal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law do you (pl.) ke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4714920" y="183816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 is co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4714920" y="22525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nt some br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4714920" y="263700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 do you (pl.) love Chri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4714920" y="303840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out what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hom- both plural) did he spe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4714920" y="38210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fathers are wic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4711680" y="42116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m are you (pl.) seek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Practice 8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244440" y="2588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5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ί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714920" y="458316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ί προσευχῃ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4714920" y="49816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ίνι εἰπετε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4714920" y="537696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φηται τινες καλουσ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4714920" y="574056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ίνα νομον τηρειτε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1:53:05Z</dcterms:created>
  <dc:creator>Sarah</dc:creator>
  <dc:description/>
  <dc:language>en-US</dc:language>
  <cp:lastModifiedBy>Sarah</cp:lastModifiedBy>
  <dcterms:modified xsi:type="dcterms:W3CDTF">2009-08-09T11:00:49Z</dcterms:modified>
  <cp:revision>37</cp:revision>
  <dc:subject/>
  <dc:title>Slide 1</dc:title>
</cp:coreProperties>
</file>