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F2D0-FDF2-4BBF-B5BE-870349C1B1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1528-A37A-41D6-B555-DE64508A4B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0EB-556E-42AC-8641-E981F02C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609-AA38-4F86-9AA6-755D9AE7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C08-602F-4709-8CCF-0C979FE5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1AC-D065-4570-9C0C-3BCC38B8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37C-7588-4235-BEE8-ED27485B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88D-71F7-47AF-BDD3-E08B1FF4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9E0-ABE3-4ADD-9F1C-13E59FB3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3D1-DDF6-4357-A989-37290D9C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6DC-CC45-49D9-A511-7BE534F5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701-88BE-435C-8A4F-67E06C6B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6FA-104C-44D6-A663-0768A39A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0F4-3513-452F-9D8A-DB4025D8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C9BA-2F84-4E05-96B0-F0290E65253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59680" y="2376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Practice 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04920" y="2514600"/>
            <a:ext cx="6324480" cy="33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sus threw out the demon which was in the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the man whom you are see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e ate the meal which the king 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rophet offered the sacrifice, because of which the rain c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is the Messiah for whom we are wai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governor sent the soldiers who arrested Je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04920" y="152388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eak down these complex sentences into two basic sent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word is the antecedent of the relative in these senten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010280" y="2529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7010280" y="3032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10280" y="3551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010280" y="4043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crif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7010280" y="4897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i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7010280" y="53974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d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57120" y="1228680"/>
            <a:ext cx="358164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s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ὃ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ὁ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οὑ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ᾑ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αἳ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αἱ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οὑ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τη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ὡ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οἱ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881360" y="170496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uter Nominativ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ccusative Si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881360" y="22240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culine Accusative Si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881360" y="26956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culin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euter Genitive Si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881360" y="32148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minine Dative Sin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881360" y="368604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minine Nominative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881360" y="421956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minine Nominative Plural (of the artic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881360" y="47242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culine Accusative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881360" y="52102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minine Accusative Singular (of the artic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881360" y="5715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culine, Feminin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euter Genitive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1881360" y="623556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culin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euter Dative Pl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Practice 2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Practice 3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42920" y="1214280"/>
            <a:ext cx="442908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ω τον δουλον ὁν ἐκαλεσ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παγε ἐκ του οἰκου ἐν ᾡ ε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υ ἐστιν τα ποτηρια ἁ φιλουμ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πιστευσαν γαρ τῳ ἐυαγγελιῳ ὃ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ἱ ἀποστολοι ἐκηρυσσο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σπαζεσθε οἳ ἐρχονται προς ὑμ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ὑτος ἐστιν ὁ κυριος δι’ οὑ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ευξομεθ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86400" y="198288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see the slave whom he ca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89640" y="252720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art from the house in which you are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92520" y="331632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are the cups which we lo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606920" y="4044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believed the good news which the apostles were preac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619520" y="492300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et (pl.) the ones who are coming to you (pl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619520" y="569448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the Lord through whom we will p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Practice 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ALF-WAY PRACT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42920" y="1657440"/>
            <a:ext cx="4500360" cy="45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σπαζεσθε τον Τιμοθεον ὑπε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ὑ ἡ ἐκκλησια προσευχετα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keeps the bread which he 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necessary to love the God who saves 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you (s.) believe the gospel which you he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the disciple who denied Jesus rep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99000" y="1568520"/>
            <a:ext cx="45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saying to you what I heard (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eard, this I am saying to yo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589640" y="221148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et Timothy on whose behalf the church is pr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92520" y="30146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ηρει τον ἀρτον ὁν ἐποιησε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606920" y="3714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ι φιλειν τον θεον ὁς σωζει ἡμ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619520" y="460224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ιστευεις τῳ εὐαγγελιῳ ὃ ἠκουσα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572000" y="552780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μαθητης ὁς ἠρνησατο τον Ἰησουν μετενοησ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42920" y="109224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ἁ ἠκουσα ταυτα λεγω ὑμι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Practice 5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4444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2 SLANTED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42920" y="1500120"/>
            <a:ext cx="47149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 βλεπε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 φιλεις μ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γω οὐ φιλω σ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 ἐγ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857760" y="225756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ely you don’t see? / You don’t see, d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857760" y="307188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ely you love me? / You don’t love me, d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857760" y="38876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 not love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3857760" y="47228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ely not I? / It is not me,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85840" y="121428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these sentences include direct or indirect statement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ndirect, which Greek tense would be used in the indirect stat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Practice 6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0" y="2556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STATEM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28720" y="2417760"/>
            <a:ext cx="42670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enturion says that he is g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said to him, 'Worship me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omen said that he had been bl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oldiers thought that they saw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lind people said, 'We want to see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y cried out that he was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24400" y="24321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rect –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24400" y="288756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324400" y="3343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rect – Im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24400" y="409716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rect – Ao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324400" y="48657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24400" y="5619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rect –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304920" y="1357200"/>
            <a:ext cx="85341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Greek, which case would be used for these time expression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y came on the Sabbat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 fasted for forty day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codemus came by nigh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days he was in the tom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dawn the stone mov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 was arrested during Passov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424480" y="2816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433840" y="3375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429160" y="3930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429160" y="4489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429160" y="50115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429160" y="5565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Practice 7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44440" y="27000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20:38:18Z</dcterms:created>
  <dc:creator>Sarah</dc:creator>
  <dc:description/>
  <dc:language>en-US</dc:language>
  <cp:lastModifiedBy>Sarah</cp:lastModifiedBy>
  <dcterms:modified xsi:type="dcterms:W3CDTF">2009-08-09T10:51:48Z</dcterms:modified>
  <cp:revision>23</cp:revision>
  <dc:subject/>
  <dc:title>Slide 1</dc:title>
</cp:coreProperties>
</file>