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7A4-88DB-4861-87F8-46441DDC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D18-2BE7-4ED7-820C-C2B03953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565-911F-4C66-8554-4429CEE1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9C5-1A83-41EC-9B30-390C95B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477-151E-4E5C-BC31-73DB4B83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DD4-FC9C-47D0-921E-F2CCE382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E00-378F-4E25-9081-24E33094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D87-76F4-4AEF-B73E-675944B3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5E1-8AFD-457C-B61F-7F42CA34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EB2-EF42-4442-8FD5-BD3E19E9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906-B237-40C0-8399-37AD085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820-D254-4806-A6D8-FA147AD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A44B-4801-44AB-8783-5400C7B716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D000E66C-BE98-4ED2-B8A5-71E3FAB58B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420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βαλλ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τανοησ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ιτε τον νομ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ψον αὐτ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ετε την φωνη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227160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w out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57800" y="2881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nt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57800" y="3511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 (pl.) the law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357800" y="4102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to her!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357800" y="4737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 (pl.) the voice/sound! (continuous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DEF9646A-39D5-416A-BE84-3F99E797CA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ησα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ησετε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(s.) the heave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 (pl.) her! (conti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e (pl.) the child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92912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k (pl.) God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929120" y="2878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will seek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929120" y="348156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ξον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92912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ασκετε αὐτ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492912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σατε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74ABE2D1-B9EE-4807-9615-12A16A216B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42920" y="1357200"/>
            <a:ext cx="578628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λεις βλεψ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ζητουμεν ἀκου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περιπατ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ελλετε γραφε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(pl.) want to rep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love God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286160" y="225576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(s.) wish to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286160" y="2878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ere seeking to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286160" y="348156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walk about (live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4286160" y="4086360"/>
            <a:ext cx="42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ere about to write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4286160" y="46800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λετε μετανοησ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4286160" y="525924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φιλει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61542210-3F04-42B9-A2A6-A78829253E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42920" y="1214280"/>
            <a:ext cx="578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286160" y="1785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ptise the brothers! (or ‘you are baptising the brother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286160" y="26431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12912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ermitted to speak? (or is speaking allow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286160" y="39290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speak to Timo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286160" y="471492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ship the holy God! (or ‘you are worshipping the holy Go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303800" y="5884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 to hi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96920" y="2443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σ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14200" y="571032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σατε αὐτου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33640" y="1616040"/>
            <a:ext cx="3772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πτιζετε τους ἀδελφ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13480" y="2970360"/>
            <a:ext cx="236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στι λαλησ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32920" y="3741840"/>
            <a:ext cx="3396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λεγειν τῳ Τιμο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32920" y="4557600"/>
            <a:ext cx="385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κυνειτε τῳ ἁγι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98E44130-D81F-4808-96E6-1ABD3BC807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74520" y="1211400"/>
            <a:ext cx="47116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θελω πεμψαι ἀγγελο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η ζητει ἀπολυσα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 you (pl.) want to give thank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ek (pl.; continually) the good new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 not walk (s.; in general) in the templ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y are about to cry out, ‘Amen’.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714920" y="1728720"/>
            <a:ext cx="400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want to send a messeng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23097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o not seek to div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714920" y="2859120"/>
            <a:ext cx="52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θελετε εὐχαριστησαι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714920" y="3367080"/>
            <a:ext cx="42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ζητειτε το εὐαγγελιον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714920" y="442584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η περιπατει ἐν τῳ ἱερ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718160" y="548172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ελλουσιν κραξαι∙ Ἀμη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D6FEB7D5-A5EB-41A4-9260-CB85420E15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72000" y="239544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14200" y="1214280"/>
            <a:ext cx="528660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l are masculine 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μψ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ωξ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φ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κ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αγ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0" y="29289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572000" y="342576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oris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572000" y="39322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572000" y="442908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4572000" y="4929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en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572000" y="54529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esent Pl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572000" y="5964120"/>
            <a:ext cx="4000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4649D750-2E0B-4C3C-843F-445F583C1E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14200" y="1187280"/>
            <a:ext cx="578664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οντες ὑπη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ραξεν λεγ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ψας λεγει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επατουν τηρουντες                           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νομ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ς τον λογον ἐδοξασα                              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286160" y="20750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y looked they were going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286160" y="2583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cried out (while) say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286160" y="315756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saw (him), he says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286160" y="370044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living keeping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286160" y="482292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I heard the message, I glorified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286160" y="5813280"/>
            <a:ext cx="37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believed, they rep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35080" y="576252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στευσαντες μετενο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FD22B611-7095-4820-93EA-123F95FAC2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14200" y="12524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85840" y="1857240"/>
            <a:ext cx="864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ξαντες τους ὀφθαλμους αὐτων ἐβλεψαν την θαλασ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85840" y="3063960"/>
            <a:ext cx="82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ων τῳ ὀχλῳ ὁ ἀποστολος ἐθεωρει τον οὐρ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85840" y="4214880"/>
            <a:ext cx="84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φας το βιβλιον ὁ Πετρος ἐπεμψεν αὐτο τῃ ἐκκλησι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85840" y="52862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proclaiming the word, they worshipped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928800" y="2428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y opened their eyes, they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5840" y="3571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speaking to the crowd the apostle was looking at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928800" y="47149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he had written the book, Peter sent it for the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973080" y="5778360"/>
            <a:ext cx="785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ξαντες τον λογον προσεκυνησαν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RTICIPLES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Practice </a:t>
            </a:r>
            <a:fld id="{FE74E10B-9BE3-41FC-ABF7-3F63BA7999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14200" y="12142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99880" y="181296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εμψας αὐτον σωζ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29210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καριος ἐστιν ὁ βλεπων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400068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μαρτυρουντες κηρυξ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03120" y="5086440"/>
            <a:ext cx="714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ιστευων λεγει την εἰρηνη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357280" y="2286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who sent him s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357280" y="35258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who sees God is bl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785880" y="45831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s who bear witness (or ‘the witnesses’) will pr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2357280" y="564372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eliever speaks pe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01:18Z</dcterms:created>
  <dc:creator>Sarah</dc:creator>
  <dc:description/>
  <dc:language>en-US</dc:language>
  <cp:lastModifiedBy>Sarah</cp:lastModifiedBy>
  <dcterms:modified xsi:type="dcterms:W3CDTF">2009-08-09T10:39:52Z</dcterms:modified>
  <cp:revision>45</cp:revision>
  <dc:subject/>
  <dc:title>Slide 1</dc:title>
</cp:coreProperties>
</file>