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7CC-3FC9-49D9-87B4-7A7044C2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EC5-9E8A-487B-9B34-721ACEAF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2FD-348E-4ECF-83E4-A1E285B3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8B5-7FFB-49AF-86A3-CEA362AF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9EC9-2ED6-4121-8699-7EBBE5D3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835F-170A-4C4E-B94F-C97ED7EA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6C7D-8C81-42B7-AA56-AB998002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92B1-A817-4303-86AC-27A6AA43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64BD-271D-42CC-9761-6AC527FD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BDD7-829B-4EDB-A150-B64B9516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7D17-E3C5-4E95-BCE4-FF2FA33D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A02-7710-4336-B0E5-22F66031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1A28-FD74-4539-A48B-32B02E4F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49B4-B636-4957-913E-9B607DC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4B5D-D3AD-4E2B-97C4-D3671C49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0D2D-B831-44AA-81BC-C6F2D10D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D94C-C571-4B9C-B784-EB92770B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B6B-C2A3-4552-8C21-42174C88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107-E604-4952-A9EE-DFF19857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3F6-FB50-4B27-965A-3A745A4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209-99F3-4904-9276-244B3BAA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1EA-DB45-4112-8E09-3A1DE7D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388-8199-49D1-B035-67F82F92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510-CA8F-44D1-A3EB-A6B123C5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8F3F-0BED-4B98-A068-998E13E32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3225-49EB-43A0-A420-C65B819230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AEC-97F7-4DEC-85B9-4C84E65F36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67CB-D046-4410-970A-D54FC72908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5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μβαν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ασκο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th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l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000680" y="1992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(she, it) is taking (recei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000680" y="24922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0006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00068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01328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013280" y="4454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un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4033800" y="49798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402732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ουσι(ν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403848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ο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D9EF4FC4-740A-48C7-A97C-FA5D5A5FAF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TextBox 3"/>
          <p:cNvSpPr/>
          <p:nvPr/>
        </p:nvSpPr>
        <p:spPr>
          <a:xfrm>
            <a:off x="-130320" y="208080"/>
            <a:ext cx="90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1" lang="el-GR" sz="36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1" lang="en-GB" sz="3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143000" y="192888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ου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ιτ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ου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ω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spe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i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s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38624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386240" y="24922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322880" y="29923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(she, it) is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386240" y="349236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keep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398840" y="3967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s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398840" y="44546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are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4419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413240" y="54547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4424400" y="594216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ει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1ABBDE8F-796E-4B95-BDAE-35A4D152F2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Box 3"/>
          <p:cNvSpPr/>
          <p:nvPr/>
        </p:nvSpPr>
        <p:spPr>
          <a:xfrm>
            <a:off x="-604800" y="227160"/>
            <a:ext cx="928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28760" y="13572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se and number are the following words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071720" y="2071800"/>
            <a:ext cx="4786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γε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ρα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υἱ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χλ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μ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000680" y="21207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000680" y="2620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000680" y="3121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000680" y="36212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4013280" y="409572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013280" y="45831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033800" y="51084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4027320" y="5583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A69C0E66-D046-4909-9A17-C14270C1D6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6"/>
          <p:cNvSpPr/>
          <p:nvPr/>
        </p:nvSpPr>
        <p:spPr>
          <a:xfrm>
            <a:off x="4417920" y="62150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ος ἀγει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Box 3"/>
          <p:cNvSpPr/>
          <p:nvPr/>
        </p:nvSpPr>
        <p:spPr>
          <a:xfrm>
            <a:off x="-282600" y="208080"/>
            <a:ext cx="862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THE NOMINATIVE AND ACCUSATIVE CASES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57120" y="12524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14200" y="1714680"/>
            <a:ext cx="47865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ος διδασκει ὀχλ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ουμεν ἀρτ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υς λυ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ος λεγει λογ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ι καλ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γελοι τηρουσιν νομ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other sees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are wa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love a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l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425840" y="177948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rother is teaching cro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425840" y="2279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seeking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425840" y="277956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are untying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4425840" y="32796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rd says a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4425840" y="3780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are cal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4425840" y="42800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s are keeping la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4425840" y="478008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ελφος βλεπει οἰκον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4425840" y="52801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ι βλεπουσιν.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4425840" y="577224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ουμεν κοσμον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47CDD966-C659-4568-8C8B-DEDA35CD7F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Box 4"/>
          <p:cNvSpPr/>
          <p:nvPr/>
        </p:nvSpPr>
        <p:spPr>
          <a:xfrm>
            <a:off x="-130320" y="208080"/>
            <a:ext cx="906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28760" y="13572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141120" y="1906560"/>
            <a:ext cx="478656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υἱοι ἐχουσιν οἰ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ιτε τον ἀδελφ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θεος ποιει τους οὐραν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ει ἀγγελος ὀχλου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κυριος ἀκου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re seeking the Messia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ons are speaking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eople love God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367160" y="19922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ons have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367160" y="2500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are calling a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289400" y="2992320"/>
            <a:ext cx="5000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is making the heav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4392720" y="34923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ngel is leading crow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4392720" y="396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rd is list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4392720" y="445464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ουμεν τον Χριστ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4392720" y="497988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υἱοι λαλουσιν λογους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92720" y="5454720"/>
            <a:ext cx="50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ανθρωποι φιλ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θεον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Practice </a:t>
            </a:r>
            <a:fld id="{F5E15BB8-5887-492E-B8DE-C5F358F18A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1:05:07Z</dcterms:created>
  <dc:creator>Sarah</dc:creator>
  <dc:description/>
  <dc:language>en-US</dc:language>
  <cp:lastModifiedBy>Sarah</cp:lastModifiedBy>
  <dcterms:modified xsi:type="dcterms:W3CDTF">2009-07-11T19:40:08Z</dcterms:modified>
  <cp:revision>48</cp:revision>
  <dc:subject/>
  <dc:title>Slide 1</dc:title>
</cp:coreProperties>
</file>