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315-77E3-4EDD-90BE-382B6DE2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901-8B11-4B1E-8DA1-E9BCA614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2194-6064-4759-B650-8CA9AB32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38E-E8FF-45D3-97F0-F2B23460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EAAE-AC28-4F22-8EC8-71E7A9BA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BA47-F996-4FF4-BB66-503AC680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288A-22E2-49E5-9B0D-EDEDDEFF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45AA-5453-482A-90EA-EA7AA957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02D5-C3D6-4008-8C9E-C2164D25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2847-717E-4E37-B282-3F44A910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D327-BEF3-4854-9821-92FD1498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0B8-DE81-4CC5-A871-FBEFACA9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5C30-8FB9-468E-B0A3-BB31AB9D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5C12-EB41-4BB1-B850-5915C64C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6BFE-DA7C-4216-BF15-4478BB65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D68D-BF6F-4BD8-B4AE-564A4099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62CE-F623-4B8E-BFCE-452221CB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0ED-5885-4A39-9A35-D5550BD9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8DA1-6CC7-4CC4-AB24-D6838632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DD3A-3E04-4A9C-AE0A-5566B5FC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F09-E800-4BB7-89E4-9B31CDF8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6A5-D942-4E96-8BC1-92EFD066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A06-4DD5-4C86-AD50-C4D829A9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75E-E080-4C26-937E-5C95CE30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0374-2243-4DAF-8518-E94CF2B9035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D337-DA45-4042-B25F-6FF04D398FB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ATION OF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D9D70004-A9F0-41D1-9766-567C4EEFD39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214200" y="1285920"/>
            <a:ext cx="40006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γι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ον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εκρ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υφλ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α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και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δ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νηρ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143160" y="21258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. Nom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3143160" y="2616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./Fem./Neut. Gen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143160" y="3100320"/>
            <a:ext cx="64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. Acc. Sing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. Nom./Acc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3143160" y="36147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. 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3143160" y="41292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. Dat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3143160" y="465768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. Acc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3143160" y="515772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. Nom. Sing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. Nom./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143160" y="5661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. Dat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500040" y="1459080"/>
            <a:ext cx="77151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part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γ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ould agree with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χλ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γ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σιλει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ρδι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ερ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24120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ολυ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εγ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38C709AF-5354-4ADF-B19D-DDB9A968FAD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4357800" y="2413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γ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4357800" y="30034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γαλ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4357800" y="361332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γαλ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4354560" y="42465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γαλ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4357800" y="4861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γ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142920" y="1428840"/>
            <a:ext cx="6072120" cy="56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στιν θεος ἐν οὐρανῳ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ημειον το του Ἀβραα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εκ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σιν πολλοι ἁγιοι Ἰουδαιο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του Ἰησου λογος εὐαγγελι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30040" y="71280"/>
            <a:ext cx="862812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.7 WORD ORDER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.8 SPECIAL USES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μ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DDC9AF4A-A94C-49DC-A6C1-2FA392603D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4660920" y="23302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God in heav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4660920" y="29415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raham’s child is a 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4700520" y="47862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many holy J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700520" y="541008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ord of Jesus is good n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-14292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1) - ATTRIBU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81D3B9DB-2277-446E-BC5E-336F27EE25E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14200" y="1285920"/>
            <a:ext cx="60724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ρουμεν τον ἀγαθον νομ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ἀδελφος ὁ ἀγιος ἀκου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υφλον δουλον ἐχ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γιος λαος φιλει τον θε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κυριος οὐκ ἐχει δικαι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υἱ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643280" y="218772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keeping the good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643280" y="282096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oly brother is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643280" y="341136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has a blind sl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4643280" y="40305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holy people loves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4643280" y="465444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ord does not have a just 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-14292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1) - ATTRIBU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886F08BD-B79A-43F6-B200-CA2BA08DCF3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14200" y="1285920"/>
            <a:ext cx="607248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βαλλει τα δαιμονια τα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νηρ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ειτε τας ἀγαθος ἀδελφα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643280" y="218772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is casting out the wicked dem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643280" y="340992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are calling the good s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214200" y="3956040"/>
            <a:ext cx="4929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k a wicked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believes her own he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rowd seeks the only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4643280" y="459108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ω πονηραν ζωη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4643280" y="514980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ευει τῃ ἰδιᾳ καρδι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4643280" y="571968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ὀχλος ζητει τον μονον θε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500040" y="1500120"/>
            <a:ext cx="607212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σ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μ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στ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24120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μι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- I 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16A89DCC-46EE-4678-A8DC-B2221DD0CEC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4214880" y="24130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214880" y="29908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214880" y="36003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211640" y="421812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sing.)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214880" y="48610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/she/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-14292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2) - PREDI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867360" y="629604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12C4282F-2FF0-4AC0-8FD7-056AA7DD90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71280" y="1157400"/>
            <a:ext cx="4786560" cy="40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στε ἀγαθο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γιος ἐστιν ὁ νομος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ουδαια τα τεκν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τυφλη ἀδελφη ἐστιν νεκρ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ἰωνια τα Ἱεροσολυμα τα ἁγι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gospel good or ev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564080" y="15858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you (pl.) g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554360" y="21016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w of God is h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557600" y="259704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hildren are Jew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557600" y="31161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blind sister d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557600" y="36399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holy Jerusalem eter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557600" y="414324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αθον ἠ πονηρον (ἐστιν) το εὐαγγελι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4572000" y="500076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θεος ὁ μονος (ἐστιν) ἐν οὐρανῳ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ρανοις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42920" y="4927680"/>
            <a:ext cx="4572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nly God is in hea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159840" y="5715000"/>
            <a:ext cx="3654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in the synago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4572000" y="58053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σμεν ἐν τῃ συναγωγ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87480" y="255600"/>
            <a:ext cx="8627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F710E31E-AB97-4A8E-B5EA-6296CA0C961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2860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71280" y="1285920"/>
            <a:ext cx="47149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ετρος φιλει το νεκρον τεκ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υἱος ὁ τυφλος βλεπει τον Χρισ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ἁγιον καλουσιν τον κυρ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αλλει αὐτο εἰς την καλην γ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ἑτερῳ εὐαγγελιῳ οὐ πιστευομ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4786200" y="208584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eter loves the dead chil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4786200" y="2639880"/>
            <a:ext cx="435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blind son sees the Messia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794120" y="371484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y call the lord ho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4782960" y="4299120"/>
            <a:ext cx="435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e throws it into the good eart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4782960" y="4834080"/>
            <a:ext cx="435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e do not believe (in) a different gosp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4759200" y="564372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slave of God is bless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90000" y="546084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ουλος του θεου μακαρι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87480" y="255600"/>
            <a:ext cx="8627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1B7989FC-022B-43ED-AB63-24A1FC5FF04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22860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71280" y="1285920"/>
            <a:ext cx="47149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ἁγια ἡ βασιλεια του Ἰησ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ἀγαθος ἀδελφος οὐκ ἐστι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ονο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 wicked crowd seeks signs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s God dea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e are departing to our own hou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4670280" y="2085840"/>
            <a:ext cx="385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s the kingdom of Jesus holy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4670280" y="2639880"/>
            <a:ext cx="435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good brother is not alo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4678200" y="36432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νηρος ὀχλος ζητει σημεια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4667400" y="415764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θεος (ἐστιν) νεκρος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4667400" y="4643280"/>
            <a:ext cx="45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αγομεν εἰς (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ς)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υς ἰδιους οἰκους (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ας ἰδιας οἰκιας)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4687920" y="56149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 ἀδελφη ἡ Ἰουδαια (ἐστιν) ἀγαθ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84240" y="5460840"/>
            <a:ext cx="32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Jewish sister is good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244440" y="1514520"/>
            <a:ext cx="607212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θεος φιλει τους Ἰουδαι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ἀγαθοι διδασκ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Παυλος λεγει τοις ἁγιο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τυφλος ὑπαγ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7128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ADJECTIVES (3) –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C873580F-C6B9-4589-8CC9-80AA63A5D8D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4572000" y="24130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 loves the J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4572000" y="30258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ood people/men t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4572000" y="36273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ul speaks to the holy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568760" y="42465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lind man de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500040" y="1459080"/>
            <a:ext cx="77151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part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υ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ould agree with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μαρτι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ημε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ιβλι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ξ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αββατ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241200" y="25560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ολυ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εγ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Practice </a:t>
            </a:r>
            <a:fld id="{E7184ACD-4B81-457A-953D-5EBA464429A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4357800" y="2413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4357800" y="30034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4357800" y="361332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4354560" y="4246560"/>
            <a:ext cx="43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4357800" y="48610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8:17:46Z</dcterms:created>
  <dc:creator>Sarah</dc:creator>
  <dc:description/>
  <dc:language>en-US</dc:language>
  <cp:lastModifiedBy>Sarah</cp:lastModifiedBy>
  <dcterms:modified xsi:type="dcterms:W3CDTF">2009-07-11T20:10:47Z</dcterms:modified>
  <cp:revision>51</cp:revision>
  <dc:subject/>
  <dc:title>Slide 1</dc:title>
</cp:coreProperties>
</file>