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BCC9-38D6-46AA-BE79-A20687C0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049C-BC72-4AEC-B560-31C72EA2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D3A0-04A8-456D-BF28-CDA8324F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A0B9-8E2F-4DE4-9B5C-9EC78517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155-525D-43BE-9A65-BCABD0BA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4632-3A9A-49BE-9242-C8DD427A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1F5-5978-4548-A8DC-2308AE0C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BFED-1DA0-4B8D-8080-1021BBA3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72DA-0C30-4C40-98F8-E5764437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805F-2DC6-44D1-81E3-821572D1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8B9E-1666-4A41-8D7F-47E212A0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336-71CD-417E-AFF1-5B9EC788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3B5B-85BD-4081-8B56-FD31329FAC6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8.1 DEPONENT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214200" y="1214280"/>
            <a:ext cx="5572080" cy="51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rse the following (all are deponent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ρχον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λογιζετ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συνηρχομη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ἀρνησαμεν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δεξε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ἁπτ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εἰσερχομενο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ἐργαζομεν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ἀσπαζεσθ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3000240" y="2008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Indicative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3000240" y="2475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erfect Indicative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3000240" y="29685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erfect Indicative 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3000240" y="345276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orist Participle Singular (masculine nomin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3000240" y="39117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ture Indicative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3000240" y="43974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Imperative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3000240" y="490068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 Participle Plural (masculine nomin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3000240" y="5386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 Participle Singular (masculine nomin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5"/>
          <p:cNvSpPr/>
          <p:nvPr/>
        </p:nvSpPr>
        <p:spPr>
          <a:xfrm>
            <a:off x="3000240" y="5869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Indicative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ural or Present Imperative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8.1 DEPONENT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214200" y="1643040"/>
            <a:ext cx="764388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the following verbs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επω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ρχομ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ing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εχομ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erfect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ρχομ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orist Masc. Nom. Pl. Parti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γραφ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ture 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6500880" y="24400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επ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6500880" y="2986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ρχετ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6497640" y="3544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δεχεσθ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6500880" y="40971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ρξαμενο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6500880" y="46324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γραψο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:Practice 3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8.1 DEPONENT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214200" y="1643040"/>
            <a:ext cx="764388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the following verbs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ξερχομαι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Imperative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ογιζομ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orist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ιθ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Masc. Nom. Sing. Parti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σευχομ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Infin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ρνεομ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erfect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.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6500880" y="24400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ξερχεσθ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6500880" y="2986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λογισαντ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6497640" y="3544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ιθ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6500880" y="40971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σευχεσθ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6500880" y="46324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ἠρνουντ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:Practice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244440" y="1262160"/>
            <a:ext cx="511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ρχονται εἰς το ἱε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θελω ῥυσασθαι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εχεσθε τον λογ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κουσαντες ἠρξαντο ἐρχεσθ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ερχομενος ἐδοξαζεν τον θε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ελλω προσευχεσθαι λεγων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4572000" y="192708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coming into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4572000" y="26766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ish to rescue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572000" y="339264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(pl.) are receiving the word.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‘Receive the word!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4572000" y="41292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they heard, they began to 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4572000" y="485460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he was leaving, he was glorifying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4572000" y="558972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about to pray, say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:Practice 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44440" y="126216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Ἰουδαιοι ἐξερχονται ἐ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4572000" y="192708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Jews are leaving 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4572000" y="278748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preach the good new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572000" y="341460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Φαρισαιοι ἠρξαντο  ἐργασασθαι (ἐργαζεσθα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4572000" y="46404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ἠσπαζοντο τους πονηρου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572000" y="525312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ρνησομαι τηρειν τον νομο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4572000" y="58658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ει εἰσερχεσθαι εἰς το ἱε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558360" y="2049480"/>
            <a:ext cx="21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ης συναγωγ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244440" y="2500200"/>
            <a:ext cx="45720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η εὐαγγελιζεσθ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harisees began to work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ere greeting the wicked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ill refuse to keep the law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necessary to go into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4440" y="77760"/>
            <a:ext cx="862812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8.2 IMPERFECT, FUTURE AND OTHER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ODS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ἰμ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14200" y="1285920"/>
            <a:ext cx="614376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ἁγιαι ἠσαν αἱ ἐντολ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αυιδ ἠν μεγ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θελω εἰναι μετ’ αὐτ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φιλων θεον ἐσται μακαρι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σηυχετο ὠν ἁγι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ildren were al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laves will be d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ing Jewish, we wish to e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303800" y="18032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mmandments were ho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300560" y="23716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vid was gre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300560" y="29145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ish to be with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4286160" y="3462480"/>
            <a:ext cx="51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ne who loves God will be bl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4286160" y="4017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ing holy, he was pra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4286160" y="4465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α τεκνα ἠν μον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4286160" y="4921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νεκροι ἐσονται οἱ δουλο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4286160" y="5391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Ἰουδαιοι ὀντες θελομεν εἰσερχεσθαι εἰς την συναγωγ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4444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8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NOUNS OF CONFUSING GEND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71280" y="1211400"/>
            <a:ext cx="64296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μαθηται αὐτου ἐρχοντ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εγεν τῳ Ἰουδ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ἀδελφος δεξεται τον Ἰωαννη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λοι στρατιωται προσηρχοντ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4786200" y="21160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 disciples are going/co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4786200" y="27226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as speaking to Ju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4786200" y="33386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rother will receive Joh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4786200" y="3956040"/>
            <a:ext cx="47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soldiers w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71280" y="469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sus was proclaiming the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4786200" y="4813200"/>
            <a:ext cx="385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Ἰησους ἐκηρυσσεν την ὁδ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125640" y="5548320"/>
            <a:ext cx="39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phets were not h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4786200" y="5640480"/>
            <a:ext cx="5072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προφηται οὐκ ἠσαν ἁγιο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2:20:43Z</dcterms:created>
  <dc:creator>Sarah</dc:creator>
  <dc:description/>
  <dc:language>en-US</dc:language>
  <cp:lastModifiedBy>Sarah</cp:lastModifiedBy>
  <dcterms:modified xsi:type="dcterms:W3CDTF">2009-08-09T10:45:44Z</dcterms:modified>
  <cp:revision>61</cp:revision>
  <dc:subject/>
  <dc:title>Slide 1</dc:title>
</cp:coreProperties>
</file>