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B540-BB9D-4B0A-914A-22F6EEF55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58AC-2D1D-4714-A64F-96695D63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2342-D050-44D8-BB4A-591A2513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C380-6BF3-4EB3-A98F-7D45BFACD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4DAE-9130-486F-B3EF-A5623ED8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E50B-5C1F-4DCB-9642-9ECD15A5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A1A0-6EBE-4E83-BDB4-D5E15024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D412-160E-481B-A131-97773944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E96B-A0F3-4E5F-AE92-4AECA5AB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A331-2C97-497D-8D57-A74F73CE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1E69-1D1F-401F-9EDE-D71EDDDC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7E06-41A6-411F-A2B4-7D07DE02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C476-B5E2-4CDD-97A7-DD368836CD1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Practice 1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1 NOUNS WITH VOWEL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00040" y="1424160"/>
            <a:ext cx="7929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δυναμε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κρι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ἀρχιερε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βασιλε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πολε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γνωσ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3800520" y="2249640"/>
            <a:ext cx="48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inativ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3786120" y="275904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3786120" y="325584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3786120" y="3770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3786120" y="426708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3786120" y="478944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in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Practice 2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1 NOUNS WITH VOWEL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214200" y="1643040"/>
            <a:ext cx="5072040" cy="33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in the form indic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ἱερευς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αστασις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γραμματευς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ιστις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5929200" y="251460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ἱερε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5929200" y="317016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αστασεω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5929200" y="380520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γραμματευ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5929200" y="444348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ιστ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Practic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24120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2 CONTRACTING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500040" y="1424160"/>
            <a:ext cx="792972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τελε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μελ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σκοτου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ἀσθενε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ὀρ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τ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3800520" y="2249640"/>
            <a:ext cx="48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3786120" y="275904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inativ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3786120" y="325584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3786120" y="3770280"/>
            <a:ext cx="507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inativ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ccusative Plural Masculin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emin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3786120" y="479916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3786120" y="52833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inativ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214200" y="1643040"/>
            <a:ext cx="5286600" cy="33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in the form indic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ληθος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σθενης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m. d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κευος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θνος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5929200" y="251460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ληθ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5929200" y="317016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σθενε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5929200" y="380520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κευ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5929200" y="444348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θνε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Practice 4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24120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2 CONTRACTING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Practice 5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142920" y="1285920"/>
            <a:ext cx="492912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ὑπαγαγε εἰς τα ἐθν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κεινῳ τῳ ἐτει ὁ βασιλευς ἀπεθαν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ἱ γραμματεις εἰπον κατα του Ἰησ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Πετρος οὐ προσεχει τῳ ἀρχιερε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ἱ ἀληθεις μαθηται εἰσιν ἐν τῃ πολε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ια πιστεως ἐχομεν ἐλπιδα δοξη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5054760" y="203040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art to the Gent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5045040" y="254160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at year the king d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5054760" y="304812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cribes spoke against Jes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5045040" y="3560760"/>
            <a:ext cx="41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ter does not pay attention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high pri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5057640" y="4586400"/>
            <a:ext cx="41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rue disciples are in the c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5057640" y="5089680"/>
            <a:ext cx="41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ough faith we have hope of gl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867360" y="6278400"/>
            <a:ext cx="200376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Practice 6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142920" y="1214280"/>
            <a:ext cx="492912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χω μερος της βασιλει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ζητων την ἀληθειαν και δυναμι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αμβανε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king’s father spoke to the high pri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of his mercy God rescues 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5054760" y="195912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have a share of the kingd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5045040" y="2470320"/>
            <a:ext cx="41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ne who seeks truth also receives po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5054760" y="3475080"/>
            <a:ext cx="41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πατηρ του βασιλεως εἰπεν τῳ ἀρχιερει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5072040" y="4486320"/>
            <a:ext cx="41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ια το ἐλεος αὐτου ὁ θεος ῥυεται ἡμα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1"/>
          <p:cNvSpPr/>
          <p:nvPr/>
        </p:nvSpPr>
        <p:spPr>
          <a:xfrm>
            <a:off x="5072040" y="528624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οτε περιεπατουμεν ὑπο κρισι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142920" y="5180040"/>
            <a:ext cx="45720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ce we lived under jud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ith found its true go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5"/>
          <p:cNvSpPr/>
          <p:nvPr/>
        </p:nvSpPr>
        <p:spPr>
          <a:xfrm>
            <a:off x="5072040" y="5784840"/>
            <a:ext cx="41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(ἡ) πιστις εὑρεν το ἀληθες τελος αὐτη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Practic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πα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ALL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500040" y="1424160"/>
            <a:ext cx="792972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παντε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πασαι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παντ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πασ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π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παντ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3800520" y="2249640"/>
            <a:ext cx="48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culine Nomin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3786120" y="275904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minine 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3786120" y="325584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culin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Neuter 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3786120" y="3770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minine 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3786120" y="4272120"/>
            <a:ext cx="471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er Nominativ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9"/>
          <p:cNvSpPr/>
          <p:nvPr/>
        </p:nvSpPr>
        <p:spPr>
          <a:xfrm>
            <a:off x="3786120" y="52941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culin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Neuter D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Practic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πα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ALL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142920" y="1604880"/>
            <a:ext cx="4500360" cy="46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ντες οἱ πατερες ἀπεθαν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ηρυξω το εὐαγγελιον ἐν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σιν τοις ἐθνεσι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ς ἐθαυμασεν δια παντα ἁ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οι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σωτηρ παντων προσευχετα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4586400" y="2343240"/>
            <a:ext cx="48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the fathers d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4572000" y="2771640"/>
            <a:ext cx="42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ill preach the good news in all the n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4572000" y="357192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one was amazed because of all the things which he was do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4572000" y="482904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aviour of all is pray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Practice 9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"/>
          <p:cNvSpPr/>
          <p:nvPr/>
        </p:nvSpPr>
        <p:spPr>
          <a:xfrm>
            <a:off x="241200" y="2746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3.4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εἰ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ONE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500040" y="1609560"/>
            <a:ext cx="4929120" cy="44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ὐδεις ἐστιν ἀγαθο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δον μιαν πολ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ὐχ εὑρες οὐδε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πετε μηδεν μηδεν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πεν ὁτι ἐστιν εἱς κυριος και μια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κκλησι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χω ἑν προβατο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5054760" y="203040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no one goo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5045040" y="254160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/they saw one c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5054760" y="304812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dn’t you find anyth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7"/>
          <p:cNvSpPr/>
          <p:nvPr/>
        </p:nvSpPr>
        <p:spPr>
          <a:xfrm>
            <a:off x="5045040" y="3560760"/>
            <a:ext cx="41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y nothing to anyone (l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hing to nobody’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8"/>
          <p:cNvSpPr/>
          <p:nvPr/>
        </p:nvSpPr>
        <p:spPr>
          <a:xfrm>
            <a:off x="5057640" y="4586400"/>
            <a:ext cx="41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said that there was one Lord and one chu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5057640" y="5592600"/>
            <a:ext cx="41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have one shee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239400" y="1268280"/>
            <a:ext cx="27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21:39:49Z</dcterms:created>
  <dc:creator>Sarah</dc:creator>
  <dc:description/>
  <dc:language>en-US</dc:language>
  <cp:lastModifiedBy>Sarah</cp:lastModifiedBy>
  <dcterms:modified xsi:type="dcterms:W3CDTF">2009-08-09T11:05:09Z</dcterms:modified>
  <cp:revision>32</cp:revision>
  <dc:subject/>
  <dc:title>Slide 1</dc:title>
</cp:coreProperties>
</file>