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0AA0-2C97-4494-B835-F5D16778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871-D07C-47E3-BCCE-6C42F3D7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769-2AEE-4749-9731-90F3FA4F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22D-4046-4785-A294-DD4518DE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3D54-187F-42DD-85C9-9CEF968A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AE06-6F15-40F3-95A4-62AF54B7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9B96-06E6-480D-947C-7AFB9952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D979-951D-4063-864C-BB6A7766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F2A9-7A73-41FB-9731-DF957177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5F96-6763-4BD3-8593-577FFAFC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B0EF-6869-4033-9E3F-E414FF55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699-ABCD-49EB-AAA6-94F24D98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439B-6CFC-4670-9712-93F3D5B1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3DDC-02D2-48B1-8EAE-47D2E522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E327-8214-4D8A-8469-BA5867B5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3F5B-5C80-4A4D-8A4C-21786DAB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282E-3DDA-43A5-B5CA-FD1BCB32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C1C-99BA-4FA5-8919-1ADDAEC7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CF3-B14D-43DC-B32B-FA726404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9C3-FF2B-4C8C-AE7E-BE2A7BE9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87E-C8D9-4587-BC27-58D0EEC4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374-5D0B-4EEC-B917-64C7720A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16F-0F70-42C4-90C6-12F215CF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DA8-E33A-489E-8073-94612A8A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C3E4-5719-416C-B89D-FB4E0098508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A24B-97B2-4C82-A70D-832D62293CA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Practice </a:t>
            </a:r>
            <a:fld id="{A1F66DC1-0716-4907-9FEE-7B8B82889CD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000080" y="1571760"/>
            <a:ext cx="4143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27"/>
          <p:cNvSpPr/>
          <p:nvPr/>
        </p:nvSpPr>
        <p:spPr>
          <a:xfrm>
            <a:off x="271440" y="1181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1143000" y="1488960"/>
            <a:ext cx="44290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τῳ κοσμ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ς τους οὐραν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ς τα πλο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 της οἰκι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ο του ἱερ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τῃ ἐκκλησι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om the he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o the crow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way from h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4772160" y="16272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772160" y="218124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o the heav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4782960" y="27288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wards the boa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772160" y="3286080"/>
            <a:ext cx="344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ut of (from) the h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4772160" y="3814920"/>
            <a:ext cx="38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away) from the te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4772160" y="4357800"/>
            <a:ext cx="351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 Church (assemb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4772160" y="4875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 της καρδι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4782960" y="54054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ς τους ὀχλ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4772160" y="5910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ο του αὐ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MORE PREPOSITION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Practice </a:t>
            </a:r>
            <a:fld id="{EC9176D4-9483-44E4-94E0-5F0BAAC7202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000080" y="1571760"/>
            <a:ext cx="4143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27"/>
          <p:cNvSpPr/>
          <p:nvPr/>
        </p:nvSpPr>
        <p:spPr>
          <a:xfrm>
            <a:off x="271440" y="1181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1143000" y="1488960"/>
            <a:ext cx="44290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ετ’ αὐ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α τον νομο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τα του θε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ερ του κυρι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 τον θεο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α του Χρισ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out l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ut of the s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der the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772160" y="16272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ith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772160" y="2181240"/>
            <a:ext cx="29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cause of the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782960" y="27288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gainst G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4772160" y="3286080"/>
            <a:ext cx="344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 behalf of the L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772160" y="3814920"/>
            <a:ext cx="38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om G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4772160" y="4357800"/>
            <a:ext cx="351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rough Chr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4772160" y="4875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ρι (της) ἀγαπ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4782960" y="54054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 (της) θαλασ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4772160" y="5910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ο την γη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027"/>
          <p:cNvSpPr/>
          <p:nvPr/>
        </p:nvSpPr>
        <p:spPr>
          <a:xfrm>
            <a:off x="271440" y="1170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Practice </a:t>
            </a:r>
            <a:fld id="{A2E17ACF-0E51-423D-9B89-87E8387FED3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0" y="1649520"/>
            <a:ext cx="542916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δια τον λογον του κυριου πιστευω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ὁ Ἰησους ἀγει τους ἀδελφους προς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τα πλοι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λαλαουσιν αὐτῳ περι του ἱερ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λεγει ὁ κυριος της οἰκιας ὑπερ το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τεκν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ὁ υἱος λαμβανει τον ἀρτον μετ’ αὐτ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ὁ θεος φιλει τα ἐργα κατα τον νομο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781520" y="16700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believe because of the word of the Lord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772160" y="23670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is leading the brothers towards the boa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786200" y="34290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speaking to him about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786200" y="41022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ster of the household speaks on behalf of his chi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4797360" y="51577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on takes the bread with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4786200" y="58644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d loves the deeds according to the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Practice </a:t>
            </a:r>
            <a:fld id="{15E0DDDC-DF04-454C-B5B3-EF8A52C173B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301680" y="21420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27"/>
          <p:cNvSpPr/>
          <p:nvPr/>
        </p:nvSpPr>
        <p:spPr>
          <a:xfrm>
            <a:off x="271440" y="1170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42920" y="1755720"/>
            <a:ext cx="5429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ὁ Παυλος λεγει τῳ λαῳ κατα το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Χριστου του θεο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929120" y="17748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ul speaks to the people against God’s messia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929120" y="25369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leading the children into the h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4929120" y="32274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ω αὐτο ἐν τῃ καρδια αὐτ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4929120" y="392904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Ἰησους διδασκει τον ὀχλον ἐξω του ἱερ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4929120" y="471492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θεος φιλει τους λαους ὑπο (τον) οὐρα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4929120" y="552780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θεος λεγει τον νομον δια ἀγγελων (δι’ ἀγγελω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"/>
          <p:cNvSpPr/>
          <p:nvPr/>
        </p:nvSpPr>
        <p:spPr>
          <a:xfrm>
            <a:off x="136440" y="2517840"/>
            <a:ext cx="5429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ἀγουσιν τα τεκνα εἰς τον οἰκο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142920" y="3214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see it in her he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3"/>
          <p:cNvSpPr/>
          <p:nvPr/>
        </p:nvSpPr>
        <p:spPr>
          <a:xfrm>
            <a:off x="157320" y="407196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is teaching the crowd outside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4"/>
          <p:cNvSpPr/>
          <p:nvPr/>
        </p:nvSpPr>
        <p:spPr>
          <a:xfrm>
            <a:off x="146160" y="47386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d loves the peoples under hea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139680" y="55418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d speaks the law through ang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85800" y="1643040"/>
            <a:ext cx="7772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of the following would use an instrumental dative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Gree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428840" y="264312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ent with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428840" y="335772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as hit by a st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428840" y="407196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as helped by 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433520" y="478152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as walking with a sti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Practice </a:t>
            </a:r>
            <a:fld id="{D8946878-45DB-456A-AD6A-88E2077E276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21420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INSTRUMENTS AND D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eft Arrow 9"/>
          <p:cNvSpPr/>
          <p:nvPr/>
        </p:nvSpPr>
        <p:spPr>
          <a:xfrm>
            <a:off x="5214960" y="340524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eft Arrow 10"/>
          <p:cNvSpPr/>
          <p:nvPr/>
        </p:nvSpPr>
        <p:spPr>
          <a:xfrm>
            <a:off x="5214960" y="486252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87480" y="24768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.5 and 4.6 QUESTIONS &amp; NEG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1000080" y="209556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27"/>
          <p:cNvSpPr/>
          <p:nvPr/>
        </p:nvSpPr>
        <p:spPr>
          <a:xfrm>
            <a:off x="271440" y="1285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1143000" y="201312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θεος ἀκουε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θεος οὐκ ἀκου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ως ἡ καρδια λεγε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 πιστευω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υ ἀγεις τον ὀχλ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ν νομ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ηρειτ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4572000" y="215100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es God he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4572000" y="2705040"/>
            <a:ext cx="27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d does not h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4583160" y="3252960"/>
            <a:ext cx="371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w does the heart spea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572000" y="3809880"/>
            <a:ext cx="34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 do not believe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4572000" y="4336920"/>
            <a:ext cx="451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re are you leading the crow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4572000" y="4881600"/>
            <a:ext cx="351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 you keep the law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5:58:03Z</dcterms:created>
  <dc:creator>Sarah</dc:creator>
  <dc:description/>
  <dc:language>en-US</dc:language>
  <cp:lastModifiedBy>Sarah</cp:lastModifiedBy>
  <dcterms:modified xsi:type="dcterms:W3CDTF">2009-07-11T20:06:06Z</dcterms:modified>
  <cp:revision>36</cp:revision>
  <dc:subject/>
  <dc:title>Slide 1</dc:title>
</cp:coreProperties>
</file>