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468-80A4-4FBD-9516-2E43F637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C92-4F62-406A-AF39-6ACF3C07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A59-6697-424D-AC11-B41249C7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63E-F48A-4196-A67E-99192FA8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239-C783-4818-B5A1-FB2270AD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F79-7A15-462C-A696-AD924756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BFE-BF1C-462D-8850-BC83EDF9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352-2513-488A-8423-1ED2F2A0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A40-F254-4CC7-AC41-61E98564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C2D-676F-4C6C-9F9E-F9A915E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9B8-9982-4FC2-A2AB-5132264E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0B8-A59B-4057-91EC-D4D344D2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8456-0AAF-4230-A0ED-0492CC91E9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2 THE 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εμισηκ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εκωλυμε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προφητευ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εφιληκ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εβλεπ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πολελυμενη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143160" y="18399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143160" y="243036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iciple Masc. 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3143160" y="366876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3143160" y="42973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3143160" y="49021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3143160" y="552456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Middle/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iciple Feminine Singular Accus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42920" y="1214280"/>
            <a:ext cx="49291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δουλοι ἀπολελυ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μαρτυρηκα τῃ ἀληθει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πεποιηκ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πειρασμαι πολλα ἐτ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προσκυνουμεν ἐν ἱερ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ᾠκοδμημενῳ ὑπο ἀνθρωπ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οτετακται πονηρῳ κυρι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643280" y="199872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laves have been fr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643280" y="2557440"/>
            <a:ext cx="44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borne witness to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43280" y="309888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have you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43280" y="3613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been tempted for many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643280" y="4184640"/>
            <a:ext cx="46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do not worship in a temple which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been built by m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uma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643280" y="527220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has been subjected to a wicked m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3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42920" y="1214280"/>
            <a:ext cx="4929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εσωμεθα δια της ἀγαπης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στρατιωται κεκρατηκασιν το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τ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ick woman has been h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rd has been sent (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μπ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into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done good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you have not believed in Jes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857840" y="137160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been saved through the lov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57840" y="247968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ldiers have arrested P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4857840" y="3479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ἀσθενης τεθεραπευ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857840" y="400068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λογος πεπεμπται εἰς τον κοσμον (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τῳ κοσμ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or just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ῳ κοσμ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487188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ποιηκαμεν τα ἀγα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871880" y="586584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πεπιστευκας τῳ Ἰησ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4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2360" y="1479600"/>
            <a:ext cx="617688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ense is appropriate for the underlined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have lear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Gr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have lear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y vocab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e has been help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y the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y ha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he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y spok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those who had se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481800" y="2428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467400" y="30020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467400" y="361008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481800" y="4222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86480" y="4824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14200" y="1285920"/>
            <a:ext cx="4114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hich of the following would a pluperfect be u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he had arrived, they began to 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ribes said that the law had been bro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d believed but I do not any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I believed I was hap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thought that the temple had been destr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681440" y="2214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(Aorist particip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4680" y="3138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(Indirect statement using Perf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87920" y="4032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676760" y="49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(Aorist particip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687920" y="5514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(Indirect statement using Perf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Practice 5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9:58:07Z</dcterms:created>
  <dc:creator>Sarah</dc:creator>
  <dc:description/>
  <dc:language>en-US</dc:language>
  <cp:lastModifiedBy>Sarah</cp:lastModifiedBy>
  <dcterms:modified xsi:type="dcterms:W3CDTF">2009-08-09T11:15:15Z</dcterms:modified>
  <cp:revision>18</cp:revision>
  <dc:subject/>
  <dc:title>Slide 1</dc:title>
</cp:coreProperties>
</file>