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5EB-189B-4FDE-93C2-922BF60E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E94-29D9-4A0F-80FA-93A87EC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974-F6BF-47F9-99BB-94BBA2F2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4E2-1D56-4F79-A575-8063ADCA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CBB-4BCE-481B-AD0E-7E1C9382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3DA-15EF-4F31-9329-5D273B1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A8D-BEBC-4A4E-AD16-C03778D5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008-5AF2-471F-84E3-A52A3597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3F5-2B20-4C93-ABED-04B7ACD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3AB-4837-4946-8823-C80B08C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78F-B9C0-4184-BE18-6FDB8C3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6F3-5E92-4E30-BF03-95A563D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9E98-6AE2-4F8B-95EA-C387BD390C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8760" y="1352520"/>
            <a:ext cx="7929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πεσομ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αβ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βαλλ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ενετ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λθ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φευγε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δ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072040" y="21686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ere th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057640" y="4707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5057640" y="5203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fl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5057640" y="5715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.)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0040" y="1424160"/>
            <a:ext cx="792972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αθ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ὑρ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μανθαν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εἰπ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νεγκοντε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λθ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λαβε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ἰδε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800520" y="224964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786120" y="275904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786120" y="32558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786120" y="3770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ular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786120" y="42670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Pl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786120" y="47894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c. Nom. Sing. Aori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78612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ral Aorist 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3786120" y="57974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28760" y="1352520"/>
            <a:ext cx="7929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αταβ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νεβ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λθα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γνωτ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γνου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gon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57640" y="26766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en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57640" y="317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057640" y="36878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57640" y="418464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319040"/>
            <a:ext cx="792936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οι ἀπεθαν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γον αὐτ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αγον τον ἀρ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θοντες εἰδον αὐτ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ε την ὁδ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ἐλθειν εἰς τα Ἱεροσολυμ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2198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0" y="2708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/they were lead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72000" y="32050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they ate the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0" y="37180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y came, they saw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572000" y="42148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the ro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572000" y="47386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go to Jerusa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176480"/>
            <a:ext cx="79293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ων ταυτα ὁ Ἰησου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ας εἰς το ἱερον ἀπεθαν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hets sp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d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nt to see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 found it, I took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43280" y="12859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Jesus had said these things he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643280" y="22813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ad gone up to the temple 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641840" y="328464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προφηται εἰπ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643280" y="37861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υἱον ἐφιλησα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ου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f you want to stress continuity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643280" y="480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λω ἰδειν (βλεψαι) την θαλασσαν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643280" y="5823000"/>
            <a:ext cx="407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ὑρων ἐλαβον αὐτο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28760" y="1352520"/>
            <a:ext cx="792936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μ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αγγελοῦμ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ἠγειρ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168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rem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57640" y="267660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057640" y="3173400"/>
            <a:ext cx="38721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aised (in fac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γειρε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also be imperfect- he was rai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072040" y="4395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k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72040" y="4896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ill judge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28760" y="429732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εκτειν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κρινεῖ τον κοσμ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ποστειλας ἐξηλθε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72040" y="5396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ing sent, he went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444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S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14200" y="1352520"/>
            <a:ext cx="792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θελω σπειρ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ἀραντες, ἠνεγκο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ts val="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857840" y="21686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 to s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4843440" y="2706840"/>
            <a:ext cx="43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y lifted, they brou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43000" y="3429000"/>
            <a:ext cx="385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ill ann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pl.) will 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(s.) the dead 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ki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57840" y="34146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ουσι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4857840" y="414504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ειτ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857840" y="488808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ειρον τον νεκρο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857840" y="5608800"/>
            <a:ext cx="371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εκτεινεν αὐτη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6:34:43Z</dcterms:created>
  <dc:creator>Sarah</dc:creator>
  <dc:description/>
  <dc:language>en-US</dc:language>
  <cp:lastModifiedBy>Sarah</cp:lastModifiedBy>
  <dcterms:modified xsi:type="dcterms:W3CDTF">2009-08-09T10:56:20Z</dcterms:modified>
  <cp:revision>29</cp:revision>
  <dc:subject/>
  <dc:title>Slide 1</dc:title>
</cp:coreProperties>
</file>