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5C3-12AB-467F-AD6C-4E6EE35C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E9A-47C0-4E00-9C75-04AF351A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D96-2214-4588-ADB2-CB68C0DA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FC2-4E31-4B74-8961-5DD170FD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D725-967F-4CA8-ADBC-D3C63B26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2F04-BEEB-41F3-AF73-C89B0DF6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9180-26C3-4DBA-B32C-55B2136D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7EE7-AAB1-4E66-9CE2-6F053737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2FD0-E2F5-4F63-9A31-4593209A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1E09-F4FD-4DCD-B3B2-19A1D642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4D70-6884-4EB9-B00A-E8E8496B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F65-9113-4105-BE16-3C1F79E9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EA54-635D-4A34-911D-E6A9A60C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9204-9097-4FBE-9481-DA6D22FF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5C97-DFC9-4109-B2BD-C01D7488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4AE4-82B8-463E-AE99-06F7AB84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400A-ECD2-4CF4-B383-0DCC5656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7E1-6CD1-412F-81FE-76953DE8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3A2-9DC9-42F5-B11F-88D1C8DC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663-A702-4715-8B67-3DB6FED9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C14-D44E-417D-A3D0-36807961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50D-AB70-4E18-B366-FCF53C63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FC9-8F07-4BA9-A5E0-8F8AAA99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33E-6930-4DA5-B97E-4C3E9CD2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2DB6-DC20-4CCA-AB7A-244099EEAC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7CA4-7377-42C7-AB6A-FAE3F77D73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247680" y="1096920"/>
            <a:ext cx="73580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se sentences were in Greek, which case would the underlined word be 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lik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lecture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acher'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voice is bo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cooking for m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if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tud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at many cak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have the books of 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ri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are making a hat fo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he t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h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essay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las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d too quick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708520" y="205272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700600" y="25988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708520" y="31114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5689440" y="36450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5702400" y="42022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5702400" y="4741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5703840" y="53071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5703840" y="58532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982A4138-B837-406D-9783-6ED0B574A9C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THE VO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CC19CBCA-9DCA-4CDE-8065-02901AEB3F7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57200" y="160956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of these could be vocativ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2000160" y="2346480"/>
            <a:ext cx="25718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ελφ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ελφ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υρι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υἱ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eft Arrow 6"/>
          <p:cNvSpPr/>
          <p:nvPr/>
        </p:nvSpPr>
        <p:spPr>
          <a:xfrm>
            <a:off x="4246560" y="3214800"/>
            <a:ext cx="682560" cy="366480"/>
          </a:xfrm>
          <a:prstGeom prst="leftArrow">
            <a:avLst>
              <a:gd name="adj1" fmla="val 50000"/>
              <a:gd name="adj2" fmla="val 5002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 Arrow 7"/>
          <p:cNvSpPr/>
          <p:nvPr/>
        </p:nvSpPr>
        <p:spPr>
          <a:xfrm>
            <a:off x="4233960" y="4467240"/>
            <a:ext cx="682560" cy="366840"/>
          </a:xfrm>
          <a:prstGeom prst="leftArrow">
            <a:avLst>
              <a:gd name="adj1" fmla="val 50000"/>
              <a:gd name="adj2" fmla="val 4997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eft Arrow 8"/>
          <p:cNvSpPr/>
          <p:nvPr/>
        </p:nvSpPr>
        <p:spPr>
          <a:xfrm>
            <a:off x="4227480" y="5059440"/>
            <a:ext cx="682560" cy="366480"/>
          </a:xfrm>
          <a:prstGeom prst="leftArrow">
            <a:avLst>
              <a:gd name="adj1" fmla="val 50000"/>
              <a:gd name="adj2" fmla="val 5002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4154400" y="25131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4164120" y="375300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1182D5BC-1796-4820-A472-BE9171E21D3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857760" y="2016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3193920" y="220680"/>
            <a:ext cx="100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27"/>
          <p:cNvSpPr/>
          <p:nvPr/>
        </p:nvSpPr>
        <p:spPr>
          <a:xfrm>
            <a:off x="511200" y="1292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214200" y="1785960"/>
            <a:ext cx="4500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ω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υς λογους αὐτου διδασκ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χουσιν  αὐ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ω την φωνην αὐτη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Παυλος καλει αὐτ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214200" y="4313160"/>
            <a:ext cx="49294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see the sl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keeps the 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 loves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4513320" y="18828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ve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4506840" y="237024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is teaching his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4506840" y="2878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4500720" y="338292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ear her v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4500720" y="38782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 is call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4500720" y="4403880"/>
            <a:ext cx="400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ουσιν τον δουλ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4506840" y="4896000"/>
            <a:ext cx="400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ρει το τεκνον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4500720" y="5370480"/>
            <a:ext cx="46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Ἰησους φιλει τα τεκνα αὐτ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28760" y="1285920"/>
            <a:ext cx="9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ive the case and number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878360" y="2227320"/>
            <a:ext cx="38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4879800" y="2747880"/>
            <a:ext cx="34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857840" y="323208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4857840" y="371628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4857840" y="4226040"/>
            <a:ext cx="58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i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4857840" y="4721400"/>
            <a:ext cx="57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i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4857840" y="5207040"/>
            <a:ext cx="51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4857840" y="5695920"/>
            <a:ext cx="41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us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4104AED5-0FEA-4A78-9C46-8556AF5720B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1571760" y="2155680"/>
            <a:ext cx="3214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ελφ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υρι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οσμ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μ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D80F66C0-918D-4776-8AF7-FE7088118D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42920" y="96840"/>
            <a:ext cx="862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PECIAL USES OF THE GEN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27"/>
          <p:cNvSpPr/>
          <p:nvPr/>
        </p:nvSpPr>
        <p:spPr>
          <a:xfrm>
            <a:off x="357120" y="1370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357120" y="207180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ω του κυρι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ει τον ἀγγελου του θε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ομεν τῳ Χριστ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ετε τους λογ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They hear Go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I believe the lor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4929120" y="225252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ear the L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929120" y="28576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sees the angel of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29120" y="346248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faith in the Messi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4929120" y="4071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ear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4929120" y="469440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ουσιν τον θε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929120" y="531648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ω τῳ κυρι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27"/>
          <p:cNvSpPr/>
          <p:nvPr/>
        </p:nvSpPr>
        <p:spPr>
          <a:xfrm>
            <a:off x="414360" y="1214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280" y="1785960"/>
            <a:ext cx="63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χομεν τον νομον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δουλοι λαλουσιν τῳ κυρι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ζητω τον οἰκον του Χριστ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ιειτε ἀρτον τοις ἀδελφ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71280" y="464832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ὀχλος ἀκουει τον λογο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 κυρι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77760" y="541512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ει τον ἀγγελον κ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ει του ἀγγελ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867360" y="632448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B3501546-1271-4548-8D36-F18A6255A7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929120" y="178596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the law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929120" y="219384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laves are spe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929120" y="300996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seeking the ho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Ch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4948200" y="3836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making b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br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4941720" y="4635360"/>
            <a:ext cx="44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rowd hear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d of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4929120" y="54100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sees the angel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listens to the an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A882D8D3-DC69-46C0-BF1E-7474A74B39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27"/>
          <p:cNvSpPr/>
          <p:nvPr/>
        </p:nvSpPr>
        <p:spPr>
          <a:xfrm>
            <a:off x="414360" y="12524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71280" y="1785960"/>
            <a:ext cx="63579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ιστευει τῳ υἱῳ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ἀδελφος λυει δουλον τ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  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υρ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teach the word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hear the son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71280" y="4065480"/>
            <a:ext cx="60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keep the law of hea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1280" y="47656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speak to the cro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4929120" y="1785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faith in the son of Go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929120" y="2193840"/>
            <a:ext cx="4214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rother unties a slave for the Lor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4948200" y="289728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δασκω τον λογον το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   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4948200" y="35924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ουσιν τον υἱ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4941720" y="4059360"/>
            <a:ext cx="44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ηρουμεν τον νομον (του) ὀυραν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4941720" y="4813200"/>
            <a:ext cx="44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ntium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εις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ετε) τῳ ὀχλῳ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88B3D400-D1D2-4556-85FB-36CF47C3D3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28760" y="121428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case and number are the following words in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857160" y="2071800"/>
            <a:ext cx="27860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απ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αγγελι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κ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η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ελφαι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ιβλ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ψυχ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αιμονι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071960" y="2149560"/>
            <a:ext cx="40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071960" y="2668680"/>
            <a:ext cx="40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071960" y="31640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/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4071960" y="36892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4071960" y="4194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4071960" y="47023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4071960" y="51894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4070520" y="5695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81C84586-66C4-4869-9F7D-8246D6ED95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00040" y="1241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part of the definite article would agree with the following noun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785960" y="2189160"/>
            <a:ext cx="328608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απ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κ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ω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ερ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832280" y="2273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4824360" y="277344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4826160" y="32749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4824360" y="37800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4827600" y="4289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824360" y="47941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4829040" y="53053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4827600" y="583092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DBF83A9C-1DEF-4D14-938A-783E07DB24D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571680" y="1214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143000" y="1643040"/>
            <a:ext cx="40006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ιβλ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ἰκι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υρι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τ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ω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ων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τρ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3714840" y="1735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OR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3720960" y="22417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3714840" y="27655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3714840" y="328608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Singular Masculine OR Ne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3714840" y="37670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3714840" y="42609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 Fem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708360" y="47656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3701880" y="5286240"/>
            <a:ext cx="50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3713040" y="57927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30040" y="26676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Practice </a:t>
            </a:r>
            <a:fld id="{D04F574A-A8D3-4CD6-8875-22F30B14B9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571680" y="1285920"/>
            <a:ext cx="66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the article and noun in the following 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1071720" y="1676520"/>
            <a:ext cx="3571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Χρισ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λα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ν ὡρ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 ἐρ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ῳ εὐαγγελ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ν νομ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υς σημει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Παυλ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ς  ἁμαρτιαν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975200" y="17733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4954680" y="22622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962600" y="27734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4954680" y="33037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4962600" y="37987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4952880" y="43052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4952880" y="48070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4952880" y="532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960800" y="58323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13:36:33Z</dcterms:created>
  <dc:creator>Sarah</dc:creator>
  <dc:description/>
  <dc:language>en-US</dc:language>
  <cp:lastModifiedBy>Sarah</cp:lastModifiedBy>
  <dcterms:modified xsi:type="dcterms:W3CDTF">2009-07-11T19:57:47Z</dcterms:modified>
  <cp:revision>81</cp:revision>
  <dc:subject/>
  <dc:title>Slide 1</dc:title>
</cp:coreProperties>
</file>