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D6F-522E-4369-9961-54844FED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781-D934-4246-BFD3-7F07EBFF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3C9-CF6A-4F4E-860E-B84799FD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C92-A20E-4BC2-A906-BDA4B35D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097-165C-4659-B21B-8B854D9C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068-A648-49D4-B620-CA23AEF4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5A4-66A8-4A38-AA9F-2A97ADC7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AA5-FFDB-4673-9253-CD761360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F6E-48F4-4D01-A1CA-CEFE75B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5E8-1CC7-4110-9E6D-71FBC4C9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60D-C587-4D62-9075-2A6BBA35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C7A-7549-4B27-A2C9-3869640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77AE-0320-400C-891F-80A4315A01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42920" y="1285920"/>
            <a:ext cx="45003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φιλεις τον θεον, σοφος ε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ἠκουσεν οὐκ ἀν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αν ὁ βασιλευς ἐξελθῃ, οἱ δουλοι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λυθ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το εὐαγγελιον κηρυσσεται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αιρε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ἀκαθαρτοι ἠμεν, οὐκ ἀν ἐν τ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ἱερῳ ἐκαθη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αν ἐγω δω σοι, δωσεις οὐν συ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ο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198612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(s.) love God, you are 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57800" y="24289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he had heard, he would not have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57800" y="287172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king goes out, the sla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be rele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357800" y="37576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gospel is preached, rejoi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357800" y="4657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were unclean, then we would not sit in the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4371840" y="5543640"/>
            <a:ext cx="45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 give to you (s.), will you therefore give to 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42920" y="1285920"/>
            <a:ext cx="45003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θοντος δε Ἰησου οἱ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ασκαλοι ἐθαυμαζ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γαρ ἐβλεπον ἐπιστευον ἀ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δε βασιλεως ἀποθανοντο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λθον εἰς την Γαλιλα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μερας γενομενης ἐλαλει τ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ὀχλ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αν τα δαιμονια ἐκβληθῃ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ὐχαριστησο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γαρ λογου κηρυσσομενου 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κουοντες ἐπιστευ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314960" y="192888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Jesus came, the teachers we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a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313160" y="265752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t they see they would beli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313160" y="3043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king died, they went in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li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327560" y="3749760"/>
            <a:ext cx="50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day came (happened) he was talking (began to talk)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343400" y="448632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demons are thrown out, we wi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j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343400" y="521496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while the word was being preached, those who were listening bel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142920" y="1285920"/>
            <a:ext cx="450036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υ δε ὀντος ἁγιου παντε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φοβουντ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ὁ νομος οὐκ ἐδωθη, οὐκ ἀ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νωσαν την ἁμαρτ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she came in the angel s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her, ‘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he is holy he will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were day we would not be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had been raised everyo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amazed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42908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he was holy, they all were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429080" y="286056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law had not been given, the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not have known 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430880" y="372888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ης εἰσερχομενης, ὁ ἀγγελο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αὐτῃ∙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4444920" y="4614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αν ᾐ ἁγιος προσκυνησει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4459320" y="50673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ἡμερα ἠν οὐκ ἀν ἐφοβου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473720" y="551340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υ ἐγερθεντος παντε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θαυμαζ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2920" y="1285920"/>
            <a:ext cx="450036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ιδασκαλος ἠν καθημενος μετ’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προφητῃ ἐστ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εγραμμε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ἠν Ἰωσηφ ἐνδεδυμενο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λον ἱματ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ιμωμενος δε ἐσται ὁ προφη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eacher was sitting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313160" y="286056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written in the prophet. (Perfect participle – it stands written, it has been wri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314960" y="422928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Joseph was wearing a beautiful gar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313160" y="5100480"/>
            <a:ext cx="54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phet will be honou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41200" y="258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3 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Practice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42920" y="572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COMPARISON AND FORMATION OF ADJECTIVES AND AD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85840" y="1228680"/>
            <a:ext cx="4000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γιωτ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αχιστο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κωτε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νηροτατ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ιζο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ἱκανω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2143080" y="19922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lative Adverb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jective Neuter Nomin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ccus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157480" y="308448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lative Adjective Neut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sculine D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2157480" y="36432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ative Adjective Neute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sculine Genitive 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157480" y="41990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lative Adjective Masculine Nomin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157480" y="474336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ative Adjective Masculine Accusative Sing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ccusative P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2155680" y="584352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25:55Z</dcterms:created>
  <dc:creator>Sarah</dc:creator>
  <dc:description/>
  <dc:language>en-US</dc:language>
  <cp:lastModifiedBy>Sarah</cp:lastModifiedBy>
  <dcterms:modified xsi:type="dcterms:W3CDTF">2009-08-15T18:42:47Z</dcterms:modified>
  <cp:revision>9</cp:revision>
  <dc:subject/>
  <dc:title>Slide 1</dc:title>
</cp:coreProperties>
</file>