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36E-6667-43CB-9D8A-D0C2B1A8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AFC-4F32-4202-BE65-C82D62B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4F5-C96D-4E0C-A5A6-AA3E86E6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64A-D597-48DE-B2BE-FA44BC56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F67-B53A-4A4D-87C1-BD36EED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0F3-F894-44A6-868A-78DCBDE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DF5-510A-4375-8512-3FDC1FA3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D07-E624-4DDA-8451-482EF8B9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07B-D67B-477C-8316-DF060F1A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B70-8676-441C-93E2-76926171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94C-5548-4ADA-ADE5-CA61C00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DEF-0B53-40C3-BCB3-77746DD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4945-1EA3-413C-B065-359D091097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1 RE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14200" y="1582560"/>
            <a:ext cx="8286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the verb in the participle form indicated (all nom. mas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φω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ζ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υχ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700600" y="23130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ψ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700600" y="281952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ου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715000" y="331308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ο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715000" y="3830760"/>
            <a:ext cx="278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ησ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715000" y="435780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σαμεν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715000" y="4857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υχομεν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57200"/>
            <a:ext cx="350028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βαλλο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φωνησ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ρχομενα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εμψ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διωξαντ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δον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λπιζουσα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γειραντ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δεχομενο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643120" y="205740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Active Masculine Plural Nom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643120" y="25113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Singular Nom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643120" y="294624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Deponent Feminine Plural D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43120" y="3387600"/>
            <a:ext cx="64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Neuter Singular Nominati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cus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643120" y="383076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euter Singular D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643120" y="428616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euter 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643120" y="47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Active Feminine Singular Accus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43120" y="51847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Active Masculine Plural Accus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2643120" y="5626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Deponent Masculine Plural Nomi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3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14200" y="1508040"/>
            <a:ext cx="5786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Fem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Masc. 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ω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Neut. Gen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αι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Masc. Dat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ομαι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Neut. Nom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ω,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Fem. 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215040" y="23130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ου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215040" y="28162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215040" y="3313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αν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215040" y="383076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εν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215040" y="434340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θον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15040" y="4834080"/>
            <a:ext cx="20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σασ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4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4200" y="1214280"/>
            <a:ext cx="5429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θων ἐθεραπευσεν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αβαινων εἰδεν το πνευμ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υγοντες ἠλθον εἰς ἱερ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βαπτιζεν τους πονηρου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τανοησαντ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ομεν τοις ἐρχομενοις τεκνο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βλεψατε τους γραμματει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σελθοντας εἰς το ἱερ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429080" y="1969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he had come, he heal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429080" y="246528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he was going up, he saw the spi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429080" y="338760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y fled, they went into a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429080" y="38876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baptizing the wicked people who had rep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429080" y="480708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poke to the children as they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429080" y="528336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you see the scribes who had gone into the te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98328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4280" y="1214280"/>
            <a:ext cx="54295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ζητω την μελλουσαν βασιλεια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ουσα εἰδεν τον πατερα αὐτη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αλουν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greeted the approaching cro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she saw she bel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arisee taught the Jews who wer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king heard this he sent his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ldiers to find the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29320" y="131292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seeking the coming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14920" y="18032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she departed she saw her father sp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745160" y="27036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Ἰησους ἠσπασατο τον προσερχομενον ὀχλ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759200" y="3625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ἰδουσα ἐπιστευσε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772160" y="4114800"/>
            <a:ext cx="42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Φαρισαιος ἐδιδαξεν τους ἀκουοντας Ἰουδαιο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4729320" y="506088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ς τουτο ὁ βασιλευς ἀπεστειλεν (ἐπεμψεν) τους στρατιωτας αὐτου εὑρειν το  τεκνον (παιδιο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Practice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2920" y="996840"/>
            <a:ext cx="542916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ειτε τους μισουντας ὑ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Μωϋσης ἁγιος ὠν ἐλεγεν τῳ θε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ελω εἰσελθων εἰς τη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αγωγη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σαι του ῥαββ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λεγον ἀλληλοις περι των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ενομεν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w the ones carrying the sick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 and preach the gosp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786200" y="141444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 those who hate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786200" y="1878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Moses was holy he used to speak to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786200" y="281628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go into the synagogue and listen to the Rab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4786200" y="37591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speaking to each other about what had hap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6200" y="467352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τους φεροντας τον ἀσθεν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786200" y="51735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ων κηρυξον το εὐαγγελι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οντες κηρυξατε το εὐαγγελι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6:38:41Z</dcterms:created>
  <dc:creator>Sarah</dc:creator>
  <dc:description/>
  <dc:language>en-US</dc:language>
  <cp:lastModifiedBy>Sarah</cp:lastModifiedBy>
  <dcterms:modified xsi:type="dcterms:W3CDTF">2009-08-09T11:09:45Z</dcterms:modified>
  <cp:revision>23</cp:revision>
  <dc:subject/>
  <dc:title>Slide 1</dc:title>
</cp:coreProperties>
</file>