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F235-CC86-4163-825A-AF5F438C5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7BAD-8DC4-47E9-B600-8B4739076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691C-86DC-4B21-A136-A662A4D17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4B72-A11E-4C60-B7F9-D44CB309D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F127-C172-4F84-BDED-DB3B55F20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D038-FDA6-4E15-AD08-DFAE0F630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5123-E31F-4B3C-9766-D9AE0385E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0F50-C739-4ECE-919F-B3531A0F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C601-4ADA-4902-B6B8-679A6C614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DABA-D6B2-422B-BE7E-E60CA1BC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3C85-6AFB-49A1-9BB4-3B07F1DE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9376-2864-4051-B128-A3E0BCD6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D11F0-7CB1-4747-98A2-6A7FB56DDC7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9:Practice 1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241200" y="2588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1 </a:t>
            </a:r>
            <a:r>
              <a:rPr b="1" lang="en-GB" sz="3200" spc="-1" strike="noStrike">
                <a:solidFill>
                  <a:srgbClr val="000000"/>
                </a:solidFill>
                <a:latin typeface="Gentium"/>
              </a:rPr>
              <a:t>–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μι</a:t>
            </a:r>
            <a:r>
              <a:rPr b="1" lang="en-GB" sz="32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-142920" y="1279440"/>
            <a:ext cx="5000760" cy="41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ch tense are the follow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ἐδωκε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ἐδιδου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δεδοτα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τιθεμε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τεθησετα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διδωσ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2814480" y="1820880"/>
            <a:ext cx="60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rist (Active Indicative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ingular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2786040" y="2422440"/>
            <a:ext cx="60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erfect (Active Indicative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ingul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2803680" y="3030480"/>
            <a:ext cx="619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fect (Passive Indicative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ingul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2800440" y="3666960"/>
            <a:ext cx="59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 (Active Indicative 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lur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0"/>
          <p:cNvSpPr/>
          <p:nvPr/>
        </p:nvSpPr>
        <p:spPr>
          <a:xfrm>
            <a:off x="2803680" y="4908600"/>
            <a:ext cx="55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 (Active Indicative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ingul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1"/>
          <p:cNvSpPr/>
          <p:nvPr/>
        </p:nvSpPr>
        <p:spPr>
          <a:xfrm>
            <a:off x="2800440" y="4272120"/>
            <a:ext cx="59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ture (Passive Indicative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ingul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9:Practice 2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241200" y="2588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1 </a:t>
            </a:r>
            <a:r>
              <a:rPr b="1" lang="en-GB" sz="3200" spc="-1" strike="noStrike">
                <a:solidFill>
                  <a:srgbClr val="000000"/>
                </a:solidFill>
                <a:latin typeface="Gentium"/>
              </a:rPr>
              <a:t>–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μι</a:t>
            </a:r>
            <a:r>
              <a:rPr b="1" lang="en-GB" sz="32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-142920" y="1279440"/>
            <a:ext cx="5000760" cy="47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ch tense are the follow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θωμε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δοντα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ἱστησ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σταθησοντα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στησατ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ἐστησατ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4"/>
          <p:cNvSpPr/>
          <p:nvPr/>
        </p:nvSpPr>
        <p:spPr>
          <a:xfrm>
            <a:off x="2814480" y="1820880"/>
            <a:ext cx="60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rist (Active Subjunctive 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lural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2786040" y="2422440"/>
            <a:ext cx="607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rist (Active Participle Masculine Plural Accusat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2803680" y="3660840"/>
            <a:ext cx="619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 (Active Indicative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ingul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2800440" y="4297320"/>
            <a:ext cx="59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ture (Passive Indicative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lur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2803680" y="5538960"/>
            <a:ext cx="55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rist (Active Indicative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lur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9"/>
          <p:cNvSpPr/>
          <p:nvPr/>
        </p:nvSpPr>
        <p:spPr>
          <a:xfrm>
            <a:off x="2800440" y="4902120"/>
            <a:ext cx="59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rist (Active Imperative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lur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9:Practic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142920" y="1285920"/>
            <a:ext cx="4500360" cy="55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διδοασιν τον μισθον αὐτων τοις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στρατιωται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Ἰησους ἀνεστησεν τον νεκρ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στημεν μετα του κυριου ἐπ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ῳ ὀρε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φεντες οὐκ ὑπεστρεψα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φη ὁτι ἑστηκεν ἐκε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... ἑως ἀν θω τους ἐχθρους σου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ὑπο των ποδων σ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4313160" y="1976400"/>
            <a:ext cx="46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are giving the soldiers their p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4313160" y="2860560"/>
            <a:ext cx="46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esus raised the dead pers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7"/>
          <p:cNvSpPr/>
          <p:nvPr/>
        </p:nvSpPr>
        <p:spPr>
          <a:xfrm>
            <a:off x="4313160" y="3300480"/>
            <a:ext cx="46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stood with the lord on th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unt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8"/>
          <p:cNvSpPr/>
          <p:nvPr/>
        </p:nvSpPr>
        <p:spPr>
          <a:xfrm>
            <a:off x="4327560" y="4200480"/>
            <a:ext cx="503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they had left they did not turn ba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9"/>
          <p:cNvSpPr/>
          <p:nvPr/>
        </p:nvSpPr>
        <p:spPr>
          <a:xfrm>
            <a:off x="4330800" y="5100480"/>
            <a:ext cx="46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said he was standing t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0"/>
          <p:cNvSpPr/>
          <p:nvPr/>
        </p:nvSpPr>
        <p:spPr>
          <a:xfrm>
            <a:off x="4329000" y="5535720"/>
            <a:ext cx="46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.. until I place your enemies und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r fee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9:Practic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187200" y="1143000"/>
            <a:ext cx="4214880" cy="59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δος μοι τον ἀρτον της ζωη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στας ὁ ἀποστολος ἐκηρυσσεν τῳ ὀχλ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handed over the teaching to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ld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made the sick man stand up i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ynagog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she had dismissed the crowd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e began to pr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le he was giving them the wine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taught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4286160" y="1833480"/>
            <a:ext cx="46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ive me the bread of lif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4286160" y="2289240"/>
            <a:ext cx="46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he had stood up, the apostl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gan to preach to the crow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0"/>
          <p:cNvSpPr/>
          <p:nvPr/>
        </p:nvSpPr>
        <p:spPr>
          <a:xfrm>
            <a:off x="4330800" y="3143160"/>
            <a:ext cx="392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αρεδωκαν την διδαχην τοις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ρεσβυτεροι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1"/>
          <p:cNvSpPr/>
          <p:nvPr/>
        </p:nvSpPr>
        <p:spPr>
          <a:xfrm>
            <a:off x="4330800" y="4056120"/>
            <a:ext cx="392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στησεν τον ἀσθενη ἐν τῃ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συναγωγ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4330800" y="4929120"/>
            <a:ext cx="481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γεισα τον ὀχλον προσηυχετο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or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ἠρξατο προσευχεσθαι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4330800" y="5815080"/>
            <a:ext cx="452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διδους τον οἰνον αὐτοις ἐδιδαξεν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(αὐτους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9:Practice 5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"/>
          <p:cNvSpPr/>
          <p:nvPr/>
        </p:nvSpPr>
        <p:spPr>
          <a:xfrm>
            <a:off x="241200" y="2588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2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αω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ω</a:t>
            </a:r>
            <a:r>
              <a:rPr b="1" lang="en-GB" sz="32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-142920" y="1279440"/>
            <a:ext cx="5000760" cy="53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s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πλανατα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πεπληρωμενο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ζ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ἐδικαιου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μισησει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ἀγαπα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2814480" y="1820880"/>
            <a:ext cx="60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 Middle/Passive Indicative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2786040" y="2422440"/>
            <a:ext cx="607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fect Middle/Passive Participle Masc. Nom. 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2803680" y="3646440"/>
            <a:ext cx="619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 Active Indicative 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7"/>
          <p:cNvSpPr/>
          <p:nvPr/>
        </p:nvSpPr>
        <p:spPr>
          <a:xfrm>
            <a:off x="2800440" y="4282920"/>
            <a:ext cx="63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erfect Active Indicative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l.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8"/>
          <p:cNvSpPr/>
          <p:nvPr/>
        </p:nvSpPr>
        <p:spPr>
          <a:xfrm>
            <a:off x="2803680" y="5524560"/>
            <a:ext cx="55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 Active Infin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9"/>
          <p:cNvSpPr/>
          <p:nvPr/>
        </p:nvSpPr>
        <p:spPr>
          <a:xfrm>
            <a:off x="2800440" y="4888080"/>
            <a:ext cx="59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ture Active Indicative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9:Practice 6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"/>
          <p:cNvSpPr/>
          <p:nvPr/>
        </p:nvSpPr>
        <p:spPr>
          <a:xfrm>
            <a:off x="241200" y="2588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2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αω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ω</a:t>
            </a:r>
            <a:r>
              <a:rPr b="1" lang="en-GB" sz="32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-142920" y="1279440"/>
            <a:ext cx="5000760" cy="41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s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ἐνικησα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τιμησουσ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ἠρωτησε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τιμᾳ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σταυρουτα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πεινᾳ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4"/>
          <p:cNvSpPr/>
          <p:nvPr/>
        </p:nvSpPr>
        <p:spPr>
          <a:xfrm>
            <a:off x="2800440" y="1820880"/>
            <a:ext cx="60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rist Active Indicative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5"/>
          <p:cNvSpPr/>
          <p:nvPr/>
        </p:nvSpPr>
        <p:spPr>
          <a:xfrm>
            <a:off x="2786040" y="2422440"/>
            <a:ext cx="60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ture Active Indicative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6"/>
          <p:cNvSpPr/>
          <p:nvPr/>
        </p:nvSpPr>
        <p:spPr>
          <a:xfrm>
            <a:off x="2803680" y="3030480"/>
            <a:ext cx="619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rist Active Indicative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7"/>
          <p:cNvSpPr/>
          <p:nvPr/>
        </p:nvSpPr>
        <p:spPr>
          <a:xfrm>
            <a:off x="2800440" y="3666960"/>
            <a:ext cx="59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 Active Indicative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8"/>
          <p:cNvSpPr/>
          <p:nvPr/>
        </p:nvSpPr>
        <p:spPr>
          <a:xfrm>
            <a:off x="2803680" y="4908600"/>
            <a:ext cx="55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  Active Indicative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9"/>
          <p:cNvSpPr/>
          <p:nvPr/>
        </p:nvSpPr>
        <p:spPr>
          <a:xfrm>
            <a:off x="2800440" y="4272120"/>
            <a:ext cx="60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 Middle/Passive Indicative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2T09:22:36Z</dcterms:created>
  <dc:creator>Sarah</dc:creator>
  <dc:description/>
  <dc:language>en-US</dc:language>
  <cp:lastModifiedBy>Sarah</cp:lastModifiedBy>
  <dcterms:modified xsi:type="dcterms:W3CDTF">2009-08-15T18:38:46Z</dcterms:modified>
  <cp:revision>25</cp:revision>
  <dc:subject/>
  <dc:title>Slide 1</dc:title>
</cp:coreProperties>
</file>