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7B9-4F16-4AF3-BCF4-8B9D4870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C9F-E966-4880-A398-0DA677C7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873-578F-4398-A69A-5EBA916B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E77-DC8F-4B34-A8FD-94CC8964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4FA-684C-4E8A-91BF-A076B0D2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322-61EC-42F9-B16C-D58C6BCA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284-500D-4B59-A3CE-6D7A08C2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3F7-9262-4434-9A0E-B74F2212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3A5-C2D5-4DF5-90E7-1EDD2370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DD9-029F-4427-954D-8D51F593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B0F-2B8F-4548-AACB-2245B3B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476-DA87-47AE-9738-4BE31C6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F914-53FD-4171-90C8-E99D8B14F2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ωτη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χ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πιδ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ητε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νυκ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αρκ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χερ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ιμω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786120" y="57974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2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14200" y="1285920"/>
            <a:ext cx="492948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η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υνη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ς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ει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ρξ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ρις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υγατη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ν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001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δρ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5178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υναιξ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0272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541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ει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0449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ρκ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ρι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0576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υγατε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5143680" y="5557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85880" y="1928880"/>
            <a:ext cx="757224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ημα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ῥη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0" y="26956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572000" y="3197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572000" y="369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572000" y="4211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4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00040" y="1643040"/>
            <a:ext cx="4714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5429160" y="27306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μ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429160" y="323676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429160" y="37512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μ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5429160" y="429264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5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85840" y="157176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ωτηρ ἐστιν ὁ Ἰησ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υἱος του πατρος ἐφυγ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χω ἀγαθην μη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δον τους πατερας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απτιζει ὑδατ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ἀνδρες ἐχ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71492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Jesus the savi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71492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ther’s son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good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714920" y="38577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saw their fa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714920" y="43578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baptizes with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714920" y="48578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en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6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85840" y="1571760"/>
            <a:ext cx="421488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Χριστος ἀπεθανεν ὑπερ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νδρων και γυναικ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ιετε το θελημ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loves two w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pirit does not like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l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have big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saw the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714920" y="23162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rist died on behalf of men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good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714920" y="38163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ει δυο γυναικ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714920" y="43196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πνευμα οὐ φιλει την σαρκ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714920" y="53118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μεγαλους ποδ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4714920" y="58244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το φ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4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85840" y="1571760"/>
            <a:ext cx="4714920" cy="32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λειονες στρατιωται ἐχ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χεις μειζονα κεφαλην 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Ἰησους εἰχεν πλειονας μαθητας ἠ Ἰωαννη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οφητης εἰμι μειζονος ἱερ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00076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r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00076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have a bigger head than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000760" y="33433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Jesus have more disciples than Joh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997520" y="43275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a prophet of a greater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285840" y="1187280"/>
            <a:ext cx="54291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θελω ἀρτον τι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 φιλειτε τον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ρι τίων εἰπ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ατερες τινες εἰσιν πονηρ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να ζητ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are you (s.) pra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o whom did you (pl.)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 prophets are ca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 law do you (pl.) ke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714920" y="18381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co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4714920" y="2252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nt some b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14920" y="26370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do you (pl.) love Chr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14920" y="3038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bout what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hom- both plural) did he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4714920" y="3821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fathers are wi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711680" y="42116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m (pl.) are you see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8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4444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714920" y="45831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προσευχ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714920" y="49816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νι εἰπ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4714920" y="53769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φηται τινες καλουσ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4714920" y="57405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να νομον τηρ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1:53:05Z</dcterms:created>
  <dc:creator>Sarah</dc:creator>
  <dc:description/>
  <dc:language>en-US</dc:language>
  <cp:lastModifiedBy>Sarah</cp:lastModifiedBy>
  <dcterms:modified xsi:type="dcterms:W3CDTF">2008-09-25T21:45:11Z</dcterms:modified>
  <cp:revision>31</cp:revision>
  <dc:subject/>
  <dc:title>Slide 1</dc:title>
</cp:coreProperties>
</file>