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4B65-6D54-43C2-970D-65250361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1885-41EE-4BF1-8485-8DF9ADC0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6593-E90E-4A2D-9A98-C6F17A895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22A8-6F6D-4E68-A373-7D96D54A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FDE1-F30E-4659-B122-BB471E6C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E2F7-F436-4F07-8444-604814EC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8011-FD4B-4F69-B797-51202B0B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EA4B-3FDB-4DCA-8AB8-FC9C8087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F3F9-C7B1-445C-B134-068BE03B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0F9D-DF5F-4436-B4A2-384270E3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9AAB-7142-4FBC-814D-A95DF1B8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E37D-91FC-46A5-8F29-1520F69B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E30B-294C-453E-9A29-90C0EE86A7D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Practice 1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8.1 DEPONENT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214200" y="1214280"/>
            <a:ext cx="5572080" cy="51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arse the following (all are deponent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ρχοντα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λογιζετ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συνηρχομη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ρνησαμεν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δεξετα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ἁπτ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εἰσερχομενο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ργαζομεν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σπαζεσθ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3000240" y="20080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Indicative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3000240" y="2475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erfect Indicative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3000240" y="29685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erfect Indicative 1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3000240" y="345276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orist Participle Singular (masculine nomin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3000240" y="39117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uture Indicative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3000240" y="43974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Imperative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3000240" y="490068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 Participle Plural (masculine nomin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3000240" y="53863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 Participle Singular (masculine nomin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5"/>
          <p:cNvSpPr/>
          <p:nvPr/>
        </p:nvSpPr>
        <p:spPr>
          <a:xfrm>
            <a:off x="3000240" y="58690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Indicative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ural or Present Imperative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Practice 2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8.1 DEPONENT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214200" y="1643040"/>
            <a:ext cx="764388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 the following verbs in the form ind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ω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ρχο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ing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εχο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erfect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ρχο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orist Masc. Nom. Pl. Parti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ραφ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uture 1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6500880" y="24400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ουσ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6500880" y="2986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ρχετ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6497640" y="3544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δεχεσθ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6500880" y="40971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ρξαμενο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6500880" y="46324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ραψομε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Practice 3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8.1 DEPONENT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214200" y="1643040"/>
            <a:ext cx="764388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 the following verbs in the form ind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ξερχομαι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Imperative 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ογιζο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orist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ιθ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Masc. Nom. Sing. Parti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σευχο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Infin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ρνεο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erfect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6500880" y="24400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ουσ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6500880" y="2986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ρχετ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6497640" y="3544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δεχεσθ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6500880" y="40971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ρξαμενο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6500880" y="46324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ραψομε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Practice 4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244440" y="1262160"/>
            <a:ext cx="5113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ρχονται εἰς το ἱερ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θελω ῥυσασθαι αὐτον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εχεσθε τον λογ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υσαντες ἠρξαντο ἐρχεσθ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ερχομενος ἐδοξαζεν τον θε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ελλω προσευχεσθαι λεγων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4572000" y="192708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are coming into the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4572000" y="267660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wish to rescue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4572000" y="3392640"/>
            <a:ext cx="45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(pl.) are receiving the word. 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‘Receive the word!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4572000" y="412920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fter they heard, they began to 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4572000" y="4854600"/>
            <a:ext cx="45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 he was leaving, he was glorifying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4572000" y="558972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am about to pray, say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Practice 5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244440" y="126216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Ἰουδαιοι ἐξερχονται ἐ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4572000" y="192708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Jews are leaving the synago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4572000" y="278748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 not preach the good new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4572000" y="341460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Φαρισαιοι ἠρξαντο  ἐργασασθαι (ἐργαζεσθα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4572000" y="464040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ἠσπαζοντο τους πονηρου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572000" y="525312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ρνησομαι τηρειν τον νομο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4572000" y="586584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ει εἰσερχεσθαι εἰς το ἱερ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558360" y="2049480"/>
            <a:ext cx="214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ης συναγωγ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244440" y="2500200"/>
            <a:ext cx="45720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η εὐαγγελιζεσθ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Pharisees began to work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were greeting the wicked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will refuse to keep the law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is necessary to go into the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4440" y="77760"/>
            <a:ext cx="862812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8.2 IMPERFECT, FUTURE AND OTHER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ODS OF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ἰμ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214200" y="1285920"/>
            <a:ext cx="6143760" cy="48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ἁγιαι ἠσαν αἱ ἐντολ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αυιδ ἠν μεγ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θελω εἰναι μετ’ αὐτ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φιλων θεον ἐσται μακαρι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σηυχετο ὠν ἁγι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children were al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laves will be d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ing Jewish, we wish to en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ynago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303800" y="18032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commandments were ho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300560" y="23716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vid was gre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300560" y="29145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wish to be with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4286160" y="3462480"/>
            <a:ext cx="51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one who loves God will be ble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4286160" y="4017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ing holy, he was pra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4286160" y="4465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α τεκνα ἠν μον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4286160" y="4921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νεκροι ἐσονται οἱ δουλο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4286160" y="5391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Ἰουδαιοι ὀντες θελομεν εἰσερχεσθαι εἰς την συναγωγ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24444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8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NOUNS OF CONFUSING GEND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71280" y="1211400"/>
            <a:ext cx="64296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μαθηται αὐτου ἐρχοντ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εγεν τῳ Ἰουδ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δελφος δεξεται τον Ἰωαννη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οι στρατιωται προσηρχοντ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4786200" y="211608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s disciples are going/co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4786200" y="272268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was speaking to Ju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4786200" y="333864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rother will receive Joh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4786200" y="3956040"/>
            <a:ext cx="478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soldiers w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ro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71280" y="4697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sus was proclaiming the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4786200" y="4813200"/>
            <a:ext cx="385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Ἰησους ἐκηρυσσεν την ὁδ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125640" y="5548320"/>
            <a:ext cx="39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ophets were not ho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2"/>
          <p:cNvSpPr/>
          <p:nvPr/>
        </p:nvSpPr>
        <p:spPr>
          <a:xfrm>
            <a:off x="4786200" y="5640480"/>
            <a:ext cx="5072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προφηται οὐκ ἠσαν ἁγιο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2:20:43Z</dcterms:created>
  <dc:creator>Sarah</dc:creator>
  <dc:description/>
  <dc:language>en-US</dc:language>
  <cp:lastModifiedBy>Sarah</cp:lastModifiedBy>
  <dcterms:modified xsi:type="dcterms:W3CDTF">2008-09-07T14:37:13Z</dcterms:modified>
  <cp:revision>58</cp:revision>
  <dc:subject/>
  <dc:title>Slide 1</dc:title>
</cp:coreProperties>
</file>