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B4B0-F16E-43EE-BE83-5C7C3D2FA91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DA1E-2267-47AD-BA44-F31BA40566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3EF3-03EE-4F32-AFFA-B2995D1A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7F0A-E29B-4923-A4C6-52CDC746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B6D4-8CE3-4648-A312-8E79376D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54D1-9674-4B22-B387-6F316859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A306-1810-4546-9EA6-B6E8D49D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7EF3-490B-44B1-81E2-555BF185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60DD-98EB-4A56-9864-4316B363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2C1D-8A5B-4C81-A4F9-D5C3943A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680D-42E3-4583-83F1-EF35128A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69DA-F905-484D-A665-87FCDBA8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D553-48E9-43D8-9D01-57F60986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850-EC33-4362-A703-593C3B0B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5A6A-6B4A-44D1-A4B3-F7D1E6BE757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Practice 1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41200" y="46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-142920" y="1708200"/>
            <a:ext cx="500076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δυναν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καθημεν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δυνασθ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κειτο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2786040" y="22496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. Present Middle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2786040" y="285120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uline/Neuter Dative Pl., Present Middle 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2786040" y="40863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 Middle Infin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2786040" y="469260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 Imperfect Middle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Practice 2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241200" y="46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-142920" y="1571760"/>
            <a:ext cx="500076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οἰδα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ᾐδε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ἰδε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ἰδ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εἰδω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2786040" y="2112840"/>
            <a:ext cx="6072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. Present Active Indicative (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ἰδα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786040" y="2714760"/>
            <a:ext cx="6072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. Imperfect Active Indicative (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ἰδα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2803680" y="3322800"/>
            <a:ext cx="5072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Active Infinitive (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ραω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2800440" y="3959280"/>
            <a:ext cx="428616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uline Nominative Sing., Aorist Active Participl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ραω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2803680" y="5200560"/>
            <a:ext cx="557208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uline Nominative Sing., Present Active Participl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ἰδα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Practice 3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8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214200" y="1357200"/>
            <a:ext cx="457200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θελω αὐτον γαμειν μ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ει διδασκαλον διδασκ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σηλθεν ὡστε αὐτους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παγαγ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υνασθε ἐσθιειν ἀρτον ἐν τῳ ἱερῳ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φιλω την σοφιαν ὡστε ἀκουει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υ διδασκαλου μο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786200" y="211284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want him to marry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786200" y="261936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 teacher must te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4786200" y="3119400"/>
            <a:ext cx="41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approached so they depar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4800600" y="412596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e you able to eat bread in the temp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4803840" y="5157720"/>
            <a:ext cx="38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love wisdom so I listen to my teac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Practice 4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214200" y="1285920"/>
            <a:ext cx="4214880" cy="55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δυναμεθα λεγειν αὐ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θελω εἰδεναι τον θε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ετα το προσευχεσθαι ἐξηλθο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 της συναγωγ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ἡ χηρα ἠν πτωχη ὡστε μη ἐχει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λλ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δον ὁτι δει αὐτην ἀποθαν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ἰδατε τας ἐπαγγελιας τ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ἰωνιου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313160" y="197640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were able to speak to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313160" y="243216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want to know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313160" y="286056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fter praying I/they left the synago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313160" y="37720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widow was poor so she did not have mu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4327560" y="4673520"/>
            <a:ext cx="46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/they saw that it was necessary for her to 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4330800" y="555480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 you know the eternal promi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67360" y="629280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Practice 5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214200" y="1184400"/>
            <a:ext cx="4857840" cy="60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ἠλθες προς το προσκυνησα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ῳ θεῳ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μαθηται ἐφυγον ὡστε τους                                            στρατιωτας μη εὑρειν μηδεν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d you know hi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fore sitting down they gave than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were so amazed that the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shipped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must be a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572000" y="187488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d you come to worship (with the aim of worshipping) G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572000" y="2765520"/>
            <a:ext cx="45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disciples fled so the soldiers found no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586400" y="406548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ᾐδεις αὐτο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586400" y="452772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 του καθησθαι εὐχαριστησα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4586400" y="4973760"/>
            <a:ext cx="46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(οὑτως) ἐθαυμαζον ὡστε προσκυνησαι αὐτ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4586400" y="5851440"/>
            <a:ext cx="46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ει σε δουλευειν 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ει σε εἰναι δουλον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8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IRD PERSON IMPER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214200" y="1285920"/>
            <a:ext cx="4214880" cy="47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η λεγετω τῳ πονηρ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θετω ἡ βασιλεια σ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ει την βασιλειαν ἐλθ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σκυνωμεν τῳ θε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σκυνειτωσαν τῳ θε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α δαιμονια ἐκβληθητ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3790800" y="2043000"/>
            <a:ext cx="46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he should not speak to the evil 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3800520" y="2548080"/>
            <a:ext cx="52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et your kingdom come!/ May your kingdom co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3813120" y="35575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kingdom must c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3803760" y="405756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et us worship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3813120" y="457524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should worship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3803760" y="507204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demons should be cast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8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IRD PERSON IMPER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214200" y="1285920"/>
            <a:ext cx="4214880" cy="52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ἠρθησ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λλα εἰληφαμ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ἠκουσα το ῥηθ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ωσεις τον ἐσχηκοτα δαιμονι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ἀρχιερεις εἰληφασιν τας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ραφ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δον ἀνεῳγμενον οὐραν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4572000" y="204300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were taken (awa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4572000" y="252720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have received many th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4572000" y="30337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heard what was sa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4572000" y="355752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ill you save the man who has a dem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4572000" y="45752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chief priests have taken the scrip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4572000" y="558000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saw heaven op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0:14:35Z</dcterms:created>
  <dc:creator>Sarah</dc:creator>
  <dc:description/>
  <dc:language>en-US</dc:language>
  <cp:lastModifiedBy>Sarah</cp:lastModifiedBy>
  <dcterms:modified xsi:type="dcterms:W3CDTF">2009-03-03T23:11:14Z</dcterms:modified>
  <cp:revision>19</cp:revision>
  <dc:subject/>
  <dc:title>Slide 1</dc:title>
</cp:coreProperties>
</file>