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E54-B603-419C-A780-8F98332C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323-6613-4D05-AAA9-809B1892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33F-6200-4DC8-8904-30FCC556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95E-206D-411E-BB34-B9131D70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1EB-B0AB-4153-BE48-C35FBD8F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B4B-70F1-4288-A124-59F3F507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90A-2FD0-4BC6-865F-4E895A3C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AB0-3418-4F38-ABCD-1456064C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807-162D-41E6-8149-7515179D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638-FE8C-45C4-AD2C-56D04769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88C-9ABE-4B00-A260-62CACF3D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919-9EE6-4868-8A90-5EC03692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E5D8-C683-41AE-A7BB-3B7CAD9147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1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00040" y="1424160"/>
            <a:ext cx="7929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υναμ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ρι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ρχιερε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βασιλε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λε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γνωσ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2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14200" y="1643040"/>
            <a:ext cx="5072040" cy="33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ευ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στασι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μματευ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ι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5929200" y="25146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929200" y="31701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στασεω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929200" y="38052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μματε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929200" y="444348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2 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500040" y="1424160"/>
            <a:ext cx="79297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ελ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ελ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κοτ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σθεν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ὀπ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786120" y="377028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 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em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3786120" y="47991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786120" y="5283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214200" y="1643040"/>
            <a:ext cx="5286600" cy="33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θο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σθενη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κευο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θνο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5929200" y="25146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929200" y="31701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σθεν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929200" y="38052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κευ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929200" y="444348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θνε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4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2 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5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42920" y="1285920"/>
            <a:ext cx="492912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αγαγε εἰς τα ἐθν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ῳ τῳ ἐτει ὁ βασιλευς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γραμματεις εἰπον κατα του Ἰη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ετρος οὐ προσεχει τῳ ἀρχιερ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ληθεις μαθηται εἰσιν ἐν τῃ πολ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πιστεως ἐχομεν ἐλπιδα δοξη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054760" y="20304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part to the Gent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045040" y="25416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at year the king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054760" y="3048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cribes spoke against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045040" y="356076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ter does not pay attentio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high priest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5057640" y="45864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true disciples are in the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057640" y="5089680"/>
            <a:ext cx="41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faith we have hope of gl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67360" y="6278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6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42920" y="1214280"/>
            <a:ext cx="492912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ω μερος της βασιλε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ζητων την ἀληθειαν και δυναμ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αμβαν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king’s father spoke to the high pri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cause of his mercy God rescues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054760" y="1959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a share of the king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045040" y="247032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ne who seeks truth also receives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5054760" y="347508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τηρ του βασιλεως εἰπεν τῳ ἀρχιερε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072040" y="448632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ο ἐλεος αὐτου ὁ θεος ῥυεται ἡμα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5072040" y="52862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τε περιεπατουμεν ὑπο κρι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142920" y="5180040"/>
            <a:ext cx="4572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ce we lived under ju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ith found its true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072040" y="578484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(ἡ) πιστις εὑρεν το ἀληθες τελος αὐτη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00040" y="1424160"/>
            <a:ext cx="79297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σ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inine 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3786120" y="325584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euter 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inine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3786120" y="427212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3786120" y="52941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euter 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142920" y="1604880"/>
            <a:ext cx="4500360" cy="46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ντες οἱ πατερες ἀπεθ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ξω το εὐαγγελιον ἐ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σιν τοις ἐθνε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 ἐθαυμασεν δια παντα ἁ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σωτηρ παντων προσευχε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586400" y="23432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he fathers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572000" y="277164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preach the good news in all the 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572000" y="357192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eryone was amazed because of all the things which he wa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572000" y="48290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aviour of all is pra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9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41200" y="2746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3.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500040" y="1609560"/>
            <a:ext cx="49291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δεις ἐστιν ἀγαθ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ν μιαν πολ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χ εὑρες οὐδ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μηδεν μηδεν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ὁτι ἐστιν εἱς κυριος και μια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κλησι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ω ἐν προβατο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5054760" y="20304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no one g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5045040" y="25416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/they saw one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054760" y="3048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dn’t you find anyt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045040" y="356076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y nothing to anyone (l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hing to nobody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5057640" y="4586400"/>
            <a:ext cx="41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said that there was one Lord and one chu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5057640" y="55926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one sh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39400" y="126828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1:39:49Z</dcterms:created>
  <dc:creator>Sarah</dc:creator>
  <dc:description/>
  <dc:language>en-US</dc:language>
  <cp:lastModifiedBy>Sarah</cp:lastModifiedBy>
  <dcterms:modified xsi:type="dcterms:W3CDTF">2008-09-26T13:03:58Z</dcterms:modified>
  <cp:revision>26</cp:revision>
  <dc:subject/>
  <dc:title>Slide 1</dc:title>
</cp:coreProperties>
</file>