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DFEE-4D34-4FCF-BB17-79FD8CE7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9A9E-18E8-4988-B945-AE044C03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9F9E-3FD9-4200-A6E6-67BA0B823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ED9F-03BE-4DCD-8D4A-773087B38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1FDB-9E05-43EA-BF75-9A15B4E6E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E652-67DE-42FD-942F-5C722A31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05E0-1A36-4E10-A981-27591D44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A9AF-0279-4084-BFE2-0AB76888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1901-BA18-48B3-B115-947FE4F9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8B79-0777-4758-B41C-31C784E9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D534-B862-4AAC-A933-3CC19869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EF2D-B923-4A9A-9755-A4AAF983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FA80-2C9F-40DB-95FF-800E87CE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D9E5-CDC6-4791-8DEE-B213ED7A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E5AA-D96F-4C73-926C-49F1844D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F385-B7C0-4CB9-9044-81C946A3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5E9E-AA04-47C7-8955-F6AAEC31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1980-2F84-44A1-90B8-14778E02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36FA-E7BF-416A-8EB7-75E2BA38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3C0B-6CA1-4154-BB05-3DC0B816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7AD3-D39E-4E0E-B1FE-53006E96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7565-CC7D-4065-8752-83FCE3E9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FF24-387D-41A3-99D4-65EE9A77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1D99-7E87-42A2-A184-E3E12569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FC87-1562-4966-8E2B-71BD7A025AE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AA8B-FF80-482D-8D10-D55564A7774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ORMATION OF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Practice </a:t>
            </a:r>
            <a:fld id="{28A620BA-24C4-441C-A146-988D1346235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214200" y="1285920"/>
            <a:ext cx="400068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ἁγι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ον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νεκρ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υφλ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α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ικαι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ἰδι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νηρο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3143160" y="21258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c. Nom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3143160" y="261612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c./Fem./Neut. Gen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3143160" y="3100320"/>
            <a:ext cx="64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c. Acc. Sing.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ut. Nom./Acc.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3143160" y="36147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m. Nom.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3143160" y="41292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m. Dat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3143160" y="465768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m. Acc.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3143160" y="5157720"/>
            <a:ext cx="62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m. Nom. Sing.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ut. Nom./Acc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3143160" y="56610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c. Dat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500040" y="1459080"/>
            <a:ext cx="771516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ich part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εγα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would agree with the follow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ὀχλ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ργ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σιλει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ρδιᾳ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ἱερ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"/>
          <p:cNvSpPr/>
          <p:nvPr/>
        </p:nvSpPr>
        <p:spPr>
          <a:xfrm>
            <a:off x="241200" y="25560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πολυ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μεγ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Practice </a:t>
            </a:r>
            <a:fld id="{C240AC7C-7BA0-4FBB-A3D1-F54E8C0B3A9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4"/>
          <p:cNvSpPr/>
          <p:nvPr/>
        </p:nvSpPr>
        <p:spPr>
          <a:xfrm>
            <a:off x="4357800" y="241308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εγ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"/>
          <p:cNvSpPr/>
          <p:nvPr/>
        </p:nvSpPr>
        <p:spPr>
          <a:xfrm>
            <a:off x="4357800" y="300348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εγαλ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4357800" y="361332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εγαλη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4354560" y="4246560"/>
            <a:ext cx="435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εγαλ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4357800" y="486108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εγ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142920" y="1428840"/>
            <a:ext cx="6072120" cy="56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στιν θεος ἐν οὐρανῳ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ημειον το του Ἀβρααμ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εκν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σιν πολλοι ἁγιοι Ἰουδαιο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του Ἰησου λογος εὐαγγελι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"/>
          <p:cNvSpPr/>
          <p:nvPr/>
        </p:nvSpPr>
        <p:spPr>
          <a:xfrm>
            <a:off x="230040" y="71280"/>
            <a:ext cx="8628120" cy="10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.7 WORD ORDER 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.8 SPECIAL USES OF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εἰμ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Practice </a:t>
            </a:r>
            <a:fld id="{9E5FDB15-16F9-419A-A66D-EE7F0202F75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4"/>
          <p:cNvSpPr/>
          <p:nvPr/>
        </p:nvSpPr>
        <p:spPr>
          <a:xfrm>
            <a:off x="4660920" y="233028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God in heav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4660920" y="29415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braham’s child is a 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4700520" y="478620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are many holy J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4700520" y="5410080"/>
            <a:ext cx="43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word of Jesus is good n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-14292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USE OF ADJECTIVES (1) - ATTRIBU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Practice </a:t>
            </a:r>
            <a:fld id="{4706C930-9F12-4436-AD6F-99B5ED0C9D9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214200" y="1285920"/>
            <a:ext cx="607248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ηρουμεν τον ἀγαθον νομ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ἀδελφος ὁ ἀγιος ἀκου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υφλον δουλον ἐχ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ἁγιος λαος φιλει τον θε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κυριος οὐκ ἐχει δικαι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υἱ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4643280" y="218772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re keeping the good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4643280" y="2820960"/>
            <a:ext cx="46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holy brother is list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4643280" y="341136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has a blind sl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4643280" y="40305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holy people loves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4643280" y="4654440"/>
            <a:ext cx="471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Lord does not have a just 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-14292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USE OF ADJECTIVES (1) - ATTRIBU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Practice </a:t>
            </a:r>
            <a:fld id="{306B31F6-145E-403B-BD0A-1864AD4CF5E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214200" y="1285920"/>
            <a:ext cx="6072480" cy="31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βαλλει τα δαιμονια τα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 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νηρ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λειτε τας ἀγαθος ἀδελφα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4643280" y="2187720"/>
            <a:ext cx="43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e is casting out the wicked dem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4643280" y="3409920"/>
            <a:ext cx="46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pl.) are calling the good si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214200" y="3956040"/>
            <a:ext cx="49294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seek a wicked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e believes her own he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crowd seeks the only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4643280" y="4591080"/>
            <a:ext cx="435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ζητω πονηραν ζωη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1"/>
          <p:cNvSpPr/>
          <p:nvPr/>
        </p:nvSpPr>
        <p:spPr>
          <a:xfrm>
            <a:off x="4643280" y="5149800"/>
            <a:ext cx="435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ευει τῃ ἰδιᾳ καρδιᾳ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4643280" y="5719680"/>
            <a:ext cx="43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ὀχλος ζητει τον μονον θε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500040" y="1500120"/>
            <a:ext cx="6072120" cy="44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σ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μ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στ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241200" y="25560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εἰμι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- I A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Practice </a:t>
            </a:r>
            <a:fld id="{D2CD34C4-7F43-481D-8289-8C675CE044C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4214880" y="241308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pl.)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4214880" y="299088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4214880" y="36003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4211640" y="421812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sing.)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214880" y="486108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/she/it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-14292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USE OF ADJECTIVES (2) - PREDIC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6"/>
          <p:cNvSpPr/>
          <p:nvPr/>
        </p:nvSpPr>
        <p:spPr>
          <a:xfrm>
            <a:off x="6867360" y="629604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Practice </a:t>
            </a:r>
            <a:fld id="{737FE269-10B0-4FAF-94D8-50F0A9B1D55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71280" y="1157400"/>
            <a:ext cx="4786560" cy="40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στε ἀγαθο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ἁγιος ἐστιν ὁ νομος του θε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Ἰουδαια τα τεκν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 τυφλη ἀδελφη ἐστιν νεκρ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ἰωνια τα Ἱεροσολυμα τα ἁγι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the gospel good or evi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564080" y="158580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e you (pl.) go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4554360" y="210168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law of God is ho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4557600" y="259704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children are Jew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4557600" y="31161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the blind sister de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4557600" y="36399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holy Jerusalem etern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4557600" y="4143240"/>
            <a:ext cx="43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γαθον ἠ πονηρον (ἐστιν) το εὐαγγελι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4572000" y="5000760"/>
            <a:ext cx="43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θεος ὁ μονος (ἐστιν) ἐν οὐρανῳ (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ὐρανοις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142920" y="4927680"/>
            <a:ext cx="45720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only God is in hea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159840" y="5715000"/>
            <a:ext cx="36540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re in the synagog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3"/>
          <p:cNvSpPr/>
          <p:nvPr/>
        </p:nvSpPr>
        <p:spPr>
          <a:xfrm>
            <a:off x="4572000" y="5805360"/>
            <a:ext cx="435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σμεν ἐν τῃ συναγωγ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87480" y="255600"/>
            <a:ext cx="86277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Practice </a:t>
            </a:r>
            <a:fld id="{06B3ABE5-98E1-4BAB-9080-33AEC77C230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22860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71280" y="1285920"/>
            <a:ext cx="471492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Πετρος φιλει το νεκρον τεκν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υἱος ὁ τυφλος βλεπει τον Χριστ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ἁγιον καλουσιν τον κυρι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αλλει αὐτο εἰς την καλην γη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ἑτερῳ εὐαγγελιῳ οὐ πιστευομ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4786200" y="2085840"/>
            <a:ext cx="3857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Peter loves the dead chil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4786200" y="2639880"/>
            <a:ext cx="4357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The blind son sees the Messiah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794120" y="3714840"/>
            <a:ext cx="3857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They call the lord hol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4782960" y="4299120"/>
            <a:ext cx="4357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He throws it into the good earth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4782960" y="4834080"/>
            <a:ext cx="4357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We do not believe (in) a different gospe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4759200" y="5643720"/>
            <a:ext cx="3857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The slave of God is bless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90000" y="546084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δουλος του θεου μακαρι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2"/>
          <p:cNvSpPr/>
          <p:nvPr/>
        </p:nvSpPr>
        <p:spPr>
          <a:xfrm>
            <a:off x="87480" y="255600"/>
            <a:ext cx="86277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Practice </a:t>
            </a:r>
            <a:fld id="{3E6C533A-8DBC-4CAB-89DF-882EA22A887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22860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71280" y="1285920"/>
            <a:ext cx="471492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ἁγια ἡ βασιλεια του Ἰησ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ἀγαθος ἀδελφος οὐκ ἐστι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 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ον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A wicked crowd seeks signs</a:t>
            </a:r>
            <a:r>
              <a:rPr b="0" lang="el-GR" sz="2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Is God dead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We are departing to our own hous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4670280" y="2085840"/>
            <a:ext cx="3857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Is the kingdom of Jesus holy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7"/>
          <p:cNvSpPr/>
          <p:nvPr/>
        </p:nvSpPr>
        <p:spPr>
          <a:xfrm>
            <a:off x="4670280" y="2639880"/>
            <a:ext cx="4357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The good brother is not alon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4678200" y="364320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νηρος ὀχλος ζητει σημεια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4667400" y="415764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θεος (ἐστιν) νεκρος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>
            <a:off x="4667400" y="4643280"/>
            <a:ext cx="45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ὑπαγομεν εἰς (</a:t>
            </a:r>
            <a:r>
              <a:rPr b="0" i="1" lang="en-GB" sz="21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ος)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υς ἰδιους οἰκους (</a:t>
            </a:r>
            <a:r>
              <a:rPr b="0" i="1" lang="en-GB" sz="21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ας ἰδιας οἰκιας)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1"/>
          <p:cNvSpPr/>
          <p:nvPr/>
        </p:nvSpPr>
        <p:spPr>
          <a:xfrm>
            <a:off x="4687920" y="561492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ἡ ἀδελφη ἡ Ἰουδαια (ἐστιν) ἀγαθ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122400" y="5460840"/>
            <a:ext cx="32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The Jewish sister is good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"/>
          <p:cNvSpPr/>
          <p:nvPr/>
        </p:nvSpPr>
        <p:spPr>
          <a:xfrm>
            <a:off x="244440" y="1514520"/>
            <a:ext cx="6072120" cy="44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θεος φιλει τους Ἰουδαι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ἀγαθοι διδασκουσ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Παυλος λεγει τοις ἁγιοι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τυφλος ὑπαγ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7128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USE OF ADJECTIVES (3) – AS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Practice </a:t>
            </a:r>
            <a:fld id="{0A281EA5-239B-4513-82BA-34E86233B48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4572000" y="241308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d loves the J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4572000" y="302580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good people/men t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4572000" y="36273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ul speaks to the holy 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4568760" y="42465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blind man dep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"/>
          <p:cNvSpPr/>
          <p:nvPr/>
        </p:nvSpPr>
        <p:spPr>
          <a:xfrm>
            <a:off x="500040" y="1459080"/>
            <a:ext cx="771516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ich part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λυ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would agree with the follow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ἁμαρτι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ημει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ιβλι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οξ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αββατο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"/>
          <p:cNvSpPr/>
          <p:nvPr/>
        </p:nvSpPr>
        <p:spPr>
          <a:xfrm>
            <a:off x="241200" y="25560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πολυ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μεγ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Practice </a:t>
            </a:r>
            <a:fld id="{29E43A19-7DB0-4D6E-93E6-CE22F28345E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4357800" y="241308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λλ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4357800" y="300348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λλ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4357800" y="361332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λλ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4354560" y="4246560"/>
            <a:ext cx="435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λλη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4357800" y="486108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λλο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8:17:46Z</dcterms:created>
  <dc:creator>Sarah</dc:creator>
  <dc:description/>
  <dc:language>en-US</dc:language>
  <cp:lastModifiedBy>Sarah</cp:lastModifiedBy>
  <dcterms:modified xsi:type="dcterms:W3CDTF">2009-03-03T17:32:16Z</dcterms:modified>
  <cp:revision>50</cp:revision>
  <dc:subject/>
  <dc:title>Slide 1</dc:title>
</cp:coreProperties>
</file>