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808-A405-42A2-810D-2623A7BA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122-7421-487A-9444-B3E486A9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40E-C76C-4D2E-B648-6D58D7CF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870-69EA-4887-B8A7-A3C33508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74F-1E20-42E0-90B6-19543024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8F1-A97B-4061-A16C-82C3864B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1AD-3DC8-4011-BF13-65A50A2B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098-3833-4A56-907E-782EA6CC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096-8C03-438C-9ADB-A9BD0D41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67B-84A5-4BC3-B3C7-2B90E001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A18-5644-4148-8282-1DF2C694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6F2-7DD0-47DD-841F-BD18AA67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9F34-D3D1-4BE5-A30A-4695DD3AAB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D30D83DA-AE37-4CB8-A7B5-6436567E2FA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2876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τανοησ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ειτε τον νομ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ψον αὐτ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ετε την φων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572000" y="22716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ow out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57200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ent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572000" y="3511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ep (pl.) the law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572000" y="4102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e to her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572000" y="473724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r (pl.) the voice/sound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C522C981-96CD-4024-9302-9154905A849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ησα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ησε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 (s.) the heave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ach (pl.) her! (conti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ie (pl.) the child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92912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ek (pl.) God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929120" y="2878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will seek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929120" y="3481560"/>
            <a:ext cx="471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ξον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92912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ετε αὐτ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92912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σατε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BD7BBE03-18AA-4ABD-B6FB-85C2B18C5F0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εις βλεψ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ζητουμεν ἀκου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περιπατ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μελλετε γραφ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(pl.) want to rep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it necessary to love God?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28616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(s.) wish to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286160" y="2878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to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286160" y="348156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walk about (live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428616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were about to write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428616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ετε μετανο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4286160" y="525924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φιλει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89F36805-A2E3-43FA-8FE6-093BD1EB501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42920" y="1214280"/>
            <a:ext cx="578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286160" y="17859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ptise the brothers! (or ‘you are baptising the brother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286160" y="26431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12912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permitted to speak? (or is speaking allow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286160" y="39290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speak to Timo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286160" y="471492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ship the holy God! (or ‘you are worshipping the holy Go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303800" y="5884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96920" y="2443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ον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14200" y="5710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ατε αὐτου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32560" y="1616040"/>
            <a:ext cx="3598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ζετε τους ἀδελφ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13480" y="2970360"/>
            <a:ext cx="236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ξεστι λαλ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32920" y="3741840"/>
            <a:ext cx="3396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λεγειν τῳ Τιμο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32920" y="4557600"/>
            <a:ext cx="3858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κυνειτε τῳ ἁγι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E456E062-CD40-484A-A34E-1864967EC11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74520" y="1211400"/>
            <a:ext cx="47116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θελω πεμψαι ἀγγε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 ζητει ἀπολυσ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you (pl.) want to give thank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eek (pl.; continually) the good new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not walk (s.; in general in the temple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y are about to cry out, ‘Amen’.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714920" y="1728720"/>
            <a:ext cx="400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 want to send a messeng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714920" y="23097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not seek to divor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14920" y="285912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θελετε εὐχαριστησαι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714920" y="3367080"/>
            <a:ext cx="42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ζητειτε το εὐαγγελιον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714920" y="442584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 περιπατει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718160" y="548172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λλουσιν κραξαι∙ Ἀμ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983C7FF4-3DE2-4375-9876-DF843BC9D3C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72000" y="239544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14200" y="1214280"/>
            <a:ext cx="5286600" cy="52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all are masculine 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ψ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ωξ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φ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κ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αγ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0" y="29289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572000" y="34257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572000" y="39322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572000" y="44290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572000" y="4929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572000" y="54529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572000" y="5964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7AF5C469-1435-4BBE-A2B3-EB594F0D4E8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14200" y="1187280"/>
            <a:ext cx="57866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οντες ὑπη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ραξεν λεγ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ψας λεγε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ουν τηρουντες                          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νομ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ς τον λογον ἐδοξασα                             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286160" y="20750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they looked they were going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286160" y="25830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cried out (while) say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286160" y="315756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he saw (him), he says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286160" y="370044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living keeping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4286160" y="482292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I heard the message, I glorified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286160" y="581328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y believed, they rep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35080" y="576252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σαντες μετενο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A2BB34C1-18F0-419E-A526-95A51D80F18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14200" y="1252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85840" y="1857240"/>
            <a:ext cx="864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ξαντες τους ὀφθαλμους αὐτων ἐβλεψαν την θαλασ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85840" y="3063960"/>
            <a:ext cx="8215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ν τῳ ὀχλῳ ὁ ἀποστολος ἐθεωρε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85840" y="4214880"/>
            <a:ext cx="84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φας το βιβλιον ὁ Πετρος ἐπεμψεν αὐτο τῃ ἐκκλησι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85840" y="52862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proclaiming the word, they worshipped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928800" y="24289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they opened their eyes, they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5840" y="3571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le speaking to the crowd the apostle was looking at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928800" y="4714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ad written the book, Peter sent it for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973080" y="577836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αντες τον λογον προσεκυνησαν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9FCFB5E5-8C08-43F4-9B2A-B964F9E427E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14200" y="12142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99880" y="181296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εμψας αὐτον σωζ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29210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καριος ἐστιν ὁ βλεπω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400068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μαρτυρουντες κηρυξ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03120" y="50864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ιστευων λεγει την εἰρη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2357280" y="2286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nt him s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2357280" y="352584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es God is bl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785880" y="45831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s who bear witness (or ‘the witnesses’) will p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2357280" y="564372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liever speaks pe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7:01:18Z</dcterms:created>
  <dc:creator>Sarah</dc:creator>
  <dc:description/>
  <dc:language>en-US</dc:language>
  <cp:lastModifiedBy>Sarah</cp:lastModifiedBy>
  <dcterms:modified xsi:type="dcterms:W3CDTF">2008-09-07T14:36:25Z</dcterms:modified>
  <cp:revision>36</cp:revision>
  <dc:subject/>
  <dc:title>Slide 1</dc:title>
</cp:coreProperties>
</file>