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2BB7-54D2-4468-86A5-8860C6EF13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9251-FAD1-426C-AF13-B346B353D4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5B5-6165-42FC-B803-87DD5A37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BA2-A27F-45EA-8545-1E3DFA64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0461-0476-4413-8F97-74D4AE03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F73-D520-4621-A2E4-41DBD018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88D-2E72-45E4-AD29-7DE4F837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C3E-1D7F-4191-A84B-E347127A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623-C4E7-435D-822E-A3A858FB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54C-5200-4380-B035-58440F1F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2F7-C51D-43A4-8409-0EC564E8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925-F6F9-4A84-BE11-7705129D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42F-12D5-4D21-AC2C-4D6552D1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8A9-4213-47CB-B0E1-917446B8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AF83-4A7D-49B3-8D4E-2BDE529642E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04920" y="2514600"/>
            <a:ext cx="6324480" cy="33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esus threw out the demon which was in the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am the man whom you are see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e ate the meal which the king 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prophet offered the sacrifice, because of which the rain c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s this the Messiah for whom we are wai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governor sent the soldiers who arrested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04920" y="152388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eak down these complex sentences into two basic sent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word is the antecedent of the relative in these senten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010280" y="2529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010280" y="3032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10280" y="3551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010280" y="4043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crif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010280" y="4897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ssi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7010280" y="5397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ld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57120" y="1228680"/>
            <a:ext cx="358164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ὁ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οὑ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ᾑ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α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α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οὑ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τ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ὡ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ο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881360" y="170496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uter Nominativ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ccusa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881360" y="22240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Accusa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881360" y="26956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euter Geni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881360" y="32148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Da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881360" y="368604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Nomina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881360" y="421956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Nominative Plural (of the artic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881360" y="4724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Accusa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881360" y="52102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Accusative Singular (of the artic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881360" y="5715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, Femin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euter Geni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881360" y="623556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euter Da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42920" y="1214280"/>
            <a:ext cx="442908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 τον δουλον ὁν ἐκαλε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ε ἐκ του οἰκου ἐν ᾡ ε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 ἐστιν τα ποτηρια ἁ φιλου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στευσαν γαρ τῳ ἐυαγγελιῳ ὃ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ποστολοι ἐκηρυσσο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σπαζεσθε οἳ ἐρχονται προς ὑμ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 ἐστιν ὁ κυριος δι’ οὑ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ευξομε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86400" y="198288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see the slave whom he ca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89640" y="25272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part from the house in which you are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92520" y="331632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are the cups which we lo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606920" y="4044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believed the good news which the apostles were prea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619520" y="492300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eet (pl.) the ones who are coming to you (pl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619520" y="569448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is the Lord through whom we will p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42920" y="1657440"/>
            <a:ext cx="4500360" cy="45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σπαζεσθε τον Τιμοθεον ὑπε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 ἡ ἐκκλησια προσευχ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keeps the bread which he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is necessary to love the God who saves 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you (s.) believe the gospel which you he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 the disciple who denied Jesus rep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99000" y="1568520"/>
            <a:ext cx="45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m saying to you what I heard (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eard, this I am saying to yo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89640" y="221148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eet Timothy on whose behalf the church i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92520" y="30146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ρει τον ἀρτον ὁν ἐποιη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606920" y="371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φιλειν τον θεον ὁς σωζει ἡμ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19520" y="460224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εις τῳ εὐαγγελιῳ ὃ ἠκουσ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72000" y="552780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μαθητης ὁς ἠρνησατο τον Ἰησουν μετενοησ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42920" y="109224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 ἠκουσα ταυτα λεγω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2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42920" y="1500120"/>
            <a:ext cx="47149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 βλεπ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 φιλεις 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ω οὐ φιλω σ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 ἐγ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857760" y="225756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rely you don’t see? / You don’t see, d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857760" y="307188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rely you love me? / You don’t love me, d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857760" y="38876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do not love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857760" y="47228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rely not I? / It is not me,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85840" y="121428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these sentences include direct or indirect statemen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ndirect, which Greek tense would be used in the indirect stat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6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8720" y="2417760"/>
            <a:ext cx="4267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enturion says that he is g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said to him, 'Worship me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omen said that he had been bl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oldiers thought that they saw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lind people said, 'We want to see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n they cried out that he was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24400" y="24321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rect –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24400" y="288756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324400" y="3343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rect – Im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24400" y="409716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rect – Ao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324400" y="48657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24400" y="5619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rect –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304920" y="1357200"/>
            <a:ext cx="85341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Greek, which case would be used for these time expression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y came on the Sabbath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 fasted for forty day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icodemus came by nigh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ree days he was in the tom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t dawn the stone move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 was arrested during Passove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424480" y="2816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433840" y="3375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429160" y="393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429160" y="4489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429160" y="50115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429160" y="5565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44440" y="2700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0:38:18Z</dcterms:created>
  <dc:creator>Sarah</dc:creator>
  <dc:description/>
  <dc:language>en-US</dc:language>
  <cp:lastModifiedBy>Sarah</cp:lastModifiedBy>
  <dcterms:modified xsi:type="dcterms:W3CDTF">2009-03-03T21:05:09Z</dcterms:modified>
  <cp:revision>22</cp:revision>
  <dc:subject/>
  <dc:title>Slide 1</dc:title>
</cp:coreProperties>
</file>