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123-CF45-473B-9FF9-3D136C6B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A0A-0D48-4402-89E8-CEAF1721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F31-5415-4F06-BC21-283DE60B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31D-31A0-479F-AD9C-88741DFB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2EE-A80F-4EC2-AFC0-BB7FCCCE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75B-6ED8-4E44-881E-8A203A93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895-2C85-4752-82A5-8176BC9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CA1-8377-4EDD-A034-137D0645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7DC-B424-46B2-8A49-8CDE08B0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1D4-1F1D-496A-AAF9-9FEBFD0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A3B-4ECF-4E6A-8B11-C26284C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0E1-3586-4E46-A2AD-F33BF3B3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AEAE-30FB-4B15-BC8B-1289570BBD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-142920" y="127944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 are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δωκ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διδ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δο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θε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εθησ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ιδ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86040" y="242244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 (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803680" y="3030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(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800440" y="366696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(Act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803680" y="49086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(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800440" y="42721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(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2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-142920" y="127944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 are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ω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οντ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ἱστη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ταθησ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Subjunc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786040" y="24224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Participle Masculine Plural Accus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803680" y="366084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(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800440" y="42973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(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803680" y="553896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Indic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800440" y="49021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Imper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42920" y="1285920"/>
            <a:ext cx="45003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οασιν τον μισθον αὐτων τοι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τρατιωτα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Ἰησους ἀνεστησεν τον νεκ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τημεν μετα του κυριου ἐπ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ῳ ὀ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φεντες οὐκ ὑπεστρεψ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η ὁτι ἑστηκεν ἐκ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.. ἑως ἀν θω τους ἐχθρους σ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ο των ποδω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giving the soldiers their p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313160" y="28605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raised the dead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313160" y="3300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stood with the lord on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unt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27560" y="4200480"/>
            <a:ext cx="50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y had left they did not turn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330800" y="510048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said he was standing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329000" y="553572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 until I place your enemies u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r fe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87200" y="1143000"/>
            <a:ext cx="4214880" cy="59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ος μοι τον ἀρτον της ζω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τας ὁ ἀποστολος ἐκηρυσσεν τῳ ὀχλ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handed over the teaching t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l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made the sick man stand up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she had dismissed the crow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began to p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ile he was giving them the wine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taugh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286160" y="183348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ve me the bread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286160" y="228924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he had stood up, the apostl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gan to preach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330800" y="314316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ρεδωκαν την διδαχην τ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εσβυτεροι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4330800" y="40561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τησεν τον ἀσθενη ἐν τ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αγωγ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4330800" y="4929120"/>
            <a:ext cx="48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εισα τον ὀχλον προσηυχε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ξατο προσευχεσθα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4330800" y="5815080"/>
            <a:ext cx="45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ους τον οἰνον αὐτοις ἐδιδαξ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αὐτου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-142920" y="1279440"/>
            <a:ext cx="50007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λανα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επληρωμε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δικαι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ισησ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γα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786040" y="24224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Passive Participle Masc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803680" y="364644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Act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800440" y="428292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803680" y="552456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Active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800440" y="488808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Active Indic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-142920" y="127944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νικ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μ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ρωτ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μᾳ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ταυρου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ειν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2800440" y="182088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786040" y="242244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803680" y="3030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800440" y="366696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Active Indic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803680" y="49086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800440" y="4272120"/>
            <a:ext cx="60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9:22:36Z</dcterms:created>
  <dc:creator>Sarah</dc:creator>
  <dc:description/>
  <dc:language>en-US</dc:language>
  <cp:lastModifiedBy>Sarah</cp:lastModifiedBy>
  <dcterms:modified xsi:type="dcterms:W3CDTF">2009-03-03T23:21:05Z</dcterms:modified>
  <cp:revision>24</cp:revision>
  <dc:subject/>
  <dc:title>Slide 1</dc:title>
</cp:coreProperties>
</file>