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CEB-7FC5-41DB-9120-927D32D6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241-2355-4939-885D-CECD53AB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9DF-954F-4809-8CDF-9E0CBFE4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638-A80F-4C32-AFE3-A021E1FE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868-FEA6-4921-9131-F5B744F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FCE-4DA0-4B60-A235-E5DF16A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389-0A66-47E8-9A5F-ECE52FA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288-0188-4DE3-94D4-AAF3D11B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162-EE3F-46C6-8163-C9B48573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516-9B65-4C36-AF5F-512AA3C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D77-56E0-4707-8C69-BBAEDF0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771-3B4C-4D91-866F-4BC0EE4E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505-4CB3-4252-BC47-96FE998F8C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μ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ιερε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σιλε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ωσ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2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4200" y="1643040"/>
            <a:ext cx="507204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ε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ελ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ε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κο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θεν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ὀ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786120" y="37702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 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786120" y="4799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786120" y="5283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14200" y="1643040"/>
            <a:ext cx="52866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η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4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28592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αγε εἰς τα ἐθν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ῳ τῳ ἐτει ὁ βασιλευς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γραμματεις εἰπον κατα του Ἰη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οὐ προσεχει τῳ ἀρχιε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ληθεις μαθηται εἰσιν ἐν τῃ πο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πιστεως ἐχομεν ἐλπιδα δοξ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 to the Gent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year the king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cribes spoke again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does not pay atten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057640" y="4586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rue disciples are in th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057640" y="508968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faith we have hope of gl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6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42920" y="121428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ρος της βασιλε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ζητων την ἀληθειαν και δυναμ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αμβα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king’s father spoke to 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of his mercy God rescues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054760" y="1959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share of the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45040" y="247032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seeks truth also receives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54760" y="34750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τηρ του βασιλεως εἰπεν τῳ ἀρχιερε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072040" y="44863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 ἐλεος αὐτου ὁ θεος ῥυεται ἡμ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72040" y="52862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τε περιεπατουμεν ὑπο κρι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42920" y="5180040"/>
            <a:ext cx="45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ce we lived under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found its tru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072040" y="5784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ἡ) πιστις εὑρεν το ἀληθες τελος αὐτη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786120" y="325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86120" y="42721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3786120" y="5294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604880"/>
            <a:ext cx="450036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ες οἱ πατερες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ω το εὐαγγελιον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ιν τοις ἐθνε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 ἐθαυμασεν δια παντα 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σωτηρ παντων προσευχε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86400" y="23432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he father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572000" y="27716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preach the good news in all the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5720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one was amazed because of all the thing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572000" y="4829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aviour of all is pr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9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41200" y="2746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3.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500040" y="1609560"/>
            <a:ext cx="4929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ἐστιν 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μιαν πο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 εὑρες οὐδ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τε μηδεν μηδεν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ὁτι ἐστιν εἱς κυριος και μι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κλησ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ἑν προβατ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no one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/they saw on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n’t you find 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 nothing to anyone (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to nobod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057640" y="458640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hat there was one Lord and one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5057640" y="55926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on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39400" y="1268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1:39:49Z</dcterms:created>
  <dc:creator>Sarah</dc:creator>
  <dc:description/>
  <dc:language>en-US</dc:language>
  <cp:lastModifiedBy>Sarah</cp:lastModifiedBy>
  <dcterms:modified xsi:type="dcterms:W3CDTF">2009-03-03T21:51:01Z</dcterms:modified>
  <cp:revision>31</cp:revision>
  <dc:subject/>
  <dc:title>Slide 1</dc:title>
</cp:coreProperties>
</file>