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495-133B-40DC-9FBD-2A7039D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A8F-1E36-4401-BDE9-544637BB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D14-0F94-412B-A332-02B3B3AF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E51-64D8-4E13-A4CC-94F0AAE1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BE6-7272-4830-B387-EE086C7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751-0ADD-4EED-A58A-7C1DF67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62C-7CF3-475D-A33D-82B0EED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F69-C49F-4092-8BCA-B090F56D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C85-A914-4FC2-90C6-FCBBC5CB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9C5-1732-4330-AC29-EBDAF25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C11-A2EF-496C-9C20-3CA1268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1B8-F5F9-49DB-ABAF-52AED2A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8F66-B122-4E91-B6AC-493510FA1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6BC-EE1F-40FA-8014-C4833777AA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76480" y="5143680"/>
          <a:ext cx="6753240" cy="91440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27C20F37-C462-4C52-AA2F-15FEC90DA29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2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8EAFF097-AA75-4D65-9EC6-F6EF9D1B9D9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3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90204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91464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914640" y="3090960"/>
            <a:ext cx="443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390204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90204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90204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ustērion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91716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90960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ralutikos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89412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EE986220-9B81-4E5B-963F-D0B00E6E4E9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rational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00FC718B-9DDB-40F6-9B5C-DD31B2E74FD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E3225E15-B9CF-40FE-BBB2-347726F1152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Arial"/>
              </a:rPr>
              <a:t>αι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Arial"/>
              </a:rPr>
              <a:t>’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4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βραα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0AEBED4B-77E6-496E-ABA1-0877E068A73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3440" y="132732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rite these names in Greek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79890BFE-0A12-4617-A544-8AC6A83B2EB0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ἑυρίσκ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ffffff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B376091A-6AB1-4C0C-9502-3B29AABCA20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E13DCB6B-C566-4A1B-BEC8-41C26AFFC44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8-09-01T08:21:21Z</dcterms:modified>
  <cp:revision>71</cp:revision>
  <dc:subject/>
  <dc:title>Slide 1</dc:title>
</cp:coreProperties>
</file>