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8924-1B57-4102-A8A5-65130812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BCD-935A-42AD-822F-958EE0D2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D19-063B-4AA6-B62C-48C2DD20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AFE0-E9EA-4C18-A5AF-F9C86E2C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800-0062-4556-A0E9-FB0021BF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86DD-312F-4CB1-B505-7A4D9F1B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3C2-8FD7-4735-9B68-C3EF454D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003-1499-492E-B775-063537FD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063-2223-426E-960A-6A0AE0A6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E63-61A5-48F8-9445-7EC5DA08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ADA-C4D2-4975-93D4-515E9101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6D1-D44A-43EA-9A7B-D671768A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9698-CB79-4647-9D73-FD3A5AADA7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896E-F581-4FB8-83D8-A399F8BCB05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TextBox 5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428760" y="13572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1143000" y="1928880"/>
            <a:ext cx="4786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μβαν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ομ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is thr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l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000680" y="19922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(she, it) is taking (receiv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4000680" y="249228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4000680" y="29923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are 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4000680" y="34923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4013280" y="3967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s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4013280" y="44546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.) un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4033800" y="497988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4027320" y="54547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ουσι(ν)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4038480" y="594216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ομ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6649C67D-A282-4D1D-9C4B-CFCD3B404FA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58" name="TextBox 3"/>
          <p:cNvSpPr/>
          <p:nvPr/>
        </p:nvSpPr>
        <p:spPr>
          <a:xfrm>
            <a:off x="-130320" y="208080"/>
            <a:ext cx="90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1" lang="el-GR" sz="36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1" lang="en-GB" sz="36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28760" y="13572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143000" y="1928880"/>
            <a:ext cx="4786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ειτ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ρουμ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ω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λ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are spe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is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s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4386240" y="19922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l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4386240" y="249228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322880" y="29923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(she, it) is c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4386240" y="349236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keep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4398840" y="39672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am s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4398840" y="44546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.) are spea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4419720" y="497988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λ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4413240" y="54547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4424400" y="594216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ει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339FEDE5-BFF9-47A3-A369-B569D39D3BC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73" name="TextBox 3"/>
          <p:cNvSpPr/>
          <p:nvPr/>
        </p:nvSpPr>
        <p:spPr>
          <a:xfrm>
            <a:off x="-604800" y="227160"/>
            <a:ext cx="9286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428760" y="13572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case and number are the following words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1071720" y="2071800"/>
            <a:ext cx="4786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γελ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ραν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υἱ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χλ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ομ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4000680" y="21207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4000680" y="26208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4000680" y="3121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000680" y="36212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4013280" y="40957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4013280" y="45831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4033800" y="51084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4027320" y="55832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1E2B45B7-00D8-4E06-8BB6-BA48839F742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87" name="TextBox 3"/>
          <p:cNvSpPr/>
          <p:nvPr/>
        </p:nvSpPr>
        <p:spPr>
          <a:xfrm>
            <a:off x="-282600" y="208080"/>
            <a:ext cx="8628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3 THE NOMINATIVE AND ACCUSATIVE CASES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57120" y="125244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14200" y="1714680"/>
            <a:ext cx="47865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ος διδασκει ὀχλ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ουμεν ἀρτ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υς λυ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ος λεγει λο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θρωποι καλ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γελοι τηρουσιν νομ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brother sees a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ople are wat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love a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l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425840" y="177948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brother is teaching crow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4425840" y="22795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seeking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4425840" y="277956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.) are untying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4425840" y="32796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lord says a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4425840" y="37800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ople are cal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4425840" y="42800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s are keeping la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4425840" y="478008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ος βλεπει οἰκον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4425840" y="52801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θρωποι βλεπουσιν.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4425840" y="577224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ουμεν κοσμον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6"/>
          <p:cNvSpPr/>
          <p:nvPr/>
        </p:nvSpPr>
        <p:spPr>
          <a:xfrm>
            <a:off x="4417920" y="621504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ς ἀγει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1A885234-EE5C-45F7-A199-3AD2E4AE32C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03" name="TextBox 4"/>
          <p:cNvSpPr/>
          <p:nvPr/>
        </p:nvSpPr>
        <p:spPr>
          <a:xfrm>
            <a:off x="-130320" y="208080"/>
            <a:ext cx="906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428760" y="13572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1120" y="1906560"/>
            <a:ext cx="478656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υἱοι ἐχουσιν οἰκ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ειτε τον ἀδελφ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ποιει τους οὐραν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ει ἀγγελος ὀχλ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κυριος ἀκου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seeking the Messiah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ons are speaking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eople love Go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367160" y="19922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ons have a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367160" y="25002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 calling a br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4289400" y="29923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is making the heav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4392720" y="34923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 angel is leading crow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4392720" y="3967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ord is list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4392720" y="445464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ουμεν τον Χριστ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4392720" y="497988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υἱοι λαλουσιν λογους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4392720" y="545472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ανθρωποι φιλ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θεον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B6A483BD-2F0C-49C2-A4BF-0E6F39FDB3A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1:05:07Z</dcterms:created>
  <dc:creator>Sarah</dc:creator>
  <dc:description/>
  <dc:language>en-US</dc:language>
  <cp:lastModifiedBy>Sarah</cp:lastModifiedBy>
  <dcterms:modified xsi:type="dcterms:W3CDTF">2009-03-02T22:54:59Z</dcterms:modified>
  <cp:revision>47</cp:revision>
  <dc:subject/>
  <dc:title>Slide 1</dc:title>
</cp:coreProperties>
</file>