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0D3D-B3CF-4577-BFCC-41AF06275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A4AE-008B-4993-81D4-2B078DF10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8E3E-1D80-4D81-969A-0756E9646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0D49-2D26-452B-89F0-820C5C7A4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BC3A-AA6E-407D-90DC-38696CA9D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FF4C-4A06-4DAC-8C9B-3690DE1C0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88CB-6F06-4B2B-8667-C84BBC227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8B75-5208-439E-A0E9-8D22D2AEF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3D14-130F-4DB9-9934-814232BFD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A2B1-5D6B-4EAA-B5DF-B9D49EF75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19A4-50EF-4C53-97BB-377BA6498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9D49-84A1-48BA-B81C-222349B2C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FCA9C-1E6D-4BF8-B2D0-742AFE4F8EF6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8" descr="alphaomega.jpg"/>
          <p:cNvPicPr/>
          <p:nvPr/>
        </p:nvPicPr>
        <p:blipFill>
          <a:blip r:embed="rId2"/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4:Practice 1/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4.1 REVISIO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6"/>
          <p:cNvSpPr/>
          <p:nvPr/>
        </p:nvSpPr>
        <p:spPr>
          <a:xfrm>
            <a:off x="214200" y="1582560"/>
            <a:ext cx="828684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Put the verb in the participle form indicated (all nom. masc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γραφω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Aorist singul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ποιεω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Present plu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ἐρχομαι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Present singul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φιλεω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Aorist plu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λογιζομαι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Aorist singul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προσευχομαι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Present plu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5700600" y="2313000"/>
            <a:ext cx="3357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γραψα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8"/>
          <p:cNvSpPr/>
          <p:nvPr/>
        </p:nvSpPr>
        <p:spPr>
          <a:xfrm>
            <a:off x="5700600" y="2819520"/>
            <a:ext cx="3357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οιουντε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9"/>
          <p:cNvSpPr/>
          <p:nvPr/>
        </p:nvSpPr>
        <p:spPr>
          <a:xfrm>
            <a:off x="5715000" y="3313080"/>
            <a:ext cx="3357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ρχομενο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10"/>
          <p:cNvSpPr/>
          <p:nvPr/>
        </p:nvSpPr>
        <p:spPr>
          <a:xfrm>
            <a:off x="5715000" y="3830760"/>
            <a:ext cx="2786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φιλησαντε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11"/>
          <p:cNvSpPr/>
          <p:nvPr/>
        </p:nvSpPr>
        <p:spPr>
          <a:xfrm>
            <a:off x="5715000" y="4357800"/>
            <a:ext cx="3357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ογισαμενο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2"/>
          <p:cNvSpPr/>
          <p:nvPr/>
        </p:nvSpPr>
        <p:spPr>
          <a:xfrm>
            <a:off x="5715000" y="4857840"/>
            <a:ext cx="3357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ροσευχομενο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4:Practice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  <a:ea typeface="Arial"/>
              </a:rPr>
              <a:t>2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4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 DECLENSIO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142920" y="1357200"/>
            <a:ext cx="3500280" cy="47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Parse the following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βαλλοντε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φωνησα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ἐρχομεναι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πεμψα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διωξαντ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ἰδοντω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ἐλπιζουσα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ἐγειραντα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δεχομενο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5"/>
          <p:cNvSpPr/>
          <p:nvPr/>
        </p:nvSpPr>
        <p:spPr>
          <a:xfrm>
            <a:off x="2643120" y="2057400"/>
            <a:ext cx="55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Present Active Masculine Plural Nominati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6"/>
          <p:cNvSpPr/>
          <p:nvPr/>
        </p:nvSpPr>
        <p:spPr>
          <a:xfrm>
            <a:off x="2643120" y="2511360"/>
            <a:ext cx="55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Aorist Active Masculine Singular Nominati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7"/>
          <p:cNvSpPr/>
          <p:nvPr/>
        </p:nvSpPr>
        <p:spPr>
          <a:xfrm>
            <a:off x="2643120" y="2946240"/>
            <a:ext cx="55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Present Deponent Feminine Plural Dativ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8"/>
          <p:cNvSpPr/>
          <p:nvPr/>
        </p:nvSpPr>
        <p:spPr>
          <a:xfrm>
            <a:off x="2643120" y="3387600"/>
            <a:ext cx="64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Aorist Active Neuter Singular Nominative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Accusati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9"/>
          <p:cNvSpPr/>
          <p:nvPr/>
        </p:nvSpPr>
        <p:spPr>
          <a:xfrm>
            <a:off x="2643120" y="3830760"/>
            <a:ext cx="628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Aorist Active Masculine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Neuter Singular Dati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10"/>
          <p:cNvSpPr/>
          <p:nvPr/>
        </p:nvSpPr>
        <p:spPr>
          <a:xfrm>
            <a:off x="2643120" y="4286160"/>
            <a:ext cx="600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Aorist Active Masculine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Neuter Genitive Plu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11"/>
          <p:cNvSpPr/>
          <p:nvPr/>
        </p:nvSpPr>
        <p:spPr>
          <a:xfrm>
            <a:off x="2643120" y="4726080"/>
            <a:ext cx="55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Present Active Feminine Singular Accusati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12"/>
          <p:cNvSpPr/>
          <p:nvPr/>
        </p:nvSpPr>
        <p:spPr>
          <a:xfrm>
            <a:off x="2643120" y="5184720"/>
            <a:ext cx="55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Aorist Active Masculine Plural Accusati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13"/>
          <p:cNvSpPr/>
          <p:nvPr/>
        </p:nvSpPr>
        <p:spPr>
          <a:xfrm>
            <a:off x="2643120" y="5626080"/>
            <a:ext cx="55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Present Deponent Masculine Plural Nominati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4:Practice 3/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4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 DECLENSIO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5"/>
          <p:cNvSpPr/>
          <p:nvPr/>
        </p:nvSpPr>
        <p:spPr>
          <a:xfrm>
            <a:off x="214200" y="1508040"/>
            <a:ext cx="5786640" cy="43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Put in the form indicate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ἀνοιγω,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Present Fem. Acc. P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ποιεω,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Aorist Masc. Nom. S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κηρυσσω,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Aorist Neut. Gen. P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ἁπτομαι,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Present Masc. Dat. S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ἐρχομαι,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Aorist Neut. Nom. P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πιστευω,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Aorist Fem. Acc. P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6215040" y="2313000"/>
            <a:ext cx="2071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νοιγουσα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6215040" y="2816280"/>
            <a:ext cx="2071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οιησα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6215040" y="3313080"/>
            <a:ext cx="2071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κηρυξαντων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6215040" y="3830760"/>
            <a:ext cx="2071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ἁπτομενῳ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12"/>
          <p:cNvSpPr/>
          <p:nvPr/>
        </p:nvSpPr>
        <p:spPr>
          <a:xfrm>
            <a:off x="6215040" y="4343400"/>
            <a:ext cx="2071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λθοντα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13"/>
          <p:cNvSpPr/>
          <p:nvPr/>
        </p:nvSpPr>
        <p:spPr>
          <a:xfrm>
            <a:off x="6215040" y="4834080"/>
            <a:ext cx="2071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ιστευσασα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4:Practice 4/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HALF-WAY PRACTICE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3"/>
          <p:cNvSpPr/>
          <p:nvPr/>
        </p:nvSpPr>
        <p:spPr>
          <a:xfrm>
            <a:off x="214200" y="1214280"/>
            <a:ext cx="5429520" cy="49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ἐλθων ἐθεραπευσεν αὐτο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ἀναβαινων εἰδεν το πνευμα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φυγοντες ἠλθον εἰς ἱερο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ἐβαπτιζεν τους πονηρους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μετανοησαντα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εἰπομεν τοις ἐρχομενοις τεκνοι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ἐβλεψατε τους γραμματεις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     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εἰσελθοντας εἰς το ἱερο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;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5"/>
          <p:cNvSpPr/>
          <p:nvPr/>
        </p:nvSpPr>
        <p:spPr>
          <a:xfrm>
            <a:off x="4429080" y="196992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When he had come, he healed hi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4429080" y="2465280"/>
            <a:ext cx="435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While he was going up, he saw the spiri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7"/>
          <p:cNvSpPr/>
          <p:nvPr/>
        </p:nvSpPr>
        <p:spPr>
          <a:xfrm>
            <a:off x="4429080" y="3387600"/>
            <a:ext cx="47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When they fled, they went into a temp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8"/>
          <p:cNvSpPr/>
          <p:nvPr/>
        </p:nvSpPr>
        <p:spPr>
          <a:xfrm>
            <a:off x="4429080" y="3887640"/>
            <a:ext cx="435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He was baptizing the wicked people who had repent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9"/>
          <p:cNvSpPr/>
          <p:nvPr/>
        </p:nvSpPr>
        <p:spPr>
          <a:xfrm>
            <a:off x="4429080" y="4807080"/>
            <a:ext cx="47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We spoke to the children as they cam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10"/>
          <p:cNvSpPr/>
          <p:nvPr/>
        </p:nvSpPr>
        <p:spPr>
          <a:xfrm>
            <a:off x="4429080" y="5283360"/>
            <a:ext cx="435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Did you see the scribes who had gone into the templ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6"/>
          <p:cNvSpPr/>
          <p:nvPr/>
        </p:nvSpPr>
        <p:spPr>
          <a:xfrm>
            <a:off x="6983280" y="6299280"/>
            <a:ext cx="200340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4:Practice 5/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3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HALF-WAY PRACTICE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44280" y="1214280"/>
            <a:ext cx="5429520" cy="47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ζητω την μελλουσαν βασιλεια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ὑπαγαγουσα εἰδεν τον πατερα αὐτης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λαλουντα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Jesus greeted the approaching crow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When she saw she believ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he Pharisee taught the Jews who were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listen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When the king heard this he sent his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soldiers to find the chil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4729320" y="1312920"/>
            <a:ext cx="421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I am seeking the coming kingdo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4714920" y="1803240"/>
            <a:ext cx="421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After she departed she saw her father speak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7"/>
          <p:cNvSpPr/>
          <p:nvPr/>
        </p:nvSpPr>
        <p:spPr>
          <a:xfrm>
            <a:off x="4745160" y="2703600"/>
            <a:ext cx="421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ὁ Ἰησους ἠσπασατο τον προσερχομενον ὀχλον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4759200" y="3625920"/>
            <a:ext cx="42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ἰδουσα ἐπιστευσεν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9"/>
          <p:cNvSpPr/>
          <p:nvPr/>
        </p:nvSpPr>
        <p:spPr>
          <a:xfrm>
            <a:off x="4772160" y="4114800"/>
            <a:ext cx="421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ὁ Φαρισαιος ἐδιδαξεν τους ἀκουοντας Ἰουδαιους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Box 10"/>
          <p:cNvSpPr/>
          <p:nvPr/>
        </p:nvSpPr>
        <p:spPr>
          <a:xfrm>
            <a:off x="4729320" y="5060880"/>
            <a:ext cx="464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ἀκουσας τουτο ὁ βασιλευς ἀπεστειλεν (ἐπεμψεν) τους στρατιωτας αὐτου εὑρειν το  τεκνον (παιδιον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6"/>
          <p:cNvSpPr/>
          <p:nvPr/>
        </p:nvSpPr>
        <p:spPr>
          <a:xfrm>
            <a:off x="6867360" y="6305400"/>
            <a:ext cx="2003760" cy="36540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4:Practice 6/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4.4 OTHER USES OF PARTICIPLE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3"/>
          <p:cNvSpPr/>
          <p:nvPr/>
        </p:nvSpPr>
        <p:spPr>
          <a:xfrm>
            <a:off x="142920" y="996840"/>
            <a:ext cx="5429160" cy="46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φιλειτε τους μισουντας ὑμα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ὁ Μωϋσης ἁγιος ὠν ἐλεγεν τῳ θε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θελω εἰσελθων εἰς τη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συναγωγην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ἀκουσαι του ῥαββ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ἐλεγον ἀλληλοις περι των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      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γενομενω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I saw the ones carrying the sick ma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Depart and preach the gospe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4"/>
          <p:cNvSpPr/>
          <p:nvPr/>
        </p:nvSpPr>
        <p:spPr>
          <a:xfrm>
            <a:off x="4786200" y="1414440"/>
            <a:ext cx="38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Love those who hate yo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4786200" y="1878120"/>
            <a:ext cx="385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Because Moses was holy he used to speak to Go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6"/>
          <p:cNvSpPr/>
          <p:nvPr/>
        </p:nvSpPr>
        <p:spPr>
          <a:xfrm>
            <a:off x="4786200" y="2816280"/>
            <a:ext cx="385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I want to go into the synagogue and listen to the Rabb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7"/>
          <p:cNvSpPr/>
          <p:nvPr/>
        </p:nvSpPr>
        <p:spPr>
          <a:xfrm>
            <a:off x="4786200" y="3759120"/>
            <a:ext cx="385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hey were speaking to each other about what had happen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8"/>
          <p:cNvSpPr/>
          <p:nvPr/>
        </p:nvSpPr>
        <p:spPr>
          <a:xfrm>
            <a:off x="4786200" y="4673520"/>
            <a:ext cx="44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εἰδον τους φεροντας τον ἀσθενη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9"/>
          <p:cNvSpPr/>
          <p:nvPr/>
        </p:nvSpPr>
        <p:spPr>
          <a:xfrm>
            <a:off x="4786200" y="5173560"/>
            <a:ext cx="464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Sing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ὑπαγαγων κηρυξον το εὐαγγελιο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.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Pl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ὑπαγαγοντες κηρυξατε το εὐαγγελιο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30T16:38:41Z</dcterms:created>
  <dc:creator>Sarah</dc:creator>
  <dc:description/>
  <dc:language>en-US</dc:language>
  <cp:lastModifiedBy>Sarah</cp:lastModifiedBy>
  <dcterms:modified xsi:type="dcterms:W3CDTF">2008-09-30T20:26:46Z</dcterms:modified>
  <cp:revision>22</cp:revision>
  <dc:subject/>
  <dc:title>Slide 1</dc:title>
</cp:coreProperties>
</file>