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0E7-85F2-45FD-AA20-38B223DD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CA6-A177-4B06-9AD1-2B9EEA64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306-9148-4510-B069-149DBA51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FC4-27B1-4FDF-93C5-3D608DEB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828-1128-429C-B6DF-6761E1FC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658-1AF8-476D-9F5B-6A3F51AC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EC7-9F55-42DE-B575-F837AB1E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BE9-EE2B-4119-9A1B-1776CE31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6FA-8818-427F-A241-B13068DE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B10-807E-4CB2-BF55-C29F20C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3F7-DECC-45CE-B9BD-8256947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764-162D-4F5B-A468-FE9C3718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D225-738A-421C-8874-5D1DEEE2B2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ξ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14760" y="2513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71476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Activ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Active Other mood (ending shows that it is Aorist Active Im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714760" y="4637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 Act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714760" y="5402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Middl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Middle Other mood (ending shows that is it Future Middle Indic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θησ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ισασθ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θη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μισ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71880" y="252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Pass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07188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Middl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Middle Other Mood (ending shows that it is Aorist Middle Infini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071880" y="46227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Other Mood (ending shows that it is Im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071880" y="54021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Act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νοιγε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ραπευθησ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απτισθ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ιωκ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ποι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125880" y="183996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139920" y="3051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Pass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146400" y="366696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Participle Masc. Sing. 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146400" y="43131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157560" y="55260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σωθη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ρα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ληθησ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ληθ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ρε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ημφθ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139920" y="183996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3154320" y="24433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146400" y="305748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3146400" y="369108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Participle Mascul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3143160" y="5524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84320" y="1214280"/>
            <a:ext cx="41432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ληθη ὑπο των προφη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ουλος ἀπολυθει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ὐχαριστησ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βλεπεται ὑπο ἀγγελ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ἠρχετο εἰς τη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ιραζομενος ἐγω οὐ πιπτ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ποστολοι ἀποσταλ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72000" y="1984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was said by the proph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572000" y="252720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 slave was set free he gave thanks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572000" y="36194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is seen by ang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572000" y="41846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was going into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4572000" y="5272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though I am tempted I do not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4557600" y="58165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postles will be 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42920" y="1000080"/>
            <a:ext cx="4530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ψαντες τα πονηρ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αχθεντα ἐφυ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ῃ τῃ ἡμερᾳ ὁ θε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ὀφθ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aw will be 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ld woman was carried by h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Jesus was arrested he sai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they called, Lord, Lord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572000" y="11872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y saw the evil things which had been done they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572000" y="2281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 that day God will be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0" y="32860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νομος γραφ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572000" y="37321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πρεσβυτερα (γυνη) ἠνεχθη ὑπο των υἱων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572000" y="46292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ρατηθεις ὁ Ἰησους (οὐκ) εἰπεν οὐδ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572000" y="55548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λησαντες∙ Κυριε, κυριε, ἐσωθ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500120"/>
            <a:ext cx="51436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βουληθημεν βλεψαι τον Ἰησου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ῃ τῃ ἡμερᾳ φοβηθη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πορευθην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κριθητε οὐδε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00760" y="247176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ished to see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000760" y="3189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 that day will you be afra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000760" y="392904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necessary to go into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000760" y="4667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swer nothing (‘give no answer’, ‘say nothing in repl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08:33Z</dcterms:created>
  <dc:creator>Sarah</dc:creator>
  <dc:description/>
  <dc:language>en-US</dc:language>
  <cp:lastModifiedBy>Sarah</cp:lastModifiedBy>
  <dcterms:modified xsi:type="dcterms:W3CDTF">2009-03-03T22:12:31Z</dcterms:modified>
  <cp:revision>27</cp:revision>
  <dc:subject/>
  <dc:title>Slide 1</dc:title>
</cp:coreProperties>
</file>