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B46-9EAD-4B9E-AD57-047E7617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2F0-D98B-40D9-99E7-741FDFA1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1BC-47AB-48AC-BAC7-843C03DA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75C-40A7-4D10-81DF-2B285F90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BA4A-96FF-43E2-B679-6F4D6C94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0EFB-FDC9-412C-91A5-5D641619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4976-D645-4584-94FA-9E2D0990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4A35-3B89-47B1-AAEE-6065E226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6883-A6EB-46CA-8123-FDADD8CD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6695-5787-4A1D-9164-B017B4F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4C0C-1D4E-4755-A20E-E12501D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A0A-0E6D-4937-AEB0-284FAAA7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E670-E299-4D08-B5D6-0EB5097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EE53-7EA3-40B9-B382-AC24FF66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51FC-F6A4-4088-98A3-EEEA0E43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5FF8-2E76-470C-B2D6-97C21A43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555-EE90-4C23-87B1-00BA3438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05B-F362-4D19-8E93-77D022CE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A9E-CF58-4450-B9FE-AD219B26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65C-B1E5-42F2-9A9E-36E9ED0D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749-7102-4438-A034-4B2059B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694-D7FD-4E54-AE69-9FD6DA6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ABA-181C-4FA5-B820-C958905D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906-DE17-4D77-BDF7-292D086D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3FDA-A610-4E68-8139-DB66B102C3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C0B8-1752-41B1-AB55-04D6F655EF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47680" y="1096920"/>
            <a:ext cx="7358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f these sentences were in Greek, which case would the underlined word be 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lik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ectur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teacher'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oice is bo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am cooking for m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wif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stude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at many c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have the books of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fri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are making a hat 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the tut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h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ssay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nd too quick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08520" y="20527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700600" y="2598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708520" y="31114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689440" y="3645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702400" y="4202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702400" y="4741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703840" y="5307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703840" y="58532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ABE8426D-90C2-4FF7-BCE6-74233E462D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E22CD411-5ABC-498E-9999-1558D41098A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57200" y="160956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of these could be vocativ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000160" y="2346480"/>
            <a:ext cx="25718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eft Arrow 6"/>
          <p:cNvSpPr/>
          <p:nvPr/>
        </p:nvSpPr>
        <p:spPr>
          <a:xfrm>
            <a:off x="4246560" y="321480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 Arrow 7"/>
          <p:cNvSpPr/>
          <p:nvPr/>
        </p:nvSpPr>
        <p:spPr>
          <a:xfrm>
            <a:off x="4233960" y="446724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eft Arrow 8"/>
          <p:cNvSpPr/>
          <p:nvPr/>
        </p:nvSpPr>
        <p:spPr>
          <a:xfrm>
            <a:off x="4227480" y="505944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154400" y="25131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164120" y="3753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B9C2E034-63FB-4A4E-A733-0613FE09803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857760" y="2016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193920" y="220680"/>
            <a:ext cx="100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27"/>
          <p:cNvSpPr/>
          <p:nvPr/>
        </p:nvSpPr>
        <p:spPr>
          <a:xfrm>
            <a:off x="511200" y="1292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214200" y="1785960"/>
            <a:ext cx="4500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ω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 λογους αὐτου διδασκ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ουσιν 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 την φωνην αὐτ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 καλει αὐτ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214200" y="4313160"/>
            <a:ext cx="49294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see the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keeps the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loves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4513320" y="18828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ov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506840" y="237024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teaching his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4506840" y="2878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00720" y="33829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ear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4500720" y="38782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is call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4500720" y="4403880"/>
            <a:ext cx="400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ουσιν τον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06840" y="4896000"/>
            <a:ext cx="400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ει το τεκνο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4500720" y="5370480"/>
            <a:ext cx="46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φιλει τα τεκνα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28760" y="1285920"/>
            <a:ext cx="9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ive the case and number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878360" y="222732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879800" y="2747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857840" y="32320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57840" y="371628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857840" y="4226040"/>
            <a:ext cx="58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857840" y="4721400"/>
            <a:ext cx="57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57840" y="5207040"/>
            <a:ext cx="51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857840" y="5695920"/>
            <a:ext cx="41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791D4CB1-5D34-45F9-915C-8232230571D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571760" y="2155680"/>
            <a:ext cx="3214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οσ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μ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BC5B73B6-3121-4E10-BF9A-E3DE6F8B150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2920" y="9684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PECIAL USES OF THE GE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357120" y="1370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57120" y="20718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 τον ἀγγελου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μεν τῳ Χρισ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ετε τους λογ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They hear G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 believe the lor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4929120" y="22525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ear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929120" y="28576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sees the angel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29120" y="34624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ave faith in the Messi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4929120" y="4071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hear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929120" y="46944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υσιν τον θε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929120" y="531648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ω τῳ κυρι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7"/>
          <p:cNvSpPr/>
          <p:nvPr/>
        </p:nvSpPr>
        <p:spPr>
          <a:xfrm>
            <a:off x="414360" y="1214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178596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ομεν τον νομον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ουλοι λαλουσιν τῳ κυρι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ζητω τον οἰκον του Χρισ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ειτε ἀρτον τοις ἀδελφ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1280" y="46483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ὀχλος ἀκουει τον λογ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7760" y="5415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 τον ἀγγελον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ει του ἀγγελ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32448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9A37B1B6-81BB-4977-A61C-D365EBABC77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92912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We have the law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929120" y="21938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he slaves are spe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o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929120" y="300996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I am seeking the 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f Ch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948200" y="38368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You are making br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for the br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941720" y="463536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he crowd hear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word of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929120" y="54100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he sees the ange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he listens to the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AFFF24C1-B3C9-4B60-9526-5D96CE1766F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7"/>
          <p:cNvSpPr/>
          <p:nvPr/>
        </p:nvSpPr>
        <p:spPr>
          <a:xfrm>
            <a:off x="414360" y="1252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178596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ει τῳ υἱῳ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ἀδελφος λυει δουλον τ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I teach the word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hey hear the son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71280" y="40654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We keep the law of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1280" y="47656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You speak to the cro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92912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he believes the son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929120" y="21938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he slaves are spe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o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948200" y="28972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ασκω τον λογον τ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948200" y="359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ουσιν τον υἱ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941720" y="405936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ουμεν τον νομον (του) ὀυ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941720" y="481320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ς (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τε) τῳ ὀχλ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39D72A62-B6BA-43A0-B503-284DB451716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21428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case and number are the following words in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2071800"/>
            <a:ext cx="27860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π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αγγελι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αι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ψυ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αιμον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071960" y="214956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071960" y="266868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071960" y="31640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4071960" y="36892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071960" y="4194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4071960" y="4702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4071960" y="51894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070520" y="5695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DE32ADBA-C356-41B8-BC1C-BF4153AC184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00040" y="1241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part of the definite article would agree with the following noun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785960" y="2189160"/>
            <a:ext cx="3286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π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ω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832280" y="2273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824360" y="277344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826160" y="3274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824360" y="37800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827600" y="4289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824360" y="47941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829040" y="53053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827600" y="5830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80B4C695-C005-4E79-8442-F124FADFDB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571680" y="1214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143000" y="1643040"/>
            <a:ext cx="4000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κ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ων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714840" y="1735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OR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720960" y="224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714840" y="27655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714840" y="328608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 Masculine OR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3714840" y="3767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3714840" y="4260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708360" y="47656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701880" y="528624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713040" y="57927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94669544-F4E7-40BB-BED4-99BD82FF3BF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571680" y="1285920"/>
            <a:ext cx="66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the article and noun in the following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071720" y="1676520"/>
            <a:ext cx="3571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Χρισ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α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 ὡρ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εὐαγγε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 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 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ς  ἁμαρτιαν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975200" y="1773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954680" y="22622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62600" y="2773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954680" y="3303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962600" y="3798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952880" y="43052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4952880" y="48070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4952880" y="532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960800" y="5832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3:36:33Z</dcterms:created>
  <dc:creator>Sarah</dc:creator>
  <dc:description/>
  <dc:language>en-US</dc:language>
  <cp:lastModifiedBy>Sarah</cp:lastModifiedBy>
  <dcterms:modified xsi:type="dcterms:W3CDTF">2008-08-24T23:37:46Z</dcterms:modified>
  <cp:revision>71</cp:revision>
  <dc:subject/>
  <dc:title>Slide 1</dc:title>
</cp:coreProperties>
</file>