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0F1-B39C-4121-AC3E-DC70C2E7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093-1442-40CF-A231-2CAE4955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F2F-E209-42EB-8CBB-0DDC00E4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F46-FF3E-4BED-A8B4-99EB966F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8A0-48CB-4ECA-A0DA-2444DE96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E64-589F-4D39-A5D8-6BF91FFB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FA6-A987-4BE2-93EC-3989425A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A38-3628-4851-A5E3-91F9FE3D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38E-0B20-483A-B9F6-09EDAD73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EEE-8CC2-4BB2-954A-93DD1FF6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12E-EAF6-42AB-9425-FA837BA5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13D2-20AC-48B1-A8CC-76802EF7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4386-F38B-44F7-867B-ABF1A82361F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4444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57120" y="1417680"/>
            <a:ext cx="707256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ειν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τ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υ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κει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ειν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ὑτ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3286080" y="22557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in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3286080" y="274788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euter Geni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3286080" y="32446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286080" y="372888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3286080" y="42591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3286080" y="4786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3286080" y="52894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3286080" y="5800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inine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24444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42920" y="1422360"/>
            <a:ext cx="707220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 ἠν ὁ τοπο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εκρα τα προβατα του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λος ὁ ὀχλος ἠκου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 ἐκειναις ταις                            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βολαις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προφηται αὐτου ἐρχον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υφλοι εἰσιν οὑτοι οἱ μαθη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643280" y="224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was th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643280" y="273384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heep of these people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629240" y="37306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whole crowd was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629240" y="427356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is speaking in th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4633920" y="5283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s prophets are c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643280" y="5811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disciples ar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101600" y="271440"/>
            <a:ext cx="692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85840" y="1143000"/>
            <a:ext cx="6072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νουνται ἑαυ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ιλω ἐκεινον μαθητ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υναγει ταυτα τα προβα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διδασκεν ἀλλαις παραβολα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ῃ αὐτῃ ἡμερᾳ ἡ Μαρια ἐβλεψε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κυρ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αυτα ὁ ὀχλος ἐλαλε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λληλοι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929120" y="15415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are denying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929120" y="226836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love that disci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929120" y="30002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e is gathering these sh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929120" y="37321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used to teach in other pa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929120" y="445932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 the same day Mary sa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929120" y="557208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cause of these things the crowd were saying to one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1101600" y="271440"/>
            <a:ext cx="692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85840" y="1143000"/>
            <a:ext cx="60721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ς ὁ Ἰησους προσηυχετ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ηρετης ἠν τουτου του ἱε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are praying to the same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ter himself denied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began to listen after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ose demons were e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929120" y="15415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himself was pr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929120" y="226836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was a servant of this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929120" y="2890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ευχομεθα τῳ αὐτῳ θεῳ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929120" y="348948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ς ὁ Πετρος ἠρνησατο το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ησου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4929120" y="439884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τα τουτο ἠρξαντο ἀκουσ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 jus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κουον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4929120" y="531324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ινα τα δαιμονια (ἠ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νηρ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42920" y="1143000"/>
            <a:ext cx="70722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νομος σου σωζ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σωζει σ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μεις ἐπιστευσαμεν ἀλλα σ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κ ἠκουσα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υ σωσεις σεαυτον ἀλλ’ ἐγω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λλους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ve yoursel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proclaim your (pl.) d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643280" y="197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r law s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643280" y="24861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saves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629240" y="297180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believed, but you did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629240" y="401328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will save yourself, bu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will save)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633920" y="498636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ωσον σεαυτ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4629240" y="551664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ξω τα ἐργα ὑμω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6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357120" y="1428840"/>
            <a:ext cx="385776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οι ἐπιστευσαν, οἱ γαρ μαθηται εὐηγγελιζον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μεν θεος ἐπεμψεν τους προφητας, τυφλος δε ὁ λαο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φιλει και τους πονηρ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4643280" y="21607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believed because (for) the disciples were proclaiming the good n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643280" y="343548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sent the prophets, but the people wer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657680" y="503856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es God love even (the) evil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357120" y="1428840"/>
            <a:ext cx="385776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ωσηφ λεγει αὐτῳ. ὁ δε οὐκ ἀκουσ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μεν προσερχονται, οἱ δε ὑπαγουσιν εἰς τους οἰκους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fore we will seek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643280" y="21607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seph is speaking to him, but he (the other one) will not 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643280" y="343548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are approaching, others are departing for their h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4657680" y="5011560"/>
            <a:ext cx="414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ησομεν οὐν τον κυριο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1:37:17Z</dcterms:created>
  <dc:creator>Sarah</dc:creator>
  <dc:description/>
  <dc:language>en-US</dc:language>
  <cp:lastModifiedBy>Sarah</cp:lastModifiedBy>
  <dcterms:modified xsi:type="dcterms:W3CDTF">2009-03-03T19:36:16Z</dcterms:modified>
  <cp:revision>38</cp:revision>
  <dc:subject/>
  <dc:title>Slide 1</dc:title>
</cp:coreProperties>
</file>