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F24-E858-4140-9077-7939EE02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583-994E-444F-9CEA-B4387793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C8A-4A8B-4177-9CAD-FFA31CEE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054-DACC-4F2B-BAA7-4E9C201C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C9C1-8FF9-4BA4-B845-1916690A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EB72-479D-4325-A058-15DF2836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D7E2-0D10-42C1-9668-AE580638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B433-1FFE-4571-9DCA-7E62158A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A2B6-4AE7-4F1E-8E2F-16EC2841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46E5-1E46-4CC9-BA30-1F21C01B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8C27-B4AB-4D84-82DE-CE3C37F2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C54-A19A-4A85-9506-7D89754D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0132-4CDD-49BA-A12B-F07E385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B4EE-4F05-473B-A9AB-07AE72E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AC54-80B2-4095-B3A6-061255E2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93F-EDAC-4296-8E89-78728EC6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5B8D-2FAD-42F7-A9B7-9C61A362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77B-1B53-418D-85E1-2BCA548C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DB5-2540-4AA1-8501-4842C38C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600-9CFB-4DDE-929F-22196E6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AF8-9A57-41F7-B297-4546362D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6AA-E3CD-47E5-B469-BCD8063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93F-9795-4FB2-A395-EA9FA4C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006-8E42-4D1B-84EA-4ACFF75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0F4-46AF-4D9E-96EA-10D838DEA5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505-9EC3-4051-BC87-45F6D29BAC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99663CDB-1FEA-446E-9AEA-7BE029AB531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28760" y="1357200"/>
            <a:ext cx="52149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s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 - 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 - 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 - ε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σ - 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 - 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429080" y="28684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429080" y="349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429080" y="4106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429080" y="4708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429080" y="5232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BDCF51B1-EAA6-4CEB-BF53-1E347A85578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κυν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τ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ηρ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χαρι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ᾠκοδομησα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ill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102280" y="318456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wor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ee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102280" y="520704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ga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F5AF8E18-2533-4C1F-AADF-857B1AD08ED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8760" y="1417680"/>
            <a:ext cx="764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Greek tenses are correct for the follow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used to 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are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429080" y="2813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429080" y="3346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429080" y="3902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080" y="4449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9080" y="5013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40DD2AF6-C27F-405A-BF2C-94BD84439A7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ζ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429080" y="2271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42908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429080" y="351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s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41022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bap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429080" y="4737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bel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429080" y="5369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229FDB5E-A5C6-496B-9866-DF49644FCD4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0040" y="1228680"/>
            <a:ext cx="485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υσα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er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60840" y="2043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th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57600" y="2511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unt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57600" y="2970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ill 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57600" y="343224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sing.) are throwing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57600" y="3875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l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57600" y="43275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se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560840" y="4759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54360" y="5218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557600" y="5681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μβαν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DC8191D0-B2B4-4BF1-9F7D-8284BD04BDA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7120" y="1357200"/>
            <a:ext cx="521496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εν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ἀκουσει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ἁγιοι ἐχουσιν τ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ομεν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α τον λογον ἐπιστευσα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714920" y="2259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teaching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71492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will hea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4920" y="3497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ones have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714920" y="4089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unti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14920" y="47372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you believe because of the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14920" y="54943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peaking about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7520" y="5322960"/>
            <a:ext cx="389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περι της βασιλει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EF5FE334-F6E8-4790-8811-D7542EF07D1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190520"/>
            <a:ext cx="43578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ἀπολυσεις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δελφοι οὐκ ἐπιστευ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d to tak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elieved th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master will set free 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used to speak but now I will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14920" y="2098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ill you divorce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14920" y="27036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s did not bel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14920" y="325908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ομεν το πλο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714920" y="378612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714920" y="437976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ος κυριος ἀπολυσει τους 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4714920" y="545940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ἀλλα νυν ἀκου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9639A9C2-4627-43A0-908C-9269022CF24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Imperfec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η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ελαμβαν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π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-112680" y="2412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 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8D58BC52-8E8D-47F7-8C7D-A5E7D18A8C0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Aoris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ζ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κο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λ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οξα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ALING WITH THE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E192F02E-80EC-4DCB-A3C6-BDE18F65DE7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ense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ραζ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ω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ραψ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χ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ι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102280" y="3184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102280" y="5207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21:07Z</dcterms:created>
  <dc:creator>Sarah</dc:creator>
  <dc:description/>
  <dc:language>en-US</dc:language>
  <cp:lastModifiedBy>Sarah</cp:lastModifiedBy>
  <dcterms:modified xsi:type="dcterms:W3CDTF">2009-03-03T18:48:33Z</dcterms:modified>
  <cp:revision>53</cp:revision>
  <dc:subject/>
  <dc:title>Slide 1</dc:title>
</cp:coreProperties>
</file>