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FE2-D609-4557-9467-9C894479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27D-4F99-45DA-B628-1A22B07B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3E1-4182-4FA5-AE3B-DD4DC241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7D1-2446-422A-AB75-0135D7E1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B1E-BEC5-48B1-9715-E8B99289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F4E-5368-42EE-A9C6-5D10DF6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CDD-2F79-4BC4-8EF0-49D0D8D8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075-7BA7-4E8B-8DF8-340E8C4E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57F-2366-46F4-B712-7770B685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B54-769E-4A4A-A4A7-90819FF7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3D8-DE8E-445C-9A8F-299D3EF0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895-4428-4D5B-9A1A-76079AEF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85BB-79C8-4DA0-A833-0E593D7B11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alphaomega.jpg"/>
          <p:cNvPicPr/>
          <p:nvPr/>
        </p:nvPicPr>
        <p:blipFill>
          <a:blip r:embed="rId1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8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Practice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2 THE 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εμισηκ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εκωλυμε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επροφητευ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εφιληκα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εβλεπ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ολελυμεν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143160" y="18399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143160" y="243036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articiple Masc. 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3143160" y="366876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3143160" y="42973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3143160" y="490212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3143160" y="552456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articiple Feminine Singular Accus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Practice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42920" y="1214280"/>
            <a:ext cx="49291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δουλοι ἀπολελυ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μαρτυρηκα τῃ ἀληθει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 πεποιηκ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πειρασμαι πολλα ἐτ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προσκυνουμεν ἐν ἱερῳ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ᾠκοδμημενῳ ὑπο ἀνθρωπ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οτετακται πονηρῳ κυρ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643280" y="1998720"/>
            <a:ext cx="36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laves have been fr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643280" y="2557440"/>
            <a:ext cx="44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borne witness to the t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643280" y="3098880"/>
            <a:ext cx="36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have you d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643280" y="3613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been tempted for many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643280" y="4184640"/>
            <a:ext cx="46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do not worship in a temple which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s been built by me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huma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643280" y="5272200"/>
            <a:ext cx="36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has been subjected to a wicked m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Practice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42920" y="1214280"/>
            <a:ext cx="4929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εσωμεθα δια της ἀγαπης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στρατιωται κεκρατηκασιν το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τ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ick woman has been hea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ord has been sent (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μπ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  into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have done good th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rely you have not believed in Jes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857840" y="137160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have been saved through the love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57840" y="247968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oldiers have arrested P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4857840" y="3479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ἀσθενης τεθεραπευ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4857840" y="400068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λογος πεπεμπται εἰς τον κοσμον (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κοσμ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or just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ῳ κοσμ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487188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ποιηκαμεν τα ἀγα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4871880" y="5865840"/>
            <a:ext cx="41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πεπιστευκας τῳ Ἰησ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Practice 4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52360" y="1479600"/>
            <a:ext cx="617688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Tense is appropriate for the underlined ver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have lear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Gr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have lear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my vocab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he has been help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by the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y ha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spok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o those who had se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481800" y="2428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467400" y="30020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467400" y="361008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481800" y="4222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86480" y="4824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14200" y="1285920"/>
            <a:ext cx="41148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which of the following would a pluperfect be us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ad arrived, they began to e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cribes said that the law had been brok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d believed but I do not any lo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I believed I was happ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thought that the temple had been destr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681440" y="2214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(Aorist particip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4680" y="31384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(Indirect statement using Perfe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687920" y="4032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676760" y="49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(Aorist particip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687920" y="5514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(Indirect statement using Perfe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Practice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9:58:07Z</dcterms:created>
  <dc:creator>Sarah</dc:creator>
  <dc:description/>
  <dc:language>en-US</dc:language>
  <cp:lastModifiedBy>Sarah</cp:lastModifiedBy>
  <dcterms:modified xsi:type="dcterms:W3CDTF">2009-03-03T22:54:29Z</dcterms:modified>
  <cp:revision>17</cp:revision>
  <dc:subject/>
  <dc:title>Slide 1</dc:title>
</cp:coreProperties>
</file>