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771-61EB-4782-95C0-2FA60AA7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54B-C399-4716-B758-29AAFCE2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669-CD7A-42E9-BF11-CD43B1B1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FB0-9773-4711-B249-91C17B31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664-CEDE-47C0-AE45-5E10C85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1B1-74BE-4A60-8880-04419CB2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7F3-CA58-4102-B3EC-F7445C39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B86-7E15-42A2-8264-EE6064FA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44C-81E9-4DB3-B093-10A90557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792-C43B-4EBC-8738-17E52C6D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DAF-903C-4AF9-A573-A0DF350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685-F51E-4BB2-AF7A-985C7B35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AC05-53B7-4606-B9D2-7D52ED435D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14200" y="1214280"/>
            <a:ext cx="5572080" cy="51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arse the following (all are deponent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ογιζετ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υνηρχομη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ρνησα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εξ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ἁπ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εἰσερχομενο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γαζο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σπαζεσθ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000240" y="2008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000240" y="2475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000240" y="2968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Indicativ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000240" y="34527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000240" y="3911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ture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000240" y="4397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mper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000240" y="4900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 Participle Plural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000240" y="5386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000240" y="5869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dic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 or Present Imper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Masc. Nom. Pl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tur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ε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ε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ξα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ψ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ξερχομαι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mper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ογιζ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ιθ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Masc. Nom. Sing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fi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ε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ξερ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ογισαντ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ιθ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εσθ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νουντ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4440" y="1262160"/>
            <a:ext cx="51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ντ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ῥυσασθαι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εσθε τον λο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ντες ἠρξαντο ἐρχεσθ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ρχομενος ἐδοξαζεν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λλω προσευχεσθαι λεγων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coming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572000" y="26766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sh to rescu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572000" y="339264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are receiving the word.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‘Receive the word!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572000" y="41292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y heard, they began to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572000" y="48546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he was leaving, he was glorifying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572000" y="55897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about to pray,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4440" y="12621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Ἰουδαιοι ἐξερχονται ἐ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Jews are leaving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572000" y="27874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preach the good new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0" y="341460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Φαρισαιοι ἠρξαντο  ἐργασασθαι (ἐργαζεσθα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572000" y="46404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σπαζοντο τους πονηρο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572000" y="525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ησομαι τηρειν τον νομ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572000" y="5865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εἰσερχεσθ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58360" y="204948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44440" y="2500200"/>
            <a:ext cx="4572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εὐαγγελιζ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risees began to work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greeting the wicke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ll refuse to keep the law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necessary to go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7776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2 IMPERFECT, FUTURE AND OTHER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614376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αι ἠσαν αἱ ἐντολ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αυιδ ἠν μεγ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εἰναι μετ’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ιλων θεον ἐσται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υχετο ὠν ἁγ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ren were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laves will be d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ing Jewish, we wish to 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303800" y="1803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ommandments were h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00560" y="2371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vid was gr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300560" y="291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sh to be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286160" y="34624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loves God will be bl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286160" y="4017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ing holy, he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286160" y="446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τεκνα ἠν μο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286160" y="4921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εκροι ἐσονται οἱ δουλ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286160" y="539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ουδαιοι ὀντες θελομεν εἰσερχεσθαι εἰς την 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OUNS OF CONFUSING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71280" y="1211400"/>
            <a:ext cx="6429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αθ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εν τῳ Ἰουδ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δεξεται τον Ἰωαν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στρατιωται προσηρχ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786200" y="21160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 disciples are going/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86200" y="27226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speaking to Ju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786200" y="3338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 will receive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4786200" y="395604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soldiers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1280" y="469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was proclaiming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786200" y="481320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ἐκηρυσσεν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25640" y="554832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phets were not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4786200" y="564048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προφηται οὐκ ἠσαν ἁγ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9-03-03T19:23:39Z</dcterms:modified>
  <cp:revision>60</cp:revision>
  <dc:subject/>
  <dc:title>Slide 1</dc:title>
</cp:coreProperties>
</file>