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9652-CF19-4C3F-8902-64F7AB73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5CD2-1E14-491F-95DE-8C401295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04CB-E2FA-411A-BB79-ED6AA272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86B6-D5A3-4D39-B577-499C1E28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B892-A9A7-4EBC-BB87-52A3D90C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DE50-056C-476C-B2F7-EC278C3C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27A-E1F8-4C34-8332-1CEB2374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AC09-C9B0-480A-BC10-FDB28999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241D-C19A-4CCF-ADB7-BEA26F5B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A29C-4BD8-40B6-8586-A32FF9A1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B81F-15EC-475B-B3C8-35D13593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836-AF1A-4026-9E6F-8213A489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0233-5546-4D13-A934-185CA17EA65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989F29ED-B018-4FB7-A700-A6BD803CC4B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214200" y="1357200"/>
            <a:ext cx="52149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βαλλ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τανοησ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ρειτε τον νομ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ραψον αὐτ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ετε την φωνη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357800" y="227160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row out! (continuous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357800" y="2881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ent!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357800" y="351144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ep (pl.) the law! (continuous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357800" y="4102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rite to her!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4357800" y="473724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r (pl.) the voice/sound! (continuous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5C2ABF3D-F678-49B2-BC4B-058B7F449F2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42920" y="1357200"/>
            <a:ext cx="578628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ησατε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ησετε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 (s.) the heave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ach (pl.) her! (conti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tie (pl.) the childr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929120" y="225576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ek (pl.) God! (defau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4929120" y="28782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will seek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4929120" y="3481560"/>
            <a:ext cx="471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ιξον τους οὐραν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929120" y="4086360"/>
            <a:ext cx="421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δασκετε αὐτη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4929120" y="468000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σατε τα τεκν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19F43F2A-4C4A-4CB4-9308-5156CC340D9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42920" y="1357200"/>
            <a:ext cx="578628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λεις βλεψ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ζητουμεν ἀκου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ει περιπατ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μελλετε γραφ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you (pl.) want to rep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necessary to love God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4286160" y="225576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you (s.) wish to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4286160" y="28782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were seeking to h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4286160" y="3481560"/>
            <a:ext cx="5214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necessary to walk about (live)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4286160" y="4086360"/>
            <a:ext cx="421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were about to write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4286160" y="468000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λετε μετανοησ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4286160" y="525924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ει φιλειν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CFE3DA59-46D4-46B6-9305-E8D8B4F2C96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42920" y="1214280"/>
            <a:ext cx="5786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286160" y="178596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ptise the brothers! (or ‘you are baptising the brother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4286160" y="26431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sten to hi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286160" y="3129120"/>
            <a:ext cx="52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permitted to speak? (or is speaking allow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4286160" y="3929040"/>
            <a:ext cx="42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necessary to speak to Timot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286160" y="471492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rship the holy God! (or ‘you are worshipping the holy God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4303800" y="58849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sten to hi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96920" y="2443320"/>
            <a:ext cx="457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ον αὐ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214200" y="5710320"/>
            <a:ext cx="457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ατε αὐτου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233640" y="1616040"/>
            <a:ext cx="3772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πτιζετε τους ἀδελφ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213480" y="2970360"/>
            <a:ext cx="23601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ξεστι λαλησ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232920" y="3741840"/>
            <a:ext cx="33962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ει λεγειν τῳ Τιμο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32920" y="4557600"/>
            <a:ext cx="38581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ροσκυνειτε τῳ ἁγιῳ 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973FCA6F-8656-4655-A7FD-1CA29DA06E5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74520" y="1211400"/>
            <a:ext cx="471168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θελω πεμψαι ἀγγελ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η ζητει ἀπολυσα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Do you (pl.) want to give thank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eek (pl.; continually) the good news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Do not walk (s.; in general) in the temple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y are about to cry out, ‘Amen’.</a:t>
            </a: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4714920" y="1728720"/>
            <a:ext cx="4000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I want to send a messeng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714920" y="230976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Do not seek to divor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714920" y="2859120"/>
            <a:ext cx="521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θελετε εὐχαριστησαι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4714920" y="3367080"/>
            <a:ext cx="421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ζητειτε το εὐαγγελιον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4714920" y="4425840"/>
            <a:ext cx="378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η περιπατει ἐν τῳ ἱερ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4718160" y="5481720"/>
            <a:ext cx="378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ελλουσιν κραξαι∙ Ἀμη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93CA2433-58F0-45DB-843A-C1FE1DB544B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572000" y="239544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resent Pl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14200" y="1214280"/>
            <a:ext cx="5286600" cy="52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 all are masculine nom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λο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μψ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ωξα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ησ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ραφ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ακαλ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ὑπαγο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572000" y="292896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oris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4572000" y="342576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orist Pl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4572000" y="393228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oris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4572000" y="442908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resen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4572000" y="492912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resen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4572000" y="545292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resent Pl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4572000" y="596412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oris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8871D803-8109-4121-9154-CD114B75AAE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214200" y="1187280"/>
            <a:ext cx="578664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οντες ὑπηγ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ραξεν λεγ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ψας λεγει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επατουν τηρουντες                              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νομ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σας τον λογον ἐδοξασα                                 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θε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4286160" y="207504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 they looked they were going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4286160" y="25830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cried out (while) say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4286160" y="3157560"/>
            <a:ext cx="52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he saw (him), he says to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4286160" y="370044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ere living keeping the la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4286160" y="4822920"/>
            <a:ext cx="37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I heard the message, I glorified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4286160" y="5813280"/>
            <a:ext cx="37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they believed, they rep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235080" y="5762520"/>
            <a:ext cx="34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ιστευσαντες μετενοη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6F90FAD6-3941-4838-9118-7BC40FE757C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214200" y="125244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285840" y="1857240"/>
            <a:ext cx="8643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ιξαντες τους ὀφθαλμους αὐτων ἐβλεψαν την θαλασσ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285840" y="3063960"/>
            <a:ext cx="8215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ων τῳ ὀχλῳ ὁ ἀποστολος ἐθεωρει τον οὐρ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85840" y="4214880"/>
            <a:ext cx="842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ραφας το βιβλιον ὁ Πετρος ἐπεμψεν αὐτο τῃ ἐκκλησι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285840" y="528624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fter proclaiming the word, they worshipped G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928800" y="242892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fter they opened their eyes, they saw the s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285840" y="35719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le speaking to the crowd the apostle was looking at hea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928800" y="47149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he had written the book, Peter sent it for the chu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973080" y="5778360"/>
            <a:ext cx="785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ξαντες τον λογον προσεκυνησαν τῳ 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RTICIPLES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AD524A16-F3A1-4212-9451-02518B3FAC9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214200" y="121428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299880" y="181296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εμψας αὐτον σωζ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285840" y="292104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ακαριος ἐστιν ὁ βλεπων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285840" y="400068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μαρτυρουντες κηρυξ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303120" y="508644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ιστευων λεγει την εἰρηνη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2357280" y="228600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e who sent him s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2357280" y="352584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e who sees God is bl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785880" y="458316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es who bear witness (or ‘the witnesses’) will pr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"/>
          <p:cNvSpPr/>
          <p:nvPr/>
        </p:nvSpPr>
        <p:spPr>
          <a:xfrm>
            <a:off x="2357280" y="564372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eliever speaks pe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7:01:18Z</dcterms:created>
  <dc:creator>Sarah</dc:creator>
  <dc:description/>
  <dc:language>en-US</dc:language>
  <cp:lastModifiedBy>Sarah</cp:lastModifiedBy>
  <dcterms:modified xsi:type="dcterms:W3CDTF">2009-03-03T19:03:23Z</dcterms:modified>
  <cp:revision>43</cp:revision>
  <dc:subject/>
  <dc:title>Slide 1</dc:title>
</cp:coreProperties>
</file>