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0BD-47FF-4732-B755-4A2A356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3E0-22A8-4097-9580-D712051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C4A-45CA-4A4A-AE04-5A6BF692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A9D-B194-4C97-A9FE-BF3DF826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87E-033A-45A3-9C37-217904D3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72F-A1EE-48CA-9C93-2372D88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FF1-9C19-4644-B7A8-DF21A18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BBE-70ED-4D0B-828E-C6B6729D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CB5-D8A8-422B-839C-9BDD4AF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99F-D6F4-4103-B1C9-66AAA11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107-3F02-4CEE-86BB-FB5D5A24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6B8-B54E-4BBA-8D58-64C29A6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D966-5CF3-4D56-9DFC-6A16FB6BB4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εἰπ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υἱον ἐφιλησ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ου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f you want to stress continuity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raised (in fac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ειρ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9-03-03T21:22:16Z</dcterms:modified>
  <cp:revision>28</cp:revision>
  <dc:subject/>
  <dc:title>Slide 1</dc:title>
</cp:coreProperties>
</file>