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39B-8E2B-4F90-B55C-CCE331D3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E92-41E4-4A3A-98DF-C8DFAD14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794-BE63-4A7B-83F4-5789028B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7D6-FC96-4CFA-B7A8-C32097AA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322-4092-4A74-96AD-E0A7842F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D18-D9F1-4299-80DF-E801D306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921C-F2FA-485C-9656-791A550D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938-C5C9-4EF1-AD2B-69EB4131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15BE-36A0-445F-AB34-BFD3700F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9D6-73B6-4D47-BD3A-6FB44289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702-B42E-4072-A379-442259CC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26F3-8270-4117-B9A0-698F1B29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B35E-5C5F-4C5B-8095-5CDFAD8EE9D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5:Practice 1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28760" y="12859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ive the possible tenses and voices of the following, and say whether they are indicative or other mood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71680" y="2187720"/>
            <a:ext cx="3857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θη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μψατ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αμβανε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ξετ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714760" y="251316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Indic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714760" y="33447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uture Active Indic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orist Active Other mood (ending shows that it is Aorist Active Imperativ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714760" y="463716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mperfect Active Indic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2714760" y="54021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uture Middle Indicative or Aorist Middle Other mood (ending shows that is it Future Middle Indicativ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5:Practice 2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28760" y="12859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ive the possible tenses and voices of the following, and say whether they are indicative or other mood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71680" y="2187720"/>
            <a:ext cx="3857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λυθησοντ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ογισασθ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ηθητ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μισησα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071880" y="25257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uture Passive Indic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3071880" y="33447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uture Middle Indic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orist Middle Other Mood (ending shows that it is Aorist Middle Infinitiv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071880" y="462276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Other Mood (ending shows that it is Imperativ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3071880" y="540216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Active Indic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5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THE PASSIVE ENDING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-142920" y="128592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νοιγετο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θεραπευθησομ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βαπτισθει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ιωκοντ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ρχοντ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ποιηθη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125880" y="1839960"/>
            <a:ext cx="55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mperfect Middle/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139920" y="305100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uture Passive Indica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146400" y="366696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Participle Masc. Sing.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3146400" y="431316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3157560" y="4902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157560" y="552600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5:Practice 4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THE PASSIVE ENDING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-142920" y="128592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σωθημε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γραφη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ληθησετ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βληθει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ρρεθη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λημφθησα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3139920" y="183996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Indica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3154320" y="24433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3146400" y="305748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uture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3146400" y="369108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Participle Masculine Nominative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3157560" y="4902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3143160" y="55245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5:Practice 5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84320" y="1214280"/>
            <a:ext cx="41432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λαληθη ὑπο των προφητω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δουλος ἀπολυθει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ὐχαριστησεν τῳ θε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θεος βλεπεται ὑπο ἀγγελω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Πετρος ἠρχετο εἰς τη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συναγωγη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ειραζομενος ἐγω οὐ πιπτω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ἱ ἀποστολοι ἀποσταλησοντα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572000" y="19843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t was said by the prophe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4572000" y="252720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fter the slave was set free he gave thanks to G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4572000" y="361944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od is seen by ang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572000" y="418464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eter was going into the synagog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4572000" y="527220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lthough I am tempted I do not fal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4557600" y="58165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apostles will be s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5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142920" y="1000080"/>
            <a:ext cx="453060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βλεψαντες τα πονηρα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ραχθεντα ἐφυγ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κεινῃ τῃ ἡμερᾳ ὁ θε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ὀφθησετα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law will be writ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old woman was carried by h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fter Jesus was arrested he said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th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ecause they called, Lord, Lord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were sav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572000" y="11872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they saw the evil things which had been done they fl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4572000" y="22813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n that day God will be se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4572000" y="328608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νομος γραφησετα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4572000" y="373212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πρεσβυτερα (γυνη) ἠνεχθη ὑπο των υἱων αὐτη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4572000" y="462924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ρατηθεις ὁ Ἰησους (οὐκ) εἰπεν οὐδε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4572000" y="555480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λησαντες∙ Κυριε, κυριε, ἐσωθησα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5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7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PASSIVE DEPONEN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14200" y="1500120"/>
            <a:ext cx="51436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βουληθημεν βλεψαι τον Ἰησου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κεινῃ τῃ ἡμερᾳ φοβηθησεσθ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ει πορευθηναι εἰς το ἱερ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ποκριθητε οὐδε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5000760" y="2471760"/>
            <a:ext cx="30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e wished to see Jes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5000760" y="31892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n that day will you be afrai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5000760" y="392904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t is necessary to go into tem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5000760" y="46674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swer nothing (‘give no answer’, ‘say nothing in reply’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5:08:33Z</dcterms:created>
  <dc:creator>Sarah</dc:creator>
  <dc:description/>
  <dc:language>en-US</dc:language>
  <cp:lastModifiedBy>Sarah</cp:lastModifiedBy>
  <dcterms:modified xsi:type="dcterms:W3CDTF">2008-10-06T17:58:46Z</dcterms:modified>
  <cp:revision>26</cp:revision>
  <dc:subject/>
  <dc:title>Slide 1</dc:title>
</cp:coreProperties>
</file>