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2E19-45BF-470F-9131-465AB1D0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177-0E78-43F0-BDE4-45703FCA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31A-5DC7-46F8-AE49-4E6EBADD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23E-4716-4439-89B5-75BCED17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252-4CE6-47F8-A082-DE402D4B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D98-CA5B-4A3D-BF85-647E8DE2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7FB-C2D3-4425-9DB3-A5B7ED46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447-36C4-4E58-AACB-F19C38CE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EC7-704C-487F-84A9-9A4044AE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1B3-6658-48F2-8161-285D2088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E06-3EAC-40DD-93DF-41613640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F333-7C7D-4D13-86AE-4A66D06D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7921-7BB9-4DE5-B8E6-FA293A388B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00040" y="1424160"/>
            <a:ext cx="792972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ωτηρ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ρχ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πιδ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ητερ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νυκ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αρκ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χερ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ιμω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800520" y="22496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3786120" y="528624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3786120" y="57974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2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14200" y="1285920"/>
            <a:ext cx="492948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in the form indic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ηρ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υνη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υς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ειρ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αρξ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αρις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υγατηρ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min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ἰων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143680" y="20001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δρ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43680" y="25178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υναιξ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143680" y="30272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δ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143680" y="35416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ειρ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143680" y="40449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αρκ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143680" y="4538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αρι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143680" y="50576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υγατερ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5143680" y="55576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ἰω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3 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785880" y="1928880"/>
            <a:ext cx="757224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νευματ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λημα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ῥημα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νομα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572000" y="26956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572000" y="31971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572000" y="36957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/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572000" y="42116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4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3 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00040" y="1643040"/>
            <a:ext cx="47149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ἱμα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νευμα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ωμα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νομα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5429160" y="273060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ἱμ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5429160" y="323676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νευμα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429160" y="375120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ωμα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5429160" y="429264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νομα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5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85840" y="157176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σωτηρ ἐστιν ὁ Ἰησ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υἱος του πατρος ἐφυγ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χω ἀγαθην μητε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δον τους πατερας αὐ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βαπτιζει ὑδατ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ἱ ἀνδρες ἐχηλθ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714920" y="2316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Jesus the savio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714920" y="2843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ather’s son f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714920" y="33433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a good m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714920" y="385776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saw their fa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4714920" y="435780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baptizes with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714920" y="48578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men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6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85840" y="1571760"/>
            <a:ext cx="421488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Χριστος ἀπεθανεν ὑπερ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νδρων και γυναικ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οιετε το θελημα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loves two wo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spirit does not like th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fle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have big f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saw the l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714920" y="23162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rist died on behalf of men and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4714920" y="33433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the will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4714920" y="38163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ιλει δυο γυναικ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714920" y="431964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 πνευμα οὐ φιλει την σαρκ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4714920" y="53118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χω μεγαλους ποδ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4714920" y="58244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δον το φω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4 ADJECTIVE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285840" y="1571760"/>
            <a:ext cx="4714920" cy="32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λειονες στρατιωται ἐρχ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χεις μειζονα κεφαλην 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Ἰησους εἰχεν πλειονας μαθητας ἠ Ἰωαννη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ροφητης εἰμι μειζονος ἱερ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5000760" y="2316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re soldiers are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000760" y="2843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have a bigger head than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000760" y="33433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d Jesus have more disciples than Joh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4997520" y="432756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am a prophet of a greater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285840" y="1187280"/>
            <a:ext cx="542916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ίς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θελω ἀρτον τι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ί φιλειτε τον Χρισ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ερι τίνων εἰπ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ατερες τινες εἰσιν πονηρ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ίνα ζητ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y are you (s.) pray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o whom did you (pl.) sp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me prophets are cal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at law do you (pl.) ke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4714920" y="183816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is co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4714920" y="22525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nt some b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4714920" y="263700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do you (pl.) love Chri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4714920" y="3038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bout what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hom- both plural) did he sp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4714920" y="38210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fathers are wi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711680" y="42116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m are you (pl.) seek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8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24444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5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714920" y="45831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 προσευχ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4714920" y="49816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νι εἰπε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4714920" y="53769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φηται τινες καλουσ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4714920" y="57405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να νομον τηρ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1:53:05Z</dcterms:created>
  <dc:creator>Sarah</dc:creator>
  <dc:description/>
  <dc:language>en-US</dc:language>
  <cp:lastModifiedBy>Sarah</cp:lastModifiedBy>
  <dcterms:modified xsi:type="dcterms:W3CDTF">2009-03-03T21:39:49Z</dcterms:modified>
  <cp:revision>36</cp:revision>
  <dc:subject/>
  <dc:title>Slide 1</dc:title>
</cp:coreProperties>
</file>