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104A-41B7-40EB-B53E-94C4B4589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8671-23FE-44AD-A5E6-5195D9733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021D-D7D7-45CF-A9CB-2DB9A52B5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623D-294F-441C-A71F-2EC6D1058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4D5A-936B-46B2-8A40-A20486C3D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3701-3DC0-450A-B00D-A3DF6DA21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86B8-3F1A-4A5A-8832-5B76A8CAB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6084-0192-475C-B590-39AD62293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0869-E6BD-4776-872D-703D495F4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87AA-71CA-4ACD-B428-6C21F3C7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C3A5-7DF5-40EE-B4CB-B0437DF8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7B15-AC5F-484F-9CB9-E8A709B2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1B45E-B40B-491B-B1B5-A1E773773C7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C8942-89E0-4752-969C-99C9AD956DD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TextBox 5"/>
          <p:cNvSpPr/>
          <p:nvPr/>
        </p:nvSpPr>
        <p:spPr>
          <a:xfrm>
            <a:off x="-282600" y="208080"/>
            <a:ext cx="86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2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PRESENT TENSE OF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λυ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428760" y="1357200"/>
            <a:ext cx="44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1143000" y="1928880"/>
            <a:ext cx="4786200" cy="45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αμβανε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ιδασκομε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κουουσι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χετ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λεπω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υει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he is throw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ha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are le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8"/>
          <p:cNvSpPr/>
          <p:nvPr/>
        </p:nvSpPr>
        <p:spPr>
          <a:xfrm>
            <a:off x="4000680" y="199224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 (she, it) is taking (receiv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9"/>
          <p:cNvSpPr/>
          <p:nvPr/>
        </p:nvSpPr>
        <p:spPr>
          <a:xfrm>
            <a:off x="4000680" y="249228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are tea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0"/>
          <p:cNvSpPr/>
          <p:nvPr/>
        </p:nvSpPr>
        <p:spPr>
          <a:xfrm>
            <a:off x="4000680" y="299232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are hea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1"/>
          <p:cNvSpPr/>
          <p:nvPr/>
        </p:nvSpPr>
        <p:spPr>
          <a:xfrm>
            <a:off x="4000680" y="349236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u (pl.) ha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2"/>
          <p:cNvSpPr/>
          <p:nvPr/>
        </p:nvSpPr>
        <p:spPr>
          <a:xfrm>
            <a:off x="4013280" y="396720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se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3"/>
          <p:cNvSpPr/>
          <p:nvPr/>
        </p:nvSpPr>
        <p:spPr>
          <a:xfrm>
            <a:off x="4013280" y="445464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u (s.) unt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4"/>
          <p:cNvSpPr/>
          <p:nvPr/>
        </p:nvSpPr>
        <p:spPr>
          <a:xfrm>
            <a:off x="4033800" y="4979880"/>
            <a:ext cx="5000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αλλε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5"/>
          <p:cNvSpPr/>
          <p:nvPr/>
        </p:nvSpPr>
        <p:spPr>
          <a:xfrm>
            <a:off x="4027320" y="5454720"/>
            <a:ext cx="5000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χουσι(ν)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6"/>
          <p:cNvSpPr/>
          <p:nvPr/>
        </p:nvSpPr>
        <p:spPr>
          <a:xfrm>
            <a:off x="4038480" y="5942160"/>
            <a:ext cx="5000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γομε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Practice </a:t>
            </a:r>
            <a:fld id="{81DD4DBA-86FC-4314-8BE2-B4A15EFEE43F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58" name="TextBox 3"/>
          <p:cNvSpPr/>
          <p:nvPr/>
        </p:nvSpPr>
        <p:spPr>
          <a:xfrm>
            <a:off x="-130320" y="208080"/>
            <a:ext cx="906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2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PRESENT TENSE OF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εω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428760" y="1357200"/>
            <a:ext cx="44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1143000" y="1928880"/>
            <a:ext cx="4786200" cy="45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φιλουσι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οιειτε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αλε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ηρουμε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ζητω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αλει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are spea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he is do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u (pl.) se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4386240" y="199224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lo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4386240" y="249228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u (pl.) are do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4322880" y="299232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 (she, it) is cal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4386240" y="349236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are keep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0"/>
          <p:cNvSpPr/>
          <p:nvPr/>
        </p:nvSpPr>
        <p:spPr>
          <a:xfrm>
            <a:off x="4398840" y="396720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see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1"/>
          <p:cNvSpPr/>
          <p:nvPr/>
        </p:nvSpPr>
        <p:spPr>
          <a:xfrm>
            <a:off x="4398840" y="445464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u (s.) are speak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2"/>
          <p:cNvSpPr/>
          <p:nvPr/>
        </p:nvSpPr>
        <p:spPr>
          <a:xfrm>
            <a:off x="4419720" y="4979880"/>
            <a:ext cx="5000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αλουσι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3"/>
          <p:cNvSpPr/>
          <p:nvPr/>
        </p:nvSpPr>
        <p:spPr>
          <a:xfrm>
            <a:off x="4413240" y="5454720"/>
            <a:ext cx="5000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οιε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4"/>
          <p:cNvSpPr/>
          <p:nvPr/>
        </p:nvSpPr>
        <p:spPr>
          <a:xfrm>
            <a:off x="4424400" y="5942160"/>
            <a:ext cx="5000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ζητειτ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Practice </a:t>
            </a:r>
            <a:fld id="{D82EE013-FCB8-4B1D-B398-A86AEC4108AC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73" name="TextBox 3"/>
          <p:cNvSpPr/>
          <p:nvPr/>
        </p:nvSpPr>
        <p:spPr>
          <a:xfrm>
            <a:off x="-604800" y="227160"/>
            <a:ext cx="9286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Arial"/>
              </a:rPr>
              <a:t>2.3 </a:t>
            </a: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THE NOMINATIVE AND ACCUSATIVE CASES</a:t>
            </a:r>
            <a:r>
              <a:rPr b="0" lang="el-GR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6"/>
          <p:cNvSpPr/>
          <p:nvPr/>
        </p:nvSpPr>
        <p:spPr>
          <a:xfrm>
            <a:off x="428760" y="1357200"/>
            <a:ext cx="79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case and number are the following words i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"/>
          <p:cNvSpPr/>
          <p:nvPr/>
        </p:nvSpPr>
        <p:spPr>
          <a:xfrm>
            <a:off x="1071720" y="2071800"/>
            <a:ext cx="4786200" cy="45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ρτ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γγελο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ὐρανου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υἱο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ὀχλο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θεου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ουλο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νομ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6"/>
          <p:cNvSpPr/>
          <p:nvPr/>
        </p:nvSpPr>
        <p:spPr>
          <a:xfrm>
            <a:off x="4000680" y="212076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cus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7"/>
          <p:cNvSpPr/>
          <p:nvPr/>
        </p:nvSpPr>
        <p:spPr>
          <a:xfrm>
            <a:off x="4000680" y="262080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min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8"/>
          <p:cNvSpPr/>
          <p:nvPr/>
        </p:nvSpPr>
        <p:spPr>
          <a:xfrm>
            <a:off x="4000680" y="312120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cus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9"/>
          <p:cNvSpPr/>
          <p:nvPr/>
        </p:nvSpPr>
        <p:spPr>
          <a:xfrm>
            <a:off x="4000680" y="362124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minative plur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0"/>
          <p:cNvSpPr/>
          <p:nvPr/>
        </p:nvSpPr>
        <p:spPr>
          <a:xfrm>
            <a:off x="4013280" y="409572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minative singul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1"/>
          <p:cNvSpPr/>
          <p:nvPr/>
        </p:nvSpPr>
        <p:spPr>
          <a:xfrm>
            <a:off x="4013280" y="458316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cusative plur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2"/>
          <p:cNvSpPr/>
          <p:nvPr/>
        </p:nvSpPr>
        <p:spPr>
          <a:xfrm>
            <a:off x="4033800" y="510840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minative plur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3"/>
          <p:cNvSpPr/>
          <p:nvPr/>
        </p:nvSpPr>
        <p:spPr>
          <a:xfrm>
            <a:off x="4027320" y="558324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cusative singul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Practice </a:t>
            </a:r>
            <a:fld id="{3706A982-95A5-4DF6-9CEC-B0890E593572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87" name="TextBox 3"/>
          <p:cNvSpPr/>
          <p:nvPr/>
        </p:nvSpPr>
        <p:spPr>
          <a:xfrm>
            <a:off x="-282600" y="208080"/>
            <a:ext cx="8628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3 THE NOMINATIVE AND ACCUSATIVE CASES</a:t>
            </a:r>
            <a:r>
              <a:rPr b="0" lang="el-GR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357120" y="1252440"/>
            <a:ext cx="44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214200" y="1714680"/>
            <a:ext cx="478656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δελφος διδασκει ὀχλου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ζητουμεν ἀρτ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ουλους λυει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υριος λεγει λογ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νθρωποι καλουσι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γγελοι τηρουσιν νομου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brother sees a ho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ople are watc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love a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od lea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4425840" y="1779480"/>
            <a:ext cx="51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brother is teaching crow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4425840" y="227952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are seeking br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8"/>
          <p:cNvSpPr/>
          <p:nvPr/>
        </p:nvSpPr>
        <p:spPr>
          <a:xfrm>
            <a:off x="4425840" y="2779560"/>
            <a:ext cx="51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u (s.) are untying sla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9"/>
          <p:cNvSpPr/>
          <p:nvPr/>
        </p:nvSpPr>
        <p:spPr>
          <a:xfrm>
            <a:off x="4425840" y="327960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lord says a wor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0"/>
          <p:cNvSpPr/>
          <p:nvPr/>
        </p:nvSpPr>
        <p:spPr>
          <a:xfrm>
            <a:off x="4425840" y="378000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ople are call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1"/>
          <p:cNvSpPr/>
          <p:nvPr/>
        </p:nvSpPr>
        <p:spPr>
          <a:xfrm>
            <a:off x="4425840" y="428004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gels are keeping the law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2"/>
          <p:cNvSpPr/>
          <p:nvPr/>
        </p:nvSpPr>
        <p:spPr>
          <a:xfrm>
            <a:off x="4425840" y="4780080"/>
            <a:ext cx="5000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δελφος βλεπει οἱκον.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3"/>
          <p:cNvSpPr/>
          <p:nvPr/>
        </p:nvSpPr>
        <p:spPr>
          <a:xfrm>
            <a:off x="4425840" y="5280120"/>
            <a:ext cx="5000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νθρωποι βλεπουσιν.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4"/>
          <p:cNvSpPr/>
          <p:nvPr/>
        </p:nvSpPr>
        <p:spPr>
          <a:xfrm>
            <a:off x="4425840" y="5772240"/>
            <a:ext cx="5000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φιλουμεν κοσμον.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6"/>
          <p:cNvSpPr/>
          <p:nvPr/>
        </p:nvSpPr>
        <p:spPr>
          <a:xfrm>
            <a:off x="4417920" y="6215040"/>
            <a:ext cx="5000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θεος ἀγει.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Practice </a:t>
            </a:r>
            <a:fld id="{8E5F89D0-6E6E-4852-965C-C4E1E16400AC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103" name="TextBox 4"/>
          <p:cNvSpPr/>
          <p:nvPr/>
        </p:nvSpPr>
        <p:spPr>
          <a:xfrm>
            <a:off x="-130320" y="208080"/>
            <a:ext cx="9060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2.4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DEFINITE ARTIC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428760" y="1357200"/>
            <a:ext cx="44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141120" y="1906560"/>
            <a:ext cx="4786560" cy="45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ἱ υἱοι ἐχουσιν οἰκ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αλειτε τον ἀδελφ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θεος ποιει τους οὐρανου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γει ἀγγελος ὀχλου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κυριος ἀκουε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are seeking the Messiah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sons are speaking wo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eople love God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>
            <a:off x="4367160" y="199224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sons have a ho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>
            <a:off x="4367160" y="250020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u (pl.) are calling a br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9"/>
          <p:cNvSpPr/>
          <p:nvPr/>
        </p:nvSpPr>
        <p:spPr>
          <a:xfrm>
            <a:off x="4289400" y="2992320"/>
            <a:ext cx="5000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od is making the heave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0"/>
          <p:cNvSpPr/>
          <p:nvPr/>
        </p:nvSpPr>
        <p:spPr>
          <a:xfrm>
            <a:off x="4392720" y="349236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 angel is leading crow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1"/>
          <p:cNvSpPr/>
          <p:nvPr/>
        </p:nvSpPr>
        <p:spPr>
          <a:xfrm>
            <a:off x="4392720" y="396720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lord is listen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2"/>
          <p:cNvSpPr/>
          <p:nvPr/>
        </p:nvSpPr>
        <p:spPr>
          <a:xfrm>
            <a:off x="4392720" y="4454640"/>
            <a:ext cx="5000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ζητουμεν τον Χριστ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3"/>
          <p:cNvSpPr/>
          <p:nvPr/>
        </p:nvSpPr>
        <p:spPr>
          <a:xfrm>
            <a:off x="4392720" y="4979880"/>
            <a:ext cx="5000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ι υἱοι λαλουσιν λογους.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4"/>
          <p:cNvSpPr/>
          <p:nvPr/>
        </p:nvSpPr>
        <p:spPr>
          <a:xfrm>
            <a:off x="4392720" y="5454720"/>
            <a:ext cx="5000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ι ανθρωποι φιλουσι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ον θεον.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Practice </a:t>
            </a:r>
            <a:fld id="{954B0A51-7AE2-41F4-B731-ECA4F1D0649A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8T11:05:07Z</dcterms:created>
  <dc:creator>Sarah</dc:creator>
  <dc:description/>
  <dc:language>en-US</dc:language>
  <cp:lastModifiedBy>Sarah</cp:lastModifiedBy>
  <dcterms:modified xsi:type="dcterms:W3CDTF">2008-08-17T12:50:01Z</dcterms:modified>
  <cp:revision>42</cp:revision>
  <dc:subject/>
  <dc:title>Slide 1</dc:title>
</cp:coreProperties>
</file>