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6B66-3A69-4AAC-B3F9-C8941B11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7E57-F244-4D8F-996E-91AD9F63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F949-3176-485D-98F1-98852DE0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07DC-91E3-419F-9B0B-9757A65B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E0D8-B898-471B-B2BE-40225CA9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D31-4A97-4901-85DE-44BB3342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12A-DCD6-4A18-8E23-14B0CEF1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FD88-037F-404F-80C9-748C4199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274-ADA0-474E-9082-6A6201CD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FAF5-6016-4839-89D9-616C22EE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D48-83C8-4358-8C01-D43C5519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0BA-ABE7-4C2A-88B2-5016BC49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D02D-18E2-41BE-B123-73C1FC0ED4D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1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24444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οὑτο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357120" y="1417680"/>
            <a:ext cx="707256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κειν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ουτο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αυτ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κειν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αὐτο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οὑτο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κεινο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αὑτη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3286080" y="22557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eminine Nominative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3286080" y="274788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sculin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Neuter Genitive Singul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3286080" y="324468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euter 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Accusative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3286080" y="372888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euter 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Accusative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3286080" y="42591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sculine Nominative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3286080" y="4786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sculine Nominative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3286080" y="528948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euter 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Accusative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3286080" y="5800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eminine Nominative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1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24444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οὑτο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42920" y="1422360"/>
            <a:ext cx="707220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οὑτος ἠν ὁ τοπο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νεκρα τα προβατα τουτω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ὁλος ὁ ὀχλος ἠκουε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λεγει ἐκειναις ταις                            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ραβολαις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οἱ προφηται αὐτου ἐρχοντα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υφλοι εἰσιν οὑτοι οἱ μαθητα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643280" y="2241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is was the pla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643280" y="273384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sheep of these people a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de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629240" y="373068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whole crowd was listen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629240" y="4273560"/>
            <a:ext cx="56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e is speaking in tho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arab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4633920" y="5283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is prophets are com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4643280" y="5811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se disciples are bli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101600" y="271440"/>
            <a:ext cx="692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285840" y="1143000"/>
            <a:ext cx="6072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ρνουνται ἑαυτου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φιλω ἐκεινον μαθητη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συναγει ταυτα τα προβατ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διδασκεν ἀλλαις παραβολαι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ν τῃ αὐτῃ ἡμερᾳ ἡ Μαρια ἐβλεψε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ον κυριο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δια ταυτα ὁ ὀχλος ἐλαλε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λληλοι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929120" y="15415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y are denying themselv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929120" y="226836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love that disci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929120" y="30002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he is gathering these shee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929120" y="37321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e used to teach in other par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929120" y="445932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n the same day Mary sa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Lo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929120" y="557208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ecause of  these things the crowd were saying to one anot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4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1101600" y="271440"/>
            <a:ext cx="692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85840" y="1143000"/>
            <a:ext cx="607212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αὐτος ὁ Ἰησους προσηυχετ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ὑπηρετης ἠν τουτου του ἱερο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e are praying to the same Go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eter himself denied Jes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y began to listen after th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ose demons are evi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4929120" y="15415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esus himself was pray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4929120" y="226836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e was a servant  of this tem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929120" y="28908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ροσευχομεθα τῳ αὐτῳ θεῳ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4929120" y="348948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αὐτος ὁ Πετρος ἠρνησατο το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ησου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4929120" y="439884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μετα τουτο ἠρξαντο ἀκουσα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r jus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ἠκουον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4929120" y="531324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κεινα τα δαιμονια (ἠ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ονηρ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5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44440" y="71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142920" y="1143000"/>
            <a:ext cx="70722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ὁ νομος σου σωζε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ὁ θεος σωζει σ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ἡμεις ἐπιστευσαμεν ἀλλα συ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οὐκ ἠκουσα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υ σωσεις σεαυτον ἀλλ’ ἐγω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λλους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ave yourself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 will proclaim your (pl.) dee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643280" y="1971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Your law sav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643280" y="24861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God saves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629240" y="297180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e believed, but you did no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lis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629240" y="4013280"/>
            <a:ext cx="56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save yourself, but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will save) oth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633920" y="498636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ωσον σεαυτ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4629240" y="551664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ηρυξω τα ἐργα ὑμω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6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24444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357120" y="1428840"/>
            <a:ext cx="3857760" cy="45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ολλοι ἐπιστευσαν, οἱ γαρ μαθηται εὐηγγελιζοντο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ὁ μεν θεος ἐπεμψεν τους προφητας, τυφλος δε ὁ λαο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ὁ θεος φιλει και τους πονηρ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4643280" y="216072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ny believed because (for) the disciples were proclaiming the good new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643280" y="3435480"/>
            <a:ext cx="41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God sent the prophets, but the people were bli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657680" y="5038560"/>
            <a:ext cx="41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Does God love even (the) evil peop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7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4444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357120" y="1428840"/>
            <a:ext cx="385776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ὁ Ἰωσηφ λεγει αὐτῳ. ὁ δε οὐκ ἀκουσε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οἱ μεν προσερχονται, οἱ δε ὑπαγουσιν εἰς τους οἰκους αὐτω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refore we will seek the lo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643280" y="216072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Joseph is speaking to him, but he (the other one) will not lis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4643280" y="343548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ome are approaching, others are departing for their hom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4657680" y="5011560"/>
            <a:ext cx="4143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ζητησομεν οὐν τον κυριο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1:37:17Z</dcterms:created>
  <dc:creator>Sarah</dc:creator>
  <dc:description/>
  <dc:language>en-US</dc:language>
  <cp:lastModifiedBy>Sarah</cp:lastModifiedBy>
  <dcterms:modified xsi:type="dcterms:W3CDTF">2008-09-08T15:17:35Z</dcterms:modified>
  <cp:revision>34</cp:revision>
  <dc:subject/>
  <dc:title>Slide 1</dc:title>
</cp:coreProperties>
</file>