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C9B28-C214-4D7C-A1BB-74C0AFAD639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02CB7-730A-43E0-9579-FF750D9D549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50D2-83E2-4D10-AB96-BE6214095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5922-5A81-40D7-880A-B4DF59CC5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5BAB-F640-4509-A805-387FDFA3B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7A8A-6074-4F03-A822-8EAD3B362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D573-0C7D-4BAE-A8E1-6710FB850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BA4B-FE2F-41AD-9122-0B8530E40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F194-A55C-47F2-8D01-1B3EA070D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53F5-BD28-45E4-B236-D9C1BDAF5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2288-226A-4A7D-B561-DDB935980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5999-FC1F-4994-8842-AF0F36BA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A4AA-42F3-4888-8692-E83B9EF9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A551-8F7E-4CBE-97D1-1FDF734BB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F9F7B-80BC-4382-9646-EF57BBF2F5C6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0:Practice 1/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0.1 RELATIVE PRONOU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304920" y="2514600"/>
            <a:ext cx="6324480" cy="33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Jesus threw out the demon which was in the ma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 am the man whom you are seek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he ate the meal which the king s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he prophet offered the sacrifice, because of which the rain cam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s this the Messiah for whom we are waiting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he governor sent the soldiers who arrested Jesu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304920" y="1523880"/>
            <a:ext cx="8458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reak down these complex sentences into two basic sentenc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ich word is the antecedent of the relative in these sentence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7010280" y="252900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m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7010280" y="30322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7010280" y="35514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ea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7010280" y="40435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acrific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7010280" y="489744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essia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7010280" y="539748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oldie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357120" y="1228680"/>
            <a:ext cx="3581640" cy="54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rse the following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44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ＭＳ Ｐゴシック"/>
              </a:rPr>
              <a:t>ὃ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44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ＭＳ Ｐゴシック"/>
              </a:rPr>
              <a:t>ὁ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44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ＭＳ Ｐゴシック"/>
              </a:rPr>
              <a:t>οὑ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44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ＭＳ Ｐゴシック"/>
              </a:rPr>
              <a:t>ᾑ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44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ＭＳ Ｐゴシック"/>
              </a:rPr>
              <a:t>αἳ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44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ＭＳ Ｐゴシック"/>
              </a:rPr>
              <a:t>αἱ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44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ＭＳ Ｐゴシック"/>
              </a:rPr>
              <a:t>οὑ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44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ＭＳ Ｐゴシック"/>
              </a:rPr>
              <a:t>τη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44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ＭＳ Ｐゴシック"/>
              </a:rPr>
              <a:t>ὡ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44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ＭＳ Ｐゴシック"/>
              </a:rPr>
              <a:t>οἱ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881360" y="1704960"/>
            <a:ext cx="55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uter Nominativ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Accusative Singu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1881360" y="2224080"/>
            <a:ext cx="54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sculine Accusative Singu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1881360" y="2695680"/>
            <a:ext cx="55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sculin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Neuter Genitive Singu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881360" y="321480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eminine Dative Singu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1881360" y="368604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eminine Nominative Plura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1881360" y="4219560"/>
            <a:ext cx="60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eminine Nominative Plural (of the articl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1881360" y="47242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sculine Accusative Plura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1881360" y="521028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eminine Accusative Singular (of the articl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1881360" y="571500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sculine, Feminin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Neuter Genitive Plura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1881360" y="623556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sculin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Neuter Dative Plura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0:Practice 2/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13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0.1 RELATIVE PRONOU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0:Practice 3/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142920" y="1214280"/>
            <a:ext cx="4429080" cy="52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βλεπω τον δουλον ὁν ἐκαλεσε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ὑπαγε ἐκ του οἰκου ἐν ᾡ εἶ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που ἐστιν τα ποτηρια ἁ φιλουμε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ἐπιστευσαν γαρ τῳ ἐυαγγελιῳ ὃ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οἱ ἀποστολοι ἐκηρυσσον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ἀσπαζεσθε οἳ ἐρχονται προς ὑμα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οὑτος ἐστιν ὁ κυριος δι’ οὐ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προσευξομεθα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4586400" y="1982880"/>
            <a:ext cx="407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 see the slave whom he call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4589640" y="2527200"/>
            <a:ext cx="40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Depart from the house in which you are i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4592520" y="3316320"/>
            <a:ext cx="407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Where are the cups for which we lov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4606920" y="40449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For the believed the good news which the apostles were preach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8"/>
          <p:cNvSpPr/>
          <p:nvPr/>
        </p:nvSpPr>
        <p:spPr>
          <a:xfrm>
            <a:off x="4619520" y="4923000"/>
            <a:ext cx="407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Greet (pl.) the ones who are coming to you (pl.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9"/>
          <p:cNvSpPr/>
          <p:nvPr/>
        </p:nvSpPr>
        <p:spPr>
          <a:xfrm>
            <a:off x="4619520" y="5694480"/>
            <a:ext cx="407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is is the Lord through whom we will pra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0:Practice 4/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2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142920" y="1657440"/>
            <a:ext cx="4500360" cy="45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ἀσπαζεσθε τον Τιμοθεον ὑπερ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οὑ ἡ ἐκκλησια προσευχετα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He keeps the bread which he mad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t is necessary to love the God who saves  u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Do you (s.) believe the gospel which you heard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Did the disciple who denied Jesus repen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4599000" y="1568520"/>
            <a:ext cx="455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 am saying to you what I heard (wh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 heard, this I am saying to you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4589640" y="2211480"/>
            <a:ext cx="40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Greet Timothy on whose behalf the church is pray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4592520" y="301464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τηρει τον ἀρτον ὁν ἐποιησε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7"/>
          <p:cNvSpPr/>
          <p:nvPr/>
        </p:nvSpPr>
        <p:spPr>
          <a:xfrm>
            <a:off x="4606920" y="371484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δει φιλειν τον θεον ὁς σωζει ἡμα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8"/>
          <p:cNvSpPr/>
          <p:nvPr/>
        </p:nvSpPr>
        <p:spPr>
          <a:xfrm>
            <a:off x="4619520" y="4602240"/>
            <a:ext cx="407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πιστευεις τῳ εὐαγγελιῳ ὃ ἠκουσα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9"/>
          <p:cNvSpPr/>
          <p:nvPr/>
        </p:nvSpPr>
        <p:spPr>
          <a:xfrm>
            <a:off x="4572000" y="5527800"/>
            <a:ext cx="407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ὁ μαθητης ὁς ἠρνησατο τον Ἰησουν μετενοησεω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142920" y="1092240"/>
            <a:ext cx="4572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ἁ ἠκουσα ταυτα λεγω ὑμι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0:Practice 5/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0.2 SLANTED QUESTION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142920" y="1500120"/>
            <a:ext cx="4714920" cy="37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μη βλεπετ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Arial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οὐ φιλεις μ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Arial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γω οὐ φιλω σ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μη ἐγω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Arial"/>
              </a:rPr>
              <a:t>;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3857760" y="2257560"/>
            <a:ext cx="50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Surely you don’t see? / You don’t see, do you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3857760" y="3071880"/>
            <a:ext cx="50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Surely you love me? / You don’t love me, do you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7"/>
          <p:cNvSpPr/>
          <p:nvPr/>
        </p:nvSpPr>
        <p:spPr>
          <a:xfrm>
            <a:off x="3857760" y="388764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I do not love yo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8"/>
          <p:cNvSpPr/>
          <p:nvPr/>
        </p:nvSpPr>
        <p:spPr>
          <a:xfrm>
            <a:off x="3857760" y="472284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Surely not I? / It is not me, is i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3"/>
          <p:cNvSpPr/>
          <p:nvPr/>
        </p:nvSpPr>
        <p:spPr>
          <a:xfrm>
            <a:off x="285840" y="1214280"/>
            <a:ext cx="80769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Do these sentences include direct or indirect statements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f indirect, which Greek Tense would be used in the indirect statemen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0:Practice 6/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3"/>
          <p:cNvSpPr/>
          <p:nvPr/>
        </p:nvSpPr>
        <p:spPr>
          <a:xfrm>
            <a:off x="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0.3 DIRECT AND INDIRECT STATEMENT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828720" y="2417760"/>
            <a:ext cx="426708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 centurion says that he is go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 said to him, 'Worship me'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 women said that he had been blin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 soldiers thought that they saw hi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 blind people said, 'We want to see'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n they cried out that he was com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5324400" y="243216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ndirect – Pres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5324400" y="288756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Dir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5324400" y="334332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ndirect – Imperf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5324400" y="409716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ndirect – Aor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5324400" y="486576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Dir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5324400" y="56196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ndirect – Pres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3"/>
          <p:cNvSpPr/>
          <p:nvPr/>
        </p:nvSpPr>
        <p:spPr>
          <a:xfrm>
            <a:off x="304920" y="1357200"/>
            <a:ext cx="853416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Greek, what case would be used for these time expressions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hey came on the Sabbath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e fasted for forty days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icodemus came by night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hree days he was in the tomb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t dawn the stone moved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e was arrested during Passover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5424480" y="2816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a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5433840" y="33750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ccusa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5429160" y="39304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ni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5429160" y="44895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ccusa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5429160" y="50115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a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5429160" y="55656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ni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0:Practice 7/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44440" y="2700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0.4 TIME EXPRESSION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20:38:18Z</dcterms:created>
  <dc:creator>Sarah</dc:creator>
  <dc:description/>
  <dc:language>en-US</dc:language>
  <cp:lastModifiedBy>Sarah</cp:lastModifiedBy>
  <dcterms:modified xsi:type="dcterms:W3CDTF">2008-09-10T22:07:20Z</dcterms:modified>
  <cp:revision>17</cp:revision>
  <dc:subject/>
  <dc:title>Slide 1</dc:title>
</cp:coreProperties>
</file>