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23D-7D82-4B24-A69F-65B9E937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3AE-D7C2-4F0B-8588-B8B7824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98B-04A3-4EAB-9204-F60C8DC4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D0D-027B-4F29-9794-FCDB03FA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8B3F-4650-45C2-81A9-B6F1D035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8EF8-3095-4C93-BB2F-D22FC0DC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5B2-09D9-4A39-A854-228DC36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2C43-D6E8-4C32-8B70-FF0CCE44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FA0C-CA7E-4704-B8F0-99E3199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742-82F4-441A-BFDE-E0F0AE98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8E32-6424-4AE3-844D-6A75A91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EF8-1748-45DF-9E9A-35F4DB9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6F1-B4E5-482E-A68C-A2953D2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A76A-0FC5-44F2-B85F-7A52465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EB18-3430-4108-B154-2C3CBCE5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B508-DEAC-4417-A6FC-E3013E43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A03-B6DB-43C5-843B-448179BB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369-3B8B-48BF-BC94-FBDBCE8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ED2-2BA3-43EF-8DA1-5A8F145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94E-E85B-49FD-BF86-8FE644EA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CB0-9FC6-44BC-B929-E22E323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114-01F1-4E76-95CE-3B474B8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DF1-1B8F-411A-8C49-549CFFA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778-A330-456F-9CAB-BFE5BD7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E80-D61B-47FB-974F-697E447D61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8596-7129-4B4E-B1B4-8145785C9C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ssay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45E0BE9A-28D0-42A5-BD84-4170976632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03D3E941-FF6B-4BBC-87F0-72AE29B205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06117F53-025A-4C18-A0D4-D134FBC760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477716FF-D04D-4A22-8865-B5FBEE02AB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5BDDC15-8318-41FC-B538-12B38CEEBA6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07C3B7C-FDCE-4A92-84B4-10D41838E8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the law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are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seeking the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making b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rowd hear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d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sees the ange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listens to the an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79A1B99F-50C1-4A0B-A0F1-02605C0765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teach the wor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hear the so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keep the law of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speak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has faith in the son of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214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rother unties a slave for the Lo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ς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D77259EC-4618-4950-893D-4378C46181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F97B6AC2-DBF8-46D1-977A-28C686A44E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D09FE3A7-9545-40E5-97F9-A64847DE6D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κ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C6695ED-820E-4B02-AD90-CBA8DFDD6D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9-03-02T23:12:29Z</dcterms:modified>
  <cp:revision>79</cp:revision>
  <dc:subject/>
  <dc:title>Slide 1</dc:title>
</cp:coreProperties>
</file>