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FE3-9F76-4772-8182-9C5353B0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D766-65E3-4F25-BB89-608B9CEE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EF4-CE19-45DB-B598-4CA3AEDB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4D5-3CEB-4410-8535-6BBB2C0B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344-7BD9-424B-BFC4-EB612D37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C89-BF0E-4809-9C55-161DCEA7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2F6-FA12-44A1-905F-B8215150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D434-2F51-4143-B59E-B605C69D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9B81-E24E-43C0-AAA2-79F92A4B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11E-5140-44F1-BA52-78C9C9ED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D23-B8BD-4482-8D87-53062319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659-91CD-43A6-A06E-938C9852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ABB9-25C5-4E65-BDB2-17DEA5C21F0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1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4.1 REVI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214200" y="1582560"/>
            <a:ext cx="8286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ut the verb in the participle form indicated (all nom. mas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γραφω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οιε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ρχομαι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φιλε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λογιζομαι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ροσευχομαι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700600" y="231300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ψ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5700600" y="281952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ουντε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5715000" y="331308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χομεν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5715000" y="3830760"/>
            <a:ext cx="278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ησαντε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5715000" y="435780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ογισαμεν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5715000" y="485784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σευχομενο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42920" y="1357200"/>
            <a:ext cx="350028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ars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βαλλοντ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φωνησα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ρχομεναι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εμψα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ιωξαντ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δοντω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λπιζουσα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γειραντα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εχομενο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643120" y="205740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sent Active Masculine Plural Nomin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643120" y="251136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Masculine Singular Nomin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643120" y="294624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sent Deponent Feminine Plural Dati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643120" y="3387600"/>
            <a:ext cx="64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Neuter Singular Nominativ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ccus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2643120" y="383076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Mascul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Neuter Singular D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2643120" y="4286160"/>
            <a:ext cx="60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Mascul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Neuter Genitive Plu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2643120" y="4726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sent Active Feminine Singular Accus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643120" y="518472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Masculine Plural Accus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2643120" y="5626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sent Deponent Masculine Plural Nomin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3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14200" y="1508040"/>
            <a:ext cx="57866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νοιγω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Fem. Acc.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οιεω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Masc. Nom.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ηρυσσω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Neut. Gen.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ἁπτομαι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Masc. Dat.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ρχομαι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Neut. Nom.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ιστευω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Fem. Acc.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6215040" y="231300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γουσ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215040" y="281628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ησ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6215040" y="331308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ξαντω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215040" y="383076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πτομεν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215040" y="434340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θοντ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215040" y="483408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σασ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4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14200" y="1214280"/>
            <a:ext cx="542952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λθων ἐθεραπευσεν αὐτ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ναβαινων εἰδεν το πνευμ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φυγοντες ἠλθον εἰς ἱερ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βαπτιζεν τους πονηρου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μετανοησαντα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πομεν τοις ἐρχομενοις τεκνοι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βλεψατε τους γραμματε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σελθοντας εἰς το ἱερ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429080" y="19699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he had come, he healed h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429080" y="246528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ile he was going up, he saw the spir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429080" y="3387600"/>
            <a:ext cx="47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they fled, they went into a tem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429080" y="388764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was baptizing the wicked people who had repen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4429080" y="4807080"/>
            <a:ext cx="47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e spoke to the children as they c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4429080" y="528336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id you see the scribes who had gone into the temp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98328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5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4280" y="1214280"/>
            <a:ext cx="54295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ζητω την μελλουσαν βασιλεια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παγαγουσα εἰδεν τον πατερα αὐτη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λαλουντ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esus greeted the approaching crow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she saw she believ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Pharisee taught the Jews who wer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isten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the king heard this he sent his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ldiers to find the chi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729320" y="131292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am seeking the coming kingdo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714920" y="180324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fter she departed she saw her father spea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745160" y="2703600"/>
            <a:ext cx="42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Ἰησους ἠσπασατο τον προσερχομενον ὀχλ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759200" y="36259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δουσα ἐπιστευσε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4772160" y="4114800"/>
            <a:ext cx="42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Φαρισαιος ἐδιδαξεν τους ἀκουοντας Ἰουδαιου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4729320" y="5060880"/>
            <a:ext cx="46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κουσας τουτο ὁ βασιλευς ἀπεστειλεν (ἐπεμψεν) τους στρατιωτας αὐτου εὑρειν το  τεκνον (παιδιο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6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4.4 OTHER USES OF PARTICIP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42920" y="996840"/>
            <a:ext cx="542916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φιλειτε τους μισουντας ὑμα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Μωϋσης ἁγιος ὠν ἐλεγεν τῳ θε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θελω εἰσελθων εἰς τη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συναγωγη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κουσαι του ῥαββ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λεγον ἀλληλοις περι τω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γενομενω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saw the ones carrying the sick ma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epart and preach the gosp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786200" y="141444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ove those who hate y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786200" y="187812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ecause Moses was holy he used to speak to G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786200" y="281628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want to go into the synagogue and listen to the Rabb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786200" y="375912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were speaking to each other about what had happen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786200" y="467352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δον τους φεροντας τον ἀσθεν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786200" y="517356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ing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παγαγων κηρυξον το εὐαγγελι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.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l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παγαγοντες κηρυξατε το εὐαγγελι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6:38:41Z</dcterms:created>
  <dc:creator>Sarah</dc:creator>
  <dc:description/>
  <dc:language>en-US</dc:language>
  <cp:lastModifiedBy>Sarah</cp:lastModifiedBy>
  <dcterms:modified xsi:type="dcterms:W3CDTF">2008-09-30T20:26:46Z</dcterms:modified>
  <cp:revision>22</cp:revision>
  <dc:subject/>
  <dc:title>Slide 1</dc:title>
</cp:coreProperties>
</file>