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5B62-D2F7-429B-B3AB-44A407CD8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497C-F7C3-44AA-9311-CBE87BA8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266E-D2C0-4F1B-AAF5-DA6E7DA6D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3CFD-9D3D-440C-B4CF-2D18EAAF3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B54B-F561-4F2F-8F7B-97E22946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9489-FB33-43EC-8D4C-B6BFF403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BF86-F332-4E31-8D5E-330C77BD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DD14-36D8-45DF-A389-7B46336D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B563-9FF4-4A92-A65D-BF0FD448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E8D6-2846-4977-9DB6-17881502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0D41-8E42-4A16-9ADF-A55892A0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220A-6C9E-4823-BBB1-0B531BE7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7FA8-55D5-4750-947A-C81F3FE72C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B0E6-36EF-45D7-89A5-E52028DF533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Rectangle 4"/>
          <p:cNvSpPr/>
          <p:nvPr/>
        </p:nvSpPr>
        <p:spPr>
          <a:xfrm>
            <a:off x="1285920" y="15001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rite out the Greek alphabet in order and the English equivalents of each let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181160" y="2711520"/>
          <a:ext cx="6786360" cy="642960"/>
        </p:xfrm>
        <a:graphic>
          <a:graphicData uri="http://schemas.openxmlformats.org/drawingml/2006/table">
            <a:tbl>
              <a:tblPr/>
              <a:tblGrid>
                <a:gridCol w="565200"/>
                <a:gridCol w="565200"/>
                <a:gridCol w="564840"/>
                <a:gridCol w="567000"/>
                <a:gridCol w="577800"/>
                <a:gridCol w="552240"/>
                <a:gridCol w="565200"/>
                <a:gridCol w="567000"/>
                <a:gridCol w="564840"/>
                <a:gridCol w="565200"/>
                <a:gridCol w="565200"/>
                <a:gridCol w="56664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β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γ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δ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ζ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η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κ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λ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μ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176480" y="4356000"/>
          <a:ext cx="6753240" cy="795600"/>
        </p:xfrm>
        <a:graphic>
          <a:graphicData uri="http://schemas.openxmlformats.org/drawingml/2006/table">
            <a:tbl>
              <a:tblPr/>
              <a:tblGrid>
                <a:gridCol w="561960"/>
                <a:gridCol w="563400"/>
                <a:gridCol w="561960"/>
                <a:gridCol w="563760"/>
                <a:gridCol w="561960"/>
                <a:gridCol w="563400"/>
                <a:gridCol w="561960"/>
                <a:gridCol w="563760"/>
                <a:gridCol w="622080"/>
                <a:gridCol w="571680"/>
                <a:gridCol w="557280"/>
                <a:gridCol w="500040"/>
              </a:tblGrid>
              <a:tr h="79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ξ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π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ρ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φ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χ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ψ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1181160" y="3357720"/>
          <a:ext cx="6786360" cy="642960"/>
        </p:xfrm>
        <a:graphic>
          <a:graphicData uri="http://schemas.openxmlformats.org/drawingml/2006/table">
            <a:tbl>
              <a:tblPr/>
              <a:tblGrid>
                <a:gridCol w="565200"/>
                <a:gridCol w="566640"/>
                <a:gridCol w="565200"/>
                <a:gridCol w="565200"/>
                <a:gridCol w="579240"/>
                <a:gridCol w="552600"/>
                <a:gridCol w="565200"/>
                <a:gridCol w="565200"/>
                <a:gridCol w="564840"/>
                <a:gridCol w="567000"/>
                <a:gridCol w="565200"/>
                <a:gridCol w="56484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ē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1176480" y="5143680"/>
          <a:ext cx="6753240" cy="795240"/>
        </p:xfrm>
        <a:graphic>
          <a:graphicData uri="http://schemas.openxmlformats.org/drawingml/2006/table">
            <a:tbl>
              <a:tblPr/>
              <a:tblGrid>
                <a:gridCol w="563400"/>
                <a:gridCol w="561960"/>
                <a:gridCol w="563760"/>
                <a:gridCol w="561960"/>
                <a:gridCol w="563400"/>
                <a:gridCol w="561960"/>
                <a:gridCol w="563760"/>
                <a:gridCol w="561960"/>
                <a:gridCol w="622080"/>
                <a:gridCol w="571680"/>
                <a:gridCol w="557280"/>
                <a:gridCol w="500040"/>
              </a:tblGrid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ō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TextBox 11"/>
          <p:cNvSpPr/>
          <p:nvPr/>
        </p:nvSpPr>
        <p:spPr>
          <a:xfrm>
            <a:off x="-282600" y="2080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LETTERS OF THE GREEK ALPHABE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Practice </a:t>
            </a:r>
            <a:fld id="{364A3FAE-0592-4AFF-B121-72B7B68B998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52" name="Rectangle 4"/>
          <p:cNvSpPr/>
          <p:nvPr/>
        </p:nvSpPr>
        <p:spPr>
          <a:xfrm>
            <a:off x="357120" y="142884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Write out the English alphabet and give the Greek (small) letter equivalent to each one as far as possible (ignore q, v and w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285920" y="3273480"/>
          <a:ext cx="6095880" cy="503280"/>
        </p:xfrm>
        <a:graphic>
          <a:graphicData uri="http://schemas.openxmlformats.org/drawingml/2006/table">
            <a:tbl>
              <a:tblPr/>
              <a:tblGrid>
                <a:gridCol w="468360"/>
                <a:gridCol w="469800"/>
                <a:gridCol w="468360"/>
                <a:gridCol w="469800"/>
                <a:gridCol w="468360"/>
                <a:gridCol w="468360"/>
                <a:gridCol w="469800"/>
                <a:gridCol w="468360"/>
                <a:gridCol w="468360"/>
                <a:gridCol w="469800"/>
                <a:gridCol w="468360"/>
                <a:gridCol w="469800"/>
                <a:gridCol w="46836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1285920" y="3821040"/>
          <a:ext cx="6095880" cy="503280"/>
        </p:xfrm>
        <a:graphic>
          <a:graphicData uri="http://schemas.openxmlformats.org/drawingml/2006/table">
            <a:tbl>
              <a:tblPr/>
              <a:tblGrid>
                <a:gridCol w="468360"/>
                <a:gridCol w="469800"/>
                <a:gridCol w="468360"/>
                <a:gridCol w="469800"/>
                <a:gridCol w="468360"/>
                <a:gridCol w="468360"/>
                <a:gridCol w="469800"/>
                <a:gridCol w="468360"/>
                <a:gridCol w="468360"/>
                <a:gridCol w="469800"/>
                <a:gridCol w="468360"/>
                <a:gridCol w="469800"/>
                <a:gridCol w="46836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β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κ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δ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φ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γ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‘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κ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λ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μ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292400" y="4670280"/>
          <a:ext cx="6095880" cy="503280"/>
        </p:xfrm>
        <a:graphic>
          <a:graphicData uri="http://schemas.openxmlformats.org/drawingml/2006/table">
            <a:tbl>
              <a:tblPr/>
              <a:tblGrid>
                <a:gridCol w="468000"/>
                <a:gridCol w="470160"/>
                <a:gridCol w="468360"/>
                <a:gridCol w="469800"/>
                <a:gridCol w="468360"/>
                <a:gridCol w="468360"/>
                <a:gridCol w="469800"/>
                <a:gridCol w="468360"/>
                <a:gridCol w="468360"/>
                <a:gridCol w="469800"/>
                <a:gridCol w="468360"/>
                <a:gridCol w="469800"/>
                <a:gridCol w="46836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1297080" y="5238720"/>
          <a:ext cx="6095880" cy="503280"/>
        </p:xfrm>
        <a:graphic>
          <a:graphicData uri="http://schemas.openxmlformats.org/drawingml/2006/table">
            <a:tbl>
              <a:tblPr/>
              <a:tblGrid>
                <a:gridCol w="469800"/>
                <a:gridCol w="468360"/>
                <a:gridCol w="468360"/>
                <a:gridCol w="469800"/>
                <a:gridCol w="468360"/>
                <a:gridCol w="469800"/>
                <a:gridCol w="468360"/>
                <a:gridCol w="468360"/>
                <a:gridCol w="469800"/>
                <a:gridCol w="468360"/>
                <a:gridCol w="469800"/>
                <a:gridCol w="468360"/>
                <a:gridCol w="46836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π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ρ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τ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ξ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ζ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Box 9"/>
          <p:cNvSpPr/>
          <p:nvPr/>
        </p:nvSpPr>
        <p:spPr>
          <a:xfrm>
            <a:off x="-282600" y="2080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LETTERS OF THE GREEK ALPHABE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Practice </a:t>
            </a:r>
            <a:fld id="{E4FDBC06-3B03-41F2-B4A7-C234079CA01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760320" y="1249200"/>
            <a:ext cx="770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rite the sound of the following Greek words in English let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-282600" y="2080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LETTERS OF THE GREEK ALPHABE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63" name="TextBox 6"/>
          <p:cNvSpPr/>
          <p:nvPr/>
        </p:nvSpPr>
        <p:spPr>
          <a:xfrm>
            <a:off x="1262160" y="2079720"/>
            <a:ext cx="263988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απτισμ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θρον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οσμ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εγα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ικρ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υστηριον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ραβολ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ραλυτικ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αββατ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3616200" y="2141640"/>
            <a:ext cx="3516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baptisma-baptis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3629160" y="2627280"/>
            <a:ext cx="282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thronos- thro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0"/>
          <p:cNvSpPr/>
          <p:nvPr/>
        </p:nvSpPr>
        <p:spPr>
          <a:xfrm>
            <a:off x="3629160" y="3090960"/>
            <a:ext cx="4430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kosmos- cosmos, worl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1"/>
          <p:cNvSpPr/>
          <p:nvPr/>
        </p:nvSpPr>
        <p:spPr>
          <a:xfrm>
            <a:off x="3616200" y="3554280"/>
            <a:ext cx="3735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megas- gre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2"/>
          <p:cNvSpPr/>
          <p:nvPr/>
        </p:nvSpPr>
        <p:spPr>
          <a:xfrm>
            <a:off x="3616200" y="4043520"/>
            <a:ext cx="282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mikros- smal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3"/>
          <p:cNvSpPr/>
          <p:nvPr/>
        </p:nvSpPr>
        <p:spPr>
          <a:xfrm>
            <a:off x="3616200" y="4506840"/>
            <a:ext cx="5214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mustērion </a:t>
            </a:r>
            <a:r>
              <a:rPr b="0" i="1" lang="en-GB" sz="27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mysterion– mystery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4"/>
          <p:cNvSpPr/>
          <p:nvPr/>
        </p:nvSpPr>
        <p:spPr>
          <a:xfrm>
            <a:off x="3631320" y="5010120"/>
            <a:ext cx="3039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parabolē– parabl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5"/>
          <p:cNvSpPr/>
          <p:nvPr/>
        </p:nvSpPr>
        <p:spPr>
          <a:xfrm>
            <a:off x="3623760" y="5499000"/>
            <a:ext cx="55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paralutikos </a:t>
            </a:r>
            <a:r>
              <a:rPr b="0" i="1" lang="en-GB" sz="27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paralytikos–paralytic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3608280" y="5996160"/>
            <a:ext cx="5105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sabbaton- sabbath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6"/>
          <p:cNvSpPr/>
          <p:nvPr/>
        </p:nvSpPr>
        <p:spPr>
          <a:xfrm>
            <a:off x="6853320" y="6305400"/>
            <a:ext cx="2003400" cy="36540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Practice </a:t>
            </a:r>
            <a:fld id="{0BB071E5-0269-4DC6-A14C-219C74C9635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77760" y="1158840"/>
            <a:ext cx="913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following are real Greek words written in English letters. Write them in Greek (small) letters, and have a guess at their mean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446120" y="2230560"/>
            <a:ext cx="2095560" cy="42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blasphēm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kardi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ogiko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mētē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patē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pneumatiko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prophētē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py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phōn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-193680" y="193680"/>
            <a:ext cx="84772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LETTERS OF THE GREEK ALPHABE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79" name="TextBox 8"/>
          <p:cNvSpPr/>
          <p:nvPr/>
        </p:nvSpPr>
        <p:spPr>
          <a:xfrm>
            <a:off x="4199040" y="2138400"/>
            <a:ext cx="3786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βλασφημη-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blasphem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9"/>
          <p:cNvSpPr/>
          <p:nvPr/>
        </p:nvSpPr>
        <p:spPr>
          <a:xfrm>
            <a:off x="4199040" y="2602080"/>
            <a:ext cx="3786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k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αρδια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-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hea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4211640" y="3081240"/>
            <a:ext cx="397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λογικος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-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rational</a:t>
            </a:r>
            <a:r>
              <a:rPr b="0" lang="el-GR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piritu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1"/>
          <p:cNvSpPr/>
          <p:nvPr/>
        </p:nvSpPr>
        <p:spPr>
          <a:xfrm>
            <a:off x="4199040" y="3541680"/>
            <a:ext cx="399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μητηρ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-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mo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2"/>
          <p:cNvSpPr/>
          <p:nvPr/>
        </p:nvSpPr>
        <p:spPr>
          <a:xfrm>
            <a:off x="4211640" y="4030560"/>
            <a:ext cx="440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πατηρ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-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fa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4"/>
          <p:cNvSpPr/>
          <p:nvPr/>
        </p:nvSpPr>
        <p:spPr>
          <a:xfrm>
            <a:off x="4211640" y="4510080"/>
            <a:ext cx="4905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πνευματικος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-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pirit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5"/>
          <p:cNvSpPr/>
          <p:nvPr/>
        </p:nvSpPr>
        <p:spPr>
          <a:xfrm>
            <a:off x="4211640" y="4989600"/>
            <a:ext cx="340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προφητης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-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proph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6"/>
          <p:cNvSpPr/>
          <p:nvPr/>
        </p:nvSpPr>
        <p:spPr>
          <a:xfrm>
            <a:off x="4211640" y="5460840"/>
            <a:ext cx="292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πυρ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-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fi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7"/>
          <p:cNvSpPr/>
          <p:nvPr/>
        </p:nvSpPr>
        <p:spPr>
          <a:xfrm>
            <a:off x="4199040" y="5927760"/>
            <a:ext cx="3244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φωνη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-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vo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Practice </a:t>
            </a:r>
            <a:fld id="{7AF4E592-E97C-428D-9A06-082DBE683D0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91" name="TextBox 6"/>
          <p:cNvSpPr/>
          <p:nvPr/>
        </p:nvSpPr>
        <p:spPr>
          <a:xfrm>
            <a:off x="1906560" y="166680"/>
            <a:ext cx="46609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.2 BREATH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27000" y="1327320"/>
            <a:ext cx="734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which of these Greek words is there a error in the breath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2227320" y="1919160"/>
            <a:ext cx="2306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γ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χ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ἐγ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ιστευ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1"/>
          <p:cNvSpPr/>
          <p:nvPr/>
        </p:nvSpPr>
        <p:spPr>
          <a:xfrm>
            <a:off x="4405320" y="2254320"/>
            <a:ext cx="3063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            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γ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eft Arrow 13"/>
          <p:cNvSpPr/>
          <p:nvPr/>
        </p:nvSpPr>
        <p:spPr>
          <a:xfrm>
            <a:off x="4133880" y="2325600"/>
            <a:ext cx="682560" cy="36684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eft Arrow 16"/>
          <p:cNvSpPr/>
          <p:nvPr/>
        </p:nvSpPr>
        <p:spPr>
          <a:xfrm>
            <a:off x="4165560" y="4791240"/>
            <a:ext cx="682560" cy="366480"/>
          </a:xfrm>
          <a:prstGeom prst="leftArrow">
            <a:avLst>
              <a:gd name="adj1" fmla="val 50000"/>
              <a:gd name="adj2" fmla="val 50028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7"/>
          <p:cNvSpPr/>
          <p:nvPr/>
        </p:nvSpPr>
        <p:spPr>
          <a:xfrm>
            <a:off x="5640480" y="4700520"/>
            <a:ext cx="1558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εγ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eft Arrow 18"/>
          <p:cNvSpPr/>
          <p:nvPr/>
        </p:nvSpPr>
        <p:spPr>
          <a:xfrm>
            <a:off x="4133880" y="3147840"/>
            <a:ext cx="682560" cy="36684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9"/>
          <p:cNvSpPr/>
          <p:nvPr/>
        </p:nvSpPr>
        <p:spPr>
          <a:xfrm>
            <a:off x="5614920" y="3070080"/>
            <a:ext cx="1559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Practice </a:t>
            </a:r>
            <a:fld id="{A1D5723A-DD3A-4C72-B550-4EE47463DD3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309600" y="5808600"/>
            <a:ext cx="862812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* Note: When a Greek word containing the diphthong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</a:rPr>
              <a:t>αι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’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is transliterated into English the 'ai' is normally represented by 'ae'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104" name="TextBox 4"/>
          <p:cNvSpPr/>
          <p:nvPr/>
        </p:nvSpPr>
        <p:spPr>
          <a:xfrm>
            <a:off x="2022480" y="166680"/>
            <a:ext cx="48290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.3 CAPITAL LETT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1751040" y="1712880"/>
            <a:ext cx="2319480" cy="55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υλ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αρι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βραα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‘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Ιωσηφ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ιμ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Ἡρῳδη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Ἰερουσαλη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ισα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500040" y="1276200"/>
            <a:ext cx="51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rite these names in English let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4854600" y="1763640"/>
            <a:ext cx="2486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Paulos (Paul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4854600" y="2254320"/>
            <a:ext cx="2486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Maria (Mary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4854600" y="2730600"/>
            <a:ext cx="3190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Abraam (Abraham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4906800" y="3219480"/>
            <a:ext cx="199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Josep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4881600" y="3695760"/>
            <a:ext cx="2433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Sim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3"/>
          <p:cNvSpPr/>
          <p:nvPr/>
        </p:nvSpPr>
        <p:spPr>
          <a:xfrm>
            <a:off x="4869000" y="4159080"/>
            <a:ext cx="3176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Heroides (Herod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4"/>
          <p:cNvSpPr/>
          <p:nvPr/>
        </p:nvSpPr>
        <p:spPr>
          <a:xfrm>
            <a:off x="4919760" y="4667400"/>
            <a:ext cx="2279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Jerusale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5"/>
          <p:cNvSpPr/>
          <p:nvPr/>
        </p:nvSpPr>
        <p:spPr>
          <a:xfrm>
            <a:off x="4894200" y="5149800"/>
            <a:ext cx="2355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Caesar*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Practice </a:t>
            </a:r>
            <a:fld id="{D67DC196-B847-48AD-9BAF-BF048C08939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118" name="TextBox 3"/>
          <p:cNvSpPr/>
          <p:nvPr/>
        </p:nvSpPr>
        <p:spPr>
          <a:xfrm>
            <a:off x="385920" y="219240"/>
            <a:ext cx="9375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.4 DIPHTHONGS AND IOTA SUBSCRIP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894960" y="1327320"/>
            <a:ext cx="49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Write these names in Greek let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874800" y="1906560"/>
            <a:ext cx="3747960" cy="4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Barnabas (Barnaba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Petros  (Peter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Philippos (Philip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Pilatos (Pilat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Timotheos (Timothy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Joudaea (Judea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Satanas (Sata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Pharisaios (Pharisee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5357880" y="2048040"/>
            <a:ext cx="2352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αρναβα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5010120" y="3052800"/>
            <a:ext cx="24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8"/>
          <p:cNvSpPr/>
          <p:nvPr/>
        </p:nvSpPr>
        <p:spPr>
          <a:xfrm>
            <a:off x="5319720" y="3706920"/>
            <a:ext cx="2352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ιλατ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9"/>
          <p:cNvSpPr/>
          <p:nvPr/>
        </p:nvSpPr>
        <p:spPr>
          <a:xfrm>
            <a:off x="5332320" y="3146400"/>
            <a:ext cx="2352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Φιλιππ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0"/>
          <p:cNvSpPr/>
          <p:nvPr/>
        </p:nvSpPr>
        <p:spPr>
          <a:xfrm>
            <a:off x="5345280" y="2595600"/>
            <a:ext cx="2352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ετρ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1"/>
          <p:cNvSpPr/>
          <p:nvPr/>
        </p:nvSpPr>
        <p:spPr>
          <a:xfrm>
            <a:off x="5322960" y="4289400"/>
            <a:ext cx="2352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ιμοθε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5322960" y="4846680"/>
            <a:ext cx="2352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Ἰουδαι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3"/>
          <p:cNvSpPr/>
          <p:nvPr/>
        </p:nvSpPr>
        <p:spPr>
          <a:xfrm>
            <a:off x="5322960" y="5394240"/>
            <a:ext cx="2354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ατανα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4"/>
          <p:cNvSpPr/>
          <p:nvPr/>
        </p:nvSpPr>
        <p:spPr>
          <a:xfrm>
            <a:off x="5305320" y="5924520"/>
            <a:ext cx="235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Φαρισαι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Practice </a:t>
            </a:r>
            <a:fld id="{EE941B5D-F9F2-44AE-A453-A56F72253DB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360360" y="1403280"/>
            <a:ext cx="84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Which of the following words has a smooth breath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1868400" y="231840"/>
            <a:ext cx="6678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.5 ACCENT AND STRES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135" name="TextBox 5"/>
          <p:cNvSpPr/>
          <p:nvPr/>
        </p:nvSpPr>
        <p:spPr>
          <a:xfrm>
            <a:off x="2216160" y="2189160"/>
            <a:ext cx="2909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άλλ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ἄγ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ὑρίσκ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ἅγι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ἰ</a:t>
            </a:r>
            <a:r>
              <a:rPr b="0" lang="en-GB" sz="2700" spc="-1" strike="noStrike">
                <a:solidFill>
                  <a:srgbClr val="ffffff"/>
                </a:solidFill>
                <a:latin typeface="Greek"/>
              </a:rPr>
              <a:t>î</a:t>
            </a:r>
            <a:r>
              <a:rPr b="0" lang="el-GR" sz="2700" spc="-1" strike="noStrike">
                <a:solidFill>
                  <a:srgbClr val="ffffff"/>
                </a:solidFill>
                <a:latin typeface="Greek"/>
              </a:rPr>
              <a:t>τ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eft Arrow 7"/>
          <p:cNvSpPr/>
          <p:nvPr/>
        </p:nvSpPr>
        <p:spPr>
          <a:xfrm>
            <a:off x="4286160" y="3395520"/>
            <a:ext cx="682560" cy="36684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eft Arrow 8"/>
          <p:cNvSpPr/>
          <p:nvPr/>
        </p:nvSpPr>
        <p:spPr>
          <a:xfrm>
            <a:off x="4305240" y="5869080"/>
            <a:ext cx="682560" cy="366480"/>
          </a:xfrm>
          <a:prstGeom prst="leftArrow">
            <a:avLst>
              <a:gd name="adj1" fmla="val 50000"/>
              <a:gd name="adj2" fmla="val 50028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Practice </a:t>
            </a:r>
            <a:fld id="{697DEF88-DBE7-4B66-9EF0-66EFE698CF2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3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"/>
          <p:cNvSpPr/>
          <p:nvPr/>
        </p:nvSpPr>
        <p:spPr>
          <a:xfrm>
            <a:off x="986760" y="1519200"/>
            <a:ext cx="31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ich are question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2679840" y="231840"/>
            <a:ext cx="6680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.6 PUNCTUATIO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143" name="TextBox 5"/>
          <p:cNvSpPr/>
          <p:nvPr/>
        </p:nvSpPr>
        <p:spPr>
          <a:xfrm>
            <a:off x="2292480" y="2125800"/>
            <a:ext cx="2936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ει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χω∙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ουσ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αλλε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εγετ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eft Arrow 6"/>
          <p:cNvSpPr/>
          <p:nvPr/>
        </p:nvSpPr>
        <p:spPr>
          <a:xfrm>
            <a:off x="4630680" y="2533680"/>
            <a:ext cx="681120" cy="366840"/>
          </a:xfrm>
          <a:prstGeom prst="leftArrow">
            <a:avLst>
              <a:gd name="adj1" fmla="val 50000"/>
              <a:gd name="adj2" fmla="val 49985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eft Arrow 7"/>
          <p:cNvSpPr/>
          <p:nvPr/>
        </p:nvSpPr>
        <p:spPr>
          <a:xfrm>
            <a:off x="4616280" y="5016600"/>
            <a:ext cx="682920" cy="366480"/>
          </a:xfrm>
          <a:prstGeom prst="leftArrow">
            <a:avLst>
              <a:gd name="adj1" fmla="val 50000"/>
              <a:gd name="adj2" fmla="val 50054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Practice </a:t>
            </a:r>
            <a:fld id="{E109857A-B031-4665-9121-C89834CE387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9:51:08Z</dcterms:created>
  <dc:creator>Sarah</dc:creator>
  <dc:description/>
  <dc:language>en-US</dc:language>
  <cp:lastModifiedBy>Sarah</cp:lastModifiedBy>
  <dcterms:modified xsi:type="dcterms:W3CDTF">2009-03-02T22:42:10Z</dcterms:modified>
  <cp:revision>79</cp:revision>
  <dc:subject/>
  <dc:title>Slide 1</dc:title>
</cp:coreProperties>
</file>