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48AA-6B18-47E4-ACAC-B07172D0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951C-A15A-46C2-9BD7-3BF3538A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2210-6C07-4F97-981F-9AEA662E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A76F-BB5F-4587-887C-03AE9ADD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6647-5134-480E-8A80-43FEC49C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60DB-1FA3-4D67-A055-6B1139E5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A956-F0CB-4AA7-ADA2-A658694D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7417-B7EF-4019-9BAE-423EEE4E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858A-025E-4AEA-AEC7-D5BBAC1E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E573-75C5-4B54-96D1-D7EFF740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98E2-3E25-4D26-AD7B-70C9535F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8767-5BFD-4080-B94C-216DB1A8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B9FB-1BEC-477D-9321-74A5CB19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D531-8BDF-40E3-824A-4867FF13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BC70-E44B-4A28-A885-99387A28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7592-B27C-4AC5-8630-7799353F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D9B9-362C-45DA-A688-D67D2299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1736-9EC2-4959-9E47-E3A5A35D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DF1-AFE0-47C2-B5C4-4A3E91CA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4FC6-D4C1-4FE7-BB77-E92950FD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462-8982-433E-A21C-56763D2A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BFD-CEA0-4E0B-AC18-E803EAFF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38E2-F2A1-4E1A-853B-1BFDC0CE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607F-F5A1-48DC-8689-5816F1D5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E80A-DE68-4C23-802F-C0B0AC3D0D1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0CD9-5405-4A12-A688-3F2726B3D48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301680" y="21420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Practice </a:t>
            </a:r>
            <a:fld id="{D6867A3B-6CA2-4AA6-89AA-A3EEFCB85DC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000080" y="1571760"/>
            <a:ext cx="4143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27"/>
          <p:cNvSpPr/>
          <p:nvPr/>
        </p:nvSpPr>
        <p:spPr>
          <a:xfrm>
            <a:off x="271440" y="11811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1143000" y="1488960"/>
            <a:ext cx="44290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τῳ κοσμ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ς τους οὐρανου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ς τα πλο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 της οἰκι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 του ἱερ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τῃ ἐκκλησι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rom the he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to the crow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way from hi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4772160" y="16272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the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4772160" y="218124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to the heav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4782960" y="27288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owards the boa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4772160" y="3286080"/>
            <a:ext cx="344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ut of (from) the ho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4772160" y="3814920"/>
            <a:ext cx="38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away) from the te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4772160" y="4357800"/>
            <a:ext cx="351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the Church (assembl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4772160" y="4875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 της καρδι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4782960" y="54054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ς τους ὀχλου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4772160" y="5910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 του αὐτ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301680" y="21420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 MORE PREPOSITION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Practice </a:t>
            </a:r>
            <a:fld id="{32B9FF8C-9880-4608-B148-7475B99C254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000080" y="1571760"/>
            <a:ext cx="4143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27"/>
          <p:cNvSpPr/>
          <p:nvPr/>
        </p:nvSpPr>
        <p:spPr>
          <a:xfrm>
            <a:off x="271440" y="11811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1143000" y="1488960"/>
            <a:ext cx="44290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ετ’ αὐ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α τον νομο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τα του θε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ερ του κυρι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 τον θεο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α του Χριστ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bout lo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ut of the s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under the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4772160" y="16272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ith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4772160" y="2181240"/>
            <a:ext cx="29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cause of the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4782960" y="27288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gainst G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4772160" y="3286080"/>
            <a:ext cx="344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n behalf of the L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4772160" y="3814920"/>
            <a:ext cx="38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rom G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4772160" y="4357800"/>
            <a:ext cx="351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rough Chr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4772160" y="4875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ι (της) ἀγαπ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4782960" y="54054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 (της) θαλασ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4772160" y="5910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ο την γη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027"/>
          <p:cNvSpPr/>
          <p:nvPr/>
        </p:nvSpPr>
        <p:spPr>
          <a:xfrm>
            <a:off x="271440" y="1170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301680" y="21420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Practice </a:t>
            </a:r>
            <a:fld id="{64A752A2-7B4E-4C29-AA12-081E3FE434B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0" y="1649520"/>
            <a:ext cx="5429160" cy="46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δια τον λογον του κυριου πιστευω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ὁ Ἰησους ἀγει τους ἀδελφους προς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τα πλοι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λαλαουσιν αὐτῳ περι του ἱερ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λεγει ὁ κυριος της οἰκιας ὑπερ το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τεκν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ὁ υἱος λαμβανει τον ἀρτον μετ’ αὐτ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ὁ θεος φιλει τα ἐργα κατα τον νομο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4781520" y="167004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believe because of the word of the Lord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4772160" y="23670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esus is leading the brothers towards the boa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786200" y="34290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are speaking to him about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786200" y="41022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master of the household speaks on behalf of his chi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4797360" y="515772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on takes the bread with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4786200" y="58644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d loves the deeds according to the la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Practice </a:t>
            </a:r>
            <a:fld id="{F19BF498-B7F9-4A3B-85FB-7622A9A7EDE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301680" y="21420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27"/>
          <p:cNvSpPr/>
          <p:nvPr/>
        </p:nvSpPr>
        <p:spPr>
          <a:xfrm>
            <a:off x="271440" y="1170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42920" y="1755720"/>
            <a:ext cx="5429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ὁ Παυλος λεγει τῳ λαῳ κατα το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Χριστου του θε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4929120" y="17748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ul speaks to the people against God’s messia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4929120" y="253692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are leading the children into the ho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4929120" y="322740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ω αὐτο ἐν τῃ καρδια αὐτ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4929120" y="392904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Ἰησους διδασκει τον ὀχλον ἐξω του ἱερ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4929120" y="471492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φιλει τους λαους ὑπο (τον) οὐραν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0"/>
          <p:cNvSpPr/>
          <p:nvPr/>
        </p:nvSpPr>
        <p:spPr>
          <a:xfrm>
            <a:off x="4929120" y="552780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λεγει τον νομον δια ἀγγελων (δι’ ἀγγελω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1"/>
          <p:cNvSpPr/>
          <p:nvPr/>
        </p:nvSpPr>
        <p:spPr>
          <a:xfrm>
            <a:off x="136440" y="2517840"/>
            <a:ext cx="54291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ἀγουσιν τα τεκνα εἰς τον οἰκο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142920" y="3214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see it in her he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3"/>
          <p:cNvSpPr/>
          <p:nvPr/>
        </p:nvSpPr>
        <p:spPr>
          <a:xfrm>
            <a:off x="157320" y="407196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esus is teaching the crowd outside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4"/>
          <p:cNvSpPr/>
          <p:nvPr/>
        </p:nvSpPr>
        <p:spPr>
          <a:xfrm>
            <a:off x="146160" y="47386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d loves the peoples under hea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139680" y="55418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d speaks the law through ang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685800" y="1643040"/>
            <a:ext cx="7772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ich of the following would use an instrumental dative</a:t>
            </a:r>
            <a:r>
              <a:rPr b="0" lang="el-GR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Gree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428840" y="264312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went with h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428840" y="335772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was hit by a st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428840" y="407196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was helped by 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433520" y="478152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was walking with a sti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Practice </a:t>
            </a:r>
            <a:fld id="{8261C70D-314A-4542-BE56-766E84C6AB8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21420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INSTRUMENTS AND D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eft Arrow 9"/>
          <p:cNvSpPr/>
          <p:nvPr/>
        </p:nvSpPr>
        <p:spPr>
          <a:xfrm>
            <a:off x="5214960" y="3405240"/>
            <a:ext cx="682560" cy="366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eft Arrow 10"/>
          <p:cNvSpPr/>
          <p:nvPr/>
        </p:nvSpPr>
        <p:spPr>
          <a:xfrm>
            <a:off x="5214960" y="4862520"/>
            <a:ext cx="682560" cy="366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87480" y="24768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.5 and 4.6 QUESTIONS &amp; NEG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1000080" y="2095560"/>
            <a:ext cx="41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27"/>
          <p:cNvSpPr/>
          <p:nvPr/>
        </p:nvSpPr>
        <p:spPr>
          <a:xfrm>
            <a:off x="271440" y="1285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1143000" y="2013120"/>
            <a:ext cx="44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ἀκου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οὐκ ἀκου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ως ἡ καρδια λεγ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 πιστευω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υ ἀγεις τον ὀχλ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νομ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ρει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4572000" y="21510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es God hea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4572000" y="2705040"/>
            <a:ext cx="27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God does not h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4583160" y="3252960"/>
            <a:ext cx="371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w does the heart spea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572000" y="3809880"/>
            <a:ext cx="34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 do not believe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4572000" y="4336920"/>
            <a:ext cx="451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here are you leading the crow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4572000" y="4881600"/>
            <a:ext cx="351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 you keep the law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5:58:03Z</dcterms:created>
  <dc:creator>Sarah</dc:creator>
  <dc:description/>
  <dc:language>en-US</dc:language>
  <cp:lastModifiedBy>Sarah</cp:lastModifiedBy>
  <dcterms:modified xsi:type="dcterms:W3CDTF">2009-03-03T14:54:23Z</dcterms:modified>
  <cp:revision>35</cp:revision>
  <dc:subject/>
  <dc:title>Slide 1</dc:title>
</cp:coreProperties>
</file>