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FF3-AD1B-4E71-BF4D-4D303660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D76-F96E-4D76-805F-1612583D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524-847F-4842-9400-7C729409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00C-45B7-4BE3-AEBB-9615E4F1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812-46DA-469F-B6A0-E9CADD83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0192-31D5-40A1-B541-DEB6F274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E3DD-B3FA-418C-8B70-97ADAF61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776-6B97-429E-A33C-2BF8A7C0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0008-2AFB-4AB7-856A-A9EC1AC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24BE-5119-48D9-9158-B2011366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1D4F-A047-4E86-A8AE-3A9DB82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84E-1904-41FF-8487-7C22874B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350B-04D5-4830-9C82-9AA5D68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44D6-CD00-4844-BE6F-4E343C7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C8B8-2570-4B57-B1DB-A7181ECC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F9A8-B197-49B7-8E3B-A3CA746C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9403-7EEE-46F7-A03D-8A057F43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121-4C65-4133-A9B2-8FD2BF7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B7F-7F91-4ED8-8E6C-C33EF8B0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439-129E-4363-998F-23698808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9EC-51EB-43E2-910D-B9DD15B4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1D0-EA15-4F09-9567-ABE49FB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A12-7770-4860-A667-158D8D5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333-2ACB-45D6-BC00-6107608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93A-A479-4BB0-A3EF-EF1F768F30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861E-B440-4CD8-9B2A-27FCBF94A1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6457F68B-7993-4A50-A395-2942745F7B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28760" y="1357200"/>
            <a:ext cx="52149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s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 - 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 - 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 - ε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σ - 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 - 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429080" y="28684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429080" y="349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429080" y="4106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429080" y="4708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429080" y="5232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6:Practice </a:t>
            </a:r>
            <a:fld id="{1117697B-552F-47F0-91B3-59FBA40AF06A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κυν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τ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ηρ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χαρι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ᾠκοδομησα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ill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102280" y="318456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wor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ee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102280" y="520704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ga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E6BD9AA9-151D-4A6C-BCCB-1DA2207378E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8760" y="1417680"/>
            <a:ext cx="764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Greek tenses are correct for the follow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used to 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are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429080" y="2813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429080" y="3346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429080" y="3902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080" y="4449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9080" y="5013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88A74F8E-5315-4A70-80C0-77342B3B6E7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ζ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429080" y="2271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42908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429080" y="351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s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41022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bap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429080" y="4737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bel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429080" y="5369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4FB57926-A6BD-497F-8B13-0C53A10E509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0040" y="1228680"/>
            <a:ext cx="485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υσα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er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60840" y="2043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th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57600" y="2511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unt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57600" y="2970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ill 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57600" y="343224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sing.) are throwing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57600" y="3875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l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57600" y="43275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se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560840" y="4759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54360" y="5218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557600" y="5681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μβαν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17F025FA-AC6E-43FF-AB13-7385D28C2E4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7120" y="1357200"/>
            <a:ext cx="521496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εν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ἀκουσει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ἁγιοι ἐχουσιν τ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ομεν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α τον λογον ἐπιστευσα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714920" y="2259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teaching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71492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will hea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4920" y="3497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ones have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714920" y="4089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unti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14920" y="47372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you believe because of the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14920" y="54943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peaking about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64760" y="5322960"/>
            <a:ext cx="389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περι της βασιλει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CD164B90-DE41-4FFC-B810-62E167661BF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190520"/>
            <a:ext cx="43578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ἀπολυσεις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δελφοι οὐκ ἐπιστευ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d to tak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elieved th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master will set free 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used to speak but now I will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14920" y="2098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ill you divorce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14920" y="27036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s did not bel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14920" y="325908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ομεν το πλο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714920" y="378612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714920" y="437976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ος κυριος ἀπολυσει τους 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4714920" y="545940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ἀλλα νυν ἀκου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246B14FD-6AB5-4766-9B24-2E2925E191B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Imperfec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η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ελαμβαν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π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-112680" y="2412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 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71790231-D2E2-4E50-97D7-2B531FAA4C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Aoris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ζ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κο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λ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οξα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ALING WITH THE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19AD7ECB-A65B-46D3-B715-F676850175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ense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ραζ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ω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ραψ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χ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ι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102280" y="3184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102280" y="5207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21:07Z</dcterms:created>
  <dc:creator>Sarah</dc:creator>
  <dc:description/>
  <dc:language>en-US</dc:language>
  <cp:lastModifiedBy>Sarah</cp:lastModifiedBy>
  <dcterms:modified xsi:type="dcterms:W3CDTF">2008-09-07T14:35:32Z</dcterms:modified>
  <cp:revision>44</cp:revision>
  <dc:subject/>
  <dc:title>Slide 1</dc:title>
</cp:coreProperties>
</file>