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9FC-7768-42AC-BCCB-538BE021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B8E-9A92-44E4-802B-238DAD85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9E6-9A5E-489C-899F-A0194E0B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905-0B96-42B3-A509-34F01C6B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B53-FC2F-41A6-B061-1D060077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D5C-1A1E-4E07-AE29-2C25FB78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4DF-9641-4E03-ACCB-9E6C0A64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0573-806A-46BB-8DA2-29FEAD37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314-1389-4164-9D61-F5B9F0DE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88B-BE93-43A8-92F7-EFA017A7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2EE-25E3-4F66-A806-2F0C98C0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A30-E753-4664-B749-5F2B2671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3871-875D-40BE-A996-6137EDB5E9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Practice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58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42920" y="1285920"/>
            <a:ext cx="450036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φιλεις τον θεον, σοφος ε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ἠκουσεν οὐκ ἀν ἀπεθα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αν ὁ βασιλευς ἐξελθῃ, οἱ δουλοι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υθ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το εὐαγγελιον κηρυσσεται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αιρε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ἀκαθαρτοι ἠμεν, οὐκ ἀν ἐν τῳ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ἱερῳ ἐκαθημεθ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αν ἐγω δω σοι, δωσεις οὐν συ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λλο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357800" y="198612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you (s.) love God, you are 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357800" y="242892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he had heard, he would not have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357800" y="287172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the king goes out, the slave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ll be rele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357800" y="375768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the gospel is preached, rejoi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4357800" y="46576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we were unclean, then we would not sit in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4371840" y="5543640"/>
            <a:ext cx="45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 give to you (s.), will you therefore give to 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Practice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58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42920" y="1285920"/>
            <a:ext cx="450036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θοντος δε Ἰησου οἱ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δασκαλοι ἐθαυμαζ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γαρ ἐβλεπον ἐπιστευον ἀ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 δε βασιλεως ἀποθανοντο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λθον εἰς την Γαλιλα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μερας γενομενης ἐλαλει τῳ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ὀχλ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αν τα δαιμονια ἐκβληθῃ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ὐχαριστησο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 γαρ λογου κηρυσσομενου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ἀκουοντες ἐπιστευ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4314960" y="192888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Jesus came, the teachers we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ma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313160" y="265752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it they see they would belie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313160" y="30430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the king died, they went int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lil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327560" y="3749760"/>
            <a:ext cx="503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day came (happened) he was talking (began to talk) to the cro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343400" y="448632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the demons are thrown out, we will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jo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343400" y="521496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while the word was being preached, those who were listening belie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142920" y="1285920"/>
            <a:ext cx="4500360" cy="54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υ δε ὀντος ἁγιου παντε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φοβουντ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ὁ νομος οὐκ ἐδωθη, οὐκ ἀ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νωσαν την ἁμαρτ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she came in the angel sai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her, ‘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he is holy he will worship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were day we would not be afr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he had been raised everyon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as amazed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429080" y="197640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ce he was holy, they all were afr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429080" y="286056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the law had not been given, the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uld not have known s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Practice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241200" y="258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4430880" y="3728880"/>
            <a:ext cx="45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ης εἰσερχομενης, ὁ ἀγγελο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αὐτῃ∙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4444920" y="46148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αν ᾐ ἁγιος προσκυνησει τῳ θε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4459320" y="506736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ἡμερα ἠν οὐκ ἀν ἐφοβουμεθ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4473720" y="5513400"/>
            <a:ext cx="45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υ ἐγερθεντος παντε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θαυμαζ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2920" y="1285920"/>
            <a:ext cx="450036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ιδασκαλος ἠν καθημενος μετ’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ῳ προφητῃ ἐστι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εγραμμε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ἠν Ἰωσηφ ἐνδεδυμενο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λον ἱματ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ιμωμενος δε ἐσται ὁ προφη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313160" y="197640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teacher was sitting with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313160" y="2860560"/>
            <a:ext cx="46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is written in the prophet. (Perfect participle – it stands written, it has been writ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314960" y="422928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Joseph was wearing a beautiful gar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4313160" y="5100480"/>
            <a:ext cx="54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rophet will be honou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241200" y="258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3 PERIPHRASTIC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Practice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42920" y="572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COMPARISON AND FORMATION OF ADJECTIVES AND AD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285840" y="1228680"/>
            <a:ext cx="4000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γιωτ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αχιστο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κωτερ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νηροτατ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ιζον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ἱκανω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2143080" y="199224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lative Adverb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djective Neuter Nomin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ccus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2157480" y="308448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lative Adjective Neute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sculine D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2157480" y="36432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arative Adjective Neute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sculine Genitive 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2157480" y="419904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lative Adjective Masculine Nomin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2157480" y="474336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arative Adjective Masculine Accusative Sing.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uter Nominativ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ccus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2155680" y="584352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2:25:55Z</dcterms:created>
  <dc:creator>Sarah</dc:creator>
  <dc:description/>
  <dc:language>en-US</dc:language>
  <cp:lastModifiedBy>Sarah</cp:lastModifiedBy>
  <dcterms:modified xsi:type="dcterms:W3CDTF">2009-03-03T23:36:14Z</dcterms:modified>
  <cp:revision>8</cp:revision>
  <dc:subject/>
  <dc:title>Slide 1</dc:title>
</cp:coreProperties>
</file>