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5F7E-7B9D-417B-8B6F-837273AC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A29-6129-4CEE-B5C1-491F8C95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193-4C1E-4D38-98D4-DF6A738D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BF84-1399-47F0-8DDE-4DEFD101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83A6-F94A-452F-B195-22EBACD9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9A3E-AFC7-4564-9036-49590FC1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3890-28BE-4D7D-A817-11A02516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93BC-AD8B-4C67-9D1D-7BFF8FDC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3F86-B420-45D4-B3F0-DB8C137B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F98E-F592-4E7C-B13E-891ECAB4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DF8D-4BB5-40A9-B5FA-7499518B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845B-5258-4086-86FD-4105FAED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36D4-9728-498B-8724-6091C7C8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1818-C050-4108-A0A1-BD576501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6958-8011-4C7D-8ACD-409BF759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BFAD-1D7A-4D0B-BF23-807267C9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14F8-D59E-4BE9-9D45-FF7D7134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FDED-5BAA-42FA-92E9-DE081031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65B-1987-4ECB-9457-85ABF51D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EA6B-541B-4375-9B44-EA71647D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93A3-E2F9-4CF0-B035-BCE0B604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243-E29A-458F-91D4-02FF4D93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AC88-8F1B-4AEE-AA87-2CF2F72C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472E-8DB6-4CFD-B0BA-6AF54E4D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D2FA-A047-4BD2-A4B4-E9E76192969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3DCE-0F21-44C0-B37B-05211BB8BCF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301680" y="2142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Practice </a:t>
            </a:r>
            <a:fld id="{6B816499-A29B-43CE-9E0F-FCA4E5F7C79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000080" y="1571760"/>
            <a:ext cx="4143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27"/>
          <p:cNvSpPr/>
          <p:nvPr/>
        </p:nvSpPr>
        <p:spPr>
          <a:xfrm>
            <a:off x="271440" y="11811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1143000" y="1488960"/>
            <a:ext cx="44290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ῳ κοσμ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ς τους οὐραν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ς τα πλο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 της οικ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 του ἱερ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ῃ ἐκκλησι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rom the he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to the crow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way from hi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4772160" y="16272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the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4772160" y="218124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to the heav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4782960" y="27288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owards the bo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4772160" y="3286080"/>
            <a:ext cx="344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ut of (from) the ho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4772160" y="3814920"/>
            <a:ext cx="38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away) from the te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4772160" y="4357800"/>
            <a:ext cx="351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the Church (assembl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4772160" y="4875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 τους καρδι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4782960" y="54054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ις τους ὀχλ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4772160" y="5910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 του αὐτ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301680" y="2142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MORE PREPOSITION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Practice </a:t>
            </a:r>
            <a:fld id="{DC2C4E95-9956-4F19-B4FB-7FDBDF5F38B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000080" y="1571760"/>
            <a:ext cx="4143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27"/>
          <p:cNvSpPr/>
          <p:nvPr/>
        </p:nvSpPr>
        <p:spPr>
          <a:xfrm>
            <a:off x="271440" y="11811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1143000" y="1488960"/>
            <a:ext cx="44290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ετ’ αὐ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α τον νομο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τα του θε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ὐπερ του κυρι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 τον θεο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α του Χριστ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bout lo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ut of the s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under the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4772160" y="16272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ith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4772160" y="2181240"/>
            <a:ext cx="29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cause of the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4782960" y="27288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gainst G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4772160" y="3286080"/>
            <a:ext cx="344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n behalf of the L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4772160" y="3814920"/>
            <a:ext cx="38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rom G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4772160" y="4357800"/>
            <a:ext cx="351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rough Chr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4772160" y="4875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 (της) ἀγαπ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4782960" y="54054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 (της) θαλασ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4772160" y="5910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ο την γη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027"/>
          <p:cNvSpPr/>
          <p:nvPr/>
        </p:nvSpPr>
        <p:spPr>
          <a:xfrm>
            <a:off x="271440" y="1170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301680" y="2142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Practice </a:t>
            </a:r>
            <a:fld id="{54D8F5A4-7EFC-40A2-9EE2-2678D8B4F93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0" y="1649520"/>
            <a:ext cx="5429160" cy="46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δια τον λογον του κυριου πιστευω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ὁ Ἰησους ἀγει τους ἀδελφους προς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τα πλοι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λαλαουσιν αὐτῳ περι του ἱερ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λεγει ὁ κυριος της οἰκιας ὑπερ το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τεκν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ὁ υἱος λαμβανει τον ἀρτον μετ’ αὐτ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ὁ θεος φιλει τα ἐργα κατα τον νομο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781520" y="167004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believe because of the word of the L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4772160" y="23670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esus is leading the brothers towards the boa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786200" y="34290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are speaking to him about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786200" y="41022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master of the household speaks on behalf of his chi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4797360" y="515772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on takes the bread with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4786200" y="58644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 loves the deeds according to the la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Practice </a:t>
            </a:r>
            <a:fld id="{8D98F5D3-73F1-45E1-A6F7-38850AEDCDD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301680" y="2142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27"/>
          <p:cNvSpPr/>
          <p:nvPr/>
        </p:nvSpPr>
        <p:spPr>
          <a:xfrm>
            <a:off x="271440" y="1170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42920" y="1755720"/>
            <a:ext cx="5429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ὁ Παυλος λεγει τῳ λαῳ κατα το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Χριστου του θε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4929120" y="17748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ul speaks to the people against God’s messia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4929120" y="253692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are leading the children into the ho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4929120" y="322740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ω αὐτο ἐν τῃ καρδια αὐτ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4929120" y="392904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Ἰησους διδασκει τον ὀχλον ἐξω του ἱερ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4929120" y="471492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φιλει τους λαους ὑπο (τον) οὐραν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0"/>
          <p:cNvSpPr/>
          <p:nvPr/>
        </p:nvSpPr>
        <p:spPr>
          <a:xfrm>
            <a:off x="4929120" y="552780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λεγει τον νομον δια ἀγγελων (δι’ ἀγγελω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1"/>
          <p:cNvSpPr/>
          <p:nvPr/>
        </p:nvSpPr>
        <p:spPr>
          <a:xfrm>
            <a:off x="136440" y="2517840"/>
            <a:ext cx="54291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ἀγουσιν τα τεκνα εἰς τον οἰκο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142920" y="3214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see it in her he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3"/>
          <p:cNvSpPr/>
          <p:nvPr/>
        </p:nvSpPr>
        <p:spPr>
          <a:xfrm>
            <a:off x="157320" y="407196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esus is teaching the crowd outside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4"/>
          <p:cNvSpPr/>
          <p:nvPr/>
        </p:nvSpPr>
        <p:spPr>
          <a:xfrm>
            <a:off x="146160" y="47386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 loves the peoples under hea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139680" y="55418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 speaks the law through ang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85800" y="1643040"/>
            <a:ext cx="7772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ich of the following would use an instrumental dativ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428840" y="264312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went with h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428840" y="335772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was hit by a st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428840" y="407196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was helped by 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433520" y="478152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was walking with a sti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Practice </a:t>
            </a:r>
            <a:fld id="{F1FC65B7-6F6A-4AD5-B78F-E72BD4BE011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21420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INSTRUMENTS AND D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eft Arrow 9"/>
          <p:cNvSpPr/>
          <p:nvPr/>
        </p:nvSpPr>
        <p:spPr>
          <a:xfrm>
            <a:off x="5214960" y="3405240"/>
            <a:ext cx="682560" cy="366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eft Arrow 10"/>
          <p:cNvSpPr/>
          <p:nvPr/>
        </p:nvSpPr>
        <p:spPr>
          <a:xfrm>
            <a:off x="5214960" y="4862520"/>
            <a:ext cx="682560" cy="366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87480" y="24768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.5 and 4.6 QUESTIONS &amp; NEG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1000080" y="2095560"/>
            <a:ext cx="41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27"/>
          <p:cNvSpPr/>
          <p:nvPr/>
        </p:nvSpPr>
        <p:spPr>
          <a:xfrm>
            <a:off x="271440" y="1285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1143000" y="2013120"/>
            <a:ext cx="44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ἀκου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οὐκ ἀκου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ως ἡ καρδια λεγ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 πιστευω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υ αγεις τον ὀχλ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νομ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ρει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4572000" y="21510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es God hea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4572000" y="2705040"/>
            <a:ext cx="27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od does not h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4583160" y="3252960"/>
            <a:ext cx="371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w does the heart spea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572000" y="3809880"/>
            <a:ext cx="34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 do not believe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4572000" y="4336920"/>
            <a:ext cx="451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here are you leading the crow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4572000" y="4881600"/>
            <a:ext cx="351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 you keep the law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5:58:03Z</dcterms:created>
  <dc:creator>Sarah</dc:creator>
  <dc:description/>
  <dc:language>en-US</dc:language>
  <cp:lastModifiedBy>Sarah</cp:lastModifiedBy>
  <dcterms:modified xsi:type="dcterms:W3CDTF">2008-09-07T14:33:17Z</dcterms:modified>
  <cp:revision>26</cp:revision>
  <dc:subject/>
  <dc:title>Slide 1</dc:title>
</cp:coreProperties>
</file>