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184-F874-42BC-B8FE-F0D9A86F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994-2932-4112-B792-42DEA2A5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69C-C160-484F-A3F2-B1F47AE7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6FB-A1BE-4EF6-9242-5B339757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76B-ABA0-43BD-8D1A-0AD300E8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F77-B0D7-4AE6-8AE2-ED7FE971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840-4F41-44F2-A69F-933DB5D2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19D-8B1F-4A04-A354-370F7D1A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DB6-04D9-43DA-B561-E1A87A7D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BD1-70DA-4741-9C2D-5E051E12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CD0-485D-4F6C-982C-F28426B2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B4D-DEC4-465D-A159-67EC60B0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554-53AD-4282-937A-F3DA2857995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352520"/>
            <a:ext cx="7929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πεσο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αβο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βαλλε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ενετ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λθο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φευγ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δ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072040" y="21686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e f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/they t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(pl.) were th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t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057640" y="4707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/they c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057640" y="52038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he was fle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057640" y="5715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s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2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αθε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ὑρ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ανθανε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νεγκο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θ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αβε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. Nom. Pl. Aorist Parti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ingular Aorist Impe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. Nom. Pl. Aorist Parti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lural Aorist Impe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3786120" y="57974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3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28760" y="1352520"/>
            <a:ext cx="7929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αταβ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εβ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λθα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νω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νου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aving gone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wen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c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(pl.) k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aving kn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319040"/>
            <a:ext cx="792936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λλοι ἀπεθαν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γον αὐτο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φαγον τον ἀρτ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θοντες εἰδον αὐτ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ε την ὁδ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ι ἐλθειν εἰς τα Ἱεροσολυμ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2198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ny d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72000" y="2708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was/they were leading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72000" y="32050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/they ate the br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0" y="3718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en they came, they saw h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72000" y="4214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ee the roa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72000" y="473868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t is necessary to go to Jerusa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5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176480"/>
            <a:ext cx="792936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ων ταυτα ὁ Ἰησου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ξηλθ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αβας εἰς το ἱερον ἀπεθαν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prophets spok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loved the 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want to see the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en I found it, I took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43280" y="12859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fter Jesus had said these things he l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643280" y="22813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en he had gone up to the temple he d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641840" y="328464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ἱ προφητοι εἰπ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643280" y="37861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ον υἱον ἐφιλησ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φιλου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if you want to stress continuity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643280" y="480060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λω ἰδειν (βλεψαι) την θαλασσαν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643280" y="582300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ὑρων ἐλαβον αὐτο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6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28760" y="1352520"/>
            <a:ext cx="792936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μεινα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αγγελοῦμ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γειρ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remai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57640" y="267660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e will annou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057640" y="3173400"/>
            <a:ext cx="38721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raised (in fac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γειρ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uld also be imperfect- he was raisin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072040" y="43959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kill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72040" y="4896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will judge the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28760" y="4297320"/>
            <a:ext cx="45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εκτεινα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ρινεῖ τον κοσμ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οστειλας ἐξηλθ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72040" y="53960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aving sent, he went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7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14200" y="1352520"/>
            <a:ext cx="7929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λω σπειρα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αντες, ἠνεγκ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857840" y="21686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wish to s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843440" y="27068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fter they lifted, they brou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143000" y="342900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will annou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(pl.) will thr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aise (s.) the dead ma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killed 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857840" y="34146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αγγελουσι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4857840" y="414504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ειτ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857840" y="488808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ειρον τον νεκρο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4857840" y="56088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τεινεν αὐτη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6:34:43Z</dcterms:created>
  <dc:creator>Sarah</dc:creator>
  <dc:description/>
  <dc:language>en-US</dc:language>
  <cp:lastModifiedBy>Sarah</cp:lastModifiedBy>
  <dcterms:modified xsi:type="dcterms:W3CDTF">2008-09-17T22:21:54Z</dcterms:modified>
  <cp:revision>23</cp:revision>
  <dc:subject/>
  <dc:title>Slide 1</dc:title>
</cp:coreProperties>
</file>