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096-8250-4C16-867F-F212608E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C06-BD9C-4955-A669-5708DDEB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361-353E-4268-93D1-159693FB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ED0-C0DA-47B0-AF52-F983DBFA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C25A-9847-47C4-B585-753A523B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2DD6-6BB3-4D3E-BB19-96ECE42E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2D50-81A3-4CE1-8F9A-B96B81F8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41B5-83AF-45C3-B3A6-45250FC1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3120-823E-4C42-B64E-EFC0A31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239A-D5D5-462B-BA42-A4656F99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58E8-EBE3-4033-8CC5-8A599744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AFC-C684-4936-8F0F-DD2448A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1E7E-85C7-405C-A617-B8FFD5E6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60DF-4434-4F91-8991-06D34E16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7F1F-0929-4DF9-9DC8-C8EBA080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E6E8-77E6-40E8-B6E5-B11358C3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3A32-B93D-4E7F-914E-80B15709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CD6-C5CC-4854-BCB3-CB9911AE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5EA-7EEB-4226-A483-9E7EFC3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44C-A457-4FB7-A45D-D23688F8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2F6-9194-4ED0-984E-1F9637D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6D8-2E3C-4FC3-92A1-F6471B2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DC4-A1A4-492D-AF9C-FB92DE5F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685-D60A-4CBE-A6AA-023A2AC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DB3-CE5B-4B45-B840-74B84E4069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8506-DD16-4BEE-B892-1F28F9D875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ATION OF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A660BE1F-43B0-45D8-ABF3-09860DF4A30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14200" y="1285920"/>
            <a:ext cx="40006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ον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εκ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κα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δ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143160" y="212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143160" y="261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/Fem./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43160" y="31003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Acc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Masc./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143160" y="3614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143160" y="4129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3143160" y="46576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143160" y="51577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Nom./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3160" y="5661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σιλε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ρδι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58650718-3409-4C1B-8560-950A89232FA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42920" y="1428840"/>
            <a:ext cx="60721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θεος ἐν ουρα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ον το του Ἀβραα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 πολλοι ἁγιοι Ἰουδα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ου Ἰησου λογος εὐαγγελ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0040" y="7128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7 WORD ORDER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8 SPECIAL USE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0020BD05-7107-4FD5-9C0A-410E70B2C27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4660920" y="2330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God in hea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660920" y="2941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raham’s child is a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700520" y="47862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holy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700520" y="54100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ord of Jesus is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664B2925-E9F9-4AF7-AEB7-ADBE20C45B9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285920"/>
            <a:ext cx="6072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 τον ἀγαθ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ὁ ἀγ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ον δουλον ἐχ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λαος φιλε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οὐκ ἐχει δικαι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43280" y="28209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oved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643280" y="34113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has a blind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643280" y="4030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oly people lov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643280" y="465444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does not have a just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6CC7C53C-F8F8-4254-98FB-C115A8132FF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285920"/>
            <a:ext cx="6072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ι τα δαιμονια τα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ας ἀγαθος ἀδελφ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43280" y="34099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oved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14200" y="3956040"/>
            <a:ext cx="49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k a wicked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believes her own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seeks the only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643280" y="40449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 πονηραν ζω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643280" y="460368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ει τῃ ἰδιᾳ καρδι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643280" y="51735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χλος ζητει τον μον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00040" y="15001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μ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- I 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7431F3E9-F079-4DCA-82B9-16B1F469EA9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488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4880" y="29908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214880" y="3600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11640" y="42181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214880" y="4861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/she/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2) - PREDI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604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EA545BC6-B4BB-47C3-9803-78D3B33800D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1280" y="1157400"/>
            <a:ext cx="47865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 ἀγαθ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ἐστιν ὁ νομος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τυφλη ἀδελφη ἐστιν νεκ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ωνια τα Ἱεροσολυμα τα ἁγι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gospel good or e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64080" y="158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54360" y="21016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aw of God is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57600" y="2597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57600" y="31161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blind sister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57600" y="36399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holy Jerusalem eter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57600" y="414324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ν ἠ πονηρον (ἐστιν)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4572000" y="5000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ὁ μονος (ἐστιν) ἐν οὐρανῳ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ις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42920" y="4927680"/>
            <a:ext cx="4572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ly God is in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59840" y="5715000"/>
            <a:ext cx="365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in the synag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572000" y="58053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μεν ἐν τῃ συναγωγη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5E3F3102-812A-4777-88B0-2D698823578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1280" y="1285920"/>
            <a:ext cx="4714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φιλει το νεκρον τεκ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υἱος ὁ τυφπλος βλεπει το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ον καλουσιν 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ει αὐτο εἰς την καλην 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τερῳ εὐαγγελιῳ οὐ πιστευ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8620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eter loves the dead chi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8620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blind son leads the Messia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794120" y="3714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y call the lord ho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782960" y="429912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He throws it into the good eart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782960" y="483408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do not believe (in) a different gosp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759200" y="564372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slave of God is ble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90000" y="546084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ουλος του θεου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CAE21538-2B6C-4924-BE04-4AC97B3980A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280" y="1285920"/>
            <a:ext cx="47149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 ἡ βασιλεια του Ἰησ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γαθος ἀδελφος οὐκ ἐστι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 wicked crowd seeks signs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God d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are departing to our own hou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67028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the kingdom of Jesus hol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67028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good brother is not al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78200" y="3643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ος ὀχλος ζητει σημεια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667400" y="4157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(ἐστιν) νεκρος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667400" y="4643280"/>
            <a:ext cx="45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ομεν εἰ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ς ἰδιους οἰκου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ς ἰδιας οἰκια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4687920" y="56149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ἀδελφη ἡ Ἰουδαια (ἐστιν) ἀγα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85680" y="546084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Jewish sister is so good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44440" y="15145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υς Ἰουδαι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αθοι διδασκ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λεγει τοις ἁγιο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υφλος ὑπαγ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7128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3) –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9D130A34-C8B8-4795-A3BC-1E610F500E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57200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572000" y="302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people/men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572000" y="3627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speaks to the holy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568760" y="4246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lind man de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ι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81E77AFE-5CAB-4C0C-B975-D8473BD3E26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8:17:46Z</dcterms:created>
  <dc:creator>Sarah</dc:creator>
  <dc:description/>
  <dc:language>en-US</dc:language>
  <cp:lastModifiedBy>Sarah</cp:lastModifiedBy>
  <dcterms:modified xsi:type="dcterms:W3CDTF">2008-09-07T14:34:27Z</dcterms:modified>
  <cp:revision>37</cp:revision>
  <dc:subject/>
  <dc:title>Slide 1</dc:title>
</cp:coreProperties>
</file>