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F24-344E-483E-B09F-BDAC5B88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8A0-941A-4CC5-A102-DCC1F8E2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210-C2A1-44BF-8598-3284E2E8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B65-DDEB-4ECA-9A1D-23E85531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4C1-2B1A-4018-A3B7-10B945EE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81A7-37E0-4AFB-9BB3-EFA2C701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B2A-14BA-4A5A-B033-383BA7B4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092-DD98-4309-A6A1-60D988A4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FEDD-F7E9-47D1-ABCA-91D68AA7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529-A362-48DA-AFFD-0D0ACC64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5B96-B60B-478F-A787-7207270B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919-22EB-44B7-91FD-9770DC58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D007-4892-4718-80CF-81D766CF907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7:Practice 1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241200" y="46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7.2 THE FORMATION OF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-142920" y="128592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ωμε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μψωσι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ελ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χωντ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θῃ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πωσι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2786040" y="18273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Active Subjunctiv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2786040" y="24289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Active Subjunc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2786040" y="30574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Active Subjunc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2786040" y="36640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Middle/Passive Subjunc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2786040" y="43005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assive Subjuncti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2786040" y="49150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Active Subjunc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7:Practice 2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-142920" y="128592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ξωμ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ητ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δασκ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ητ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δωμε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ουμε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786040" y="18273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Middle Subjunctiv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2786040" y="242892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Middle/Passive Subjunc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786040" y="30574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Active Subjunc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2786040" y="36640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Active Subjuncti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2786040" y="43005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Active Subjunctiv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786040" y="49150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Active Indicative 1st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241200" y="46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7.2 THE FORMATION OF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7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244440" y="1258920"/>
            <a:ext cx="414324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ἠλθες ἱνα ἀκουῃ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ἱ προφηται ἀπεσταλησαν ἱνα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λεγωσιν ὑπερ του θε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ς ἀν βλεπῃ με, βλεπει το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ατερ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κρατησαν τον Παυλον ἱνα μη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φυγ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ταν πορευησθε, φοβουμα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που πορευον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429080" y="1943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id you come so that you might hea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4429080" y="23572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prophets were sent in order that they might speak on behalf of G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429080" y="31845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oever sees me, sees the fa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429080" y="40273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y seizes Paul so that he would not fle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4429080" y="48848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ever you go, I am afra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4429080" y="52862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re are they goin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7:Practice 4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44440" y="1258920"/>
            <a:ext cx="41432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ἀποστολος ἐγραψεν ὑμιν ἱνα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ιστευσητ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που ἀν ἐλθῃ ὁ Ἰησους, μεγας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ὀχλος συνηχθ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esus cast out the demons in ord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at he might be sav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oever entered the city di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called to her so she would he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ever I look I see th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ountai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429080" y="19432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apostle wrote to you in order that you might believe (come to believ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4429080" y="2771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rever Jesus went a great crowd gather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4429080" y="3611520"/>
            <a:ext cx="42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Ἰησους ἐξεβαλεν τα δαιμονια ἱνα σωθ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4429080" y="4429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ς ἀν εἰσελθῃ την πολιν ἀπεθανε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4429080" y="485784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αλεσα αὐτῃ ἱνα ἀκουσ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4429080" y="525924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ταν βλεπω τα ὀρη βλεπω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7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5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7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USE OF THE SUBJUNCTIV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44440" y="1258920"/>
            <a:ext cx="414324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που ἐλθ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μη ἐξελθητ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ὐ μη ὑπαγαγωσι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δοξαζωμεν τον του κοσμου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υρι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ί ἀκουσωμεν του διδασκαλ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ζητωμεν ἁγιαν ζωη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429080" y="1943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re should I g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4429080" y="2357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 not leav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442908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y will never dep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4429080" y="31878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et us glorify the lord of the wor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4429080" y="40273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y should we listen to the teach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4429080" y="4456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et us seek a holy lif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7:27:40Z</dcterms:created>
  <dc:creator>Sarah</dc:creator>
  <dc:description/>
  <dc:language>en-US</dc:language>
  <cp:lastModifiedBy>Sarah</cp:lastModifiedBy>
  <dcterms:modified xsi:type="dcterms:W3CDTF">2008-10-08T19:15:46Z</dcterms:modified>
  <cp:revision>16</cp:revision>
  <dc:subject/>
  <dc:title>Slide 1</dc:title>
</cp:coreProperties>
</file>