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3FAA-FD3F-49D8-A5A5-1611A59C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AB05-0CED-4C60-B1B9-43C31A69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2E21-7EA9-494A-90F9-D73C901AF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CD53-2916-4444-8EFE-38FCED81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D491-E573-4414-9222-51CB2037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DCBE-8BE1-4B17-9A69-6836834C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289F-30A0-4476-AD80-DECC8B1A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FF10-6B40-4B9B-AE47-09007619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0BF4-008B-4B88-9CA7-06F81135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2C91-E84A-4491-B749-C619DCDA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31FB-8CD9-4C55-BA8F-5450273C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3CEF-7262-401E-B11E-E079F4CF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D628-42A6-4BC6-AE50-8FAFC8FE518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68120" y="239760"/>
            <a:ext cx="8190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TWEN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:Vocabulary 1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214280" y="2700360"/>
            <a:ext cx="585792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ληθως (1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λαχιστος (1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ὐ (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ρεισσων (1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357120" y="1714680"/>
            <a:ext cx="75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ortant adverbs, comparatives and superla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5286240" y="28526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286240" y="34862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5286240" y="410040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5286240" y="47102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:Vocabulary 2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1214280" y="1857240"/>
            <a:ext cx="585792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αλιστα (1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αλλον (8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ικρον (1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ικρος (4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χειρων (1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5286240" y="20098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of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5286240" y="26431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, r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5286240" y="325764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ittle, a shor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5286240" y="38671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5286240" y="45007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785880" y="2700360"/>
            <a:ext cx="628632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ζῳον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υσιαστηριον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ιμην, ποιμενος ὁ (1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357120" y="1714680"/>
            <a:ext cx="75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l few more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5500800" y="28526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ving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5500800" y="34862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5500800" y="41004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ph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1000080" y="2662200"/>
            <a:ext cx="628668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εαομαι (2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υχαομαι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ιμνῃσκομαι (23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ιπτω (17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714240" y="1785960"/>
            <a:ext cx="75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5715000" y="28144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e, look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5715000" y="34480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o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5715000" y="40622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5715000" y="46576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20:01:10Z</dcterms:created>
  <dc:creator>Sarah</dc:creator>
  <dc:description/>
  <dc:language>en-US</dc:language>
  <cp:lastModifiedBy>Sarah</cp:lastModifiedBy>
  <dcterms:modified xsi:type="dcterms:W3CDTF">2009-07-09T17:11:30Z</dcterms:modified>
  <cp:revision>7</cp:revision>
  <dc:subject/>
  <dc:title>Slide 1</dc:title>
</cp:coreProperties>
</file>