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04E-2672-4FCB-B120-EE819E19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275-5252-4E17-B67B-32ED08BC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27E-CBCE-482D-8FD6-A53D02D3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BFE-909D-4242-83A8-27972CB8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8AF-CC7D-48C6-B803-78A2DADE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3F0-688F-4286-A227-0200F476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D12-1B8F-420A-90C6-FA652633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A96-0A71-4F2D-9276-F4A66DC0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622-ADA3-49FD-A688-0B0D87A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B3D-C4E5-4577-B282-6264989A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A44-77D8-48C7-81FC-0DFA4DF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DD7-0AC2-47E6-A314-D107418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D454-D6E1-401D-8BF1-77B7FCB2B3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1428840"/>
            <a:ext cx="42148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ι (4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να (6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πως (53)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ταν (1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αν (35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857840" y="158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al parti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228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824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438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057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66740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ive f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857160" y="5429160"/>
            <a:ext cx="70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so can mean ‘if’ – see Chapter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71680" y="1500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571760" y="2168640"/>
            <a:ext cx="3143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ρ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εμ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θρ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λι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ν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000760" y="23288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000760" y="29527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000760" y="35863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000760" y="4186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000760" y="48006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00760" y="5410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71680" y="12859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571760" y="1954080"/>
            <a:ext cx="3143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ιρε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ηγορε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λογ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000760" y="21146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away,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00760" y="27385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00760" y="337176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mise, conf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71680" y="415620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t more feminin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571760" y="4824360"/>
            <a:ext cx="3143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νε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λωσσα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5000760" y="49849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ily,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5000760" y="56088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ngue,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928800" y="1208160"/>
            <a:ext cx="4429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θηκη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κονια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αγγελια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θυμια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ρα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ι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ρια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143240" y="1365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ing, scri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143240" y="19940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nant, last will and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143240" y="2603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, min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143240" y="322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143240" y="38322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143240" y="44514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143240" y="50896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143240" y="5703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mony, 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928800" y="123984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ργ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οφια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ια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η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ακη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ρει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143240" y="14144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r,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43240" y="2023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143240" y="2643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143240" y="3252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ce, value,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143240" y="3871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(guards),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143240" y="4481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00040" y="518148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that often functions as a no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928800" y="578628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τωχ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143240" y="5810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5:57:11Z</dcterms:created>
  <dc:creator>Sarah</dc:creator>
  <dc:description/>
  <dc:language>en-US</dc:language>
  <cp:lastModifiedBy>Sarah</cp:lastModifiedBy>
  <dcterms:modified xsi:type="dcterms:W3CDTF">2009-07-09T17:05:39Z</dcterms:modified>
  <cp:revision>19</cp:revision>
  <dc:subject/>
  <dc:title>Slide 1</dc:title>
</cp:coreProperties>
</file>