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E16-6466-40E1-B3E9-C440700F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21B-012E-4497-A4FE-BA785E6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7DD-A778-493B-BC3A-C1A25721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711-32F8-4E9C-991D-A088EEE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712-908D-42FA-A0BF-EBC3F25C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1A5-C9E8-4AB9-A531-5E29E5E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F1D-6CB2-446A-8D14-9AF961B7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D6A-856C-4C73-894C-A45C933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F30-A6BD-42D1-AF5B-56945DC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33C-1CB9-43A0-A765-19C8873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4B0-239C-454E-9CB6-5429EB2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A7B-E237-43B3-8B7D-2445C57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9C9-DE84-4C08-9806-B1C4451D1E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extra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1857240"/>
            <a:ext cx="3714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ξιο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ξι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υθερ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χατος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κανος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χυρ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072040" y="2009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072040" y="26384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(h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072040" y="325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ful, capable,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072040" y="3871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72040" y="4486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,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07204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072040" y="573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71720" y="1214280"/>
            <a:ext cx="3714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υκος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ιπ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σος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λιγ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ουσι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κο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ιλ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929120" y="1366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,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29120" y="19954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9120" y="2610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929120" y="3228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929120" y="38433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little (pl.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4452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92912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929120" y="5753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d, friendly,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12859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160" y="171288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ς, μαρτυρος, ὁ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θ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29160" y="1866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429160" y="2495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,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429160" y="3110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28480" y="382428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57160" y="4324320"/>
            <a:ext cx="3286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ξαν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θαρ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ιζ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29160" y="4486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429160" y="5095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/declare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429160" y="572436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s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143000" y="127800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αι (2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ημαι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ιμα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δα (3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ι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57840" y="143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, I am 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57840" y="2063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it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857840" y="26733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e, r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857840" y="3287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857840" y="3902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714240" y="46735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ategory of its 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143000" y="542124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τε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nfinitive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857840" y="544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00040" y="142884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words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 to make them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428840" y="2506680"/>
            <a:ext cx="35002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ικ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ικ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α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αθαρ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ιστ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72040" y="2657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72040" y="3295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072040" y="3895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,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072040" y="4510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e, un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72040" y="514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believing, fai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42:05Z</dcterms:created>
  <dc:creator>Sarah</dc:creator>
  <dc:description/>
  <dc:language>en-US</dc:language>
  <cp:lastModifiedBy>Sarah</cp:lastModifiedBy>
  <dcterms:modified xsi:type="dcterms:W3CDTF">2009-07-09T17:08:08Z</dcterms:modified>
  <cp:revision>16</cp:revision>
  <dc:subject/>
  <dc:title>Slide 1</dc:title>
</cp:coreProperties>
</file>