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1AE-8CC1-4D9D-932E-7637FB40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DD0-E660-42F5-B799-91B81791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AAA-0785-466F-854A-08174D7E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086-019B-4B0E-AD1E-AB12A4BB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8DF-6A86-40AF-8FB4-ACB09F7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CDB-329F-477D-B2DF-C6CAA5C0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2A1-E473-4A31-886D-D7E8EB96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D1B-8744-4B04-9CC6-3650884D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454-7593-4DFD-A54C-4F49AA0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9C0-76E3-4786-96F1-6A259DC4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933-C48E-4509-B91A-DBA6C773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CEA-69C6-4BB9-8F1E-D573F69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B6C0-E382-48CF-8DA1-78F73BAFA7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28760" y="14670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(feminine)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1686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ν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ε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χη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ορτ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στολη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324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e,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95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ness,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5719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ing (act and co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181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7862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ter (correspon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57840" y="54100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ing, sacri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4280" y="16430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ωμη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χαιρα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φελ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ουσ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τομ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ρνε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857840" y="17985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857840" y="2432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857840" y="30463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857840" y="3656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ce,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857840" y="4260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m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857840" y="48848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xual im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428840" y="1214280"/>
            <a:ext cx="40719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μονη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η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ηρα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072040" y="137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072040" y="2003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072040" y="2617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be,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72040" y="322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72040" y="38322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y(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85880" y="4552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457280" y="4991040"/>
            <a:ext cx="4286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ρεις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ρι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072040" y="51530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143000" y="1500120"/>
            <a:ext cx="4429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σσαρε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εσσαρ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ντε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ξ (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πτα (8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κτω (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νεα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214960" y="1671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2909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35244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41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4757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5367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214280" y="1143000"/>
            <a:ext cx="44294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κ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ωδεκα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τον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ιλια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ωτ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υτερ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ριτος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286240" y="1343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286240" y="1928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286240" y="25430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hund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286240" y="3147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5286240" y="3776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5286240" y="4386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286240" y="5010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357120" y="5715000"/>
            <a:ext cx="807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e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, learnt in Chapte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571680" y="15717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cla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214280" y="2357280"/>
            <a:ext cx="350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αι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71680" y="3214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wo common words whose stems are irregular in the Perfect 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214280" y="4349880"/>
            <a:ext cx="65008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ωρακα -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ηκοα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929120" y="2367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06:27Z</dcterms:created>
  <dc:creator>Sarah</dc:creator>
  <dc:description/>
  <dc:language>en-US</dc:language>
  <cp:lastModifiedBy>Sarah</cp:lastModifiedBy>
  <dcterms:modified xsi:type="dcterms:W3CDTF">2009-07-09T16:39:13Z</dcterms:modified>
  <cp:revision>22</cp:revision>
  <dc:subject/>
  <dc:title>Slide 1</dc:title>
</cp:coreProperties>
</file>