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A031-83F4-47C8-A057-010DF5361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D9BE-8AC2-48FF-B784-2B93EC3F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7475-2F20-4C7E-A334-8011EAAB4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AB91-DFB4-4FB2-9745-7261BBB6F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31FF-2D54-4FFD-98D7-B0315A46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85C8-C8FA-4108-BEDF-CF94AEAB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0AC4-D3DB-4E40-BC27-68FB369B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2819-CAB5-4A89-BCA4-3FDE3131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AC51-7644-424A-9188-1363CBD2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6493-9F0D-4AF5-A6C0-11864EE8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C694-1F46-4220-89DB-3F95E6AA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EC1E-3532-4473-AB10-1CFD64AD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AEEA-5495-4D1E-BCB5-112E247647D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254240" y="239760"/>
            <a:ext cx="6286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ON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:Vocabulary 1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42920" y="1455840"/>
            <a:ext cx="89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umbers in brackets after the Greek word are the number of times the word occurs in the New Testa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785960" y="2846520"/>
            <a:ext cx="400032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βρααμ (7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μην (1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αυιδ (5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ῥαββι (1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643280" y="30034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brah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643280" y="36320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men, tr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643280" y="42609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v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657680" y="487512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bb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:Vocabulary 2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1857240" y="2255760"/>
            <a:ext cx="457200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ακωβ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σραηλ (6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ωσηφ (3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ι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(9161)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000760" y="244332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c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5000760" y="303840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r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5000760" y="368136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se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5000760" y="430056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5:16:02Z</dcterms:created>
  <dc:creator>Sarah</dc:creator>
  <dc:description/>
  <dc:language>en-US</dc:language>
  <cp:lastModifiedBy>Sarah</cp:lastModifiedBy>
  <dcterms:modified xsi:type="dcterms:W3CDTF">2009-06-29T09:31:23Z</dcterms:modified>
  <cp:revision>13</cp:revision>
  <dc:subject/>
  <dc:title>Slide 1</dc:title>
</cp:coreProperties>
</file>