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7BD-D200-40A3-A920-F8E6CCFB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CB4-6533-49F3-B52B-81E7CF7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F7A-8E17-4518-AE96-C41E2EFD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AF3-DC09-4D0E-9699-F071F86A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98B-F6BE-42EF-B3D4-AA27CF5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A85-EAAF-4382-B790-E089D808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422-D33D-4763-AF09-8722C9A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43C-B0EF-46D1-B58B-A129B0E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CC8-EDD0-4AE9-8250-64995C7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BD3-0CAC-40CB-9669-3F14A7F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AA8-F29A-4198-8F02-603D975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0D4-99AC-4970-8572-77A0D12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5A8-5B5E-42C0-B27C-274F4EE4DE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teen pronouns or personal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190332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ηλ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αυτος (3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ω, ἡμεις (26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νος (2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αυτ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0527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ther,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2700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3004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self, herself, itself (reflex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29040" y="4529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29040" y="5143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(pl. tho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29040" y="5767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43000" y="12794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ος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ἀγω (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λος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ος αὑτη τουτο (138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ς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εαυτ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, 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6200" y="207648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 (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+ ἐγ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786200" y="26766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,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829040" y="3905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what k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29040" y="4519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great,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29040" y="51451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829040" y="5769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, yours (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786200" y="3308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(pl. the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43000" y="1279440"/>
            <a:ext cx="3786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, ὑμεις (290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ουτος (5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, you (p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86200" y="20764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uch a kind,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57280" y="280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neuter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143000" y="3300480"/>
            <a:ext cx="3786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νιον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νδρον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ηριο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786200" y="34513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mb, sh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786200" y="4097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786200" y="46958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tery,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4800600" y="52959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828720" y="1617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414440" y="211788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ρ (10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 (27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ο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οτ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057640" y="2268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057640" y="2914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,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057640" y="351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072040" y="4113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072040" y="4738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072040" y="53388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428840" y="154296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τε (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 (1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ποτ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ν (4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29240" y="1722600"/>
            <a:ext cx="38574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τε ... εἰ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... if, whether ... or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29240" y="29829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629240" y="35812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43280" y="4181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43280" y="4807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con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3280" y="540720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...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1:36:01Z</dcterms:created>
  <dc:creator>Sarah</dc:creator>
  <dc:description/>
  <dc:language>en-US</dc:language>
  <cp:lastModifiedBy>Sarah</cp:lastModifiedBy>
  <dcterms:modified xsi:type="dcterms:W3CDTF">2009-06-29T10:15:50Z</dcterms:modified>
  <cp:revision>16</cp:revision>
  <dc:subject/>
  <dc:title>Slide 1</dc:title>
</cp:coreProperties>
</file>