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447-28C1-41A8-8617-F037E655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935-1703-47D9-9EF9-1C30994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DC1-BFD4-4ACD-9F9F-3A7F5528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58A-998B-4E14-8396-7161DEF2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BBD-CF0A-417A-A0B9-698F1F4B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425-3B5B-4C09-869E-0D1B96C8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FED-71D6-49FD-BE56-5AB648E5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F1D-34DE-49C1-8BF4-56C19139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48F-A8C0-4706-957D-BCB1E967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0B1-92BA-4B49-B654-6DBE142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BD9-C63F-4698-B4E2-F3DC6BF3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BDE-E17D-4C7F-A5CB-8DFD8207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C581-C1D8-4AA2-AE1D-7C01744177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12248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st of important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428840" y="1571760"/>
            <a:ext cx="46432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εια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ηθινος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γυ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ει (1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ιθεν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θυς (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ως (3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ως (1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929120" y="1712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929120" y="23367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, genuine,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929120" y="29559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929120" y="357012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(in that pl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929120" y="41940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929120" y="4827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929120" y="6058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929120" y="54291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priately,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214280" y="1428840"/>
            <a:ext cx="464364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ιος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μοιως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που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ς ἥ ὅ (139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τι (12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714920" y="15652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, of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714920" y="21844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714920" y="27986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714920" y="34225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714920" y="40561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, which,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714920" y="467028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, because or “ (marking beginning of spe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71492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214280" y="1285920"/>
            <a:ext cx="464364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δε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τε (8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τε ... οὐτ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ὑτως (2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χι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ν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θ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δε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714920" y="14335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714920" y="2052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714920" y="26668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..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714920" y="3290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manner, 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714920" y="3924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,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714920" y="45385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4714920" y="51577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where? or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714920" y="57722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57120" y="1504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prepos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214280" y="2097000"/>
            <a:ext cx="46436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μπροσθεν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48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νεκα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26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ραν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2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ωρις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41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72040" y="22240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072040" y="2862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sak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072040" y="3481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ther sid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072040" y="40957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, apar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228680" y="50817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λατος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5072040" y="5095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357120" y="1504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fiv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214280" y="209700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γιζω +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dat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4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γεομ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υμαζω (4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ραπευ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4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3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ευδω (22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72040" y="2224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pproach, come 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072040" y="2862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072040" y="3481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ma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072040" y="40957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72040" y="47149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9:12:00Z</dcterms:created>
  <dc:creator>Sarah</dc:creator>
  <dc:description/>
  <dc:language>en-US</dc:language>
  <cp:lastModifiedBy>Sarah</cp:lastModifiedBy>
  <dcterms:modified xsi:type="dcterms:W3CDTF">2009-06-29T10:19:02Z</dcterms:modified>
  <cp:revision>20</cp:revision>
  <dc:subject/>
  <dc:title>Slide 1</dc:title>
</cp:coreProperties>
</file>