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2F1-D03D-495F-AF1B-8993A751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BD3-2495-4597-96FE-295578AD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5A8-FC5D-45C2-87E4-6D6DF024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3E2-1198-4FCE-B7CD-D673F9DE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F72-231D-4AFB-ADB3-0966769A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363-F936-4BED-A899-2E35F61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6AD-FABA-4BF4-9E55-9EC2A00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B3C-C983-4346-99C9-0E5E84A1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D6-CF39-44DF-85C1-45BD89C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45B-9F47-476A-8CF8-F1CC4C56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8CE-833A-4B61-BE16-A19270C2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02B-6A96-48FC-A806-3016C96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60F-D690-45CD-976C-C7FF8634B5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467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00120" y="2376360"/>
            <a:ext cx="42148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βολ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π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α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ον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14920" y="23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nderer, the de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14920" y="29671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14920" y="35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ctuary, shrine,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14920" y="42004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i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14920" y="4809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54291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period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57120" y="1467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verbs that are Passive deponents (at least in some ten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57160" y="2643120"/>
            <a:ext cx="485784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κρινομαι (23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ουλ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ρευομαι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πορευ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εομαι (9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57880" y="2652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357880" y="3233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57880" y="3833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357880" y="44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357880" y="5076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fraid,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57120" y="1252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any more (normal)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57160" y="19670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αζ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εω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ταζ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μ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ριζ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χ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57880" y="1976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57880" y="2557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57880" y="3157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357880" y="3790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357880" y="4400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357880" y="5005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357880" y="5610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u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857160" y="16826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δυ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στρεφω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κ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σχ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λαι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ωλυ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(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come,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857160" y="1500120"/>
            <a:ext cx="4857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π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μνυ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σσευ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στρεφ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ιν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ρον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ieve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wear, take an o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back,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hine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7:10Z</dcterms:created>
  <dc:creator>Sarah</dc:creator>
  <dc:description/>
  <dc:language>en-US</dc:language>
  <cp:lastModifiedBy>Sarah</cp:lastModifiedBy>
  <dcterms:modified xsi:type="dcterms:W3CDTF">2009-07-09T16:35:32Z</dcterms:modified>
  <cp:revision>10</cp:revision>
  <dc:subject/>
  <dc:title>Slide 1</dc:title>
</cp:coreProperties>
</file>