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4D6-FA08-45E8-8546-A1548A94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8DB-D3D5-432E-ABEC-AF16D0FF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ABF-9DD4-40B6-8B75-73EA7146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D55-6207-45DC-868A-096503A0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957-F7AC-4C59-BAF3-28810E1E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D92-3899-4113-AEC1-3AC238B9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8D0-B2E8-4B36-AA7A-78A4584B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0CD-6BB5-490A-8CA5-616AD1E3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57B-E427-4452-BFC8-D2EE4662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839-B051-4CA5-A81F-F6A7C4B5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DC7-BF9C-4409-9DD9-703FD196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DD8-7FEC-4D5E-867E-19B81081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CFC7-EC16-424C-B22F-FC19A021FA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00080" y="239760"/>
            <a:ext cx="6904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EL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324080"/>
            <a:ext cx="82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 declension words, grouped into their rough patter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857160" y="185724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ηρ, ἀνδρος, ὁ (2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τηρ, ἀστερ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τηρ, σωτηρ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ων, αἰωνος, ὁ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ων, ἀρχοντος, ὁ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ιμων, Σιμωνος, ὁ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υνη, γυναικος, ἡ (2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214960" y="2014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 (male), hus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214960" y="2643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214960" y="3257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14960" y="38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 (long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214960" y="4481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ler,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214960" y="5114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214960" y="5729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man,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857160" y="1285920"/>
            <a:ext cx="400068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πις, ἐλπιδος, ἡ (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υξ, νυκτος, ἡ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υς, ποδος, ὁ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αρξ, σαρκος, ἡ (1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αρις, χαριτος, ἡ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ειρ, χειρος, ἡ (1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υγατηρ, θυγατρος, ἡ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τηρ, μητρος, ἡ (8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286240" y="144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286240" y="20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286240" y="2685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286240" y="330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286240" y="39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286240" y="4543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286240" y="5157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286240" y="5767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857160" y="1285920"/>
            <a:ext cx="442908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τηρ, πατρος, ἡ (41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υρ, πυρος, το (7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δωρ, ὑδατος, το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ς, φωτος, το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ἱμα, αἱματος, το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λημα, θεληματος, το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νομα, ὀνοματος (2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νευμα, πνευματος, το (3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5572080" y="144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her, anc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572080" y="20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572080" y="2685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572080" y="330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572080" y="39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572080" y="4543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572080" y="5157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572080" y="5767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rit,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857160" y="1434960"/>
            <a:ext cx="44290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ῥημα, ῥηματος, το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τομα, στοματος, το (7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μα, σωματος, το (1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5572080" y="1592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, s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572080" y="2220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572080" y="283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572080" y="4457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r,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572080" y="5067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500040" y="36813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857160" y="4287960"/>
            <a:ext cx="32148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ιζων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ειων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843440" y="2347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one,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843440" y="2957400"/>
            <a:ext cx="380052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? which?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ί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also mean 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00040" y="15717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1857240" y="2185920"/>
            <a:ext cx="321480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ς τι (5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ίς τί (5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στις (1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σπερ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857840" y="4195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857840" y="4824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0:44:09Z</dcterms:created>
  <dc:creator>Sarah</dc:creator>
  <dc:description/>
  <dc:language>en-US</dc:language>
  <cp:lastModifiedBy>Sarah</cp:lastModifiedBy>
  <dcterms:modified xsi:type="dcterms:W3CDTF">2009-07-09T16:27:26Z</dcterms:modified>
  <cp:revision>31</cp:revision>
  <dc:subject/>
  <dc:title>Slide 1</dc:title>
</cp:coreProperties>
</file>