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D81-43CB-489B-98FF-EB3A0F94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3C3-59E6-40B1-BE68-0765A96D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150-B491-4D40-9749-8CE89D55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5AB-EC3C-4F52-9546-9709493F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060-7B11-4412-8DC5-8A4968B5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495-1819-4294-9D1A-B2B76C72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51A-7CEB-447A-A695-F9563312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435-0710-43CB-A8EC-396E54B3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37E-8FE3-44AF-95B0-3EB0B9B3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C71-F545-42AE-A0B3-3458D892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13F-6477-4FDE-BCB3-56EDD201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EF5-3FF1-4C2D-A8E0-FA934E43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367E-35C4-45F4-9C65-0F30FAA9FC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571680" y="135720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teen deponent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1357200" y="191448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χομαι (6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ερχομαι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ερχομαι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σερχομαι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ερχομαι (2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ρχ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5072040" y="2071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072040" y="2695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072040" y="33098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oss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072040" y="3929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into,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072040" y="4538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072040" y="5143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by, pas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072040" y="57862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, go to,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62072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ρχομαι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τομαι (3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νε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παζομαι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χομαι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γαζομα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1778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72040" y="24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72040" y="3016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fuse, 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072040" y="54928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357200" y="1620720"/>
            <a:ext cx="41436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ζομα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ζομαι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ομαι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καλε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ῥυομαι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072040" y="1778040"/>
            <a:ext cx="40719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claim good news (a compoun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-ἀγγελιζ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72040" y="3016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culate,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sc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asculine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143000" y="2065320"/>
            <a:ext cx="47149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ρῳδης, ὁ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ωαννη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or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Ἰωανης, ὁ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θητης, ὁ (2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φητης, ὁ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ρατιωτης, ὁ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ηρετης, ὁ (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715000" y="2222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715000" y="2846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715000" y="3460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715000" y="4079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715000" y="46893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715000" y="52941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143000" y="1906560"/>
            <a:ext cx="4714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ρναβας, ὁ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ς, ὁ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τανας, 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715000" y="2063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na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15000" y="2687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ah, Ju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715000" y="33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714240" y="4125960"/>
            <a:ext cx="700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o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with a genitive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942840" y="4697280"/>
            <a:ext cx="4714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λια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5715000" y="48546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j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571680" y="178596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feminine words 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143000" y="2514600"/>
            <a:ext cx="471492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γυπτος, ἡ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ημος, ἡ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δος, ἡ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715000" y="267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5000" y="3295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derness, desolat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5000" y="45324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,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0:43:37Z</dcterms:created>
  <dc:creator>Sarah</dc:creator>
  <dc:description/>
  <dc:language>en-US</dc:language>
  <cp:lastModifiedBy>Sarah</cp:lastModifiedBy>
  <dcterms:modified xsi:type="dcterms:W3CDTF">2009-06-29T10:13:25Z</dcterms:modified>
  <cp:revision>25</cp:revision>
  <dc:subject/>
  <dc:title>Slide 1</dc:title>
</cp:coreProperties>
</file>