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B0D-22C6-4A26-8E35-6F2D51B0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A82-6E72-43DC-A078-0FE2B03C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8132-2FAB-40D2-940C-AAC6035B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6B4-0514-4B1C-9368-93C2E482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83A-5226-4F63-BDCE-91985DEF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35C-4067-4A74-AA41-5918AE00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046-9981-4ED2-AE2D-52857F4E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848-6440-4351-934D-1A23AC3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294-7820-4738-8660-38BD4CBE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D62-5067-45C0-A60C-1D50E3FD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6D4-EAB8-4A8B-BCFB-0F537FC7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EE0-F139-49F3-A389-169561C7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243F-02B4-42F4-B03E-D04F011C7C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285840" y="142092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more 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1500120" y="2071800"/>
            <a:ext cx="45720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γω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καλυπτ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πτιζω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φω (1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ωκω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ξαξω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5429160" y="2228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5429160" y="2852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veal, un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5429160" y="34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aptise, 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5429160" y="408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5429160" y="4700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ersecute, pur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5429160" y="5300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aise, glo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278400"/>
            <a:ext cx="2003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500120" y="1617840"/>
            <a:ext cx="457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σσω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αζω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μπω (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ιθω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ζω (10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αρχω (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429160" y="1774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laim, p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429160" y="239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r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429160" y="3017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429160" y="3627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nvince, persu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429160" y="4246560"/>
            <a:ext cx="3429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ve, rescue, heal (sometimes writte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ῳζ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429160" y="5484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, 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71440" y="121428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00120" y="228600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τεω (7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843440" y="2428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271440" y="178596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which is clearly not a comp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285840" y="314316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that look like compounds but do not behave as compounds (e.g. augments are added to the beginni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500120" y="4071960"/>
            <a:ext cx="45720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λογε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χαριστε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κοδομε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4857840" y="42148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ak well of, bless, pr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857840" y="4853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ive 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4857840" y="5457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uild (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14240" y="177156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εχω (24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357800" y="19144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heed of, pay attention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71440" y="127152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b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takes the d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714240" y="3098880"/>
            <a:ext cx="457200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τι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τι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ἠδη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υν (1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τε (10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357800" y="324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, just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271440" y="25988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words all abou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357800" y="387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,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357800" y="45007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4357800" y="5129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4357800" y="57103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714240" y="1357200"/>
            <a:ext cx="457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κετι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π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λιν (1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ντοτε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τε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ημερον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οτε (1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357800" y="15001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357800" y="21304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357800" y="27590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,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357800" y="33876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357800" y="3968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(at some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357800" y="45720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357800" y="5210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85880" y="1571760"/>
            <a:ext cx="36432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ο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85880" y="33577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uple of extra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743120" y="4257720"/>
            <a:ext cx="32860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μοθεος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οπος (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429160" y="22953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443560" y="4410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443560" y="5043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0:06:27Z</dcterms:created>
  <dc:creator>Sarah</dc:creator>
  <dc:description/>
  <dc:language>en-US</dc:language>
  <cp:lastModifiedBy>Sarah</cp:lastModifiedBy>
  <dcterms:modified xsi:type="dcterms:W3CDTF">2009-06-29T10:07:22Z</dcterms:modified>
  <cp:revision>19</cp:revision>
  <dc:subject/>
  <dc:title>Slide 1</dc:title>
</cp:coreProperties>
</file>