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9E2-73B3-4F8F-A0B1-EC24C630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4D7-B285-4AE4-A5E9-4CD4F559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DB2-9C6D-41C9-AD18-8220243F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BA2-1F8D-46C6-A74B-FC2FD01D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2E7-351F-4D13-ADB7-5F18C27B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31D-F368-4D00-8A56-D38B31CE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D9B-44AA-4B36-90B1-8E6BA639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C93-3D54-4F31-9AFB-9740ADB1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0EC-28A5-423F-8B73-ADD621EA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183-49DC-4345-8ACF-C5A0E97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ECD-5E1D-4CA0-9596-D0E6E0C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952-46B6-44A5-9290-86B1FD6E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BFB3-0CD6-4B6E-BC20-DC0E6766C4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71680" y="239760"/>
            <a:ext cx="7332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I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28592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euter noun with genitives in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ν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671480" y="23464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θνο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ε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ος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λ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ρ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ρος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500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 (pl. Genti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3129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7386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86200" y="4357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, part, lim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86200" y="4957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,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86200" y="5586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ntain, 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671480" y="1233360"/>
            <a:ext cx="40006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θ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ευ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οτ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786200" y="1387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tude, large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786200" y="2016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(pl. proper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786200" y="2625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786200" y="3244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,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500040" y="386244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σιλε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1671480" y="4805280"/>
            <a:ext cx="25005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ιερευς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υς (1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4786200" y="4981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priest, chief 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786200" y="5581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214280" y="1214280"/>
            <a:ext cx="2957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μματευς (63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ε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4786200" y="1392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ibe, cl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992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42960" y="2786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femin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ι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200240" y="3714840"/>
            <a:ext cx="3214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στασις 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ις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λιψις (4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829040" y="38718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29040" y="450072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829040" y="510048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829040" y="57150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ering,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300320" y="1143000"/>
            <a:ext cx="32144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ρισι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κλη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ις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ι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ιδησις (30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929120" y="1300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929120" y="1928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929120" y="25383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929120" y="3138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,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929120" y="3753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42800" y="4433760"/>
            <a:ext cx="850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adjective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285920" y="5043600"/>
            <a:ext cx="25002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929120" y="5195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truthful, genu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929120" y="58244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285920" y="2071800"/>
            <a:ext cx="25002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ς (1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α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ἱς μια ἑν (3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ις (2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δεις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929120" y="2224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,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929120" y="28526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34527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, a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4095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47005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57120" y="1714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words with irregular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071720" y="2752560"/>
            <a:ext cx="35002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ωϋση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143240" y="29145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es,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ης, Μωϋσην, Μωϋσεως, Μωϋσε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ῃ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143240" y="41338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d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, νουν, νοος, νο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13:13Z</dcterms:created>
  <dc:creator>Sarah</dc:creator>
  <dc:description/>
  <dc:language>en-US</dc:language>
  <cp:lastModifiedBy>Sarah</cp:lastModifiedBy>
  <dcterms:modified xsi:type="dcterms:W3CDTF">2009-07-09T16:30:30Z</dcterms:modified>
  <cp:revision>22</cp:revision>
  <dc:subject/>
  <dc:title>Slide 1</dc:title>
</cp:coreProperties>
</file>