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14F-ECFC-4CB1-A212-6D79D5DA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5B0-B591-4651-A5A3-DC00E001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5D6-F475-454C-A076-E25548AD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20C-59A3-4638-89A8-9A45D604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013-DDF8-4966-9909-C38E5BDB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BC5-4ED7-4CD6-9395-ABD05CB3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972-5DDB-4FE2-BD1A-96B382AD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58E-B086-4512-9942-C5A40DD0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64E-8511-49EC-9ED0-D686A93C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F09-3122-4F8F-9586-CDB4175F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3EE-AEC3-4E50-A278-2F96360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919-7592-4D6D-B7EF-536DF0B7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85F4-3EDA-476D-83D4-762B13C9F0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5720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000080" y="1928880"/>
            <a:ext cx="464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500120" y="2428920"/>
            <a:ext cx="3500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ωλ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αλ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ρονος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ιθ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εσβυτερ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500800" y="2571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500800" y="32241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500800" y="3828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500800" y="4438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50080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500800" y="5653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 person, e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4112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14240" y="1954080"/>
            <a:ext cx="44294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πελων, ἀμπελωνος, ὁ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κων, εἰκονος, ἡ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λλην, Ἑλληνος, ὁ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σαρ, Καισαρο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μα, ατος, το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ς, ὠτος, το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929200" y="20970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ne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929200" y="2749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929200" y="33544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929200" y="3963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929200" y="4568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929200" y="5178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14240" y="1500120"/>
            <a:ext cx="4429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ς, παιδ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περμα, ατος, το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500720" y="1643040"/>
            <a:ext cx="4429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, servant (plus the related noun 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δ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52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or infant, which decline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500720" y="35132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28760" y="43959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ndeclin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728640" y="5214960"/>
            <a:ext cx="32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σχα, το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500720" y="52243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714240" y="155412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928800" y="20970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οραζω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ασφημ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εω (37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λογιζομαι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π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οιμαζ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214960" y="2239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214960" y="2892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lasp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214960" y="34974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214960" y="4106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sider, argue,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214960" y="4711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214960" y="5321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epare, mak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214960" y="27147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214960" y="3367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st, t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5214960" y="39718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214960" y="4581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ph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5214960" y="20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asp,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1071720" y="1943280"/>
            <a:ext cx="30002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τε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ιραζ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ασσ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ε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5214960" y="21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fall/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14960" y="27194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214960" y="336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214960" y="3990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214960" y="4610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fre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000080" y="1978200"/>
            <a:ext cx="35006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ανδαλιζ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τασσ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υλασσ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ιζομα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3:11:02Z</dcterms:created>
  <dc:creator>Sarah</dc:creator>
  <dc:description/>
  <dc:language>en-US</dc:language>
  <cp:lastModifiedBy>Sarah</cp:lastModifiedBy>
  <dcterms:modified xsi:type="dcterms:W3CDTF">2009-07-09T16:32:44Z</dcterms:modified>
  <cp:revision>17</cp:revision>
  <dc:subject/>
  <dc:title>Slide 1</dc:title>
</cp:coreProperties>
</file>