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215-9CBE-4D0B-A62E-8B46A4ED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3F2-09E4-4B32-854A-8B56471E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D2A-702C-4179-AC70-EE657C3B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87A-80D6-492F-B6B8-A51F374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23B-4692-4BB3-8AE6-B3E35810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51A-0DED-4D02-AEFC-EE5948A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3A0-8B83-44B4-9829-B5FCDD9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2DD-EFBB-4D27-A04E-CACBD7CE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D29-389B-4342-8701-C5797CE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044-9549-4A87-8930-99E4752E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F98-7966-4050-A2DD-7316F16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198-294F-4970-ABF6-6CC0139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13D-32BC-4305-8703-566F6A49B4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446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0588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ωμι (4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διδωμι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διδωμι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στημι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ιστημι (1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ιστημ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θημι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429160" y="205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429160" y="26290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awa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429160" y="3228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nd over, en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429160" y="38577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to stand, st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429160" y="44816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is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429160" y="5095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ce behi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429160" y="5715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214280" y="171468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θημι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ιημ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λυμι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κνυμ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μπλη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ημι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29160" y="1643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 up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29160" y="2219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ave, forgiv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29160" y="2819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429160" y="34480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uin, destr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29160" y="40719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out, show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429160" y="4686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429160" y="53053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71680" y="17146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428920"/>
            <a:ext cx="3429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ηροω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λειο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νεροω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429160" y="24224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ustif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429160" y="2998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, fill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429160" y="3598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u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429160" y="42274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ompl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429160" y="48513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veal, make kno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71680" y="11430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214280" y="18572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αω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εννα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ψαω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ωταω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ρωτα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αω (1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ομα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1851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v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2427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ar (be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3027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rst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36561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42800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214960" y="4896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214960" y="55101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214280" y="1511280"/>
            <a:ext cx="34290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πι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κα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ν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ανα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αω (2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μα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214960" y="15048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abou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214960" y="20811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214960" y="26812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214960" y="3309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eive, lead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214960" y="39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nour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14960" y="45514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928800" y="52912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lu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we learnt in Chapter 11 because it has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0:05:25Z</dcterms:created>
  <dc:creator>Sarah</dc:creator>
  <dc:description/>
  <dc:language>en-US</dc:language>
  <cp:lastModifiedBy>Sarah</cp:lastModifiedBy>
  <dcterms:modified xsi:type="dcterms:W3CDTF">2009-07-09T17:09:52Z</dcterms:modified>
  <cp:revision>28</cp:revision>
  <dc:subject/>
  <dc:title>Slide 1</dc:title>
</cp:coreProperties>
</file>