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33A-40A0-4116-8C14-8B9C7B5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93E-53BB-4D0D-9CC2-F2AD25A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B46-8245-4742-B7D5-25934372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B51-E8CC-4F4E-82D7-E0B7CC84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3A6-A2C8-455C-99EF-71E4F739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90A-3878-4DC1-A2AE-35C4A10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5BC-1E42-4680-A772-B528F86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CAE-D95E-474B-96CA-419AF899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17D-FC97-498A-8A76-6B7016F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B56-9EEC-44B0-AFE5-3319A6D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CE6-3727-4ED2-BC75-87AA62F8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75F-05C3-438D-AA8F-634EB7F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8100-E27A-41EF-87F6-D0A6EE05CB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θνῃσκω (1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ομαι (6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ιν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θιω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ὑρισκω (1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λειπ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,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43680" y="32432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come,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rrive, stan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ve (beh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260360"/>
            <a:ext cx="4643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νθαν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ραω (4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χ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νω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πτω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ρω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φερ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υγ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889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all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5036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,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5146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ring to,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λ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γελ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ρω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τειν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ελλω (1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ειρω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νω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ort, ann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3243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(away), lif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aise up, 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judge, 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357200" y="1260360"/>
            <a:ext cx="4643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ω (1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ειρ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ιρ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j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143680" y="50036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5143680" y="56008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00040" y="4110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with unusu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357200" y="48164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αβαινω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βαινω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357200" y="1741320"/>
            <a:ext cx="4643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ωσκω (2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ινωσκω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γινωσκω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143680" y="1913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43680" y="2523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143680" y="3127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4782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! Beh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0040" y="4125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357200" y="4626000"/>
            <a:ext cx="2714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ου (2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3:36:26Z</dcterms:created>
  <dc:creator>Sarah</dc:creator>
  <dc:description/>
  <dc:language>en-US</dc:language>
  <cp:lastModifiedBy>Sarah</cp:lastModifiedBy>
  <dcterms:modified xsi:type="dcterms:W3CDTF">2009-07-09T16:24:34Z</dcterms:modified>
  <cp:revision>15</cp:revision>
  <dc:subject/>
  <dc:title>Slide 1</dc:title>
</cp:coreProperties>
</file>