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0F5-9B0A-47DB-94EF-2CF1EFAC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831-4C03-48D1-AC93-211CC434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BF8-5CB2-40FD-801D-212C5B60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516-389B-4DFB-B559-454AB71A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68C-1304-46F0-BA77-800051DD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7B2-D047-4EC2-849A-A0E0F265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D7C-3DEA-450A-83D1-893B0400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EBF-E8B1-430C-96EF-8E60D0F4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81D-E63A-40BC-B12F-7D9911F3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372-1CB5-49FE-8AC7-1104B31C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2C0-66DA-4F51-BBF3-D161740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047-8330-4475-9023-A717DDD2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6F4A-44C2-43DC-ADF7-54B5A73DE8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892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standard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71760" y="211788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θος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πητος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ος (2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ς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στος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ερος (9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214960" y="2260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214960" y="29034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214960" y="3503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214960" y="4132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right,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214960" y="4741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14960" y="53611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,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71760" y="178596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ι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ιος (19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κ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λος (1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ν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καρι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521496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’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21496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wish, a J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5214960" y="3171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5214960" y="3800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utiful,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5214960" y="441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5214960" y="50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essed,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643040" y="1714680"/>
            <a:ext cx="2643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ον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εκρος (1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σος (11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ος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νηρος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υφλ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286240" y="18572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, 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28624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286240" y="31003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gre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5286240" y="495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l, w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286240" y="5592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286240" y="4311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ful, bel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57120" y="12859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lightly irregular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5920" y="3328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important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71720" y="178596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γας, μεγαλη, μεγα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υς, πολλη, πολυ (4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143000" y="3828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α (6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 (5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ὡς (5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85792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,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85792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,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857920" y="40006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857920" y="46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857920" y="5224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5857920" y="57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85920" y="1285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feminin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1143000" y="1785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αλιλαια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ρη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εφαλη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γη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857920" y="1957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857920" y="2600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857920" y="3181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857920" y="37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28760" y="442908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143000" y="492912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ρος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μι (24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5857920" y="5072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, 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857920" y="5715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28760" y="1428840"/>
            <a:ext cx="7929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pecial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re are two alternatives for ‘Jerusalem’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εροσολυμα (77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euter plural wor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rough breathing, 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ερουσαλημ (63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singular indeclinable word with a smooth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ιος (71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meaning ‘eternal’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ωνι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s the feminine forms. It us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sculine endings when agreeing with 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noun, 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αἰωνιος ζωη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20:34:04Z</dcterms:created>
  <dc:creator>Sarah</dc:creator>
  <dc:description/>
  <dc:language>en-US</dc:language>
  <cp:lastModifiedBy>Sarah</cp:lastModifiedBy>
  <dcterms:modified xsi:type="dcterms:W3CDTF">2009-06-29T10:04:51Z</dcterms:modified>
  <cp:revision>46</cp:revision>
  <dc:subject/>
  <dc:title>Slide 1</dc:title>
</cp:coreProperties>
</file>