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A14-16D0-407F-B77B-12D24299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227-C85B-4C9D-9E43-49DB7F4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902-6F2C-4732-940B-F0CB10D3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742-DBC4-41F6-83EC-CC23A4D0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16F-8AC1-4503-B95E-683EF67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C38-79A0-4D20-902D-CA2CA08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36A-693C-4693-8744-0DBB5A77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BBA-F2F8-482D-9239-60C0A3F4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702-3600-49D5-9563-13175408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CD9-63AE-4FAE-ABD5-01B43D8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730-7459-415E-9D8C-FBABED2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F47-9330-4B1D-99EE-DA6D82B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CFE8-CAC2-47F6-93BB-A26D0F81F1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285840" y="1252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more importan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285840" y="1828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femin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500120" y="23572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καιοσυ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τολη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ουσια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βολ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ρησια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143680" y="2500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143680" y="3138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143680" y="37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143680" y="4371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143680" y="49816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pokenness, bol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143680" y="5586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2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ascu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ολο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νατος (1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φθαλμ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ρισαιος (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6399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i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3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ne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ηριον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ματιον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ον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βατον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l, b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b,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85840" y="17114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negatives, used in the ‘other mood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 (10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δε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κετ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τε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85840" y="13860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500120" y="19144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λουθεω (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κεω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ε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ω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143680" y="2085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143680" y="2697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 up,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43680" y="33148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ind, ti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43680" y="39290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, 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ercy on, p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143680" y="51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,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6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500120" y="1954080"/>
            <a:ext cx="38577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ωρεω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ργ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ρτυρεω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λλω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νο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143680" y="2097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3680" y="27367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ineffective, ab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143680" y="33544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 witness, te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39686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intend, am about (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143680" y="4592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7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14240" y="1571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verbs which only occur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(called ‘impersonal verb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00120" y="25718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72040" y="33526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3040" y="418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486080" y="4768920"/>
            <a:ext cx="2714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πισω (35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86440" y="4921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1:47:05Z</dcterms:created>
  <dc:creator>Sarah</dc:creator>
  <dc:description/>
  <dc:language>en-US</dc:language>
  <cp:lastModifiedBy>Sarah</cp:lastModifiedBy>
  <dcterms:modified xsi:type="dcterms:W3CDTF">2009-06-29T10:10:45Z</dcterms:modified>
  <cp:revision>15</cp:revision>
  <dc:subject/>
  <dc:title>Slide 1</dc:title>
</cp:coreProperties>
</file>