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F25-47BC-4191-B708-33C48052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24C-42F4-4F46-9FB8-A90754A4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92E-67DF-4319-9EF6-C5360434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F9B-5FA1-43EF-A78C-1F677996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274-2132-4ADB-8DAB-6EEA228F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C04-3A5F-4592-99E1-5465F123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906-4D16-4687-98BF-FBDEA0F8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A6B-DFA3-4797-9111-EE82AA5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2CB-AC0A-40DD-9A49-DB8C4743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CAA-F4E3-4104-AB51-F93A0D2F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673-A3FF-40E0-9416-E9E9F367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808-E9D8-4819-8F43-3E87C277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2987-E435-413C-96DF-554ED499F4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4"/>
          <p:cNvSpPr/>
          <p:nvPr/>
        </p:nvSpPr>
        <p:spPr>
          <a:xfrm>
            <a:off x="5357880" y="585612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ront of, in the presenc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71680" y="12142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een common prepositions – remember they have different meanings with differ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857160" y="197496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 (64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 (66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ς (176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 (9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 (2752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ωπιον (9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357880" y="21146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way)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357880" y="2757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357880" y="3357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5357880" y="39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357880" y="4595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out of)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5357880" y="52149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57160" y="1432080"/>
            <a:ext cx="428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ω (6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ι (89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ως (14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τα (47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357880" y="15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357880" y="2214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357880" y="2814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, in the tim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57880" y="344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, in, on the basi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357880" y="4052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357880" y="46720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357880" y="5313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857160" y="1432080"/>
            <a:ext cx="42865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τα (46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 (19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 (33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 (4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5357880" y="15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357880" y="2214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357880" y="2814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357880" y="344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be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357880" y="4052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357880" y="4672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ound, approxim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357880" y="5313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ning,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5357880" y="59151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857160" y="1689120"/>
            <a:ext cx="428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ς (70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 (12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ερ (1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 (22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5357880" y="18288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, to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357880" y="24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gether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357880" y="3071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37004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behal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4309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357880" y="4929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, at the hand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571680" y="12524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leven compoun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1857240"/>
            <a:ext cx="42861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βλεπω (25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λυω (6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βαλλω (81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καλεω (3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οικεω (4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καλεω (10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λαμβανω (4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929040" y="19969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ok up, receive 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29040" y="2639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t free, divorce, dis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929040" y="324000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ive out, cast out, throw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929040" y="38685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l upon,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929040" y="44798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well, inhabit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943440" y="5072040"/>
            <a:ext cx="54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xhort, request, comfort, en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929040" y="5729400"/>
            <a:ext cx="54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,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6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1000080" y="1071720"/>
            <a:ext cx="42861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ριπατεω (95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κυνεω (6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αγω (5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αγω (7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643280" y="121140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 about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643280" y="185436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643280" y="24541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ather, 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643280" y="30830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e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642960" y="378612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, two question words and the 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1000080" y="4467240"/>
            <a:ext cx="42861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ως (10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υ (4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, οὐκ, οὐχ (160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4786200" y="461016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4800600" y="5257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4843440" y="58863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20:28:29Z</dcterms:created>
  <dc:creator>Sarah</dc:creator>
  <dc:description/>
  <dc:language>en-US</dc:language>
  <cp:lastModifiedBy>Sarah</cp:lastModifiedBy>
  <dcterms:modified xsi:type="dcterms:W3CDTF">2009-06-29T09:58:42Z</dcterms:modified>
  <cp:revision>27</cp:revision>
  <dc:subject/>
  <dc:title>Slide 1</dc:title>
</cp:coreProperties>
</file>