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907-287F-4455-9AEA-9529CCFC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895-E6AD-407D-B32A-48F53418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808-9F86-4E2B-8C0D-85F3A104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160-4F73-4558-9399-97206717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074-9652-4A85-A40D-D33B7D91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027-9038-4BD4-9E4E-39F06437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C65-609B-4630-9D58-161D5CDB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13B-9E63-49E3-A7C8-01D6BF7C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536-5249-4FF4-9FEC-B87EDB8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533-449F-428C-873F-56508E5F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F5C-9A28-4336-8143-81C6460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45A-F22D-40F7-8613-21EF3807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6AEE-99FE-42FF-8160-3F464AD0A7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771560" y="20718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η (1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η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η (2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ωη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η (1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ψυχη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629240" y="2228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629240" y="28432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629240" y="34574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643280" y="4071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th, soil,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643280" y="4700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42920" y="11318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teen feminine nouns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643280" y="531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,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643280" y="5924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l,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771560" y="15336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μαρτια (1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ια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κκλησια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ἡμερα (38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δια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ια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ικια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ρα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29240" y="169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29240" y="230508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ign, kingship, king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29240" y="29192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mbly (later ‘church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43280" y="3533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643280" y="41623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42920" y="11318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ερα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643280" y="53863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,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643280" y="60246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, occ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071720" y="1643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with the mixed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785960" y="2500200"/>
            <a:ext cx="30002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λασσα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786200" y="26528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lendour, gl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86200" y="3286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, 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771560" y="251784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ον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αιμονιον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ργον (1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ερον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629240" y="26748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, sc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629240" y="328932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629240" y="39038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, 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643280" y="4518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news, go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643280" y="5146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142920" y="1616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 neuter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71560" y="21430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οι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ωπ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ββατ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ημειον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κνον (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29240" y="23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29240" y="291456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29240" y="35290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b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43280" y="414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914400" y="1357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important 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14680" y="1920960"/>
            <a:ext cx="385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ὐτος αὐτη αὐτο (55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572080" y="1928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, she, it,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928800" y="2643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1743120" y="322884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ησους (9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υλος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τρος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785960" y="5554800"/>
            <a:ext cx="3857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ευ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(2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928800" y="52149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5572080" y="3409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600880" y="4029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5614920" y="4610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5643720" y="571500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lieve (in), trust, have faith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51:14Z</dcterms:created>
  <dc:creator>Sarah</dc:creator>
  <dc:description/>
  <dc:language>en-US</dc:language>
  <cp:lastModifiedBy>Sarah</cp:lastModifiedBy>
  <dcterms:modified xsi:type="dcterms:W3CDTF">2009-06-29T09:51:31Z</dcterms:modified>
  <cp:revision>16</cp:revision>
  <dc:subject/>
  <dc:title>Slide 1</dc:title>
</cp:coreProperties>
</file>