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CFE1-CAB9-43F3-91FE-848BEAFB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00D-C636-4BBE-B5D5-8CA2F2D1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572-CC58-4E0E-9CD7-B62F14D0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C73E-79CC-4882-B460-87EC92AD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5DEA-DE40-43F9-9C49-BC069FF5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A515-0F8C-4199-995E-66209273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C331-2FEC-41B5-B6EF-124A2EDB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C38B-8E98-47F2-810A-E6162EFA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AA8F-4E14-4715-957B-83899CDF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102-C5F2-4536-AAFA-D8F36526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38C-DA62-41C7-BB31-C0899996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9EC-8D52-4F35-BF67-3FAED9E3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54C9-EF91-4726-B776-CA4188C3CCD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357120" y="239760"/>
            <a:ext cx="7547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FOUR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71680" y="135720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ore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000080" y="1928880"/>
            <a:ext cx="464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500120" y="2428920"/>
            <a:ext cx="350064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μαρτωλος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δασκαλος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ρονος (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ακωβος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ιθος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εσβυτερος (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500800" y="25718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500800" y="32241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500800" y="38289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500800" y="44388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500800" y="50436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500800" y="56530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ld person, el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714240" y="141120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714240" y="1954080"/>
            <a:ext cx="442944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μπελων, ἀμπελωνος, ὁ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κων, εἰκονος, ἡ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λλην, Ἑλληνος, ὁ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ισαρ, Καισαρος, ὁ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ιμα, ατος, το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ς, ὠτος, το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929200" y="209700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ney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929200" y="27496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5929200" y="33544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929200" y="39639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929200" y="45687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5929200" y="51786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3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714240" y="1500120"/>
            <a:ext cx="4429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ις, παιδος, ὁ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περμα, ατος, το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4500720" y="1643040"/>
            <a:ext cx="44290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, servant (plus the related noun 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ιδο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52)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 or infant, which decline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γο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4500720" y="35132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428760" y="439596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indeclin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728640" y="5214960"/>
            <a:ext cx="3286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σχα, το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4500720" y="52243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79932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714240" y="155412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ome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928800" y="2097000"/>
            <a:ext cx="44290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οραζω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ασφημεω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ακονεω (37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αλογιζομαι (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πιζω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τοιμαζω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214960" y="2239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5214960" y="28926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lasp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5214960" y="34974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214960" y="41068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nsider, argue,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5214960" y="47116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5214960" y="5321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epare, make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79932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214960" y="27147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5214960" y="33670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est, te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5214960" y="39718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5214960" y="45813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oph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5214960" y="20574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rasp, ar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1071720" y="1943280"/>
            <a:ext cx="300024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ατεω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σεω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ιραζω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ασσω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φητευ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6"/>
          <p:cNvSpPr/>
          <p:nvPr/>
        </p:nvSpPr>
        <p:spPr>
          <a:xfrm>
            <a:off x="679932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5214960" y="2109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use to fall/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5214960" y="27194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214960" y="336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5214960" y="3990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l (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5214960" y="4610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ive fre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1000080" y="1978200"/>
            <a:ext cx="350064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κανδαλιζω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οτασσω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υλασσω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ωνεω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αριζομαι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23:11:02Z</dcterms:created>
  <dc:creator>Sarah</dc:creator>
  <dc:description/>
  <dc:language>en-US</dc:language>
  <cp:lastModifiedBy>Sarah</cp:lastModifiedBy>
  <dcterms:modified xsi:type="dcterms:W3CDTF">2009-06-24T16:10:52Z</dcterms:modified>
  <cp:revision>16</cp:revision>
  <dc:subject/>
  <dc:title>Slide 1</dc:title>
</cp:coreProperties>
</file>