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794-FDC5-4423-A588-15084DED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E30-D4F9-4A00-954E-DB2167B0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85C-B9DE-4151-911D-1F678ECC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AA2-F6BD-4CF9-A58A-AEF772F8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0ED-0D7D-4114-8EC5-426EAD78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D73-B9E3-44A9-A3C0-BC71B941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D24-F8E1-4770-A3BD-72A212E4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370-096B-476D-90A9-F69ACF8E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7A6-AC26-43E8-83FD-33859605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33D-A457-41D8-BA51-BE36EE65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3CF-3AD9-46DF-9DD5-D7257E1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782-7512-447D-8D9B-59E5E68F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CF26-8D4D-4D90-9DE4-A2127D78AE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324080"/>
            <a:ext cx="82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declension words, grouped into their rough patter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57160" y="18572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ηρ, ἀνδρος, ὁ (2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ηρ, ἀστε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, σωτη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, αἰωνος, ὁ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ων, ἀρχοντος, ὁ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ιμων, Σιμωνος, ὁ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υνη, γυναικος, ἡ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14960" y="2014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 (male),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14960" y="2643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14960" y="3257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14960" y="38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 (long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214960" y="4481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r,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214960" y="5114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214960" y="5729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an,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285920"/>
            <a:ext cx="40006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πις, ἐλπιδος, ἡ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υξ, νυκτος, ἡ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υς, ποδος, ὁ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αρξ, σαρκος, ἡ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ρις, χαριτος, ἡ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ειρ, χειρος, ἡ (1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γατηρ, θυγατρος, ἡ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τηρ, μητρος, ἡ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28624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28624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28624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8624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28624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28624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28624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28624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57160" y="1285920"/>
            <a:ext cx="44290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τηρ, πατρος, ἡ (4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υρ, πυρος, το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δωρ, ὑδατος, το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ς, φωτος, το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ἱμα, αἱματος, το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ημα, θεληματος, το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νομα, ὀνοματος (2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νευμα, πνευματος, το (3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57208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her,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57208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57208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57208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57208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57208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57208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57208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,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857160" y="143496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ημα, ῥηματος, το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ομα, στοματος, το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μα, σωματος, το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572080" y="159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572080" y="222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572080" y="283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572080" y="445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r,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572080" y="506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00040" y="36813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857160" y="4287960"/>
            <a:ext cx="32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ιζων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ειων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843440" y="23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,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843440" y="2957400"/>
            <a:ext cx="380052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? which?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mean 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0040" y="15717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1857240" y="2185920"/>
            <a:ext cx="32148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ς τι (5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ίς τί (5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στις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πε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857840" y="4195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857840" y="4824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0:44:09Z</dcterms:created>
  <dc:creator>Sarah</dc:creator>
  <dc:description/>
  <dc:language>en-US</dc:language>
  <cp:lastModifiedBy>Sarah</cp:lastModifiedBy>
  <dcterms:modified xsi:type="dcterms:W3CDTF">2009-06-24T15:57:31Z</dcterms:modified>
  <cp:revision>30</cp:revision>
  <dc:subject/>
  <dc:title>Slide 1</dc:title>
</cp:coreProperties>
</file>