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C65-A733-45E7-8CB8-0B6CBE40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E00-FCCE-4561-A99F-E3A1F46F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A56-D94B-41CF-91CD-B109D16A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FC2-7F94-4327-8C42-248EAE13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8E8-0496-4557-BD21-23C3035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431-EDE2-4586-B8B8-C2F660BA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778-7768-4ED5-A826-3B2F4F7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54E-B226-4048-8AE0-EAE0691D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B78-C235-4C15-A360-7598F061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2D7-C170-4F99-A4AB-6072FEE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2F0-025C-49EF-A492-10F8609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D27-7930-4544-90CF-9C664A66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C17E-B69C-4EEF-9715-FBA4A1E1A7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251000"/>
            <a:ext cx="8929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72088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ω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υω (4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λλω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λεπω (1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2878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492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, lis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106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721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657680" y="5321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785880" y="2212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 verbs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785960" y="2000160"/>
            <a:ext cx="40003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ω (7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μβανω (2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εγω (23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υ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643280" y="2157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,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43280" y="338616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y, speak, 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500120" y="2214720"/>
            <a:ext cx="4286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ω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ω (1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ω (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 (5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643280" y="2371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643280" y="2986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43280" y="360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peak,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57680" y="421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,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657680" y="4815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1500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ix that are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57680" y="5443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785960" y="20001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γε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ος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τος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υλος (1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ος (13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οσμος (1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υρι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643280" y="2157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enger, a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3280" y="3386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57680" y="46004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,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85880" y="1285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nouns declining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57680" y="5229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643280" y="587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master,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85960" y="15717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γος (3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ομος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ς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ρανος (2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χ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υἱος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7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ιστ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43280" y="1728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43280" y="2343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43280" y="29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,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57680" y="3571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57680" y="417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657680" y="48006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4643280" y="5443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, Mess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785960" y="1785960"/>
            <a:ext cx="4000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, ἡ, το (198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643280" y="19432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43280" y="3727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being,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643280" y="43560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(as in ‘a people’ or ‘a natio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71680" y="12859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st common word in Gr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14520" y="258588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more that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imilar but distinc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886040" y="3571920"/>
            <a:ext cx="27860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(5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ος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642960" y="5227560"/>
            <a:ext cx="835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 people or nations; for ‘people’ meaning ‘a number of persons’ Greek would use 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08Z</dcterms:created>
  <dc:creator>Sarah</dc:creator>
  <dc:description/>
  <dc:language>en-US</dc:language>
  <cp:lastModifiedBy>Sarah</cp:lastModifiedBy>
  <dcterms:modified xsi:type="dcterms:W3CDTF">2009-06-19T20:39:11Z</dcterms:modified>
  <cp:revision>15</cp:revision>
  <dc:subject/>
  <dc:title>Slide 1</dc:title>
</cp:coreProperties>
</file>