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E50-D105-4498-9BBB-4F2BE65D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23F-74F0-4818-8388-B83B7C76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5C1-4CBA-4A7A-9D7A-BFAC1F0C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A72-8E71-4196-953A-13D72D06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3B7-FD47-495B-AC5A-B15A7953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0E1-B6B7-4AFD-9106-8DF0A28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6D0-ECF2-4F91-9929-FCDBC4E6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96-5118-4E42-A7A5-C166F70B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E7D-69F7-4D64-B459-EE4A2BFE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5D1-89A0-4F16-A420-B6D69092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72B-A32A-44D6-B934-28779AB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67D-F890-447A-A40D-272081C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7259-0FE0-4EC1-A037-5ED9FDFDEDC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12248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important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428840" y="1571760"/>
            <a:ext cx="46432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εια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ιν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γ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 (1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θεν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θυς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ως (3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ως (1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929120" y="1712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929120" y="2336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genuine,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929120" y="29559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929120" y="35701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(in that pl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929120" y="41940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929120" y="4827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929120" y="6058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929120" y="54291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ly,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214280" y="142884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ι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μοιως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που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ς ἥ ὅ (13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ι (1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714920" y="1565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, of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714920" y="21844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4920" y="27986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714920" y="3422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714920" y="40561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, which,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714920" y="46702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, because or “ (marking beginning of spe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71492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214280" y="128592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τε (8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τε ... οὐ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ως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χ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θ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δε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14920" y="1433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14920" y="2052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14920" y="26668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..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714920" y="3290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manner, 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714920" y="3924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,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714920" y="45385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4714920" y="5157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where? or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714920" y="5772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pre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214280" y="2097000"/>
            <a:ext cx="4643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μπροσθε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8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νεκα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6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α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2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ις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72040" y="2224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sak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ther si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, apar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228680" y="50817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λατ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5072040" y="5095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fiv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209700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γιζω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dat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γεο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υμαζω (4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ραπευ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ευδω (22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72040" y="2224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pproach, come 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ma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72040" y="47149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9:12:00Z</dcterms:created>
  <dc:creator>Sarah</dc:creator>
  <dc:description/>
  <dc:language>en-US</dc:language>
  <cp:lastModifiedBy>Sarah</cp:lastModifiedBy>
  <dcterms:modified xsi:type="dcterms:W3CDTF">2009-06-24T15:45:17Z</dcterms:modified>
  <cp:revision>19</cp:revision>
  <dc:subject/>
  <dc:title>Slide 1</dc:title>
</cp:coreProperties>
</file>