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B53-87E5-438A-8AB2-370ABB51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385-8E02-4FA3-89C1-E55750B2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EDE-40D0-4078-AE94-70EE647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FCD-B3CD-4088-9D45-849A7814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258-A893-4B84-B9AE-FFE4F8A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29B-F173-457C-9344-EDFA809E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7C-8E67-49BF-BB96-05E2E5E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C18-564C-4741-A631-0BB7D4F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53C-B5A6-4EAB-A920-CEB0990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720-8C0A-45D9-9ACC-DBA2AC9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714-78F7-4388-837D-56FB07A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E1B-7B7D-48E8-AD0C-6FD448B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E501-1790-4FFD-9A8E-73DA906621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892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standard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71760" y="211788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θος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τος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ος (2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ς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στος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ερος (9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214960" y="2260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214960" y="2903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3503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214960" y="4132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right,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214960" y="4741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536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,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71760" y="178596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ι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ιος (19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κ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λος (1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ν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καρι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21496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14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wish, a J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14960" y="3171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5214960" y="3800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tiful,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14960" y="441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5214960" y="50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,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643040" y="1714680"/>
            <a:ext cx="2643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ον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εκρος (1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σος (11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ος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νηρος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υφλ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286240" y="18572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,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28624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286240" y="31003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gr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5286240" y="495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l,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286240" y="5592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286240" y="4311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ful, bel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2859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lightly irregular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5920" y="3328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important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1720" y="178596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γας, μεγαλη, μεγα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υς, πολλη, πολυ (4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43000" y="3828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α (6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 (5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ὡς (5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5792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,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5792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857920" y="4000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857920" y="46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57920" y="5224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85792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85920" y="1285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feminin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43000" y="1785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αλιλαια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ρη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εφαλη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γη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1957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857920" y="2600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857920" y="3181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857920" y="37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28760" y="4429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143000" y="492912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ρος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μι (24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57920" y="5072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,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85792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1428840"/>
            <a:ext cx="7929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re are two alternatives for ‘Jerusalem’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σολυμα (77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uter plural wor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rough breathing,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ερουσαλημ (6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singular indeclinable word with a smoo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ιος (7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meaning ‘eternal’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s the feminine forms. It 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culine endings when agreeing with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un,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αἰωνιος ζω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0:34:04Z</dcterms:created>
  <dc:creator>Sarah</dc:creator>
  <dc:description/>
  <dc:language>en-US</dc:language>
  <cp:lastModifiedBy>Sarah</cp:lastModifiedBy>
  <dcterms:modified xsi:type="dcterms:W3CDTF">2009-06-19T20:57:28Z</dcterms:modified>
  <cp:revision>45</cp:revision>
  <dc:subject/>
  <dc:title>Slide 1</dc:title>
</cp:coreProperties>
</file>