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BBB5-8D2A-4748-83F7-065690C43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C247-9446-4361-905F-F596F3F7B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27A9-5669-4E93-B0FE-3E6C764AE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8067-AE37-4715-A58D-6455D4035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0894-4FCA-4343-9A9B-55BB9889B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01D3-4437-4CBC-9008-F01EC610D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26AE-D562-4680-90B4-BBF39E767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289D-F5E3-447E-9B87-868C2F1C3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FF4E-F425-491A-8663-C7BBC939E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6B7D-C6F0-463F-A0D4-9B03CD23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06CC-D708-4A3A-8C1B-10D0241D9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BE9D-ADCF-47A5-9F0B-9FDE40CEF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FBEE0-D4ED-4821-9543-34EA43AAC90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c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-12600"/>
            <a:ext cx="9144000" cy="107136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1220760" y="239760"/>
            <a:ext cx="66834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OCABULARY FOR MODULE SEV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7:Vocabulary 1/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3"/>
          <p:cNvSpPr/>
          <p:nvPr/>
        </p:nvSpPr>
        <p:spPr>
          <a:xfrm>
            <a:off x="285840" y="125244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urteen more important nou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4"/>
          <p:cNvSpPr/>
          <p:nvPr/>
        </p:nvSpPr>
        <p:spPr>
          <a:xfrm>
            <a:off x="285840" y="182880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femini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5"/>
          <p:cNvSpPr/>
          <p:nvPr/>
        </p:nvSpPr>
        <p:spPr>
          <a:xfrm>
            <a:off x="1500120" y="2357280"/>
            <a:ext cx="3857760" cy="37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δικαιοσυνη (9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ντολη (6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ξουσια (10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αραβολη (5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αρρησια (3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χαρα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(5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6"/>
          <p:cNvSpPr/>
          <p:nvPr/>
        </p:nvSpPr>
        <p:spPr>
          <a:xfrm>
            <a:off x="5143680" y="250020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ighteous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7"/>
          <p:cNvSpPr/>
          <p:nvPr/>
        </p:nvSpPr>
        <p:spPr>
          <a:xfrm>
            <a:off x="5143680" y="313848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mand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8"/>
          <p:cNvSpPr/>
          <p:nvPr/>
        </p:nvSpPr>
        <p:spPr>
          <a:xfrm>
            <a:off x="5143680" y="375768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uth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9"/>
          <p:cNvSpPr/>
          <p:nvPr/>
        </p:nvSpPr>
        <p:spPr>
          <a:xfrm>
            <a:off x="5143680" y="437184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0"/>
          <p:cNvSpPr/>
          <p:nvPr/>
        </p:nvSpPr>
        <p:spPr>
          <a:xfrm>
            <a:off x="5143680" y="4981680"/>
            <a:ext cx="41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utspokenness, bold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1"/>
          <p:cNvSpPr/>
          <p:nvPr/>
        </p:nvSpPr>
        <p:spPr>
          <a:xfrm>
            <a:off x="5143680" y="558648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o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7:Vocabulary 2/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285840" y="171144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masculi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1500120" y="2239920"/>
            <a:ext cx="385776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ποστολος (8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θανατος (12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ὀφθαλμος (10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Φαρισαιος (9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5143680" y="238284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os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5143680" y="302112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5143680" y="363996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7"/>
          <p:cNvSpPr/>
          <p:nvPr/>
        </p:nvSpPr>
        <p:spPr>
          <a:xfrm>
            <a:off x="5143680" y="425448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aris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7:Vocabulary 3/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285840" y="171144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some neu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1500120" y="2239920"/>
            <a:ext cx="385776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θηριον (4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ἱματιον (6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νημειον (4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ροβατον (3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4"/>
          <p:cNvSpPr/>
          <p:nvPr/>
        </p:nvSpPr>
        <p:spPr>
          <a:xfrm>
            <a:off x="5143680" y="238284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imal, be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5143680" y="302112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ar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5143680" y="3639960"/>
            <a:ext cx="307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mb, mon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5143680" y="425448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e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7:Vocabulary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/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"/>
          <p:cNvSpPr/>
          <p:nvPr/>
        </p:nvSpPr>
        <p:spPr>
          <a:xfrm>
            <a:off x="285840" y="1711440"/>
            <a:ext cx="71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ur negatives, used in the ‘other moods’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1500120" y="2239920"/>
            <a:ext cx="385776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μη (104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μηδε (5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ηκετι (2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ητε (3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5143680" y="238284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5143680" y="302112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not, but 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5143680" y="3639960"/>
            <a:ext cx="307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 lo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5143680" y="425448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not, n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7:Vocabulary 5/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"/>
          <p:cNvSpPr/>
          <p:nvPr/>
        </p:nvSpPr>
        <p:spPr>
          <a:xfrm>
            <a:off x="285840" y="138600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even more ver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1500120" y="1914480"/>
            <a:ext cx="3857760" cy="37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κολουθεω (90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+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ναγω (2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εω (4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δοκεω (6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λεεω (2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θελω (20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4"/>
          <p:cNvSpPr/>
          <p:nvPr/>
        </p:nvSpPr>
        <p:spPr>
          <a:xfrm>
            <a:off x="5143680" y="208584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fol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5"/>
          <p:cNvSpPr/>
          <p:nvPr/>
        </p:nvSpPr>
        <p:spPr>
          <a:xfrm>
            <a:off x="5143680" y="26971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lead up, res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6"/>
          <p:cNvSpPr/>
          <p:nvPr/>
        </p:nvSpPr>
        <p:spPr>
          <a:xfrm>
            <a:off x="5143680" y="3314880"/>
            <a:ext cx="307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bind, tie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7"/>
          <p:cNvSpPr/>
          <p:nvPr/>
        </p:nvSpPr>
        <p:spPr>
          <a:xfrm>
            <a:off x="5143680" y="392904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think, se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8"/>
          <p:cNvSpPr/>
          <p:nvPr/>
        </p:nvSpPr>
        <p:spPr>
          <a:xfrm>
            <a:off x="5143680" y="4538520"/>
            <a:ext cx="36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have mercy on, p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9"/>
          <p:cNvSpPr/>
          <p:nvPr/>
        </p:nvSpPr>
        <p:spPr>
          <a:xfrm>
            <a:off x="5143680" y="515772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wish, w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7:Vocabulary 6/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1500120" y="1954080"/>
            <a:ext cx="3857760" cy="31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θεωρεω (5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αταργεω (2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μαρτυρεω (7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μελλω (10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μετανοεω (3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4"/>
          <p:cNvSpPr/>
          <p:nvPr/>
        </p:nvSpPr>
        <p:spPr>
          <a:xfrm>
            <a:off x="5143680" y="209700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look 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5"/>
          <p:cNvSpPr/>
          <p:nvPr/>
        </p:nvSpPr>
        <p:spPr>
          <a:xfrm>
            <a:off x="5143680" y="2736720"/>
            <a:ext cx="40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make ineffective, abol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6"/>
          <p:cNvSpPr/>
          <p:nvPr/>
        </p:nvSpPr>
        <p:spPr>
          <a:xfrm>
            <a:off x="5143680" y="3354480"/>
            <a:ext cx="307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bear witness, tes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5143680" y="3968640"/>
            <a:ext cx="357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intend, am about (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8"/>
          <p:cNvSpPr/>
          <p:nvPr/>
        </p:nvSpPr>
        <p:spPr>
          <a:xfrm>
            <a:off x="5143680" y="4592520"/>
            <a:ext cx="36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repent, change my m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7:Vocabulary 7/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"/>
          <p:cNvSpPr/>
          <p:nvPr/>
        </p:nvSpPr>
        <p:spPr>
          <a:xfrm>
            <a:off x="714240" y="157176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us two verbs which only occur in the 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ingular (called ‘impersonal verbs’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1500120" y="2571840"/>
            <a:ext cx="271476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ει (10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ξεστι (3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5072040" y="271476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5072040" y="335268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permit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6"/>
          <p:cNvSpPr/>
          <p:nvPr/>
        </p:nvSpPr>
        <p:spPr>
          <a:xfrm>
            <a:off x="743040" y="4183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more preposi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7"/>
          <p:cNvSpPr/>
          <p:nvPr/>
        </p:nvSpPr>
        <p:spPr>
          <a:xfrm>
            <a:off x="1486080" y="4768920"/>
            <a:ext cx="27144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ὀπισω (35) +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8"/>
          <p:cNvSpPr/>
          <p:nvPr/>
        </p:nvSpPr>
        <p:spPr>
          <a:xfrm>
            <a:off x="5086440" y="492120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h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21:47:05Z</dcterms:created>
  <dc:creator>Sarah</dc:creator>
  <dc:description/>
  <dc:language>en-US</dc:language>
  <cp:lastModifiedBy>Sarah</cp:lastModifiedBy>
  <dcterms:modified xsi:type="dcterms:W3CDTF">2009-06-23T10:22:18Z</dcterms:modified>
  <cp:revision>14</cp:revision>
  <dc:subject/>
  <dc:title>Slide 1</dc:title>
</cp:coreProperties>
</file>