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DB9-0073-4507-AE04-1C2003DB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A68A-F81B-462B-875C-B9285E06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6E7-7D30-4430-BA55-CE839212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9F0-5BB6-4D1E-9239-A14265EE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7E7-2460-4E9B-830F-563634F5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DC5-2DEB-4B9D-A6E2-228DF68A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DD0-8F75-4CF4-B755-5F68812E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EB0-C95B-419C-9210-5A643EDE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D7F-D661-4836-8527-11A91DD1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420-D9A1-4FD0-89F2-20ABD740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B64-1DEE-485E-A7EE-3D5CBB53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4C3-6EA9-4930-B18B-FA9F1C9F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E48B-7F34-49E5-A258-77EAE4E41B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54240" y="239760"/>
            <a:ext cx="6286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O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Vocabulary 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42920" y="145584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s in brackets after the Greek word are the number of times the word occurs in the New Testa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785960" y="2846520"/>
            <a:ext cx="40003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βρααμ (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μην (1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αυιδ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ῥαββι (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643280" y="30034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643280" y="36320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en, tr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643280" y="42609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657680" y="48751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b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Vocabulary 2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857240" y="2255760"/>
            <a:ext cx="45720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ακωβ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σραηλ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ωσηφ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(9161)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000760" y="24433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c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000760" y="30384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5000760" y="36813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se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5000760" y="43005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5:16:02Z</dcterms:created>
  <dc:creator>Sarah</dc:creator>
  <dc:description/>
  <dc:language>en-US</dc:language>
  <cp:lastModifiedBy>Sarah</cp:lastModifiedBy>
  <dcterms:modified xsi:type="dcterms:W3CDTF">2009-06-19T20:27:06Z</dcterms:modified>
  <cp:revision>12</cp:revision>
  <dc:subject/>
  <dc:title>Slide 1</dc:title>
</cp:coreProperties>
</file>