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3F6-1A42-4B3F-862F-448F7E37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D17-93D7-4372-B184-85F988AC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465-FCC6-47AC-AB99-E7AD1622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58F-C7C2-4EE1-AB60-083182BA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182-D2E8-40C3-9846-8D057BD8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195-BBEE-4B50-B8CB-117A2BB4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E63-599A-4809-9C46-C35EF10B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ED4-92D5-4F00-94F8-E4F14015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0E1-62DA-4065-A624-CBFBBFF3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FB8-30B7-4623-AEC2-B57856CC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364-5C48-4EB4-8391-FD5BCA4B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350-FF53-49F4-BA30-8F0FAC6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E71E-0791-47A8-BFC0-536043D775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571680" y="135720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teen deponent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1357200" y="1914480"/>
            <a:ext cx="4143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χομαι (6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ερχομαι (1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ερχομαι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σερχομαι (1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ξερχομαι (2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ερχομαι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ρχομαι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5072040" y="20718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,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072040" y="2695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epart,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072040" y="33098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ross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5072040" y="3929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into,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5072040" y="4538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out,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072040" y="5143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by, pas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072040" y="57862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e to, go to,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357200" y="1620720"/>
            <a:ext cx="4143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ρχομαι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τομαι (39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νεομ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χομαι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παζομαι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χομαι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γαζομαι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72040" y="1778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72040" y="240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72040" y="3016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fuse, d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072040" y="3635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072040" y="4245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072040" y="4849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072040" y="54928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357200" y="1620720"/>
            <a:ext cx="41436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αγγελιζομαι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ζομαι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υχομαι (8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καλεομαι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ῥυομαι (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072040" y="1778040"/>
            <a:ext cx="40719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claim good news (a compoun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-ἀγγελιζ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72040" y="3016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culate,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72040" y="3635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072040" y="4245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072040" y="4849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sc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71680" y="135720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asculine noun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143000" y="2065320"/>
            <a:ext cx="47149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ρῳδης, ὁ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ωαννη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or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Ἰωανης, ὁ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θητης, ὁ (2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φητης, ὁ (1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ρατιωτης, ὁ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ηρετης, ὁ (2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715000" y="2222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715000" y="2846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715000" y="3460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715000" y="40798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715000" y="46893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d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715000" y="52941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571680" y="135720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143000" y="1906560"/>
            <a:ext cx="47149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ρναβας, ὁ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ουδας, ὁ (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τανας, ὁ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715000" y="20638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na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15000" y="2687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ah, Ju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715000" y="330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714240" y="4125960"/>
            <a:ext cx="700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o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with a genitive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942840" y="4697280"/>
            <a:ext cx="4714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Ἠλιας, ὁ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5715000" y="48546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j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571680" y="178596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feminine words declining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143000" y="2514600"/>
            <a:ext cx="471492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γυπτος, ἡ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ημος, ἡ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δος, ἡ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715000" y="267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5000" y="3295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derness, desolat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5000" y="45324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,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0:43:37Z</dcterms:created>
  <dc:creator>Sarah</dc:creator>
  <dc:description/>
  <dc:language>en-US</dc:language>
  <cp:lastModifiedBy>Sarah</cp:lastModifiedBy>
  <dcterms:modified xsi:type="dcterms:W3CDTF">2009-06-23T10:29:11Z</dcterms:modified>
  <cp:revision>24</cp:revision>
  <dc:subject/>
  <dc:title>Slide 1</dc:title>
</cp:coreProperties>
</file>