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D9C-EC68-4EBC-AAF3-03FC1554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8D9-A8E4-4A6E-9AEC-6B61684A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165-7950-46F0-B1E1-34198FD1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3A8-3D90-439E-8597-90B33304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3A8-98B5-44CE-8C82-00689348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9A5-46B6-403D-BADB-99A10DB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122-218E-4FF1-8D79-5744C295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6BC-597E-499B-8938-445179A3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562-082E-4C9A-8B47-2F02D01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8BB-CB0F-4922-9B58-BB1269D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2C8-D36D-4F09-8557-7F1EAFD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659-528C-47BD-B86F-2387872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7977-C451-4858-9AA3-94288D3DF1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71560" y="20718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η (1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η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η (2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ωη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η (1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629240" y="2228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629240" y="2843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629240" y="34574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43280" y="4071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th, soil,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643280" y="4700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42920" y="11318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teen feminine nouns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643280" y="531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643280" y="5924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l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771560" y="15336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μαρτια (1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ια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κκλησια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ἡμερα (38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δια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ικια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ρα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29240" y="169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29240" y="230508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ign, kingship,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29240" y="29192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y (later ‘church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3280" y="3533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643280" y="41623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42920" y="11318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ρα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643280" y="53863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,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643280" y="60246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, occ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071720" y="1643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with the mixed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85960" y="2500200"/>
            <a:ext cx="30002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λασσα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6528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lendour, gl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3286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,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771560" y="251784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ον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αιμονιον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ργον (1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ερον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29240" y="2674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, sc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629240" y="328932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629240" y="39038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, 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643280" y="4518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news, go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43280" y="5146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142920" y="1616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 neuter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71560" y="21430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οι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ωπ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ημειον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κνον (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29240" y="23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29240" y="291456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29240" y="35290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414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914400" y="1357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important 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14680" y="1920960"/>
            <a:ext cx="385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ὐτος αὐτη αὐτο (55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572080" y="1928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, she, it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928800" y="2643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1743120" y="322884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ησους (9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υλος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τρος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785960" y="5554800"/>
            <a:ext cx="3857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ευ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(2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928800" y="52149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5572080" y="3409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600880" y="4029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5614920" y="4610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5643720" y="571500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lieve (in), trust, have fait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51:14Z</dcterms:created>
  <dc:creator>Sarah</dc:creator>
  <dc:description/>
  <dc:language>en-US</dc:language>
  <cp:lastModifiedBy>Sarah</cp:lastModifiedBy>
  <dcterms:modified xsi:type="dcterms:W3CDTF">2009-06-19T20:46:25Z</dcterms:modified>
  <cp:revision>14</cp:revision>
  <dc:subject/>
  <dc:title>Slide 1</dc:title>
</cp:coreProperties>
</file>