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040-3523-4073-A550-0B853E8C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6EC-C0AD-46A4-A463-2B4B881E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8D5-B719-431D-AF6D-7D73A5B2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563-CBFE-45FC-8A54-A5ECA70B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9C6-2D90-49CC-BD5A-3F37AB2B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3C1-3A06-481B-9A78-67121E6A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5D6-49A3-4B87-A6CE-99EBBEF0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616-F090-4247-B3AE-80360BB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3F9-E584-4EE7-A063-D8EA77CA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2F1-D2B4-44A8-B801-4EA91F8C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F8D-6658-4202-8FAC-7623D458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8CD-6BD2-4DDA-BCA5-793786AD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A918-592F-4AC1-B643-1F27A1CEA5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467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00120" y="2376360"/>
            <a:ext cx="42148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βολ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π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α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ιππ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ον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14920" y="2386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landerer, the dev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14920" y="29671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14920" y="35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ctuary, shrine,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14920" y="42004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i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14920" y="4809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14920" y="54291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(period 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57120" y="146700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verbs that are Passive deponents (at least in some ten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57160" y="2643120"/>
            <a:ext cx="485784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κρινομαι (23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ουλ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ρευομαι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πορευ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εομαι (9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357880" y="2652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357880" y="3233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357880" y="3833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357880" y="44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357880" y="5076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fraid,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57120" y="125244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many more (normal)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57160" y="19670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αζ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εω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ταζ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μ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ριζ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χ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357880" y="1976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357880" y="2557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357880" y="3157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357880" y="3790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357880" y="4400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357880" y="5005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357880" y="5610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u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857160" y="16826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δυ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στρεφω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κ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σχ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λαι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ωλυ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(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come,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857160" y="1500120"/>
            <a:ext cx="4857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π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μνυ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σσευ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στρεφ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ιν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ρον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ieve,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wear, take an o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back,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hine,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1:37:10Z</dcterms:created>
  <dc:creator>Sarah</dc:creator>
  <dc:description/>
  <dc:language>en-US</dc:language>
  <cp:lastModifiedBy>Sarah</cp:lastModifiedBy>
  <dcterms:modified xsi:type="dcterms:W3CDTF">2009-06-24T16:15:11Z</dcterms:modified>
  <cp:revision>9</cp:revision>
  <dc:subject/>
  <dc:title>Slide 1</dc:title>
</cp:coreProperties>
</file>