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FC5-2860-4009-AB48-51C58D5F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3DA-8D89-402B-BDEA-A06FA712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9D3-0A97-47CA-92FE-E1EDF195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997-8496-4263-A390-4DBFCF03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E84-681D-4A0C-AA61-0E886C91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BA8C-5B4A-4EA5-AA4D-1A1E182F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E3E-1BCB-4C3C-8A59-6A2BB2B3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77D-E9A8-4E48-9E07-77805F5A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0CDC-FF90-4325-9281-DE9D8A1D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5690-9AE7-4EDC-A341-4422373F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F7E-934F-4BC3-B659-6EC03AAA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BDFE-FAF7-4AB0-89D9-784170CB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C370-0F42-4277-9A83-181593B417B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S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285840" y="1420920"/>
            <a:ext cx="707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 more verb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1500120" y="2071800"/>
            <a:ext cx="457200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οιγω (7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οκαλυπτ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πτιζω (7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ραφω (19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ωκω (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οξαξω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5429160" y="2228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5429160" y="2852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veal, un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5429160" y="3471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aptise, d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5429160" y="4081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5429160" y="4700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ersecute, pur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1"/>
          <p:cNvSpPr/>
          <p:nvPr/>
        </p:nvSpPr>
        <p:spPr>
          <a:xfrm>
            <a:off x="5429160" y="5300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aise, glor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278400"/>
            <a:ext cx="2003400" cy="365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500120" y="1617840"/>
            <a:ext cx="45720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ηρυσσω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αζω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μπω (7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ιθω (5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ωζω (10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ὑπαρχω (6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5429160" y="1774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laim, p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429160" y="239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r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429160" y="3017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429160" y="3627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nvince, persu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429160" y="4246560"/>
            <a:ext cx="3429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ave, rescue, heal (sometimes writte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ῳζ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429160" y="5484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, I 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3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71440" y="1214280"/>
            <a:ext cx="707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more verb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ε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500120" y="228600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ἰτεω (7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843440" y="2428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271440" y="178596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which is clearly not a compo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285840" y="314316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ree that look like compounds but do not behave as compounds (e.g. augments are added to the beginnin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1500120" y="4071960"/>
            <a:ext cx="457200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ὐλογεω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ὐχαριστεω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ἰκοδομεω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4857840" y="421488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ak well of, bless, pr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857840" y="4853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ive th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5"/>
          <p:cNvSpPr/>
          <p:nvPr/>
        </p:nvSpPr>
        <p:spPr>
          <a:xfrm>
            <a:off x="4857840" y="5457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uild (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714240" y="177156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εχω (24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4357800" y="19144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heed of, pay attention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271440" y="1271520"/>
            <a:ext cx="707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b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takes the d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714240" y="3098880"/>
            <a:ext cx="457200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τι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τι (9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ἠδη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νυν (1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τε (10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357800" y="32418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, just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271440" y="259884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 words all about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4357800" y="38718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ll,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4357800" y="450072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4357800" y="51292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4357800" y="571032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714240" y="1357200"/>
            <a:ext cx="45720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κετι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π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λιν (1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ντοτε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τε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ημερον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οτε (16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4357800" y="150012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357800" y="21304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357800" y="275904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,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357800" y="33876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357800" y="396864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ce (at some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357800" y="45720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357800" y="52102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785880" y="1571760"/>
            <a:ext cx="36432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υο (1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785880" y="33577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uple of extra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743120" y="4257720"/>
            <a:ext cx="32860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ιμοθεος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οπος (9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429160" y="22953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5443560" y="44100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o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443560" y="50436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20:06:27Z</dcterms:created>
  <dc:creator>Sarah</dc:creator>
  <dc:description/>
  <dc:language>en-US</dc:language>
  <cp:lastModifiedBy>Sarah</cp:lastModifiedBy>
  <dcterms:modified xsi:type="dcterms:W3CDTF">2009-06-23T10:14:21Z</dcterms:modified>
  <cp:revision>18</cp:revision>
  <dc:subject/>
  <dc:title>Slide 1</dc:title>
</cp:coreProperties>
</file>