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25E-0BE0-459F-A6B1-5CAE2FBC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EE7-4F92-4F4B-B717-AA14E8F3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58B-E07E-4CB0-AF6D-7650669F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EEF-A608-4332-BB7E-9A87A292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B72-9506-471E-B990-E537EED7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E92-09DD-437E-93F3-47E21D37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FFA-A830-4D15-A9A6-B3B31C33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4EE-357C-4373-A7EE-AB9BF461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1ED-8EF8-48FE-9EA9-667272A1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26A-99E2-40E9-898E-0C521143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35E-6143-4389-893C-D332A8CE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D1B-DF60-4539-BCE0-7AD9C897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DAC2-B58F-44A6-9E39-86BD1410D32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2142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een common prepositions – remember they have different meanings with differe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857160" y="197496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 (64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α (667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ς (1767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 (91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ν (2752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ωπιον (9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5357880" y="21146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way)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5357880" y="27576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5357880" y="3357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5357880" y="3986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5357880" y="4595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out of)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5357880" y="52149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5357880" y="585612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front of, in the presenc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857160" y="1432080"/>
            <a:ext cx="42865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ξω (6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πι (89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ως (14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τα (47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357880" y="1571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357880" y="2214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357880" y="28144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, in the tim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357880" y="344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, in, on the basi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357880" y="4052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357880" y="46720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ording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357880" y="53132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ai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857160" y="1432080"/>
            <a:ext cx="42865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τα (46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 (19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ρι (33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 (47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5357880" y="1571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357880" y="2214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357880" y="28144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ong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357880" y="344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bes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5357880" y="4052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357880" y="4672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ound, approxim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5357880" y="53132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ning,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5357880" y="59151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857160" y="1689120"/>
            <a:ext cx="42865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ς (70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ν (128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ερ (1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 (22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5357880" y="18288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, to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5357880" y="2471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gether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5357880" y="3071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357880" y="37004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behalf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357880" y="43099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357880" y="49291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, at the hand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571680" y="125244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eleven compound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71680" y="1857240"/>
            <a:ext cx="42861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βλεπω (25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λυω (6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βαλλω (81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καλεω (3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οικεω (4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καλεω (10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λαμβανω (4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3929040" y="19969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ok up, receive 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929040" y="26398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t free, divorce, dism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3929040" y="324000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rive out, cast out, throw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929040" y="38685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ll upon,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929040" y="447984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well, inhabit,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3943440" y="5072040"/>
            <a:ext cx="54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exhort, request, comfort, en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3929040" y="5729400"/>
            <a:ext cx="54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,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6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1000080" y="1071720"/>
            <a:ext cx="42861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ριπατεω (95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κυνεω (6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υναγω (5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αγω (7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643280" y="121140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k about,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643280" y="185436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643280" y="24541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ather, b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643280" y="30830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e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642960" y="378612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, two question words and the neg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1000080" y="4467240"/>
            <a:ext cx="42861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ως (10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υ (48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, οὐκ, οὐχ (160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4786200" y="461016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4800600" y="52578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4843440" y="58863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20:28:29Z</dcterms:created>
  <dc:creator>Sarah</dc:creator>
  <dc:description/>
  <dc:language>en-US</dc:language>
  <cp:lastModifiedBy>Sarah</cp:lastModifiedBy>
  <dcterms:modified xsi:type="dcterms:W3CDTF">2009-06-19T20:54:16Z</dcterms:modified>
  <cp:revision>26</cp:revision>
  <dc:subject/>
  <dc:title>Slide 1</dc:title>
</cp:coreProperties>
</file>