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435-29C2-4C54-85E2-27109327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F52-E547-49B0-A87B-B4EB3285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241-A342-4376-AD61-3499409A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B5D-7334-4A6D-A7B7-28791E59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0A6-DA8C-4EB7-A62A-427FCAE4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A9E-A9F0-463D-B31C-8779E027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599-A3F6-4752-9F10-55740745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D33-F61E-433B-8501-8857B2B7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49E-ADE9-4A98-A588-617E457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190-EE04-45C4-A3C2-318374D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6D5-9662-45D3-A35E-53625FB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31D-A561-41D5-A487-E1E6703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125B-E18C-48B6-B723-CAAC699195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teen pronouns or personal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190332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ηλ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αυτος (3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ω, ἡμεις (26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νος (2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αυτ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0527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ther,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2700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3004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self, herself, itself (reflex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29040" y="4529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29040" y="5143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(pl. tho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29040" y="5767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43000" y="12794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ος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ἀγω (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λος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ος αὑτη τουτο (138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ς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εαυτ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, 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6200" y="207648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 (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+ ἐγ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786200" y="26766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,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829040" y="3905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what k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29040" y="4519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great,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29040" y="51451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829040" y="5769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, yours (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786200" y="3308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(pl. the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43000" y="1279440"/>
            <a:ext cx="3786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, ὑμεις (290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ουτος (5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, you (p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86200" y="20764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uch a kind,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57280" y="280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neuter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143000" y="3300480"/>
            <a:ext cx="3786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νιον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νδρον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ηριο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786200" y="34513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mb, sh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786200" y="4097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786200" y="46958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tery,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4800600" y="52959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828720" y="1617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414440" y="211788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ρ (10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 (27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ο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οτ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057640" y="2268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057640" y="2914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,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057640" y="351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072040" y="4113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072040" y="4738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072040" y="53388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428840" y="154296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τε (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 (1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ποτ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ν (4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29240" y="1722600"/>
            <a:ext cx="38574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τε ... εἰ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... if, whether ... or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29240" y="29829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629240" y="35812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43280" y="4181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43280" y="4807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con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3280" y="540720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...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1:36:01Z</dcterms:created>
  <dc:creator>Sarah</dc:creator>
  <dc:description/>
  <dc:language>en-US</dc:language>
  <cp:lastModifiedBy>Sarah</cp:lastModifiedBy>
  <dcterms:modified xsi:type="dcterms:W3CDTF">2009-06-24T15:32:22Z</dcterms:modified>
  <cp:revision>15</cp:revision>
  <dc:subject/>
  <dc:title>Slide 1</dc:title>
</cp:coreProperties>
</file>