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FC4-D146-4EDB-9F86-D88A2B0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94D-1E0F-453B-9D30-BE85C13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85B-E51A-481B-9F01-28033F57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729-6E22-4521-9E38-33088517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BE6-75B5-4F9B-B2D8-D097B9A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AB3-50B4-4AAC-898A-F1AF194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6D4-FACA-4697-8874-B09584E2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74D-C28C-45EA-B0B3-9B31A73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0F7-4A87-403A-A612-1CA2800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42E-0F42-4000-8FE9-4B9B23F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875-EA5F-47CF-A662-D511107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4BA-EF34-44C3-8AFD-7305D82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02B-84BE-4604-8F21-337C6B7273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1428840"/>
            <a:ext cx="42148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ι (4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να (6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 (53)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αν (1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αν (35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857840" y="158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228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824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438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057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66740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57160" y="54291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can mean ‘if’ – see Chapter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71680" y="1500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71760" y="2168640"/>
            <a:ext cx="3143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ρ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εμ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θρ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λι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ν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00760" y="23288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00760" y="29527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000760" y="35863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000760" y="4186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760" y="48006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00760" y="5410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71680" y="1285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71760" y="1954080"/>
            <a:ext cx="3143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ιρε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ηγορε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λογ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00760" y="2114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away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00760" y="27385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00760" y="337176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mise, conf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1680" y="4156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t more feminin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71760" y="4824360"/>
            <a:ext cx="3143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νε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λωσσα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5000760" y="49849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y,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5000760" y="56088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gue,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8800" y="1208160"/>
            <a:ext cx="4429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θηκη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κονια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αγγελια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θυμια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ρα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ρια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143240" y="1365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, scri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143240" y="19940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nant, last will and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143240" y="2603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, min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143240" y="322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143240" y="3832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143240" y="44514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240" y="5089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143240" y="5703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mony,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23984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ργ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οφια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ια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ακη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ει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43240" y="14144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r,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43240" y="2023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143240" y="2643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143240" y="325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, value,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143240" y="3871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(guards),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143240" y="4481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40" y="51814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that often functions as a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28800" y="578628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τωχ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143240" y="5810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57:11Z</dcterms:created>
  <dc:creator>Sarah</dc:creator>
  <dc:description/>
  <dc:language>en-US</dc:language>
  <cp:lastModifiedBy>Sarah</cp:lastModifiedBy>
  <dcterms:modified xsi:type="dcterms:W3CDTF">2009-06-24T16:30:20Z</dcterms:modified>
  <cp:revision>18</cp:revision>
  <dc:subject/>
  <dc:title>Slide 1</dc:title>
</cp:coreProperties>
</file>