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A859-5CB1-42AA-8300-574F15D61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1C4A-079D-4D64-9A32-267039F6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17DE-8EF8-4D2C-8C74-80F055C59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1676-66BC-4505-B1FF-55D908E9F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0093-B8E6-4336-8D54-3BF2C5F1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6E10-3703-40B1-8915-47DFA59A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7866-AAAB-4B73-AE6A-EBEACFB3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A969-EA09-46D0-8546-559D3565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8232-8106-4B02-9A87-7906E118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691B-BBE0-4609-AC9B-356F452E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9F3D-C6F8-4AA3-A5C6-894243DD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60B7-91A4-4D18-A546-EB5F9D47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867E-0856-4DDB-B42A-995DA5375F9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000080" y="239760"/>
            <a:ext cx="6904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EV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1:Vocabulary 1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357120" y="1285920"/>
            <a:ext cx="72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bs with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or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1357200" y="1857240"/>
            <a:ext cx="46436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ἁμαρτανω (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ποθνῃσκω (11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ινομαι (66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αγινομαι (3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σθιω (15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ὑρισκω (17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ταλειπω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5143680" y="202896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o wrong, 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5143680" y="26384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5143680" y="32432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ecome, ha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5143680" y="387180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rrive, stan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3"/>
          <p:cNvSpPr/>
          <p:nvPr/>
        </p:nvSpPr>
        <p:spPr>
          <a:xfrm>
            <a:off x="5143680" y="448632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4"/>
          <p:cNvSpPr/>
          <p:nvPr/>
        </p:nvSpPr>
        <p:spPr>
          <a:xfrm>
            <a:off x="5143680" y="510048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5"/>
          <p:cNvSpPr/>
          <p:nvPr/>
        </p:nvSpPr>
        <p:spPr>
          <a:xfrm>
            <a:off x="5143680" y="57434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eave (behi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1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1357200" y="1260360"/>
            <a:ext cx="464364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ανθανω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ὁραω (45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σχω (4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ινω (7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ιπτω (9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ερω (6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ροσφερω (4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ευγω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143680" y="143208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e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143680" y="204156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143680" y="264636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143680" y="327492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r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5143680" y="38894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fall (d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5143680" y="450360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ear, ca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5143680" y="514656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ring to, off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5143680" y="57434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1:Vocabulary 3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357120" y="1285920"/>
            <a:ext cx="72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quid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1357200" y="1857240"/>
            <a:ext cx="46436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παγγελλω (4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αγγελω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.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(3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αἰρω (10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ποκτεινω (7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ποστελλω (13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γειρω (14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ρινω (11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5143680" y="202896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port, annou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5143680" y="26384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5143680" y="324324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ake (away), lift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5143680" y="387180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k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5143680" y="448632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end (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5143680" y="510048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aise up, w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5143680" y="57434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judge, dec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1:Vocabulary 4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1357200" y="1260360"/>
            <a:ext cx="46436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ενω (11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ὀφειλω (3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πειρω (5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χαιρω (7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5143680" y="143208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5143680" y="204156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o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5143680" y="264636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5143680" y="327492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j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5143680" y="50036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o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0"/>
          <p:cNvSpPr/>
          <p:nvPr/>
        </p:nvSpPr>
        <p:spPr>
          <a:xfrm>
            <a:off x="5143680" y="560088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o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500040" y="411012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bs with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orists with unusual e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1357200" y="4816440"/>
            <a:ext cx="271476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ναβαινω (8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ταβαινω (8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1:Vocabulary 5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1357200" y="1741320"/>
            <a:ext cx="464364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ινωσκω (22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αγινωσκω (3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πιγινωσκω (4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5143680" y="19130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5143680" y="252396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5143680" y="312732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cogn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5143680" y="478296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ok! Behol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500040" y="412596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0"/>
          <p:cNvSpPr/>
          <p:nvPr/>
        </p:nvSpPr>
        <p:spPr>
          <a:xfrm>
            <a:off x="1357200" y="4626000"/>
            <a:ext cx="27147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ἰδου (20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23:36:26Z</dcterms:created>
  <dc:creator>Sarah</dc:creator>
  <dc:description/>
  <dc:language>en-US</dc:language>
  <cp:lastModifiedBy>Sarah</cp:lastModifiedBy>
  <dcterms:modified xsi:type="dcterms:W3CDTF">2009-06-24T15:52:44Z</dcterms:modified>
  <cp:revision>14</cp:revision>
  <dc:subject/>
  <dc:title>Slide 1</dc:title>
</cp:coreProperties>
</file>