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558-72BF-41E5-A39D-104BEDFA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5D2-6C0A-4066-B7AA-37597C46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191D-16EE-4503-AC50-C03AAC03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8A1-E238-4113-93A3-70B54EA3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35B-1BD3-4712-B5F2-442A1BAB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192-4679-4615-8136-5707632C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60F-D068-4DFB-AAAF-68B5FE15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34E-BF5F-439C-A453-76F17305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68A-C55D-4FCB-8F6F-C472205F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022-1F49-472E-8929-86766580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E03B-5DE4-4812-8EDA-77ED9DD9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31D-B938-4214-99D4-9FE7F029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2E3F-AC7F-4DF5-8EB5-79FF8A6C0F3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EIGH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00040" y="12859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ost of extra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4280" y="1857240"/>
            <a:ext cx="37148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ξιος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ξιος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υνατ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ευθερ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σχατος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κανος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σχυρ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072040" y="20098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072040" y="26384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 (han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072040" y="3252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ful, capable, 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072040" y="3871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72040" y="44863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t, l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072040" y="5095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072040" y="57387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071720" y="1214280"/>
            <a:ext cx="37144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υκος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οιπος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σος (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ε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λιγος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ουσιος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νευματικος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ιλ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4929120" y="13669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, b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929120" y="19954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929120" y="26100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929120" y="3228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,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929120" y="38433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, little (pl. f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929120" y="4452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4929120" y="5095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i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4929120" y="57531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ved, friendly,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00040" y="128592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mor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857160" y="1712880"/>
            <a:ext cx="38577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τυς, μαρτυρος, ὁ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σθ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ταυρ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429160" y="1866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429160" y="24955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y,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5429160" y="3110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28480" y="3824280"/>
            <a:ext cx="27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857160" y="4324320"/>
            <a:ext cx="32860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ξαν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θαριζ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ιζω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5429160" y="44863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429160" y="509580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/declare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5429160" y="572436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use to si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143000" y="1278000"/>
            <a:ext cx="44290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υναμαι (21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ημαι (9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ειμαι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δα (3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ειμι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857840" y="143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n, I am 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857840" y="20638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it (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857840" y="26733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ie, re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857840" y="32878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857840" y="390204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714240" y="467352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category of its 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1143000" y="5421240"/>
            <a:ext cx="3571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στε +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Infinitive (8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4857840" y="54450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result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500040" y="1428840"/>
            <a:ext cx="785808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umber of words with a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ix to make them neg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428840" y="2506680"/>
            <a:ext cx="35002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δικε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ικια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αρ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καθαρτ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ιστ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5072040" y="2657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072040" y="32958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ong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5072040" y="38955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, 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5072040" y="45100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ure, un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5072040" y="51436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believing, faith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6:42:05Z</dcterms:created>
  <dc:creator>Sarah</dc:creator>
  <dc:description/>
  <dc:language>en-US</dc:language>
  <cp:lastModifiedBy>Sarah</cp:lastModifiedBy>
  <dcterms:modified xsi:type="dcterms:W3CDTF">2009-06-24T16:55:42Z</dcterms:modified>
  <cp:revision>15</cp:revision>
  <dc:subject/>
  <dc:title>Slide 1</dc:title>
</cp:coreProperties>
</file>