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CE2-EF05-4447-B7A3-2E78CB0A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CC3-906F-407D-BAAF-D79268F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D5D-44ED-42AD-AB8C-33A01EF1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7A8-3B31-4FD0-B729-15C3FE50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E79-9ABD-4B03-8F12-0D94A9E2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E62-19AE-4F8E-A12A-6DDF26F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4FE-5BBE-4BB0-BBC1-DB7ED90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D7D-F414-4D43-8B41-B587580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C9D-F114-40A2-8F4D-6761E9C4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E1E-24AB-4132-A921-E25BDDB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B46-E94A-47C1-AB38-152A332C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D0A-8861-469B-8DE3-5F1C5FB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D1A-7010-4FB4-AA9D-6364B45EA6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2700360"/>
            <a:ext cx="58579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ως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αχιστος (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εισσων (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adverbs, comparatives and superl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86240" y="2852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86240" y="3486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86240" y="4100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86240" y="4710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214280" y="1857240"/>
            <a:ext cx="5857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λιστα (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λλον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ν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ς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ειρων (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86240" y="2009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86240" y="2643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,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86240" y="3257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ittle,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286240" y="3867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86240" y="4500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2700360"/>
            <a:ext cx="62863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ῳ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στηρι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μην, ποιμενος ὁ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500800" y="2852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ing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500800" y="3486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500800" y="41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ph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2662200"/>
            <a:ext cx="6286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αομα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υχα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μνῃσκομαι (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πτω (1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14240" y="178596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15000" y="281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5000" y="3448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15000" y="4062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715000" y="46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0:01:10Z</dcterms:created>
  <dc:creator>Sarah</dc:creator>
  <dc:description/>
  <dc:language>en-US</dc:language>
  <cp:lastModifiedBy>Sarah</cp:lastModifiedBy>
  <dcterms:modified xsi:type="dcterms:W3CDTF">2009-06-24T17:07:39Z</dcterms:modified>
  <cp:revision>6</cp:revision>
  <dc:subject/>
  <dc:title>Slide 1</dc:title>
</cp:coreProperties>
</file>